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B9B-B17A-4A34-BD79-F4537D91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6EB-5CD0-4482-AD51-27D5E4BC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3B5-246B-4EC2-8D52-35FDA536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FE6-7E49-4950-A4A1-AE33C46C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727-F05A-44F9-8D96-C330F3E8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25E-DAE8-4AEE-B71C-229DC286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C04-AB7E-4AC9-9BD8-FEDB7914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A03-2659-4F8C-88B6-5FC4BECB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A95-389C-4CC3-B159-848FFA07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0E0-D809-4C76-88CF-F507B436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AEF-1E93-4543-89F1-753B2300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1A0-08D2-4684-AB6E-6D483848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975E-DA28-4FFF-8A6F-CDF79C3412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0120" y="142920"/>
            <a:ext cx="712944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Презентация на тему </a:t>
            </a:r>
            <a:br>
              <a:rPr sz="3600"/>
            </a:br>
            <a:r>
              <a:rPr b="1" lang="en-US" sz="36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Химия + медицина</a:t>
            </a:r>
            <a:r>
              <a:rPr b="1" lang="en-US" sz="3600" spc="-1" strike="noStrike">
                <a:solidFill>
                  <a:srgbClr val="984807"/>
                </a:solidFill>
                <a:latin typeface="Calibri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28560" y="1071720"/>
            <a:ext cx="542916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Подготовила: Артемьева Светлана Владимировна, учитель химии МБОУ СОШ №9 г.Карабано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gb" descr="http://i.finam.fm/uploads/news_ico/2009/01/21/b44abc15d647e208324cbeca057c6af3.jpg"/>
          <p:cNvPicPr/>
          <p:nvPr/>
        </p:nvPicPr>
        <p:blipFill>
          <a:blip r:embed="rId1"/>
          <a:stretch/>
        </p:blipFill>
        <p:spPr>
          <a:xfrm>
            <a:off x="3286080" y="3143160"/>
            <a:ext cx="417672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        </a:t>
            </a: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76000" y="1058760"/>
            <a:ext cx="73436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В медицине также широко используют органические вещества, такие как алкалои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6092"/>
                </a:solidFill>
                <a:latin typeface="Calibri"/>
              </a:rPr>
              <a:t>Алкалоиды</a:t>
            </a:r>
            <a:r>
              <a:rPr b="1" lang="ru-RU" sz="20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- сложные органические соединения, содержащие азот, способные соединяться с кислотами, образуя соли, которые хорошо растворяются в воде. На вкус сами алкалоиды и их соединения горькие и часто ядовит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gb" descr="http://www.vsenarkotiki.ru/wp-content/uploads/opium3.jpg"/>
          <p:cNvPicPr/>
          <p:nvPr/>
        </p:nvPicPr>
        <p:blipFill>
          <a:blip r:embed="rId1"/>
          <a:stretch/>
        </p:blipFill>
        <p:spPr>
          <a:xfrm>
            <a:off x="4143240" y="3143160"/>
            <a:ext cx="30718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alibri"/>
              </a:rPr>
              <a:t>Алкалои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02920" y="987480"/>
            <a:ext cx="76122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Comic Sans MS"/>
              </a:rPr>
              <a:t>Это хорошее обезболивающее средство, однак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Comic Sans MS"/>
              </a:rPr>
              <a:t>при длительном применении морфина у человека вырабатывается к нему привыкание, организм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Comic Sans MS"/>
              </a:rPr>
              <a:t>требуются все большие дозы наркот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Comic Sans MS"/>
              </a:rPr>
              <a:t>Достаточно 0,005 мг ЛСД попасть в мозг человека, чтобы вызвать галлюцинации</a:t>
            </a:r>
            <a:r>
              <a:rPr b="1" lang="ru-RU" sz="20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4f81bd"/>
                </a:solidFill>
                <a:latin typeface="Comic Sans MS"/>
              </a:rPr>
              <a:t>Многие алкалоиды принадлежат к ядам и наркоти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gb" descr="http://www.1001eda.com/wp-content/uploads/2009/09/5e5624a935b5.jpg"/>
          <p:cNvPicPr/>
          <p:nvPr/>
        </p:nvPicPr>
        <p:blipFill>
          <a:blip r:embed="rId1"/>
          <a:stretch/>
        </p:blipFill>
        <p:spPr>
          <a:xfrm>
            <a:off x="6443640" y="3508200"/>
            <a:ext cx="202572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14720" y="142560"/>
            <a:ext cx="49291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ebb"/>
                </a:solidFill>
                <a:latin typeface="Calibri"/>
              </a:rPr>
              <a:t>Снотворные сред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2786040" y="873360"/>
            <a:ext cx="435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нотворные средства угнетающе влияют на передачу возбуждения в головном мозге. По механизму влияния на центральную нервную систему их относят к наркотическим веществам. Небольшие дозы снотворных средств действуют успокаивающе, средние—вызывают сон, большие - наркотическое действие. Бывают препараты длительного действия (барбитал, фенобарбитал), средней продолжительности (нитразепам, барбамил) и короткого действия (ноксирон, гексабарбитал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143840" y="3214800"/>
            <a:ext cx="1939680" cy="1428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142920" y="928800"/>
            <a:ext cx="2500200" cy="2143080"/>
          </a:xfrm>
          <a:prstGeom prst="rect">
            <a:avLst/>
          </a:prstGeom>
          <a:ln w="0">
            <a:noFill/>
          </a:ln>
        </p:spPr>
      </p:pic>
      <p:sp>
        <p:nvSpPr>
          <p:cNvPr id="78" name="Управляющая кнопка: домой 5">
            <a:hlinkClick r:id="rId3" action="ppaction://hlinksldjump"/>
          </p:cNvPr>
          <p:cNvSpPr/>
          <p:nvPr/>
        </p:nvSpPr>
        <p:spPr>
          <a:xfrm>
            <a:off x="8639280" y="471168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ebb"/>
                </a:solidFill>
                <a:latin typeface="Calibri"/>
              </a:rPr>
              <a:t>Болеутоляющие сре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1071720" y="654480"/>
            <a:ext cx="48974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 раннего детства нам знакома зубная боль и такие лекарства, как аспирин, анальгин, пирамидон. Эти соединения </a:t>
            </a:r>
            <a:r>
              <a:rPr b="0" lang="ru-RU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относятся к группе </a:t>
            </a:r>
            <a:r>
              <a:rPr b="0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енаркотических анальгетиков</a:t>
            </a:r>
            <a:r>
              <a:rPr b="0" lang="ru-RU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: они не обладают седативным и снотворным 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действием, не вызывают эйфории, к ним не развивается привыкание. По химической структуре их можно разделить на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роизводные салициловой кислоты и пиразол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6300720" y="1222200"/>
            <a:ext cx="2268720" cy="2265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071880" y="3274920"/>
            <a:ext cx="332100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ebb"/>
                </a:solidFill>
                <a:latin typeface="Calibri"/>
              </a:rPr>
              <a:t>Антибактериальные и химиотерапевтические сред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4357800" y="112968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Все мы за свою жизнь не раз и не два переболели такими инфекционными заболеваниями, как грипп или ангина. Предупредить эти и другие инфекционные болезни можно с помощью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антисептиков и дезинфицирующих средств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, уничтожив микробы на подступах к организму. Организму в борьбе с проникающими в него болезнетворными микроорганизмами помогают химиотерапевтические средства, обладающие антибактериальным, противовирусным, противогрибковым и другим действ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889440" cy="2241360"/>
          </a:xfrm>
          <a:prstGeom prst="rect">
            <a:avLst/>
          </a:prstGeom>
          <a:ln w="0">
            <a:noFill/>
          </a:ln>
        </p:spPr>
      </p:pic>
      <p:sp>
        <p:nvSpPr>
          <p:cNvPr id="86" name="Управляющая кнопка: домой 4">
            <a:hlinkClick r:id="rId2" action="ppaction://hlinksldjump"/>
          </p:cNvPr>
          <p:cNvSpPr/>
          <p:nvPr/>
        </p:nvSpPr>
        <p:spPr>
          <a:xfrm>
            <a:off x="8639280" y="471168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920" y="206280"/>
            <a:ext cx="51148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ebb"/>
                </a:solidFill>
                <a:latin typeface="Calibri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3786120" y="1087920"/>
            <a:ext cx="4897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Они нужны как пища и воздух, но действует в очень малых количествах, без них организм не может обойтись. Недостаток их есть причина ряда тяжелых заболеваний и снижение сопротивляемости, т.е. ослабление иммунных сил организма к действию микроб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Изучение витаминов помогло биохимикам понять механизм действия лекарственных веществ и немало способствовало успехам химиотерапии. Сейчас известно, что аскорбиновая кислота облегчает процесс переноса атомов водорода от пищевых веществ к кислороду, т.е. улучшает дыхание клет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14240" y="500040"/>
            <a:ext cx="28576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43280" y="285840"/>
            <a:ext cx="428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В 1877 г. английский ученый У.Роберте открыл пенициллин и его свойства. Пенициллин действует на стрептококки, пневмококки, менингококки, спирохеты и несколько слабее на стафилококки. Воспаление легких, эндокардит, раневые инфекции, гнойный плеврит, перитонит, цистит, остеомиелит, ангины, дифтерия, рожистое воспаление, менингит, скарлатина, сибирская язва - вот неполный список тяжелейших болезней, которые одолевает пенициллин. Итак, в дополнение к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ульфаниламидам 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появились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антибиот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Documents and Settings\НИКА\Рабочий стол\Химия и медицина\himiya1(1).jpg"/>
          <p:cNvPicPr/>
          <p:nvPr/>
        </p:nvPicPr>
        <p:blipFill>
          <a:blip r:embed="rId1"/>
          <a:stretch/>
        </p:blipFill>
        <p:spPr>
          <a:xfrm>
            <a:off x="357120" y="500040"/>
            <a:ext cx="4071960" cy="249408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домой 6">
            <a:hlinkClick r:id="rId2" action="ppaction://hlinksldjump"/>
          </p:cNvPr>
          <p:cNvSpPr/>
          <p:nvPr/>
        </p:nvSpPr>
        <p:spPr>
          <a:xfrm>
            <a:off x="8639280" y="471168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33289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ebb"/>
                </a:solidFill>
                <a:latin typeface="Calibri"/>
              </a:rPr>
              <a:t>Контактные лин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3357720" y="-122760"/>
            <a:ext cx="578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Многим кажется, что контактные линзы- дитя нашего столетия. Между тем их история начинается с Леонардо да Винчи. Позже идею линз высказывал Декарт. Томас Юнг экспериментировал с трубкой, заполненной водой и приставляемой к глазу, английский астроном Джон Гершель произвел теоретические расче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Но реально, в материале, линза появилась в 1887 году, когда известный висбаденский стеклодув Ф. Мюллер изготовил вогнутые стеклянные диски по заказу одного из своих клиентов. Линзы были большими, прозрачными в середине и матовыми по краям, надевали их под ве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3286080" cy="1495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2786040" y="3214800"/>
            <a:ext cx="635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На рубеже пятидесятых - шестидесятых годов появились мягкие линзы. Академик Отто Вихтерле и его сотрудники разработали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гидрогель из сополимера гликольметакрилата и дигликольдиметакрилата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. Материал содержал около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40% воды, был эластичен, химически инертен, биологически и механически устойчи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ebb"/>
                </a:solidFill>
                <a:latin typeface="Calibri"/>
              </a:rPr>
              <a:t>Что еще дает химия для медицин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3714840" y="732240"/>
            <a:ext cx="5286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Большое количество химических веществ служит для изготовления самых разнообразных протезов. Производятся протезы челюстей, зубов, коленных чашечек, суставов конечностей которые успешно применяются в восстановительной хирургии.  Химические заводы выпускают для медицинских целей трубки, шланги, ампулы, шприцы, белково-витаминные и другие напитки, кислород, перевязочный материал, аптечную посуду, оптику, красители, больничную мебель и многое друг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Успехи химии, внедрение ее продуктов в медицину открывают безграничные возможности для преодоления ряда заболеваний, в первую очередь вирусных и сердечно – сосудист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3571920" cy="203364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домой 4">
            <a:hlinkClick r:id="rId2" action="ppaction://hlinksldjump"/>
          </p:cNvPr>
          <p:cNvSpPr/>
          <p:nvPr/>
        </p:nvSpPr>
        <p:spPr>
          <a:xfrm>
            <a:off x="8639280" y="471168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4500720" y="232920"/>
            <a:ext cx="4286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58ed5"/>
                </a:solidFill>
                <a:latin typeface="Calibri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В последнее время биология, медицинская наука и практика все чаще используют достижения современной химии. Огромное количество лекарственных соединений поставляют химики, и за последние годы в области химии лекарств достигнуты новые успехи. Медицина обогащается все большим количеством новых лекарственных препаратов, вводятся более совершенные методы их анализа, позволяющие достаточно точно определить качество (подлинность) лекарств, содержание в них допустимых и недопустимых примес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3800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611280" y="2856240"/>
            <a:ext cx="37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5000760" y="88560"/>
            <a:ext cx="381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Химия должна помогать медицине в борьбе с болезнями. Однако эти науки прошли длинный и сложный путь развития, прежде чем им удалось добиться успеха в решении общих задач. Химия делала первые неуверенные шаги, когда медики уже располагали целым арсеналом сведений и наблюдений и часто довольно успешно справлялись с болезнями. Человек тысячами нитей связан с окружающей средой - он часть природы и следует ее законам. И в те времена, когда химики еще ничего не знали об элементах, атомах и молекулах, эта истина была усвоена врач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C:\Documents and Settings\НИКА\Рабочий стол\Химия и медицина\himiya.jpg"/>
          <p:cNvPicPr/>
          <p:nvPr/>
        </p:nvPicPr>
        <p:blipFill>
          <a:blip r:embed="rId1"/>
          <a:stretch/>
        </p:blipFill>
        <p:spPr>
          <a:xfrm>
            <a:off x="285840" y="857160"/>
            <a:ext cx="43196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3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Благодарю за внимание </a:t>
            </a:r>
            <a:br>
              <a:rPr sz="4400"/>
            </a:b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и желаю Вам </a:t>
            </a:r>
            <a:br>
              <a:rPr sz="4400"/>
            </a:b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крепкого здоровья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786200" y="214200"/>
            <a:ext cx="367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В средние века алхимики неоднократно делали попытки вмешаться в медицину и часто врач, и химик совмещались в одном лице. Однако алхимические теории не могли принести пользы практической медицине, так как они основывались не на опыте, а на предвзятых и ложных утверждениях и, как правило, вели к ошибкам. Случайные удачи химиков и использование народного опыта все-таки помогали медикам, и контакты между ними и химиками никогда не прерывалис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071720" y="214200"/>
            <a:ext cx="3095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643040" y="214200"/>
            <a:ext cx="7221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omic Sans MS"/>
              </a:rPr>
              <a:t>Лекарственные вещества известны с очень древних времен. Например, в Древней Руси мужской папоротник, мак и другие растения употреблялись как лекарства. И до сих пор в качестве лекарственных средств используются 25-30% различных отваров, настоек и экстрактов растительных и животных организ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omic Sans MS"/>
              </a:rPr>
              <a:t>Огромное количество лекарственных соединений поставляют химики, и за последние годы в области химии лекарств достигнуты новые успех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2920" y="267840"/>
            <a:ext cx="7510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Все лекарственные вещества делятся на две группы:</a:t>
            </a:r>
            <a:br>
              <a:rPr sz="2400"/>
            </a:b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1. </a:t>
            </a:r>
            <a:r>
              <a:rPr b="1" i="1" lang="ru-RU" sz="2400" spc="-1" strike="noStrike">
                <a:solidFill>
                  <a:srgbClr val="558ed5"/>
                </a:solidFill>
                <a:latin typeface="Calibri"/>
              </a:rPr>
              <a:t>Органические</a:t>
            </a:r>
            <a:br>
              <a:rPr sz="2400"/>
            </a:b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2. </a:t>
            </a:r>
            <a:r>
              <a:rPr b="1" i="1" lang="ru-RU" sz="2400" spc="-1" strike="noStrike">
                <a:solidFill>
                  <a:srgbClr val="558ed5"/>
                </a:solidFill>
                <a:latin typeface="Calibri"/>
              </a:rPr>
              <a:t>Неорганиче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571760" y="1428840"/>
            <a:ext cx="757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Comic Sans MS"/>
              </a:rPr>
              <a:t>Сырьем для получения неорганических препаратов являются горные породы, ру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Comic Sans MS"/>
              </a:rPr>
              <a:t>Сырьем для органических  препаратов служат природный газ, нефть, каменный уголь, сланцы и древес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gb" descr="http://www.vokrugsveta.ru/img/cmn/2008/04/30/014.jpg"/>
          <p:cNvPicPr/>
          <p:nvPr/>
        </p:nvPicPr>
        <p:blipFill>
          <a:blip r:embed="rId1"/>
          <a:stretch/>
        </p:blipFill>
        <p:spPr>
          <a:xfrm>
            <a:off x="3429000" y="3170160"/>
            <a:ext cx="371484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Неорганические ве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071440" y="915840"/>
            <a:ext cx="6748200" cy="29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В медицине широко используются металлы.  Из них обычно делают различные приборы, инструменты, протезы, а также различные препараты. Главным образом используют такие металлы как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1. </a:t>
            </a:r>
            <a:r>
              <a:rPr b="0" lang="ru-RU" sz="2400" spc="-1" strike="noStrike">
                <a:solidFill>
                  <a:srgbClr val="376092"/>
                </a:solidFill>
                <a:latin typeface="Calibri"/>
              </a:rPr>
              <a:t>Серебр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Calibri"/>
              </a:rPr>
              <a:t>2. Золо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Calibri"/>
              </a:rPr>
              <a:t>3. Мед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ALEX\Desktop\300px-Osmium_crystals.jpg"/>
          <p:cNvPicPr/>
          <p:nvPr/>
        </p:nvPicPr>
        <p:blipFill>
          <a:blip r:embed="rId1"/>
          <a:stretch/>
        </p:blipFill>
        <p:spPr>
          <a:xfrm>
            <a:off x="5000760" y="2786040"/>
            <a:ext cx="37702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Золото в медиц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00120" y="857160"/>
            <a:ext cx="73454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Золото испокон веков используют в медицине — народной и официальной, Растворы солей золота губительно действуют на многие болезнетворные микробы. Препараты золота используют для инъекций при лечении хронических артритов, красной волчанки, часто в сочетании с гормональными или другими препаратами. Радиоактивное золото в сочетании с хирургической и медикаментозной терапией применяют в лечении опухолей, а также для диагностических ц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evg\Desktop\34930ef3060b.jpg"/>
          <p:cNvPicPr/>
          <p:nvPr/>
        </p:nvPicPr>
        <p:blipFill>
          <a:blip r:embed="rId1"/>
          <a:stretch/>
        </p:blipFill>
        <p:spPr>
          <a:xfrm>
            <a:off x="6156360" y="3508200"/>
            <a:ext cx="256680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ALEX\Desktop\Au_crystals1.jpg"/>
          <p:cNvPicPr/>
          <p:nvPr/>
        </p:nvPicPr>
        <p:blipFill>
          <a:blip r:embed="rId2"/>
          <a:stretch/>
        </p:blipFill>
        <p:spPr>
          <a:xfrm>
            <a:off x="2627280" y="3508200"/>
            <a:ext cx="227340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C 0.00885 -0.00416 0.01736 -0.00648 0.02656 -0.00787 C 0.04392 -0.00671 0.06163 -0.00416 0.07847 0.00255 C 0.0901 0.00718 0.10191 0.01297 0.11285 0.01968 C 0.11736 0.02246 0.12309 0.02315 0.1276 0.02616 C 0.13142 0.02871 0.13507 0.03102 0.13924 0.03264 C 0.14497 0.04028 0.13733 0.03102 0.14427 0.03658 C 0.1467 0.03866 0.14913 0.04306 0.15104 0.04584 C 0.1559 0.06412 0.16163 0.08195 0.1658 0.1007 C 0.16753 0.10857 0.16944 0.11829 0.17465 0.12292 C 0.17535 0.12639 0.1816 0.13635 0.18438 0.13866 C 0.18524 0.13936 0.18628 0.13936 0.18733 0.13982 C 0.18924 0.14074 0.19149 0.14098 0.19323 0.1426 C 0.19774 0.14653 0.20278 0.14954 0.20799 0.15162 C 0.21233 0.15533 0.21771 0.15764 0.2217 0.16204 C 0.22535 0.16598 0.22986 0.17199 0.23438 0.17385 C 0.23681 0.17894 0.2408 0.18033 0.24427 0.18426 C 0.24792 0.1882 0.25104 0.1926 0.25503 0.19607 C 0.25764 0.20139 0.26163 0.20278 0.2658 0.20648 C 0.26667 0.20718 0.26684 0.20857 0.26771 0.20926 C 0.26944 0.21065 0.2717 0.21065 0.27361 0.21181 C 0.27865 0.21505 0.28299 0.21875 0.28837 0.22084 C 0.28941 0.22176 0.29028 0.22292 0.29132 0.22361 C 0.29219 0.22431 0.2934 0.22408 0.29427 0.22477 C 0.29514 0.22547 0.29531 0.22686 0.29618 0.22755 C 0.29792 0.22894 0.30035 0.22871 0.30208 0.2301 C 0.30868 0.23496 0.31545 0.24098 0.32257 0.24445 C 0.32674 0.24954 0.32222 0.24468 0.3276 0.24838 C 0.33056 0.25047 0.33264 0.25394 0.33542 0.25625 C 0.33611 0.25764 0.33646 0.25926 0.33733 0.26019 C 0.33819 0.26111 0.33958 0.26065 0.34028 0.26158 C 0.34566 0.26852 0.33611 0.26297 0.34427 0.26667 C 0.34722 0.27269 0.35174 0.27894 0.35694 0.28102 C 0.35816 0.28287 0.36146 0.28403 0.36094 0.28635 C 0.36059 0.28773 0.35903 0.2875 0.35799 0.2875 C 0.35469 0.28773 0.35139 0.2875 0.34809 0.2875 E">
                                      <p:cBhvr>
                                        <p:cTn id="6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          </a:t>
            </a: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Серебро в медиц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68560" y="785520"/>
            <a:ext cx="7975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558ed5"/>
                </a:solidFill>
                <a:latin typeface="Calibri"/>
              </a:rPr>
              <a:t>Препараты серебра обладают антибактериальным, вяжущим и прижигающим свойствами. Это связано со способностью серебра нарушать  ферментные системы микроорганизмов и осаждать белки. Дезинфицирующие свойства серебра хорошо известны. Все, кто мог себе позволить, держали воду в серебряных сосудах, бросали в воду серебряные монеты или погружали в нее серебряные ложки. В наше время воду обеззараживают электролитическим путем, используя специальные аппараты с серебряными электродами. С помощью серебра очищают воду от болезнетворных микробов. Серебро способствует рассасыванию опухолей, активизирует процесс восстановления органов после болез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C:\Users\evg\Desktop\e78456506303.jpg"/>
          <p:cNvPicPr/>
          <p:nvPr/>
        </p:nvPicPr>
        <p:blipFill>
          <a:blip r:embed="rId1"/>
          <a:stretch/>
        </p:blipFill>
        <p:spPr>
          <a:xfrm>
            <a:off x="7020000" y="3867120"/>
            <a:ext cx="1966680" cy="114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ALEX\Desktop\al.jpg"/>
          <p:cNvPicPr/>
          <p:nvPr/>
        </p:nvPicPr>
        <p:blipFill>
          <a:blip r:embed="rId2"/>
          <a:stretch/>
        </p:blipFill>
        <p:spPr>
          <a:xfrm>
            <a:off x="2916360" y="4162320"/>
            <a:ext cx="24969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C 0.01007 0.00046 0.02031 0.00069 0.03038 0.00139 C 0.04045 0.00208 0.0533 0.01134 0.06267 0.01574 C 0.06806 0.02245 0.06111 0.01458 0.06754 0.01968 C 0.07292 0.02407 0.07778 0.03056 0.08333 0.03518 C 0.09045 0.04143 0.09549 0.05231 0.10382 0.05625 C 0.10677 0.05995 0.11632 0.07014 0.12049 0.07199 C 0.12205 0.07384 0.12396 0.075 0.12552 0.07708 C 0.12726 0.0794 0.12865 0.08264 0.13038 0.08495 C 0.13229 0.09213 0.13646 0.09907 0.14115 0.10324 C 0.14254 0.10833 0.14358 0.11065 0.14705 0.11366 C 0.14879 0.11991 0.15017 0.12454 0.15486 0.12685 C 0.15642 0.13009 0.1566 0.13102 0.15886 0.13333 C 0.16076 0.13518 0.16476 0.13866 0.16476 0.13866 C 0.16962 0.14815 0.17813 0.15347 0.18524 0.15949 C 0.18906 0.16273 0.1908 0.1669 0.19514 0.16852 C 0.20104 0.17731 0.21215 0.18588 0.21962 0.19213 C 0.22656 0.19792 0.23281 0.20532 0.23924 0.21181 C 0.24115 0.21366 0.24288 0.21597 0.24514 0.2169 C 0.24618 0.21736 0.24722 0.21759 0.24809 0.21829 C 0.25208 0.2213 0.25504 0.22546 0.25886 0.2287 C 0.25955 0.23009 0.2599 0.23148 0.26076 0.23264 C 0.26163 0.2338 0.26302 0.23403 0.26372 0.23518 C 0.26441 0.23634 0.26424 0.23796 0.26476 0.23912 C 0.26528 0.24028 0.26597 0.24097 0.26667 0.2419 C 0.26788 0.24745 0.27083 0.25185 0.27448 0.25486 C 0.27639 0.26227 0.27396 0.25602 0.27847 0.26018 C 0.28299 0.26435 0.28646 0.2706 0.29115 0.27454 C 0.29271 0.28032 0.29618 0.28565 0.3 0.28889 C 0.3033 0.29583 0.30399 0.29768 0.30886 0.30185 C 0.31146 0.30718 0.31528 0.31435 0.31962 0.31643 C 0.32083 0.32153 0.32326 0.32153 0.32552 0.32546 C 0.3309 0.33495 0.32691 0.33171 0.33142 0.33472 E">
                                      <p:cBhvr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        </a:t>
            </a: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Медь в медиц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00080" y="571320"/>
            <a:ext cx="7958160" cy="33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Медь оказывает благотворное влияние на сердечно-сосудистую систему. С помощью меди лечат гинекологические заболевания, она активизирует действие инсулина в крови, рассасывает доброкачественные опухоли, действует кровоостанавливающе, улучшает постинфарктное состояние, помогает устранить грыжу, уменьшает вредный эффект от радиации при облучении. Медь, подобно золоту и серебру, обладает бактерицидными свойствами, а потому ее используют как антисептик и для стерилизации воды, которую полезно применять для лечения воспалительных процессов слизистой оболочки полости рта и гл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evg\Desktop\800px-Cuivre_Michigan.jpg"/>
          <p:cNvPicPr/>
          <p:nvPr/>
        </p:nvPicPr>
        <p:blipFill>
          <a:blip r:embed="rId1"/>
          <a:stretch/>
        </p:blipFill>
        <p:spPr>
          <a:xfrm>
            <a:off x="6516720" y="372420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ALEX\Desktop\4561585.jpg"/>
          <p:cNvPicPr/>
          <p:nvPr/>
        </p:nvPicPr>
        <p:blipFill>
          <a:blip r:embed="rId2"/>
          <a:stretch/>
        </p:blipFill>
        <p:spPr>
          <a:xfrm>
            <a:off x="3276720" y="3724200"/>
            <a:ext cx="23032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22222E-006 C 0.00695 -0.00347 0.00382 -0.00231 0.00973 -0.00393 C 0.01702 -0.00347 0.02657 -0.00347 0.0342 -0.00139 C 0.05799 0.00486 0.08056 0.01898 0.10382 0.02732 C 0.11233 0.03472 0.12639 0.03958 0.13629 0.04306 C 0.13924 0.0456 0.14167 0.04676 0.14497 0.04815 C 0.15018 0.05301 0.15643 0.05741 0.16268 0.05995 C 0.16528 0.06366 0.16806 0.06505 0.17153 0.06667 C 0.17535 0.07037 0.17917 0.07292 0.18334 0.07569 C 0.1875 0.07847 0.19045 0.08287 0.19497 0.08495 C 0.19809 0.08866 0.20226 0.09097 0.20573 0.09398 C 0.21077 0.09838 0.21667 0.10232 0.22153 0.10718 C 0.22761 0.11296 0.22136 0.10995 0.22743 0.11227 C 0.23195 0.1162 0.23733 0.11806 0.24202 0.12153 C 0.24584 0.12431 0.24879 0.12894 0.25295 0.13056 C 0.25608 0.13704 0.26181 0.13935 0.26563 0.14491 C 0.26979 0.15093 0.27431 0.1588 0.27934 0.16319 C 0.28282 0.17037 0.28664 0.17824 0.29115 0.18426 C 0.29236 0.19005 0.29358 0.19514 0.29601 0.2 C 0.29757 0.20741 0.30139 0.21343 0.30295 0.22083 C 0.30469 0.2294 0.30764 0.24838 0.31164 0.25486 E">
                                      <p:cBhvr>
                                        <p:cTn id="99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11:05:51Z</dcterms:created>
  <dc:creator>ALEX</dc:creator>
  <dc:description/>
  <dc:language>en-US</dc:language>
  <cp:lastModifiedBy>user</cp:lastModifiedBy>
  <dcterms:modified xsi:type="dcterms:W3CDTF">2017-06-05T07:23:56Z</dcterms:modified>
  <cp:revision>24</cp:revision>
  <dc:subject/>
  <dc:title>Презентация PowerPoint</dc:title>
</cp:coreProperties>
</file>