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FEE-8116-4B8B-AF4F-3BC811CC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0E7-4237-4E8A-8218-26F0DEAF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796-C6BC-4500-ACF9-D055B490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3F8-2D8E-4261-BD20-DC7F11AB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1AE-91BA-4B9A-9699-DA7B9F40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266-6443-45F1-A5AC-BEFFF40C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55B-43EA-4553-A3CE-457BA39A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748-7117-4937-B875-8B0602FD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F3E-5FCC-4791-9308-E3A443A8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9AE-00E6-433A-A6DD-1B5D6F21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E5D-A0F0-4095-A2C4-E734DAB8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E1B-0E48-412B-9D8E-F19713E4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D13C-70C9-4596-B4FB-4B1E5FEEAE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Calibri"/>
              </a:rPr>
              <a:t>Имя прилагательное как часть речи. Синтаксическая роль имени прилагательно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(продолж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ще в полях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еле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не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д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ж весно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шумя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егу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удя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онный брег, 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егу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лещу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лася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[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= -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]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, а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[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=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 - =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и =, =, и =, и =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]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н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лася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о все концы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“Весна идет, весна идет!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молодой весны гонцы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нас выслала вперед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А: «П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он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брег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(м.р., ед.ч.,В.п.,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олод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сны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(ж.р., ед.ч., Р.п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. 575, 5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. 576 (устно), 573 (письменн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7398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квозь волнистые тума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бирается луна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печальные поля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ьет печально свет о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 дороге зимней, скучно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ройка борзая бежит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локольчик однозвучны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томительно греми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-то слышится родно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долгих песнях ямщик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о разгулье удалое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о сердечная тоска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2700360" y="61977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3348000" y="26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Зимняя дор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прилагательных в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картину вы представили, читая стихотворение А. С. Пушкина «Зимняя дорога»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настроение почувствовали? Какие слова помогли вам почувствовать настроение стихотвор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а роль прилагательных в реч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611280" y="53737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Прилагательные украшают, уточняют речь, передают настроение, рисуют карт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. 56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мят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самостоятельная работ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обозначают имена прилагатель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какие вопросы они отвеча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числить признаки прилагате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какой частью речи они согласую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лагательное обозначает признак  предме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вечает на вопросы  КАКОЙ? КАКАЯ? КАКИЕ? ЧЕЙ? ЧЬЯ? ЧЬЁ? ЧЬИ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рфологические признаки: РОД, ЧИСЛО,ПАДЕЖ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гласуются с именем существительным, т.е.ставятся в том же роде, числе и падеже, что и существительные, к которым они относят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нтаксическая роль имени прилагательно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000" y="1600200"/>
            <a:ext cx="821844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Наступила холодная зи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Мороз жгуч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нтаксическая роль имени прилагательно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000" y="1600200"/>
            <a:ext cx="821844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600" spc="-1" strike="noStrike">
                <a:solidFill>
                  <a:srgbClr val="00b050"/>
                </a:solidFill>
                <a:latin typeface="Calibri"/>
              </a:rPr>
              <a:t>при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Наступила </a:t>
            </a: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холодная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зи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р. пр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Мороз </a:t>
            </a: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жгуч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539640" y="4581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В предложении прилагательные бывают определениями, сказуем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ктант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пишите два четверостишия стихотворения Тютчева “Весенние воды”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) Выписать имена прилагательные вместе с существительными и указать род, число, падеж прилагательного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) Объясните расстановку знаков препинания во втором четверостиш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) В первом предложении назовите слова с орфограммой в корн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) Обозначьте грамматические основы и составьте схем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5T17:48:27Z</dcterms:created>
  <dc:creator>admin</dc:creator>
  <dc:description/>
  <dc:language>en-US</dc:language>
  <cp:lastModifiedBy>Сухинина Светлана Вячеславовна</cp:lastModifiedBy>
  <dcterms:modified xsi:type="dcterms:W3CDTF">2017-06-05T08:48:36Z</dcterms:modified>
  <cp:revision>8</cp:revision>
  <dc:subject/>
  <dc:title>Имя прилагательное как часть речи. Синтаксическая роль имени прилагательного.</dc:title>
</cp:coreProperties>
</file>