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DDE-B912-4AD9-8FFF-7A052489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174-986F-4ABE-90D5-4AC9F77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A58-768A-4E60-AAFF-7BF17793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51F-02CB-42E9-8C08-B057D60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F4A-DECE-4C0B-BA6D-F31D6EE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0E7-AFF7-4CF8-8857-1932A73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FB2-7C8A-4362-A0F9-0F27ED2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D2C-A69D-4487-8997-2B9F7054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9C4-2B40-493F-9637-408986B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B1E-BA92-4C4B-B752-66CEA8E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0E7-B950-43F9-84EE-8CB914E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E3B-5F69-4838-846F-7E6BFCE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A86-F044-42E5-A3C4-BC916CCBC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Имя прилагательное как часть речи. 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е в поля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ле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не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ж вес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шум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г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д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нный брег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ег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лещ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с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= -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, а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- =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 =, =, и =, и =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лася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 все концы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Весна идет, весна идет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молодой весны гонцы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ас выслала вперед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: «П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рег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(м.р., ед.ч.,В.п.,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олод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сны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(ж.р., ед.ч., Р.п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75, 5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76 (устно), 573 (письмен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7398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возь волнистые тума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ирается лун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печальные поля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ьет печально свет о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дороге зимней, скучн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ойка борзая бежит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окольчик однозвучны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томительно греми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-то слышится родно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олгих песнях ямщи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 разгулье удало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 сердечная тоска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700360" y="6197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334800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имняя до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прилагательных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картину вы представили, читая стихотворение А. С. Пушкина «Зимняя дорога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настроение почувствовали? Какие слова помогли вам почувствовать настроение стихотвор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роль прилагательных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11280" y="53737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лагательные украшают, уточняют речь, передают настроение, рисуют карт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56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амостоятельная рабо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ют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ие вопросы они отвеч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ислить признаки прилага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ой частью речи они согласу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лагательное обозначает признак  предм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чает на вопросы  КАКОЙ? КАКАЯ? КАКИЕ? ЧЕЙ? ЧЬЯ? ЧЬЁ? ЧЬ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рфологические признаки: РОД, ЧИСЛО,ПАДЕЖ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гласуются с именем существительным, т.е.ставятся в том же роде, числе и падеже, что и существительные, к которым они относя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600200"/>
            <a:ext cx="8218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упила холодная зи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роз жгу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ая роль имени прилагательн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600200"/>
            <a:ext cx="8218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при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упила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холодная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зи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р. пр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роз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жгуч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39640" y="4581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В предложении прилагательные бывают определениями, сказуем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ктан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шите два четверостишия стихотворения Тютчева “Весенние воды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Выписать имена прилагательные вместе с существительными и указать род, число, падеж прилагательног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) Объясните расстановку знаков препинания во втором четверостиш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 В первом предложении назовите слова с орфограммой в корн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) Обозначьте грамматические основы и составьте схем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17:48:27Z</dcterms:created>
  <dc:creator>admin</dc:creator>
  <dc:description/>
  <dc:language>en-US</dc:language>
  <cp:lastModifiedBy>Сухинина Светлана Вячеславовна</cp:lastModifiedBy>
  <dcterms:modified xsi:type="dcterms:W3CDTF">2017-06-05T08:48:36Z</dcterms:modified>
  <cp:revision>8</cp:revision>
  <dc:subject/>
  <dc:title>Имя прилагательное как часть речи. Синтаксическая роль имени прилагательного.</dc:title>
</cp:coreProperties>
</file>