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4879-93FE-4B79-9875-0705E80A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3A6D-CE0E-45FC-9FD8-67C016DF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3C44-5A95-43AE-9872-D4E0A80A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ED57-D3EF-4BE2-9F8F-E9A30AA4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A647-2036-48CC-B340-71F7B719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E0E8-57DA-43EC-B59C-5966E58B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F5BB-8A36-4490-907F-0FD50A3F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AF97-35DB-48B0-97EF-FAB35D09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03B7-17F1-4D7D-9CDB-3AE4A1E9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6D75-CBF0-46DB-8341-273FB378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6C9E-E366-4EE5-ABAE-C3A1778C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6FAA-5CCB-43EF-B3BD-EC6BB9E7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5FF5-F92D-45A0-9D62-4A6BF63DE8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99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cc0099"/>
                </a:solidFill>
                <a:latin typeface="Arial Black"/>
              </a:rPr>
              <a:t>Муниципальное бюджетное дошкольное            образовательное учреждение</a:t>
            </a:r>
            <a:br>
              <a:rPr sz="1800"/>
            </a:br>
            <a:r>
              <a:rPr b="0" lang="ru-RU" sz="1800" spc="-1" strike="noStrike">
                <a:solidFill>
                  <a:srgbClr val="cc0099"/>
                </a:solidFill>
                <a:latin typeface="Arial Black"/>
              </a:rPr>
              <a:t> Детский сад № 33 «Солнышк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СЕДАНИЕ ПЕДАГОГИЧЕСКОГО СО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바탕"/>
                <a:ea typeface="바탕"/>
              </a:rPr>
              <a:t>«ФОРМИРОВАНИЕ ЭКОЛОГИЧЕСКОЙ КУЛЬТУРЫ ДЕТЕЙ ДОШКОЛЬНОГО ВОЗРАСТА С ОВЗ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                                 </a:t>
            </a:r>
            <a:r>
              <a:rPr b="1" lang="ru-RU" sz="2400" spc="-1" strike="noStrike">
                <a:solidFill>
                  <a:srgbClr val="cc0099"/>
                </a:solidFill>
                <a:latin typeface="Bookman Old Style"/>
              </a:rPr>
              <a:t>МАРТ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2886120" y="1295280"/>
            <a:ext cx="5114880" cy="228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cc33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ffcc00">
                      <a:alpha val="80000"/>
                    </a:srgbClr>
                  </a:outerShdw>
                </a:effectLst>
                <a:latin typeface="Monotype Corsiva"/>
              </a:rPr>
              <a:t> </a:t>
            </a:r>
            <a:endParaRPr b="1" i="1" lang="en-US" sz="2800" spc="1" strike="noStrike">
              <a:ln w="0">
                <a:noFill/>
              </a:ln>
              <a:gradFill rotWithShape="0">
                <a:gsLst>
                  <a:gs pos="0">
                    <a:srgbClr val="336699"/>
                  </a:gs>
                  <a:gs pos="100000">
                    <a:srgbClr val="cc3300"/>
                  </a:gs>
                </a:gsLst>
                <a:lin ang="2700000"/>
              </a:gradFill>
              <a:effectLst>
                <a:outerShdw dist="40186" dir="1096358" blurRad="0" rotWithShape="0">
                  <a:srgbClr val="ffcc0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slow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160" y="11430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ИТОГИ ТЕМАТИЧЕСКОГО КОНТРОЛЯ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«ИСПОЛЬЗОВАНИЕ ЭКСПЕРИМЕНТАЛЬНОЙ ДЕЯТЕЛЬНОСТИ  В ПРОЦЕССЕ  ОЗНАКОМЛЕНИЯ ДОШКОЛЬНИКОВ  С ЭКОЛОГИЕЙ»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ЗАВЕДУЮЩИЙ МБДОУ: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МОРЯКИНА ЛАРИСА АЛЕКСАНД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120" y="11430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ИЗ ОПЫТА РАБОТЫ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«ФОРМИРОВАНИЕ СВЯЗНОЙ РЕЧИ И ЛОГИЧЕСКОГО МЫШЛЕНИЯ У СТАРШИХ ДОШКОЛЬНИКОВ С ТНР В СИСТЕМЕ ЭКОЛОГИЧЕСКОГО ВОСПИТАНИЯ»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УЧИТЕЛЬ-ЛОГОПЕД: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ТРИФОНОВА ОЛЬГА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1294920"/>
            <a:ext cx="65894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-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«ЭКОЛГОИЧЕСКОЕ          ОБРАЗОВАНИЕ В СЕМЬЕ»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- «ВОЗДУХ В ВАШЕЙ   КВАРТИРЕ»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- «ЭКОЛОГИЯ И КУРЕНИЕ»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ВОСПИТАТЕЛЬ: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АВИЛОВА ОЛЬГА ИВ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РЕЗУЛЬТАТЫ  АНКЕТИРОВАНИЯ 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ой</cp:lastModifiedBy>
  <dcterms:modified xsi:type="dcterms:W3CDTF">2017-06-05T08:53:13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