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E786-BBD1-4AF6-B439-C62637A7A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CD0B-12F2-4CF9-9587-8B9A46F9B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8B8E-FE8D-44D6-8A0C-41E8253CD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1A37-BEF7-48CB-BFD2-27099E08C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B008-A5AD-4617-B204-4BCA31C52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53F4-4AD3-439E-AE62-D53C411BC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9E02-92DF-4F40-8008-85DCCF7C2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2690-BED1-403D-8471-67B13D495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CD11-C0B2-441B-B8A3-D5E645BE6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CA52-1173-4A51-9741-35337C92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77F2-4368-4DB3-AD77-3C987371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B0E4-8F13-4523-B5FA-40E0DB4F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3DC2F-85D3-4826-ABAD-B3DE46EA00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99"/>
                </a:solidFill>
                <a:latin typeface="Arial Black"/>
              </a:rPr>
              <a:t>  </a:t>
            </a:r>
            <a:r>
              <a:rPr b="0" lang="ru-RU" sz="1800" spc="-1" strike="noStrike">
                <a:solidFill>
                  <a:srgbClr val="cc0099"/>
                </a:solidFill>
                <a:latin typeface="Arial Black"/>
              </a:rPr>
              <a:t>Муниципальное бюджетное дошкольное            образовательное учреждение</a:t>
            </a:r>
            <a:br>
              <a:rPr sz="1800"/>
            </a:br>
            <a:r>
              <a:rPr b="0" lang="ru-RU" sz="1800" spc="-1" strike="noStrike">
                <a:solidFill>
                  <a:srgbClr val="cc0099"/>
                </a:solidFill>
                <a:latin typeface="Arial Black"/>
              </a:rPr>
              <a:t> Детский сад № 33 «Солнышк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СЕДАНИЕ ПЕДАГОГИЧЕСКОГО СОВ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바탕"/>
                <a:ea typeface="바탕"/>
              </a:rPr>
              <a:t>«ФОРМИРОВАНИЕ ЭКОЛОГИЧЕСКОЙ КУЛЬТУРЫ ДЕТЕЙ ДОШКОЛЬНОГО ВОЗРАСТА С ОВЗ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                                  </a:t>
            </a:r>
            <a:r>
              <a:rPr b="1" lang="ru-RU" sz="2400" spc="-1" strike="noStrike">
                <a:solidFill>
                  <a:srgbClr val="cc0099"/>
                </a:solidFill>
                <a:latin typeface="Bookman Old Style"/>
              </a:rPr>
              <a:t>МАРТ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2886120" y="1295280"/>
            <a:ext cx="5114880" cy="228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336699"/>
                    </a:gs>
                    <a:gs pos="100000">
                      <a:srgbClr val="cc3300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ffcc00">
                      <a:alpha val="80000"/>
                    </a:srgbClr>
                  </a:outerShdw>
                </a:effectLst>
                <a:latin typeface="Monotype Corsiva"/>
              </a:rPr>
              <a:t> </a:t>
            </a:r>
            <a:endParaRPr b="1" i="1" lang="en-US" sz="2800" spc="1" strike="noStrike">
              <a:ln w="0">
                <a:noFill/>
              </a:ln>
              <a:gradFill rotWithShape="0">
                <a:gsLst>
                  <a:gs pos="0">
                    <a:srgbClr val="336699"/>
                  </a:gs>
                  <a:gs pos="100000">
                    <a:srgbClr val="cc3300"/>
                  </a:gs>
                </a:gsLst>
                <a:lin ang="2700000"/>
              </a:gradFill>
              <a:effectLst>
                <a:outerShdw dist="40186" dir="1096358" blurRad="0" rotWithShape="0">
                  <a:srgbClr val="ffcc0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 spd="slow"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76160" y="11430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ИТОГИ ТЕМАТИЧЕСКОГО КОНТРОЛЯ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«ИСПОЛЬЗОВАНИЕ ЭКСПЕРИМЕНТАЛЬНОЙ ДЕЯТЕЛЬНОСТИ  В ПРОЦЕССЕ  ОЗНАКОМЛЕНИЯ ДОШКОЛЬНИКОВ  С ЭКОЛОГИЕЙ»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ЗАВЕДУЮЩИЙ МБДОУ: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МОРЯКИНА ЛАРИСА АЛЕКСАНД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52120" y="11430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ИЗ ОПЫТА РАБОТЫ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«ФОРМИРОВАНИЕ СВЯЗНОЙ РЕЧИ И ЛОГИЧЕСКОГО МЫШЛЕНИЯ У СТАРШИХ ДОШКОЛЬНИКОВ С ТНР В СИСТЕМЕ ЭКОЛОГИЧЕСКОГО ВОСПИТАНИЯ»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УЧИТЕЛЬ-ЛОГОПЕД: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ТРИФОНОВА ОЛЬГА НИКОЛА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05120" y="1294920"/>
            <a:ext cx="658944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- </a:t>
            </a: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«ЭКОЛГОИЧЕСКОЕ          ОБРАЗОВАНИЕ В СЕМЬЕ»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- «ВОЗДУХ В ВАШЕЙ   КВАРТИРЕ»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- «ЭКОЛОГИЯ И КУРЕНИЕ»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ВОСПИТАТЕЛЬ: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                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АВИЛОВА ОЛЬГА ИВАН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94920" y="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РЕЗУЛЬТАТЫ  АНКЕТИРОВАНИЯ РОДИ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ой</cp:lastModifiedBy>
  <dcterms:modified xsi:type="dcterms:W3CDTF">2017-06-05T08:53:13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