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EA9-5DF3-48CE-BAB6-08C31F33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955-CD7D-4C6F-832B-6CE97481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48F-4032-4EDE-8ABA-60F1933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11F-1716-40D8-B4E8-B803FAC3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F4C-853F-4531-9BCF-2215190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D7D-B19E-430F-91A3-F6153AEC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60A-B7A1-4673-891F-AC5E989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DE5-1889-45FE-9495-4EC7B7FD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111-4137-4F1D-83BA-224F3D2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764-2C3B-4B56-9262-FB8E91A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E78-F209-4BC4-82A6-1778CEE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5A7-849F-44A6-9993-DC8E39F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DEF3-32D0-49C8-86C7-07C6785D5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38080" y="20574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для обуч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ннему чт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со слог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714680" y="556272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зентация подготовлена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ем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огопе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ей квалификацион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тегории МДОУ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С № 28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рофеевой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C:\Users\Toshiba\Desktop\СО СЛОГАМИ\image (1).jpg"/>
          <p:cNvPicPr/>
          <p:nvPr/>
        </p:nvPicPr>
        <p:blipFill>
          <a:blip r:embed="rId2"/>
          <a:stretch/>
        </p:blipFill>
        <p:spPr>
          <a:xfrm>
            <a:off x="987480" y="755640"/>
            <a:ext cx="506556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Users\Toshiba\Desktop\СО СЛОГАМИ\image (1).jpg"/>
          <p:cNvPicPr/>
          <p:nvPr/>
        </p:nvPicPr>
        <p:blipFill>
          <a:blip r:embed="rId3"/>
          <a:stretch/>
        </p:blipFill>
        <p:spPr>
          <a:xfrm>
            <a:off x="907920" y="7308720"/>
            <a:ext cx="5175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C:\Users\Toshiba\Desktop\СО СЛОГАМИ\image (1).jpg"/>
          <p:cNvPicPr/>
          <p:nvPr/>
        </p:nvPicPr>
        <p:blipFill>
          <a:blip r:embed="rId1"/>
          <a:stretch/>
        </p:blipFill>
        <p:spPr>
          <a:xfrm>
            <a:off x="1300320" y="2133720"/>
            <a:ext cx="4257360" cy="60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Toshiba\Desktop\СО СЛОГАМИ\image (1).jpg"/>
          <p:cNvPicPr/>
          <p:nvPr/>
        </p:nvPicPr>
        <p:blipFill>
          <a:blip r:embed="rId2"/>
          <a:srcRect l="0" t="0" r="0" b="85417"/>
          <a:stretch/>
        </p:blipFill>
        <p:spPr>
          <a:xfrm>
            <a:off x="847800" y="914400"/>
            <a:ext cx="516240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:\Users\Toshiba\Desktop\СО СЛОГАМИ\image (1).jpg"/>
          <p:cNvPicPr/>
          <p:nvPr/>
        </p:nvPicPr>
        <p:blipFill>
          <a:blip r:embed="rId3"/>
          <a:srcRect l="0" t="0" r="0" b="85417"/>
          <a:stretch/>
        </p:blipFill>
        <p:spPr>
          <a:xfrm>
            <a:off x="838080" y="914400"/>
            <a:ext cx="516276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Toshiba\Desktop\СО СЛОГАМИ\image (1).jpg"/>
          <p:cNvPicPr/>
          <p:nvPr/>
        </p:nvPicPr>
        <p:blipFill>
          <a:blip r:embed="rId4"/>
          <a:srcRect l="0" t="0" r="0" b="85417"/>
          <a:stretch/>
        </p:blipFill>
        <p:spPr>
          <a:xfrm>
            <a:off x="990720" y="1600200"/>
            <a:ext cx="516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C:\Users\Toshiba\Desktop\СО СЛОГАМИ\image.jpg"/>
          <p:cNvPicPr/>
          <p:nvPr/>
        </p:nvPicPr>
        <p:blipFill>
          <a:blip r:embed="rId2"/>
          <a:stretch/>
        </p:blipFill>
        <p:spPr>
          <a:xfrm>
            <a:off x="793800" y="838080"/>
            <a:ext cx="52164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C:\Users\Toshiba\Desktop\СО СЛОГАМИ\image (1).jpg"/>
          <p:cNvPicPr/>
          <p:nvPr/>
        </p:nvPicPr>
        <p:blipFill>
          <a:blip r:embed="rId2"/>
          <a:stretch/>
        </p:blipFill>
        <p:spPr>
          <a:xfrm>
            <a:off x="847800" y="914400"/>
            <a:ext cx="516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C:\Users\Toshiba\Desktop\СО СЛОГАМИ\image (2).jpg"/>
          <p:cNvPicPr/>
          <p:nvPr/>
        </p:nvPicPr>
        <p:blipFill>
          <a:blip r:embed="rId2"/>
          <a:stretch/>
        </p:blipFill>
        <p:spPr>
          <a:xfrm>
            <a:off x="847800" y="838080"/>
            <a:ext cx="516240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Toshiba\Desktop\СО СЛОГАМИ\image (3).jpg"/>
          <p:cNvPicPr/>
          <p:nvPr/>
        </p:nvPicPr>
        <p:blipFill>
          <a:blip r:embed="rId2"/>
          <a:stretch/>
        </p:blipFill>
        <p:spPr>
          <a:xfrm>
            <a:off x="847800" y="762120"/>
            <a:ext cx="5162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C:\Users\Toshiba\Desktop\СО СЛОГАМИ\image (4).jpg"/>
          <p:cNvPicPr/>
          <p:nvPr/>
        </p:nvPicPr>
        <p:blipFill>
          <a:blip r:embed="rId2"/>
          <a:stretch/>
        </p:blipFill>
        <p:spPr>
          <a:xfrm>
            <a:off x="847800" y="838080"/>
            <a:ext cx="5162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Toshiba\Desktop\СО СЛОГАМИ\image (5).jpg"/>
          <p:cNvPicPr/>
          <p:nvPr/>
        </p:nvPicPr>
        <p:blipFill>
          <a:blip r:embed="rId2"/>
          <a:stretch/>
        </p:blipFill>
        <p:spPr>
          <a:xfrm>
            <a:off x="847800" y="762120"/>
            <a:ext cx="516240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C:\Users\Toshiba\Desktop\СО СЛОГАМИ\image (6).jpg"/>
          <p:cNvPicPr/>
          <p:nvPr/>
        </p:nvPicPr>
        <p:blipFill>
          <a:blip r:embed="rId2"/>
          <a:stretch/>
        </p:blipFill>
        <p:spPr>
          <a:xfrm>
            <a:off x="847800" y="685800"/>
            <a:ext cx="516240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Toshiba\Desktop\ramka-2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Toshiba\Desktop\СО СЛОГАМИ\image (7).jpg"/>
          <p:cNvPicPr/>
          <p:nvPr/>
        </p:nvPicPr>
        <p:blipFill>
          <a:blip r:embed="rId2"/>
          <a:stretch/>
        </p:blipFill>
        <p:spPr>
          <a:xfrm>
            <a:off x="847800" y="914400"/>
            <a:ext cx="516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4T07:21:19Z</dcterms:created>
  <dc:creator>Toshiba</dc:creator>
  <dc:description/>
  <dc:language>en-US</dc:language>
  <cp:lastModifiedBy>Toshiba</cp:lastModifiedBy>
  <dcterms:modified xsi:type="dcterms:W3CDTF">2017-06-04T08:02:40Z</dcterms:modified>
  <cp:revision>1</cp:revision>
  <dc:subject/>
  <dc:title>Слайд 1</dc:title>
</cp:coreProperties>
</file>