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9764-51E2-4667-8120-C33DC3BB8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5143-E0A7-4ED2-93D4-2F29733B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6143-BE47-4E5E-91B4-33A1DAA2B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2184-1FE1-4746-8CCC-451587BC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E731-EB29-48AC-B76C-83AC697B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8554-12F3-462A-B4F7-1F1D1785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F615-71A1-4ED6-9DB9-54F4D130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41E7-882C-44E2-BA92-A58844E8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2FFC-273E-4251-9E49-154767BA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8EF2-E26F-4156-887D-C85E7A37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62B0-71B6-4B94-BC27-B55BE11F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5139-FF0D-4A0A-B82F-C30C8104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33E9-D7B7-4134-85C9-CF1B416CB1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Toshiba\Desktop\ramka-21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838080" y="2057400"/>
            <a:ext cx="5029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гры для обуч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ннему чтен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гры со слог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1714680" y="5562720"/>
            <a:ext cx="342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езентация подготовлена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чителем 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  <a:ea typeface="Times New Roman"/>
              </a:rPr>
              <a:t>–</a:t>
            </a:r>
            <a:r>
              <a:rPr b="1" lang="ru-RU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логопед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ысшей квалификационн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атегории МДОУ 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С № 28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рофеевой Т.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C:\Users\Toshiba\Desktop\СО СЛОГАМИ\image (1).jpg"/>
          <p:cNvPicPr/>
          <p:nvPr/>
        </p:nvPicPr>
        <p:blipFill>
          <a:blip r:embed="rId2"/>
          <a:stretch/>
        </p:blipFill>
        <p:spPr>
          <a:xfrm>
            <a:off x="987480" y="755640"/>
            <a:ext cx="5065560" cy="774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" descr="C:\Users\Toshiba\Desktop\СО СЛОГАМИ\image (1).jpg"/>
          <p:cNvPicPr/>
          <p:nvPr/>
        </p:nvPicPr>
        <p:blipFill>
          <a:blip r:embed="rId3"/>
          <a:stretch/>
        </p:blipFill>
        <p:spPr>
          <a:xfrm>
            <a:off x="907920" y="7308720"/>
            <a:ext cx="5175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" descr="C:\Users\Toshiba\Desktop\СО СЛОГАМИ\image (1).jpg"/>
          <p:cNvPicPr/>
          <p:nvPr/>
        </p:nvPicPr>
        <p:blipFill>
          <a:blip r:embed="rId1"/>
          <a:stretch/>
        </p:blipFill>
        <p:spPr>
          <a:xfrm>
            <a:off x="1300320" y="2133720"/>
            <a:ext cx="4257360" cy="6033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" descr="C:\Users\Toshiba\Desktop\СО СЛОГАМИ\image (1).jpg"/>
          <p:cNvPicPr/>
          <p:nvPr/>
        </p:nvPicPr>
        <p:blipFill>
          <a:blip r:embed="rId2"/>
          <a:srcRect l="0" t="0" r="0" b="85417"/>
          <a:stretch/>
        </p:blipFill>
        <p:spPr>
          <a:xfrm>
            <a:off x="847800" y="914400"/>
            <a:ext cx="5162400" cy="1066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" descr="C:\Users\Toshiba\Desktop\СО СЛОГАМИ\image (1).jpg"/>
          <p:cNvPicPr/>
          <p:nvPr/>
        </p:nvPicPr>
        <p:blipFill>
          <a:blip r:embed="rId3"/>
          <a:srcRect l="0" t="0" r="0" b="85417"/>
          <a:stretch/>
        </p:blipFill>
        <p:spPr>
          <a:xfrm>
            <a:off x="838080" y="914400"/>
            <a:ext cx="5162760" cy="1066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" descr="C:\Users\Toshiba\Desktop\СО СЛОГАМИ\image (1).jpg"/>
          <p:cNvPicPr/>
          <p:nvPr/>
        </p:nvPicPr>
        <p:blipFill>
          <a:blip r:embed="rId4"/>
          <a:srcRect l="0" t="0" r="0" b="85417"/>
          <a:stretch/>
        </p:blipFill>
        <p:spPr>
          <a:xfrm>
            <a:off x="990720" y="1600200"/>
            <a:ext cx="51624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Toshiba\Desktop\ramka-21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" descr="C:\Users\Toshiba\Desktop\СО СЛОГАМИ\image.jpg"/>
          <p:cNvPicPr/>
          <p:nvPr/>
        </p:nvPicPr>
        <p:blipFill>
          <a:blip r:embed="rId2"/>
          <a:stretch/>
        </p:blipFill>
        <p:spPr>
          <a:xfrm>
            <a:off x="793800" y="838080"/>
            <a:ext cx="5216400" cy="73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Toshiba\Desktop\ramka-21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" descr="C:\Users\Toshiba\Desktop\СО СЛОГАМИ\image (1).jpg"/>
          <p:cNvPicPr/>
          <p:nvPr/>
        </p:nvPicPr>
        <p:blipFill>
          <a:blip r:embed="rId2"/>
          <a:stretch/>
        </p:blipFill>
        <p:spPr>
          <a:xfrm>
            <a:off x="847800" y="914400"/>
            <a:ext cx="51624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Toshiba\Desktop\ramka-21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" descr="C:\Users\Toshiba\Desktop\СО СЛОГАМИ\image (2).jpg"/>
          <p:cNvPicPr/>
          <p:nvPr/>
        </p:nvPicPr>
        <p:blipFill>
          <a:blip r:embed="rId2"/>
          <a:stretch/>
        </p:blipFill>
        <p:spPr>
          <a:xfrm>
            <a:off x="847800" y="838080"/>
            <a:ext cx="5162400" cy="746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Toshiba\Desktop\ramka-21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" descr="C:\Users\Toshiba\Desktop\СО СЛОГАМИ\image (3).jpg"/>
          <p:cNvPicPr/>
          <p:nvPr/>
        </p:nvPicPr>
        <p:blipFill>
          <a:blip r:embed="rId2"/>
          <a:stretch/>
        </p:blipFill>
        <p:spPr>
          <a:xfrm>
            <a:off x="847800" y="762120"/>
            <a:ext cx="5162400" cy="75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Toshiba\Desktop\ramka-21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" descr="C:\Users\Toshiba\Desktop\СО СЛОГАМИ\image (4).jpg"/>
          <p:cNvPicPr/>
          <p:nvPr/>
        </p:nvPicPr>
        <p:blipFill>
          <a:blip r:embed="rId2"/>
          <a:stretch/>
        </p:blipFill>
        <p:spPr>
          <a:xfrm>
            <a:off x="847800" y="838080"/>
            <a:ext cx="5162400" cy="75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Toshiba\Desktop\ramka-21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" descr="C:\Users\Toshiba\Desktop\СО СЛОГАМИ\image (5).jpg"/>
          <p:cNvPicPr/>
          <p:nvPr/>
        </p:nvPicPr>
        <p:blipFill>
          <a:blip r:embed="rId2"/>
          <a:stretch/>
        </p:blipFill>
        <p:spPr>
          <a:xfrm>
            <a:off x="847800" y="762120"/>
            <a:ext cx="516240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Toshiba\Desktop\ramka-21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" descr="C:\Users\Toshiba\Desktop\СО СЛОГАМИ\image (6).jpg"/>
          <p:cNvPicPr/>
          <p:nvPr/>
        </p:nvPicPr>
        <p:blipFill>
          <a:blip r:embed="rId2"/>
          <a:stretch/>
        </p:blipFill>
        <p:spPr>
          <a:xfrm>
            <a:off x="847800" y="685800"/>
            <a:ext cx="5162400" cy="76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Users\Toshiba\Desktop\ramka-21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" descr="C:\Users\Toshiba\Desktop\СО СЛОГАМИ\image (7).jpg"/>
          <p:cNvPicPr/>
          <p:nvPr/>
        </p:nvPicPr>
        <p:blipFill>
          <a:blip r:embed="rId2"/>
          <a:stretch/>
        </p:blipFill>
        <p:spPr>
          <a:xfrm>
            <a:off x="847800" y="914400"/>
            <a:ext cx="51624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04T07:21:19Z</dcterms:created>
  <dc:creator>Toshiba</dc:creator>
  <dc:description/>
  <dc:language>en-US</dc:language>
  <cp:lastModifiedBy>Toshiba</cp:lastModifiedBy>
  <dcterms:modified xsi:type="dcterms:W3CDTF">2017-06-04T08:02:40Z</dcterms:modified>
  <cp:revision>1</cp:revision>
  <dc:subject/>
  <dc:title>Слайд 1</dc:title>
</cp:coreProperties>
</file>