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D5C-CB3C-4E89-8897-B475B1374E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4FF-D40B-4AA2-9DA7-40961634771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Дата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C67-5FE3-4221-96D6-0100FED0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AC0-63A4-44B9-B9DE-E6AEB64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0BB-48E9-4BA6-B1DE-C78D6AFD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5F2-690A-4084-A7F2-09FC95C3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13CF-0FFF-4ADE-8544-BA5B94C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44A-BE7E-47BB-8B41-99403DB6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30AD-D41D-4573-A32C-5E213204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9DB0-D1B3-4706-9669-043ECF6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DF07-D6AB-47D3-A7D3-3FF2650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4BF-A4C8-4097-BFF6-FDD4F3DA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DA86-7BED-44DA-9A33-A22D824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996-C94E-41FA-A7A0-E7931F0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9F9-5E18-430A-98BA-DE6E2ED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87C1-4683-47CD-8B4C-BA239A0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BEFC-4983-4C10-8CFE-B1035C83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B397-8E52-4597-9D35-54239870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35F7-ABD2-47BE-9549-F0876083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2EA-401D-4346-A360-412730C5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B7C-22EB-4DB8-8619-6B467E41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A65-4169-4C17-855B-E3EC5C9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A2B-7C29-4A60-B072-D0D42BD5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D61-3837-4A68-B19C-B86596B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B0F-484C-4BC2-A748-3B19C23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5CA-7F23-48A2-B8A9-DB94705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4E9-EF36-4390-A224-4BCEBDF2B3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2DC2-F1AC-4430-AFB7-B50AD36CE78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o.mail.ru/frame.html?q=%CA%D3%D0%C5%CD%C8%C5&amp;imsrc=http://smoking.id.lv/wp-content/uploads/2009/11/faktory-riska-dlya-zdorovya-svyazannye-s-kureniem.jpg&amp;rch=e&amp;jsa=1&amp;sf=0&amp;cf=9&amp;is=0&amp;type=al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69800" y="-96840"/>
            <a:ext cx="8277480" cy="3754440"/>
          </a:xfrm>
          <a:prstGeom prst="rect">
            <a:avLst/>
          </a:prstGeom>
          <a:ln w="0">
            <a:noFill/>
          </a:ln>
        </p:spPr>
      </p:pic>
      <p:sp>
        <p:nvSpPr>
          <p:cNvPr id="122" name="Подзаголовок 2"/>
          <p:cNvSpPr/>
          <p:nvPr/>
        </p:nvSpPr>
        <p:spPr>
          <a:xfrm>
            <a:off x="179280" y="472428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Автор: Лобачева В.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2" descr="http://sergievgrad.ru/upload/iblock/17f/kurenie.jpg"/>
          <p:cNvPicPr/>
          <p:nvPr/>
        </p:nvPicPr>
        <p:blipFill>
          <a:blip r:embed="rId2"/>
          <a:stretch/>
        </p:blipFill>
        <p:spPr>
          <a:xfrm>
            <a:off x="3633840" y="3876840"/>
            <a:ext cx="3035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227071771_cigarette"/>
          <p:cNvPicPr/>
          <p:nvPr/>
        </p:nvPicPr>
        <p:blipFill>
          <a:blip r:embed="rId1"/>
          <a:stretch/>
        </p:blipFill>
        <p:spPr>
          <a:xfrm>
            <a:off x="250920" y="620640"/>
            <a:ext cx="5373720" cy="5676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What-is-in-a-cigarette"/>
          <p:cNvPicPr/>
          <p:nvPr/>
        </p:nvPicPr>
        <p:blipFill>
          <a:blip r:embed="rId2"/>
          <a:stretch/>
        </p:blipFill>
        <p:spPr>
          <a:xfrm>
            <a:off x="5788080" y="3789360"/>
            <a:ext cx="3355920" cy="24112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6804000" y="836640"/>
            <a:ext cx="7430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28692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28320" indent="-246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aeaea"/>
                </a:solidFill>
                <a:latin typeface="Verdana"/>
              </a:rPr>
              <a:t>Берегите себя!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2" descr="http://34374.info/wp-content/uploads/2013/10/22.jpg"/>
          <p:cNvPicPr/>
          <p:nvPr/>
        </p:nvPicPr>
        <p:blipFill>
          <a:blip r:embed="rId1"/>
          <a:stretch/>
        </p:blipFill>
        <p:spPr>
          <a:xfrm>
            <a:off x="2916360" y="2852640"/>
            <a:ext cx="2892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ndeec.net/main/trubka_mira/foto/1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414972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Курение было и остаётся одной из главных проблем человечеств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Одни считают, что курение – это хорошо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Другие, что - плохо. К счастью, таких большинство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Эта пагубная привычка очень сильно вредит европейцам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А ведь всё могло бы обойти нас стороной, если бы не Колумб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Однако, попробовав </a:t>
            </a:r>
            <a:r>
              <a:rPr b="1" lang="ru-RU" sz="1800" spc="-1" strike="noStrike">
                <a:solidFill>
                  <a:srgbClr val="dbe6da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трубку мира</a:t>
            </a:r>
            <a:r>
              <a:rPr b="1" lang="ru-RU" sz="1800" spc="-1" strike="noStrike">
                <a:solidFill>
                  <a:srgbClr val="dbe6da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dbe6da"/>
                </a:solidFill>
                <a:latin typeface="Verdana"/>
              </a:rPr>
              <a:t>, колонисты ввезли этот товар на европейский рынок, на котором он и продолжает оставатьс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486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Verdana"/>
              </a:rPr>
              <a:t>МИФ: Если человек курит сигарету, значит он модный и привлекательный.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Verdana"/>
              </a:rPr>
              <a:t>Мужчины с сигаретой кажутся бесстрашными мачо.   Женщины, в свою очередь,  гламурными и привлекательными. Об этом снято много рекламных роликов, реклама закрепляет эти образы в человеческом разуме - и трудно устоять перед искушение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 rot="1889400">
            <a:off x="4597200" y="2298600"/>
            <a:ext cx="5041800" cy="97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ttp://www.stihi.ru/pics/2013/09/02/100.jpg"/>
          <p:cNvPicPr/>
          <p:nvPr/>
        </p:nvPicPr>
        <p:blipFill>
          <a:blip r:embed="rId2"/>
          <a:stretch/>
        </p:blipFill>
        <p:spPr>
          <a:xfrm>
            <a:off x="1547640" y="549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55640" y="3745080"/>
            <a:ext cx="73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ДА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урящему человеку очен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трудно выглядеть хорошо, поскольку зубы желтеют, изо рта идёт неприятный запах, пальцы приобретают желтовато - коричневый оттенок. Также курение способствует  появлению целлюлита. Совсем не привлекательно выглядит утренний кашель курильщ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Самый важный - курение вызывает многие болезни, а больной человек редко хорошо выглядит, ему уже не до этого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3" descr="1241436677_woman-smoking888888"/>
          <p:cNvPicPr/>
          <p:nvPr/>
        </p:nvPicPr>
        <p:blipFill>
          <a:blip r:embed="rId1"/>
          <a:stretch/>
        </p:blipFill>
        <p:spPr>
          <a:xfrm>
            <a:off x="1187280" y="260280"/>
            <a:ext cx="2945160" cy="338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22675849[3]"/>
          <p:cNvPicPr/>
          <p:nvPr/>
        </p:nvPicPr>
        <p:blipFill>
          <a:blip r:embed="rId2"/>
          <a:stretch/>
        </p:blipFill>
        <p:spPr>
          <a:xfrm>
            <a:off x="5219640" y="333360"/>
            <a:ext cx="2998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grandma"/>
          <p:cNvPicPr/>
          <p:nvPr/>
        </p:nvPicPr>
        <p:blipFill>
          <a:blip r:embed="rId1"/>
          <a:stretch/>
        </p:blipFill>
        <p:spPr>
          <a:xfrm rot="719400">
            <a:off x="6516360" y="3212640"/>
            <a:ext cx="2300400" cy="3373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igar"/>
          <p:cNvPicPr/>
          <p:nvPr/>
        </p:nvPicPr>
        <p:blipFill>
          <a:blip r:embed="rId2"/>
          <a:stretch/>
        </p:blipFill>
        <p:spPr>
          <a:xfrm rot="848400">
            <a:off x="6516720" y="404640"/>
            <a:ext cx="2151000" cy="258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Funny-Grandma-with-Cigar"/>
          <p:cNvPicPr/>
          <p:nvPr/>
        </p:nvPicPr>
        <p:blipFill>
          <a:blip r:embed="rId3"/>
          <a:stretch/>
        </p:blipFill>
        <p:spPr>
          <a:xfrm rot="20739600">
            <a:off x="361800" y="511200"/>
            <a:ext cx="2659320" cy="3097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327840" y="549360"/>
            <a:ext cx="290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оя бабуля курил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апиросы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сю жизнь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ичем не болела 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жила до ста лет!!!!!!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14640" y="4149720"/>
            <a:ext cx="575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искни! Но люди по-разному реагиру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 все вещества, это связан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 биологическими особенностями человека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казано, что причиной рака лёгких могут ста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нцерогенные вещества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держащиеся в смоле сигаре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http://filmschool.do.am/_nw/0/322626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689040" y="6480"/>
            <a:ext cx="8229600" cy="105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684360" y="3284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МИФ: Сигарета помогает сбросить ве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2480" indent="-369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АВДА: Мы можем встретить на улицах людей с сигаретой в зубах, причём довольно полных. А худоба у некоторых курильщиков связана с неблагоприятным воздействием сигарет на желудочно-кишечный трак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2480" indent="-369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2" descr="http://images-partners.google.com/images?q=tbn:4ChUp7zX8mz7NM::http://smoking.id.lv/wp-content/uploads/2009/11/faktory-riska-dlya-zdorovya-svyazannye-s-kurenie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-8883720"/>
            <a:ext cx="13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smokingirl.ru/upload/blog/f0e64374507e9cf4d9286b651df8db7b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Заголовок 1" descr=""/>
          <p:cNvPicPr/>
          <p:nvPr/>
        </p:nvPicPr>
        <p:blipFill>
          <a:blip r:embed="rId2"/>
          <a:stretch/>
        </p:blipFill>
        <p:spPr>
          <a:xfrm>
            <a:off x="401760" y="244440"/>
            <a:ext cx="9144000" cy="766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11280" y="3212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МИФ: Сигарета направляет мысли в нужное русл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76280" indent="-357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ПРАВДА: Научные исследования доказали пагубное влияние сигарет на мыслительный процесс. У курильщиков сосуды забиваются отложениями кальция, и кислород плохо снабжает мозг, таким образом, у курильщиков интеллектуальный потенциал понижен.В прокуренных помещениях думается тяжеле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76280" indent="-357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img1.nnm.ru/d/0/9/6/7/d0967c2cf1d6e6916cc11ef52f9fa081_full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695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8360" y="76464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Verdana"/>
              </a:rPr>
              <a:t>МИФ: Сигарета является антидепрессантом.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Verdana"/>
              </a:rPr>
              <a:t>ПРАВДА: Первые три минуты  человек, выкуривающий сигарету спокоен, однако не более того. При попадании в организм никотин сначала успокаивает нервную систему, а затем ещё больше возбуждает ее. Это происходит, потому что никотин уничтожает все полезные минеральные вещества, которые способствуют укреплению нервной системы.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547560" indent="-411120">
              <a:lnSpc>
                <a:spcPct val="70000"/>
              </a:lnSpc>
              <a:spcBef>
                <a:spcPts val="3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finamlight.ru/files_jpg/perekur_kurenie(6664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Заголовок 1" descr=""/>
          <p:cNvPicPr/>
          <p:nvPr/>
        </p:nvPicPr>
        <p:blipFill>
          <a:blip r:embed="rId2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-360" y="259920"/>
            <a:ext cx="493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48920" indent="-3369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МИФ: Капля никотина убивает лошадь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8920" indent="-3369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ПРАВДА: Каждый знает этот миф, однако в таком случае человек должен отправиться на кладбище после одной пачки. На самом деле Никотин является наркотиком и заставляет курить снова и снова, а вместе с дымом в организм поступают угарный газ и другие опасные вещества. Эти вещества приводят к раковым опухоля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8920" indent="-3369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5:20:56Z</dcterms:created>
  <dc:creator>Admin</dc:creator>
  <dc:description/>
  <dc:language>en-US</dc:language>
  <cp:lastModifiedBy>Natalia</cp:lastModifiedBy>
  <cp:lastPrinted>2017-06-06T10:09:34Z</cp:lastPrinted>
  <dcterms:modified xsi:type="dcterms:W3CDTF">2017-06-06T10:10:35Z</dcterms:modified>
  <cp:revision>7</cp:revision>
  <dc:subject/>
  <dc:title>Слайд 1</dc:title>
</cp:coreProperties>
</file>