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B6D-24B6-4DE7-916D-8B50E5A2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E16-376B-4F71-B0A9-02E078B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E06-6167-4144-A625-1BE6C70E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0F9-7508-4E93-8250-E67DC385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162-21EE-4E67-B616-83DEAD50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DD90-567A-4A8A-9655-00412CC3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BAE2-1F63-498C-B052-D89F3E62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EC5D-8BBA-4189-B60F-7E06771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749-F352-4A9C-BAA0-5E23F3B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040-52C2-4DB5-A66E-75D1AAA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1FD2-246F-4DF4-A83E-9045F032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27D-6383-43C7-B79D-02080B0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8CD-D15F-4F70-9BB4-5464C9F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19CE-BE0F-408A-ABC4-20B79BB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2E5-D6E8-4705-A67B-58A4FF6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145-E6E5-4A9E-8F70-B008039C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D7A-76C4-41B0-8067-5D8975D3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4FF-A649-4603-A98B-9B7DB1D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CC6-8D30-43A9-B209-5F8E61D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500-E96A-42D3-AC24-ED52B25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9D3-C3CA-4CFE-9CA2-CEB24379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474-8DD1-4E1E-86E7-8683DE7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E08-6595-46F2-A001-477EEFE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C62-2783-4E88-BB61-57CC2D5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4BF-36C0-4D78-9443-43BBE22F77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72C-40C0-472F-9FDC-463C1C23CC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50104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аптация детей в детском саду</a:t>
            </a:r>
            <a:br>
              <a:rPr sz="5400"/>
            </a:b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Евгения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ушкина Марина Вале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428760" y="307188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55440" y="-6480"/>
            <a:ext cx="8734680" cy="4511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D:\Работа в саду\детский сад для распечатки\детский сад\34.png"/>
          <p:cNvPicPr/>
          <p:nvPr/>
        </p:nvPicPr>
        <p:blipFill>
          <a:blip r:embed="rId2"/>
          <a:stretch/>
        </p:blipFill>
        <p:spPr>
          <a:xfrm>
            <a:off x="5643720" y="3500280"/>
            <a:ext cx="2912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14200" y="2858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ожите на время все нововвед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дходящий момент, чтобы менять нян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ать в квартире ремон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аивать кроху в новый кружок и т.д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 родителей состоит в том, чтобы создать дома спокойную обстан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удьте с ним вдво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те или почитайте вмес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пешите домой после сад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уляйте на детской площадке или просто побродите, сопровождая прогулку веселой беседо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дите прошедший ден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лушайте ребенка, ответьте на все вопросы и поддержите, если произошла малейшая непри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92160" y="450720"/>
            <a:ext cx="8991360" cy="987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оха возбужден и неуправляем, не пытайтесь приструнить его фразами типа: «Если ты не успокоишься, отведу тебя обратно в детский садик!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рмируйте образ детского сада как места, которым наказываю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ерпеливы, проявляйте понимание и проницатель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скоро детский сад превратится для малыша в уютный, хорошо знакомый и привычный мир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254520"/>
            <a:ext cx="8786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успешной 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й сон. Засыпает как обычно, по ночам не просыпается, не плачет, не просыпается во с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аппе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поведение. Дома ведет себя как обычно – не цепляется за маму, не бегает, не капризнич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 просыпается по утр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желание идти в дет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Работа в саду\детский сад для распечатки\детский сад\35.png"/>
          <p:cNvPicPr/>
          <p:nvPr/>
        </p:nvPicPr>
        <p:blipFill>
          <a:blip r:embed="rId1"/>
          <a:stretch/>
        </p:blipFill>
        <p:spPr>
          <a:xfrm>
            <a:off x="6230880" y="421488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85840" y="241920"/>
            <a:ext cx="85723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диз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сна. Плохо засыпает, часто просыпается по ночам, разговаривает во сне, много ворочается, чаще встает по ночам на горш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аппетита. Отказывается от еды, есть мало, жалуется на боли в жив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вялости, каприз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агрессивности, часто меняется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ал чаще 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14200" y="168840"/>
            <a:ext cx="8929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Факторы, мешающие адаптации ребенка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шком сильная зависимость ребенка от ма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резмерная тревож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ние взрослых давать самостоятельность малыш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ребенка в духе вседозво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енность малы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в доме адекв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ышу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Работа в саду\детский сад для распечатки\детский сад\37.png"/>
          <p:cNvPicPr/>
          <p:nvPr/>
        </p:nvPicPr>
        <p:blipFill>
          <a:blip r:embed="rId1"/>
          <a:stretch/>
        </p:blipFill>
        <p:spPr>
          <a:xfrm>
            <a:off x="6087960" y="4071960"/>
            <a:ext cx="3056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10249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дьте терпеливы, проявляйте понимание и проницательность. И очень скоро детский сад превратится для малыша в уютный, хорошо знакомый и привычный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Работа в саду\детский сад для распечатки\детский сад\38.png"/>
          <p:cNvPicPr/>
          <p:nvPr/>
        </p:nvPicPr>
        <p:blipFill>
          <a:blip r:embed="rId1"/>
          <a:stretch/>
        </p:blipFill>
        <p:spPr>
          <a:xfrm>
            <a:off x="5214960" y="35877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37872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ш малыш - «наше сокровище, наше счастье, свет наш в окошке» - уже немного подрос, начал ходить, бегать и говорить. Пора отдавать в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привыкает к посещению детского сада в течении одного-дву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юбая адаптация идет на двух уровн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Работа в саду\детский сад для распечатки\детский сад\сборка (28).png"/>
          <p:cNvPicPr/>
          <p:nvPr/>
        </p:nvPicPr>
        <p:blipFill>
          <a:blip r:embed="rId1"/>
          <a:stretch/>
        </p:blipFill>
        <p:spPr>
          <a:xfrm>
            <a:off x="3786120" y="3444840"/>
            <a:ext cx="53578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физ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надо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овому режиму - определенному, заданному ритму жизни, новым нагрузкам ( необходимо сидеть, слушать, выполнять просьб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само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сти у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й пище, новым помещения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сихолог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стоит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тсутствию значимого взрослого (мамы, папы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в одиночку справляться со своими пробл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ому количеству новых людей и необходимости с ними взаимодейств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отстаивать свое лич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214200" y="282600"/>
            <a:ext cx="8715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 ребенком сложно справиться вечером после садика, то основная причина такого его поведения – устал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рванность от мамы и присутствие вокруг большого количества чужих людей – основные источники напряжения для кро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ома он живет по одним правилам, а в садике они в большей или меньшей степени отличаются от домаш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день ему приходится переключаться то на ваш стиль общения, то на стиль общения воспит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тливым родителям нужно смягчить ту травмирующую ситуацию, которую испытывает ребенок, и помочь ему адаптироваться, снять напряжение после пребывания в детском са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71960" y="4500720"/>
            <a:ext cx="523800" cy="571320"/>
          </a:xfrm>
          <a:prstGeom prst="downArrow">
            <a:avLst>
              <a:gd name="adj1" fmla="val 50000"/>
              <a:gd name="adj2" fmla="val 38650"/>
            </a:avLst>
          </a:prstGeom>
          <a:solidFill>
            <a:srgbClr val="ff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59720" y="3034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57120" y="357120"/>
            <a:ext cx="85726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 жизни ребенка чрезвычайно важен                 Резкая его смена – это ст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йте режим вашего садика и начинайте постепенно вводить его дома, адаптировать к нему ребенка. Хорошо, если вы сделали это за месяц-полтора до того, как малыш впервые окажется в саду. Ребенку будет от этого только лучше, ведь все детские сады функционируют в одном режиме, рекомендованном педиат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етскими неврол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6286680" y="114300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:\Работа в саду\детский сад для распечатки\детский сад\30.png"/>
          <p:cNvPicPr/>
          <p:nvPr/>
        </p:nvPicPr>
        <p:blipFill>
          <a:blip r:embed="rId1"/>
          <a:stretch/>
        </p:blipFill>
        <p:spPr>
          <a:xfrm>
            <a:off x="5857920" y="4500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37960" y="158760"/>
            <a:ext cx="8485200" cy="634536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2"/>
          <p:cNvSpPr/>
          <p:nvPr/>
        </p:nvSpPr>
        <p:spPr>
          <a:xfrm>
            <a:off x="4643280" y="2643120"/>
            <a:ext cx="107172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000680" y="3714840"/>
            <a:ext cx="785520" cy="8571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5840" y="9997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пробуждение ребенка – самостоя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будят  в фазе глубокого сна, то он просыпается не сразу, тяжело, часто капризничает, бывает вял и пассив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удите малыша на 10 минут пораньше, позвольте ему немного понежиться в постели до полного пробу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в садик только ту одежду, в которой ребенок сможет чувствовать себя раскованно и свобо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олжна быть прост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бенок мог самостоятель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нимать и надевать 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1" descr="D:\Работа в саду\детский сад для распечатки\детский сад\44.png"/>
          <p:cNvPicPr/>
          <p:nvPr/>
        </p:nvPicPr>
        <p:blipFill>
          <a:blip r:embed="rId1"/>
          <a:stretch/>
        </p:blipFill>
        <p:spPr>
          <a:xfrm>
            <a:off x="6000840" y="415908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4" descr=""/>
          <p:cNvPicPr/>
          <p:nvPr/>
        </p:nvPicPr>
        <p:blipFill>
          <a:blip r:embed="rId2"/>
          <a:stretch/>
        </p:blipFill>
        <p:spPr>
          <a:xfrm>
            <a:off x="407880" y="384120"/>
            <a:ext cx="8388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92160" y="-6480"/>
            <a:ext cx="905832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, чтобы малыш умывался, одевался, засыпал и аккуратно ел за общим столом, пользуясь вилкой и ложкой, пил из чаш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енок мог обходиться без посторонней помощи в туалете и сообщать взрослым о такой необходим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лучше эти навыки развиты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меньший эмоциональный 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дискомфорт  ребено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ет вдали от мамы в незнакомом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Стрелка вниз 3"/>
          <p:cNvSpPr/>
          <p:nvPr/>
        </p:nvSpPr>
        <p:spPr>
          <a:xfrm>
            <a:off x="3786120" y="3714840"/>
            <a:ext cx="857160" cy="10000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D:\Работа в саду\детский сад для распечатки\детский сад\46.png"/>
          <p:cNvPicPr/>
          <p:nvPr/>
        </p:nvPicPr>
        <p:blipFill>
          <a:blip r:embed="rId2"/>
          <a:stretch/>
        </p:blipFill>
        <p:spPr>
          <a:xfrm>
            <a:off x="5500800" y="3214800"/>
            <a:ext cx="33415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-133200" y="-281160"/>
            <a:ext cx="9277200" cy="2579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5840" y="2428920"/>
            <a:ext cx="8215200" cy="357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обратите на организацию полноценного отдыха ребе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одить его в гости, поздно возвращаться домой, принимать у себя друзе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 возвращении домой из садика ребенок часто засыпает раньше обычного, но при этом не просыпается рано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еобходимо больш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для восстановления си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Стрелка вправо 3"/>
          <p:cNvSpPr/>
          <p:nvPr/>
        </p:nvSpPr>
        <p:spPr>
          <a:xfrm>
            <a:off x="500040" y="507204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D:\Работа в саду\детский сад для распечатки\детский сад\39.png"/>
          <p:cNvPicPr/>
          <p:nvPr/>
        </p:nvPicPr>
        <p:blipFill>
          <a:blip r:embed="rId2"/>
          <a:stretch/>
        </p:blipFill>
        <p:spPr>
          <a:xfrm>
            <a:off x="5857920" y="450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5:05:21Z</dcterms:created>
  <dc:creator>IRONMANN (AKA SHAMAN)</dc:creator>
  <dc:description/>
  <dc:language>en-US</dc:language>
  <cp:lastModifiedBy>User</cp:lastModifiedBy>
  <dcterms:modified xsi:type="dcterms:W3CDTF">2016-11-29T17:24:56Z</dcterms:modified>
  <cp:revision>6</cp:revision>
  <dc:subject/>
  <dc:title>Слайд 1</dc:title>
</cp:coreProperties>
</file>