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87B-8BD7-4404-AFEE-4FF67F90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D06-A8A9-408D-BE3D-19947F9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2F9-F38A-42C5-B0FF-917E3553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F3B-067F-4C4D-A9C1-E7B213D4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07C-271C-4A8C-B17F-B75089FC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0E17-F99D-46AB-87AF-2C43542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68DE-F8E2-4583-855F-AE6C536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C409-BF47-4B7D-B7B0-62BDC74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1FC-4B4D-4865-8985-5BB5CE3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658C-D9E7-42A3-A62E-5A73C447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CB1C-256A-4753-A249-A2F0496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850-A023-41F5-A245-08F4C32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A46-E01F-4F34-A671-4DD141D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F32C-7A92-443E-9857-E9DBD37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943-8A4F-4640-B53E-A0271D23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8E0C-5FD8-4028-9E78-6ADCEE38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E59-CBE8-4F9E-9D90-C2AE130D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E66-46C1-4DA1-A210-B48C933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302-FA16-43E2-BE9F-F9945C6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090-A440-484C-84AF-84F1077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31F-404D-4651-A0D0-8BA8F137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C0E-99CF-44FB-A2F9-40142FD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42F-6F79-41C4-85F3-34EE1EB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A71-59D6-435F-92A3-37F2655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8D0-79D6-48AC-8EB5-4B6A928404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941-9F32-46E9-9C82-D7FA15C93A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50104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аптация детей в детском саду</a:t>
            </a:r>
            <a:br>
              <a:rPr sz="5400"/>
            </a:b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Евгения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ушкина Марина Вале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428760" y="307188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734680" cy="4511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D:\Работа в саду\детский сад для распечатки\детский сад\34.png"/>
          <p:cNvPicPr/>
          <p:nvPr/>
        </p:nvPicPr>
        <p:blipFill>
          <a:blip r:embed="rId2"/>
          <a:stretch/>
        </p:blipFill>
        <p:spPr>
          <a:xfrm>
            <a:off x="5643720" y="3500280"/>
            <a:ext cx="2912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14200" y="2858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ожите на время все нововвед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дходящий момент, чтобы менять нян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ать в квартире ремон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аивать кроху в новый кружок и т.д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 родителей состоит в том, чтобы создать дома спокойную обстан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удьте с ним вдво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те или почитайте вмес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пешите домой после сад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уляйте на детской площадке или просто побродите, сопровождая прогулку веселой беседо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дите прошедший ден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лушайте ребенка, ответьте на все вопросы и поддержите, если произошла малейшая непри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92160" y="450720"/>
            <a:ext cx="8991360" cy="987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оха возбужден и неуправляем, не пытайтесь приструнить его фразами типа: «Если ты не успокоишься, отведу тебя обратно в детский садик!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рмируйте образ детского сада как места, которым наказываю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ерпеливы, проявляйте понимание и проницатель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скоро детский сад превратится для малыша в уютный, хорошо знакомый и привычный мир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254520"/>
            <a:ext cx="8786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успешной 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й сон. Засыпает как обычно, по ночам не просыпается, не плачет, не просыпается во с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аппе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поведение. Дома ведет себя как обычно – не цепляется за маму, не бегает, не капризнич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 просыпается по утр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желание идти в дет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Работа в саду\детский сад для распечатки\детский сад\35.png"/>
          <p:cNvPicPr/>
          <p:nvPr/>
        </p:nvPicPr>
        <p:blipFill>
          <a:blip r:embed="rId1"/>
          <a:stretch/>
        </p:blipFill>
        <p:spPr>
          <a:xfrm>
            <a:off x="6230880" y="421488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85840" y="241920"/>
            <a:ext cx="85723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диз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сна. Плохо засыпает, часто просыпается по ночам, разговаривает во сне, много ворочается, чаще встает по ночам на горш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аппетита. Отказывается от еды, есть мало, жалуется на боли в жив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вялости, каприз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агрессивности, часто меняется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ал чаще 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14200" y="168840"/>
            <a:ext cx="8929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Факторы, мешающие адаптации ребенка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шком сильная зависимость ребенка от ма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резмерная тревож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ние взрослых давать самостоятельность малыш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ребенка в духе вседозво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енность малы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в доме адекв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ышу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Работа в саду\детский сад для распечатки\детский сад\37.png"/>
          <p:cNvPicPr/>
          <p:nvPr/>
        </p:nvPicPr>
        <p:blipFill>
          <a:blip r:embed="rId1"/>
          <a:stretch/>
        </p:blipFill>
        <p:spPr>
          <a:xfrm>
            <a:off x="6087960" y="4071960"/>
            <a:ext cx="3056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10249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дьте терпеливы, проявляйте понимание и проницательность. И очень скоро детский сад превратится для малыша в уютный, хорошо знакомый и привычный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Работа в саду\детский сад для распечатки\детский сад\38.png"/>
          <p:cNvPicPr/>
          <p:nvPr/>
        </p:nvPicPr>
        <p:blipFill>
          <a:blip r:embed="rId1"/>
          <a:stretch/>
        </p:blipFill>
        <p:spPr>
          <a:xfrm>
            <a:off x="5214960" y="35877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37872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ш малыш - «наше сокровище, наше счастье, свет наш в окошке» - уже немного подрос, начал ходить, бегать и говорить. Пора отдавать в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привыкает к посещению детского сада в течении одного-дву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юбая адаптация идет на двух уровн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Работа в саду\детский сад для распечатки\детский сад\сборка (28).png"/>
          <p:cNvPicPr/>
          <p:nvPr/>
        </p:nvPicPr>
        <p:blipFill>
          <a:blip r:embed="rId1"/>
          <a:stretch/>
        </p:blipFill>
        <p:spPr>
          <a:xfrm>
            <a:off x="3786120" y="3444840"/>
            <a:ext cx="53578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физ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надо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овому режиму - определенному, заданному ритму жизни, новым нагрузкам ( необходимо сидеть, слушать, выполнять просьб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само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сти у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й пище, новым помещения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сихолог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стоит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тсутствию значимого взрослого (мамы, папы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в одиночку справляться со своими пробл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ому количеству новых людей и необходимости с ними взаимодейств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отстаивать свое лич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214200" y="282600"/>
            <a:ext cx="8715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 ребенком сложно справиться вечером после садика, то основная причина такого его поведения – устал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рванность от мамы и присутствие вокруг большого количества чужих людей – основные источники напряжения для кро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ома он живет по одним правилам, а в садике они в большей или меньшей степени отличаются от домаш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день ему приходится переключаться то на ваш стиль общения, то на стиль общения воспит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тливым родителям нужно смягчить ту травмирующую ситуацию, которую испытывает ребенок, и помочь ему адаптироваться, снять напряжение после пребывания в детском са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71960" y="4500720"/>
            <a:ext cx="523800" cy="571320"/>
          </a:xfrm>
          <a:prstGeom prst="downArrow">
            <a:avLst>
              <a:gd name="adj1" fmla="val 50000"/>
              <a:gd name="adj2" fmla="val 38650"/>
            </a:avLst>
          </a:prstGeom>
          <a:solidFill>
            <a:srgbClr val="ff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59720" y="3034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57120" y="357120"/>
            <a:ext cx="85726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 жизни ребенка чрезвычайно важен                 Резкая его смена – это ст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йте режим вашего садика и начинайте постепенно вводить его дома, адаптировать к нему ребенка. Хорошо, если вы сделали это за месяц-полтора до того, как малыш впервые окажется в саду. Ребенку будет от этого только лучше, ведь все детские сады функционируют в одном режиме, рекомендованном педиат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етскими неврол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6286680" y="114300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:\Работа в саду\детский сад для распечатки\детский сад\30.png"/>
          <p:cNvPicPr/>
          <p:nvPr/>
        </p:nvPicPr>
        <p:blipFill>
          <a:blip r:embed="rId1"/>
          <a:stretch/>
        </p:blipFill>
        <p:spPr>
          <a:xfrm>
            <a:off x="5857920" y="4500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37960" y="158760"/>
            <a:ext cx="8485200" cy="634536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2"/>
          <p:cNvSpPr/>
          <p:nvPr/>
        </p:nvSpPr>
        <p:spPr>
          <a:xfrm>
            <a:off x="4643280" y="2643120"/>
            <a:ext cx="107172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000680" y="3714840"/>
            <a:ext cx="785520" cy="8571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5840" y="9997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пробуждение ребенка – самостоя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будят  в фазе глубокого сна, то он просыпается не сразу, тяжело, часто капризничает, бывает вял и пассив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удите малыша на 10 минут пораньше, позвольте ему немного понежиться в постели до полного пробу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в садик только ту одежду, в которой ребенок сможет чувствовать себя раскованно и свобо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олжна быть прост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бенок мог самостоятель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нимать и надевать 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1" descr="D:\Работа в саду\детский сад для распечатки\детский сад\44.png"/>
          <p:cNvPicPr/>
          <p:nvPr/>
        </p:nvPicPr>
        <p:blipFill>
          <a:blip r:embed="rId1"/>
          <a:stretch/>
        </p:blipFill>
        <p:spPr>
          <a:xfrm>
            <a:off x="6000840" y="415908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4" descr=""/>
          <p:cNvPicPr/>
          <p:nvPr/>
        </p:nvPicPr>
        <p:blipFill>
          <a:blip r:embed="rId2"/>
          <a:stretch/>
        </p:blipFill>
        <p:spPr>
          <a:xfrm>
            <a:off x="407880" y="384120"/>
            <a:ext cx="8388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92160" y="-6480"/>
            <a:ext cx="905832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, чтобы малыш умывался, одевался, засыпал и аккуратно ел за общим столом, пользуясь вилкой и ложкой, пил из чаш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енок мог обходиться без посторонней помощи в туалете и сообщать взрослым о такой необходим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лучше эти навыки развиты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меньший эмоциональный 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дискомфорт  ребено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ет вдали от мамы в незнакомом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Стрелка вниз 3"/>
          <p:cNvSpPr/>
          <p:nvPr/>
        </p:nvSpPr>
        <p:spPr>
          <a:xfrm>
            <a:off x="3786120" y="3714840"/>
            <a:ext cx="857160" cy="10000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D:\Работа в саду\детский сад для распечатки\детский сад\46.png"/>
          <p:cNvPicPr/>
          <p:nvPr/>
        </p:nvPicPr>
        <p:blipFill>
          <a:blip r:embed="rId2"/>
          <a:stretch/>
        </p:blipFill>
        <p:spPr>
          <a:xfrm>
            <a:off x="5500800" y="3214800"/>
            <a:ext cx="33415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-133200" y="-281160"/>
            <a:ext cx="9277200" cy="2579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5840" y="2428920"/>
            <a:ext cx="8215200" cy="357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обратите на организацию полноценного отдыха ребе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одить его в гости, поздно возвращаться домой, принимать у себя друзе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 возвращении домой из садика ребенок часто засыпает раньше обычного, но при этом не просыпается рано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еобходимо больш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для восстановления си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Стрелка вправо 3"/>
          <p:cNvSpPr/>
          <p:nvPr/>
        </p:nvSpPr>
        <p:spPr>
          <a:xfrm>
            <a:off x="500040" y="507204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D:\Работа в саду\детский сад для распечатки\детский сад\39.png"/>
          <p:cNvPicPr/>
          <p:nvPr/>
        </p:nvPicPr>
        <p:blipFill>
          <a:blip r:embed="rId2"/>
          <a:stretch/>
        </p:blipFill>
        <p:spPr>
          <a:xfrm>
            <a:off x="5857920" y="450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5:05:21Z</dcterms:created>
  <dc:creator>IRONMANN (AKA SHAMAN)</dc:creator>
  <dc:description/>
  <dc:language>en-US</dc:language>
  <cp:lastModifiedBy>User</cp:lastModifiedBy>
  <dcterms:modified xsi:type="dcterms:W3CDTF">2016-11-29T17:24:56Z</dcterms:modified>
  <cp:revision>6</cp:revision>
  <dc:subject/>
  <dc:title>Слайд 1</dc:title>
</cp:coreProperties>
</file>