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6DA-0CA6-4E0C-B372-843C4EB9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39F-9AA4-4539-BC85-36FC5A0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018-371F-49A1-A9F3-51E00B95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4BC-1C13-4E3A-806E-94CF1C39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6ED-9F66-4C82-B188-1422EC16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584-5152-4A17-827C-A83E5D32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47A-AAA6-422E-BDAB-EA4F2ADA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527-6E24-4235-B83D-3B698F8B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E11-5998-4802-A218-6C7B98D5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8FD-7F4D-4B5C-A5C5-50A7798A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033-D6CA-431C-AED0-A00AE0A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009-0254-41C4-93DA-F664288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AD9C-CBA0-49F8-94DA-BDBC47BDE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334040" y="304920"/>
            <a:ext cx="430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eiryo UI"/>
              </a:rPr>
              <a:t>Бард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eiryo UI"/>
              </a:rPr>
              <a:t>земл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eiryo UI"/>
              </a:rPr>
              <a:t>Ямальс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486400" y="5715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Blackadder ITC"/>
              </a:rPr>
              <a:t>Север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240" y="53352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гор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249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04920" y="165240"/>
            <a:ext cx="380988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всей стране звенят капе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отступают холод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у а здесь - пурга и стуж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лько это не беда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со всей страны огром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юди разные сю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езжают на полгода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аются навсегда!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ипев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холодном Ямал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олярном Урал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вы не бывали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езжайте скоре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 не бойтесь метеле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ас в морозы согре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чень теплые душ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ных людей!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краю Земного ш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нь и ночь сошли с ум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том солнце ходит круг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арит чудо ночь - зима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олшебными огня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аряет небес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ьется Северным сиянь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удивленные глаз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19720" y="990720"/>
            <a:ext cx="4579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десь растут и хороше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лодые горо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железная дорога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а уносит в да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хочется проверит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на самом деле ты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езжай сюда на Севе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рай суровой красоты!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ипев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де вы только не быва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Багамах и в Сафар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ы только не вида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лый Дом и Тадж-махал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де вы только не бывал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забудете едва 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 забудете едва 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ш немаленький Яма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557680" y="17316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mic"/>
              </a:rPr>
              <a:t>Я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Корнилов На холодном Ямале  (audiopoisk.com).mp3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047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04920" y="457200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10803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50120" y="228600"/>
            <a:ext cx="80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песни, визитной карточки Салехарда: "Обь мо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лентина Ипшано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ь моя.mp3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502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N6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931200" y="5181480"/>
            <a:ext cx="53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Легенды Обдора-20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авел Рубцов.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_0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08880" y="-360"/>
            <a:ext cx="497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лехардский бар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ександр Коробов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SCN05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696200" y="5104440"/>
            <a:ext cx="445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-исполн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эт и пис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Белозе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78720" y="259200"/>
            <a:ext cx="61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ислав Касьяно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SCN05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5638680" y="1294200"/>
            <a:ext cx="332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нисла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сьянов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18:42:22Z</dcterms:created>
  <dc:creator>AlexIS</dc:creator>
  <dc:description/>
  <dc:language>en-US</dc:language>
  <cp:lastModifiedBy>школа</cp:lastModifiedBy>
  <dcterms:modified xsi:type="dcterms:W3CDTF">2017-06-06T13:05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