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4A4CA-3E04-417D-8C68-A7D360727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6DE6B-CF00-4BA2-8363-04CCD1F67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E8502-5FCA-4817-852C-5A6F9F3EE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CBD9C-9139-4E80-90B5-53AEECBFD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FD9D4-316A-483E-97F8-84298F629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82935-E83E-4FC0-9C74-A46F194C4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F20EC-DE85-45F0-914A-A4D320BCC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6124B-7759-4FA1-81DD-8F5A94705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BAEAA-9FCF-4AD3-A542-9BC07D6DC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261B7-194A-43D5-ABDD-5E661041F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9D2E8-7608-4F7A-A2C1-78EE425DB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8642F-9C21-4006-A2BD-3324F41C1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1F229-3BEE-4B4C-A633-58932E6C76A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maxresdefault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5"/>
          <p:cNvSpPr/>
          <p:nvPr/>
        </p:nvSpPr>
        <p:spPr>
          <a:xfrm>
            <a:off x="4334040" y="304920"/>
            <a:ext cx="43045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0000"/>
                </a:solidFill>
                <a:latin typeface="Meiryo UI"/>
              </a:rPr>
              <a:t>Барды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0000"/>
                </a:solidFill>
                <a:latin typeface="Meiryo UI"/>
              </a:rPr>
              <a:t>земли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0000"/>
                </a:solidFill>
                <a:latin typeface="Meiryo UI"/>
              </a:rPr>
              <a:t>Ямальской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6"/>
          <p:cNvSpPr/>
          <p:nvPr/>
        </p:nvSpPr>
        <p:spPr>
          <a:xfrm>
            <a:off x="5486400" y="571500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6" descr="1"/>
          <p:cNvPicPr/>
          <p:nvPr/>
        </p:nvPicPr>
        <p:blipFill>
          <a:blip r:embed="rId1"/>
          <a:stretch/>
        </p:blipFill>
        <p:spPr>
          <a:xfrm>
            <a:off x="0" y="-20520"/>
            <a:ext cx="9144000" cy="687852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447920" y="4876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0000"/>
                </a:solidFill>
                <a:latin typeface="Blackadder ITC"/>
              </a:rPr>
              <a:t>Северный кра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0"/>
          <p:cNvSpPr/>
          <p:nvPr/>
        </p:nvSpPr>
        <p:spPr>
          <a:xfrm>
            <a:off x="3240" y="533520"/>
            <a:ext cx="242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Игорь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Корнил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324941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5"/>
          <p:cNvSpPr/>
          <p:nvPr/>
        </p:nvSpPr>
        <p:spPr>
          <a:xfrm>
            <a:off x="304920" y="165240"/>
            <a:ext cx="3809880" cy="66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о всей стране звенят капели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И отступают холода,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Ну а здесь - пурга и стужа,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Только это не беда!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И со всей страны огромной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Люди разные сюда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риезжают на полгода 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стаются навсегда!</a:t>
            </a:r>
            <a:br>
              <a:rPr sz="1600"/>
            </a:br>
            <a:br>
              <a:rPr sz="1600"/>
            </a:br>
            <a:r>
              <a:rPr b="1" lang="ru-RU" sz="1600" spc="-1" strike="noStrike" u="sng">
                <a:solidFill>
                  <a:srgbClr val="ffffff"/>
                </a:solidFill>
                <a:uFillTx/>
                <a:latin typeface="Arial"/>
              </a:rPr>
              <a:t>Припев: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На холодном Ямале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на Полярном Урале,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Если вы не бывали 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риезжайте скорей.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Вы не бойтесь метелей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Вас в морозы согреют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чень теплые души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еверных людей!</a:t>
            </a: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На краю Земного шара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день и ночь сошли с ума.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Летом солнце ходит кругом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Дарит чудо ночь - зима!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И волшебными огнями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заряет небеса,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Льется Северным сияньем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в удивленные глаза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419720" y="990720"/>
            <a:ext cx="4579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Здесь растут и хорошеют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Молодые города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И железная дорога 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оезда уносит в даль.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Если хочется проверить,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Кто на самом деле ты 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риезжай сюда на Север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в Край суровой красоты!</a:t>
            </a:r>
            <a:br>
              <a:rPr sz="1600"/>
            </a:br>
            <a:br>
              <a:rPr sz="1600"/>
            </a:br>
            <a:r>
              <a:rPr b="1" lang="ru-RU" sz="1600" spc="-1" strike="noStrike" u="sng">
                <a:solidFill>
                  <a:srgbClr val="ffffff"/>
                </a:solidFill>
                <a:uFillTx/>
                <a:latin typeface="Arial"/>
              </a:rPr>
              <a:t>Припев: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Где вы только не бывали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На Багамах и в Сафари,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Что вы только не видали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Белый Дом и Тадж-махал,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Где вы только не бывали,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но забудете едва ли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Вы забудете едва ли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Наш немаленький Ямал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5557680" y="173160"/>
            <a:ext cx="123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0000"/>
                </a:solidFill>
                <a:uFillTx/>
                <a:latin typeface="comic"/>
              </a:rPr>
              <a:t>Яма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Корнилов На холодном Ямале  (audiopoisk.com).mp3" descr=""/>
          <p:cNvPicPr/>
          <p:nvPr/>
        </p:nvPicPr>
        <p:blipFill>
          <a:blip r:embed="rId2"/>
          <a:stretch/>
        </p:blipFill>
        <p:spPr>
          <a:xfrm>
            <a:off x="7924680" y="571500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2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52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20475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4"/>
          <p:cNvSpPr/>
          <p:nvPr/>
        </p:nvSpPr>
        <p:spPr>
          <a:xfrm>
            <a:off x="304920" y="4572000"/>
            <a:ext cx="864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" descr="P108038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6"/>
          <p:cNvSpPr/>
          <p:nvPr/>
        </p:nvSpPr>
        <p:spPr>
          <a:xfrm>
            <a:off x="150120" y="228600"/>
            <a:ext cx="8058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втор песни, визитной карточки Салехарда: "Обь моя"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алентина Ипшанова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обь моя.mp3" descr=""/>
          <p:cNvPicPr/>
          <p:nvPr/>
        </p:nvPicPr>
        <p:blipFill>
          <a:blip r:embed="rId2"/>
          <a:stretch/>
        </p:blipFill>
        <p:spPr>
          <a:xfrm>
            <a:off x="380880" y="5562720"/>
            <a:ext cx="83844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56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56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205024" fill="hold"/>
                                        <p:tgtEl>
                                          <p:spTgt spid="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DSCN609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5"/>
          <p:cNvSpPr/>
          <p:nvPr/>
        </p:nvSpPr>
        <p:spPr>
          <a:xfrm>
            <a:off x="3931200" y="5181480"/>
            <a:ext cx="5351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Легенды Обдора-2011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Павел Рубцов.</a:t>
            </a: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DSC_014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5"/>
          <p:cNvSpPr/>
          <p:nvPr/>
        </p:nvSpPr>
        <p:spPr>
          <a:xfrm>
            <a:off x="308880" y="-360"/>
            <a:ext cx="497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алехардский бард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Александр Коробов 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4" descr="DSCN055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5"/>
          <p:cNvSpPr/>
          <p:nvPr/>
        </p:nvSpPr>
        <p:spPr>
          <a:xfrm>
            <a:off x="4696200" y="5104440"/>
            <a:ext cx="4451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втор-исполнитель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оэт и писател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иколай Белозеров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5"/>
          <p:cNvSpPr/>
          <p:nvPr/>
        </p:nvSpPr>
        <p:spPr>
          <a:xfrm>
            <a:off x="378720" y="259200"/>
            <a:ext cx="6129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танислав Касьянов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6" descr="DSCN056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7"/>
          <p:cNvSpPr/>
          <p:nvPr/>
        </p:nvSpPr>
        <p:spPr>
          <a:xfrm>
            <a:off x="5638680" y="1294200"/>
            <a:ext cx="3329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Станислав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Касьянов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18T18:42:22Z</dcterms:created>
  <dc:creator>AlexIS</dc:creator>
  <dc:description/>
  <dc:language>en-US</dc:language>
  <cp:lastModifiedBy>школа</cp:lastModifiedBy>
  <dcterms:modified xsi:type="dcterms:W3CDTF">2017-06-06T13:05:40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