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997-8DBE-4A0F-8E6E-6609A82C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EA3-8015-4B72-A509-3F3BA80B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D51-718B-400C-BA4E-528BE701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1E8-C346-43A0-878A-A7A7D0E0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1247-D0F7-451A-B297-22D90009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386F-0BCF-44CA-9B51-3B88A5D7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91FC-1E60-4BAC-8F3B-B5F0FA5B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695D-9165-457F-9DF0-AC382640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0BE2-A838-470B-86A6-C62EA076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F0FF-036A-494A-AD2D-2CA71B5D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6D81-85C7-41FA-A0A4-29024916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56A-76FB-4E05-AFA8-4A2B0C8A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2CEA-3767-4E06-94CE-404AE332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FECF-3054-43D3-B919-91E5394C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9393-5176-444A-A558-21BF2896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7499-0A0C-40B8-8D26-185D61C5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E2C7-96B9-4BB7-B211-7EF305A5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5BF-BEFE-4023-817C-9C6AFDE6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AAC-0144-4723-B652-9D9DD84C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E68-653B-4A35-9EB6-41C9D740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8DA-1A46-46F0-9920-31291730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48E-23E9-493B-8263-90104E08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309-58AB-4B0E-A112-850D7A12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BE0-B25D-45FA-9E05-723F709E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1B49-1C71-481E-9728-97B5E9B4FC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00AE-26FA-4312-B6E3-64A14C587F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Физическая нагрузка -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определенная мера влияния физических упражнений на организм заним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Показатели ЧСС в нагрузке для учащихся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старшей групп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1600200"/>
          <a:ext cx="7924680" cy="4418280"/>
        </p:xfrm>
        <a:graphic>
          <a:graphicData uri="http://schemas.openxmlformats.org/drawingml/2006/table">
            <a:tbl>
              <a:tblPr/>
              <a:tblGrid>
                <a:gridCol w="1585080"/>
                <a:gridCol w="1585080"/>
                <a:gridCol w="1585080"/>
                <a:gridCol w="1585080"/>
                <a:gridCol w="1584360"/>
              </a:tblGrid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СС/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% от м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 от м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ульс в состоянии покоя оценивается как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ичный 4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0 уд./мин.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ий 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4 уд./мин.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овлетворительный 7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9 уд./мин.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довлетворительны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е 90 уд./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Зона низкой интенсивности.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жнения в этой зоне выполняются с малой интенсивностью и скоростью, ЧСС не превышает 100–120 уд./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Зона умеренной интенсивности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примерно 50% от максимальной нагрузки. При работе в этой зоне деятельность всех органов и мышц происходит за счет использования кислорода, величина ЧСС достигает 130–160 уд./мин. Предельное время работы в этой зоне составляет для детей младшего школьного возраста – 15–16 мин., среднего школьного возраста – 20–30 мин., старшего школьного возраста – 30–60 мин. Учителю физической культуры надо учитывать эти данные при планировании нагрузки на уроках, дополнительных занятиях и при организации самостоятельных занятий по физической культуре. В старших классах для развития выносливости надо включать в урок бег продолжительностью от 10 до 15 мин., на уроках во втором полугодии время работы в этой зоне возрастает до 20–30 мин. (кроссы, лыжная подготовка и т.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Зона большой интенсивности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около 70% от максимальной нагрузки. Упражнения в этой зоне интенсивности вызывают наибольшее напряжение организма. Время работы в этой зоне не должно превышать 4–7 мин. у младших школьников и 10 мин. – у старш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ю физической культуры надо учитывать, что при выполнении нагрузок в этой зоне работоспособность у девочек-подростков 13–14 лет несколько ниже, чем у девочек 11–12 лет, что обусловлено перестройкой в организме. Тем не менее не стоит забывать, что регулярное выполнение циклических упражнений при ЧСС 150–180 уд./мин. наилучшим образом способствует развитию аэробно-анаэробных возможностей организма. В этой связи возрастает роль занятий лыжной подготовкой, которые при прохождении части дистанции в высоком темпе (при ЧСС 150–170 уд./мин.) обеспечивают хороший тренировочный эффек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Arial"/>
              </a:rPr>
              <a:t>Зона субмаксимальной или высокой интенсивности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примерно 80% от максимальной нагрузки. Предельная продолжительность выполнения циклических нагрузок в этой зоне составляет у младших школьников порядка 50 сек. (бег на 30 м, ускорения по 20 м, бег на 15–20 м), а у старших школьников – 1 м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Зона максимальной интенсивности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100%)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ельное время выполнения циклических нагрузок составляет порядка 10 сек. Эта работа осуществляется организмом только за счет анаэробных источников энер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Интегральным показателем реакции организма на выполненную работу является величина частоты сердечных сокращени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окой интенсивной нагрузки для учащихся основной медицинской группы составляет 170-200 уд/м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ней интенсивности следует считать такую, которая вызывает  140-160 уд/мин,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зкой интенсивности следует считать110-130 уд/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ждое занятие рекомендуется включать 2-3 коротких "пика" нагрузки продолжительностью до 2 минут при ЧСС 90-100% от максималь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Классификация нагруз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95120" y="1539720"/>
          <a:ext cx="8339400" cy="4480200"/>
        </p:xfrm>
        <a:graphic>
          <a:graphicData uri="http://schemas.openxmlformats.org/drawingml/2006/table">
            <a:tbl>
              <a:tblPr/>
              <a:tblGrid>
                <a:gridCol w="4170600"/>
                <a:gridCol w="4168800"/>
              </a:tblGrid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ль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уз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 ударов в мину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ударов в мину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30 ударов в мину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Классификация нагруз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5120" y="1539720"/>
          <a:ext cx="8339400" cy="4480200"/>
        </p:xfrm>
        <a:graphic>
          <a:graphicData uri="http://schemas.openxmlformats.org/drawingml/2006/table">
            <a:tbl>
              <a:tblPr/>
              <a:tblGrid>
                <a:gridCol w="4170600"/>
                <a:gridCol w="4168800"/>
              </a:tblGrid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ль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уз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 ударов в мину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ударов в мину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30 ударов в мину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Дозирование нагрузки -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е ее объема и интенс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Протокол  показателей пульса</a:t>
            </a:r>
            <a:br>
              <a:rPr sz="38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838080"/>
          <a:ext cx="8229600" cy="6197760"/>
        </p:xfrm>
        <a:graphic>
          <a:graphicData uri="http://schemas.openxmlformats.org/drawingml/2006/table">
            <a:tbl>
              <a:tblPr/>
              <a:tblGrid>
                <a:gridCol w="1028880"/>
                <a:gridCol w="1258560"/>
                <a:gridCol w="2625840"/>
                <a:gridCol w="1368360"/>
                <a:gridCol w="1149480"/>
                <a:gridCol w="798480"/>
              </a:tblGrid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пуль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секу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ину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ая часть  10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начала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вые упр–я. Ходьб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У с гимнастическими палк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, переход на ходьбу, упр–я на восстановление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троение в колонну по 3. ОРУ на месте  с гимнастическими палками. Прыж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часть 27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каты в группиров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а на лопатках. Страхов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троение. Подводящие к опорному прыжку через коня бо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опорного прыж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одящие упражнения к выполнению комби- нации, разучивание акробатической комби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-ная ч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троение в одну колонну, игра на вним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едение итогов, выход из з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              1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График динамики пульса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143000"/>
          <a:ext cx="8229600" cy="4983120"/>
        </p:xfrm>
        <a:graphic>
          <a:graphicData uri="http://schemas.openxmlformats.org/drawingml/2006/table"/>
        </a:graphic>
      </p:graphicFrame>
      <p:graphicFrame>
        <p:nvGraphicFramePr>
          <p:cNvPr id="132" name=""/>
          <p:cNvGraphicFramePr/>
          <p:nvPr/>
        </p:nvGraphicFramePr>
        <p:xfrm>
          <a:off x="533520" y="1219320"/>
          <a:ext cx="8232480" cy="4095720"/>
        </p:xfrm>
        <a:graphic>
          <a:graphicData uri="http://schemas.openxmlformats.org/drawingml/2006/table">
            <a:tbl>
              <a:tblPr/>
              <a:tblGrid>
                <a:gridCol w="914400"/>
                <a:gridCol w="731520"/>
                <a:gridCol w="731880"/>
                <a:gridCol w="731880"/>
                <a:gridCol w="731880"/>
                <a:gridCol w="731880"/>
                <a:gridCol w="731880"/>
                <a:gridCol w="731880"/>
                <a:gridCol w="731880"/>
                <a:gridCol w="731880"/>
                <a:gridCol w="731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51080" y="5125320"/>
            <a:ext cx="63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        3       6         9        12      15      18      21      24       27       30      33      36      4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Оценка урока физической культуры по физиологической криво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1600200"/>
          <a:ext cx="7924680" cy="4417920"/>
        </p:xfrm>
        <a:graphic>
          <a:graphicData uri="http://schemas.openxmlformats.org/drawingml/2006/table">
            <a:tbl>
              <a:tblPr/>
              <a:tblGrid>
                <a:gridCol w="1526400"/>
                <a:gridCol w="3756600"/>
                <a:gridCol w="2641680"/>
              </a:tblGrid>
              <a:tr h="1472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5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 - 4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 - 130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5 - 9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0 - 11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Оценка урока физической культуры по физиологической криво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09480" y="1600200"/>
          <a:ext cx="7924680" cy="4417920"/>
        </p:xfrm>
        <a:graphic>
          <a:graphicData uri="http://schemas.openxmlformats.org/drawingml/2006/table">
            <a:tbl>
              <a:tblPr/>
              <a:tblGrid>
                <a:gridCol w="1526400"/>
                <a:gridCol w="3756600"/>
                <a:gridCol w="2641680"/>
              </a:tblGrid>
              <a:tr h="1472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4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 - 4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 - 125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5 - 9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0 - 11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Оценка урока физической культуры по физиологической кривой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09480" y="1600200"/>
          <a:ext cx="7924680" cy="4417920"/>
        </p:xfrm>
        <a:graphic>
          <a:graphicData uri="http://schemas.openxmlformats.org/drawingml/2006/table">
            <a:tbl>
              <a:tblPr/>
              <a:tblGrid>
                <a:gridCol w="1526400"/>
                <a:gridCol w="3756600"/>
                <a:gridCol w="2641680"/>
              </a:tblGrid>
              <a:tr h="1472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3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 - 4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 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5 - 9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0 - 11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Оценка урока физической культуры по физиологической крив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9480" y="1600200"/>
          <a:ext cx="7924680" cy="4416480"/>
        </p:xfrm>
        <a:graphic>
          <a:graphicData uri="http://schemas.openxmlformats.org/drawingml/2006/table">
            <a:tbl>
              <a:tblPr/>
              <a:tblGrid>
                <a:gridCol w="1526400"/>
                <a:gridCol w="3756600"/>
                <a:gridCol w="2641680"/>
              </a:tblGrid>
              <a:tr h="441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2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 - 4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5 - 9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10 - 11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 200 уд/мин. или ниже нормы "3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Рекомендуемые упражнения в недельном двигательном режим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600200"/>
          <a:ext cx="8229600" cy="4570560"/>
        </p:xfrm>
        <a:graphic>
          <a:graphicData uri="http://schemas.openxmlformats.org/drawingml/2006/table">
            <a:tbl>
              <a:tblPr/>
              <a:tblGrid>
                <a:gridCol w="4941720"/>
                <a:gridCol w="1690920"/>
                <a:gridCol w="159696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 двигательной деятельности (суммарно в неделю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нош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ву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г или ходьба на лыжах (к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–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–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ыжки со скалкой (количество р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0–2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–2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тягивание на перекладине (количество р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–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гибание и разгибание рук в упоре лежа (количество р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–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–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нимание прямых ног из положения лежа (количество р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–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–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нимание туловища из положения лежа на спине (количество р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–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–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седание на двух ногах (количество р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–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–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Объем нагруз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яется количеством выполненных упражнений, весом отягощений, длиной преодоленной дистанции и 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Интенсивность нагрузки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арактеризуется временем, затраченным на выполнение конкретного объема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индивидуального тренировочного пульса (ИТП)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220 - (возраст) - (пульс в покое)Х0,6 + (пульс в пок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т цифры 220 надо отнять свой возраст в год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т полученной цифры отнять число ударов своего пульса за минуту в по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Умножить полученную цифру на 0,6 и прибавить к ней величину пульса в по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Если мне 40 лет и пульс в покое равен 66 уд./мин., то расчеты покажут, что мой ИТП составляет 134 ударов в минут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(220 – 40 – 66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0,6 + 66 = 13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ерхняя и нижняя границы тренировочного пульса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определения максимально возможной нагрузки на сердце надо к величине тренировочного пульса прибавить 12. В приведенном выше примере она составляет 134 + 12 = 146 уд./м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определения минимальной нагрузки следует отнять от величины тренировочного пульса 12. В приведенном выше примере она составляет 134 – 12 = 122 уд./м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СТАНДАРТНАЯ ЧСС У ШКОЛЬНИКОВ</a:t>
            </a:r>
            <a:br>
              <a:rPr sz="25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(по Ф.С. Синякову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600200"/>
          <a:ext cx="7924680" cy="441900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,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у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Показатели ЧСС в нагрузке для различного возраста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Младшая групп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1600200"/>
          <a:ext cx="7924680" cy="4418280"/>
        </p:xfrm>
        <a:graphic>
          <a:graphicData uri="http://schemas.openxmlformats.org/drawingml/2006/table">
            <a:tbl>
              <a:tblPr/>
              <a:tblGrid>
                <a:gridCol w="1585080"/>
                <a:gridCol w="1585080"/>
                <a:gridCol w="1585080"/>
                <a:gridCol w="1585080"/>
                <a:gridCol w="1584360"/>
              </a:tblGrid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СС/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% от м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 от м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Показатели ЧСС в нагрузке для учащихся</a:t>
            </a: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средней групп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1600200"/>
          <a:ext cx="7924680" cy="4418280"/>
        </p:xfrm>
        <a:graphic>
          <a:graphicData uri="http://schemas.openxmlformats.org/drawingml/2006/table">
            <a:tbl>
              <a:tblPr/>
              <a:tblGrid>
                <a:gridCol w="1585080"/>
                <a:gridCol w="1585080"/>
                <a:gridCol w="1585080"/>
                <a:gridCol w="1585080"/>
                <a:gridCol w="1584360"/>
              </a:tblGrid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СС/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% от м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 от м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05T07:25:0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