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C4A-EFC6-4DB1-A0F0-50198B34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4AE-D9FE-48F9-A06D-575C1FF1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13A-39A7-456F-91DE-E1EB4A0F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B1E-6814-4D5B-8A42-D696432C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3215-6412-4B2D-B3EA-DA786AF8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AF22-2617-4FD8-BDCA-30AD1DE5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E86-5CE6-4768-88B2-D992820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3E73-933D-47D1-8977-ECE3208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2D0-B052-4170-AF6B-CF864B0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4B41-C985-4C7A-A686-517EB18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B0FF-5C3D-43DD-B0E9-87F6C96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CA4-6593-455F-8211-977A3FA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99C7-B9B0-404F-8F54-80C099B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14E-30BD-45A7-9115-09235197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E436-9C49-4E12-B6B8-2842FFF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320A-8B6F-4D02-9F04-DDECE539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61E-BD1A-4643-807C-711995C5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1B7-5B30-4037-ABB5-EEC347F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52-40AC-48DE-A58F-F2143D39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EFB-77B3-4E8E-AA6D-3D4265F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A62-14F6-45BC-9EA9-A3AE9D1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4C6-5F0F-452C-A932-F565EE2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A1F-3ABB-4BBA-A336-F506CBE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DCC-94B9-4952-88EE-77ECE3B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0CC7-68B3-4D8A-AC73-D8C0904BE8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7171-9A88-4575-9616-DE86BA0F47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Физическая нагрузка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пределенная мера влияния физических упражнений на организм заним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старшей групп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ульс в состоянии покоя оценивается как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ный 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й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ительный 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9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довлетворитель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9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низкой интенсивности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жнения в этой зоне выполняются с малой интенсивностью и скоростью, ЧСС не превышает 100–12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умерен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римерно 50% от максимальной нагрузки. При работе в этой зоне деятельность всех органов и мышц происходит за счет использования кислорода, величина ЧСС достигает 130–160 уд./мин. Предельное время работы в этой зоне составляет для детей младшего школьного возраста – 15–16 мин., среднего школьного возраста – 20–30 мин., старшего школьного возраста – 30–60 мин. Учителю физической культуры надо учитывать эти данные при планировании нагрузки на уроках, дополнительных занятиях и при организации самостоятельных занятий по физической культуре. В старших классах для развития выносливости надо включать в урок бег продолжительностью от 10 до 15 мин., на уроках во втором полугодии время работы в этой зоне возрастает до 20–30 мин. (кроссы, лыжная подготовка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большой интенсивности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коло 70% от максимальной нагрузки. Упражнения в этой зоне интенсивности вызывают наибольшее напряжение организма. Время работы в этой зоне не должно превышать 4–7 мин. у младших школьников и 10 мин. – у старш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ю физической культуры надо учитывать, что при выполнении нагрузок в этой зоне работоспособность у девочек-подростков 13–14 лет несколько ниже, чем у девочек 11–12 лет, что обусловлено перестройкой в организме. Тем не менее не стоит забывать, что регулярное выполнение циклических упражнений при ЧСС 150–180 уд./мин. наилучшим образом способствует развитию аэробно-анаэробных возможностей организма. В этой связи возрастает роль занятий лыжной подготовкой, которые при прохождении части дистанции в высоком темпе (при ЧСС 150–170 уд./мин.) обеспечивают хороший тренировочный эфф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Зона субмаксимальной или высокой интенсив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но 80% от максимальной нагрузки. Предельная продолжительность выполнения циклических нагрузок в этой зоне составляет у младших школьников порядка 50 сек. (бег на 30 м, ускорения по 20 м, бег на 15–20 м), а у старших школьников – 1 м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максималь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0%)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ьное время выполнения циклических нагрузок составляет порядка 10 сек. Эта работа осуществляется организмом только за счет анаэробных источников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нтегральным показателем реакции организма на выполненную работу является величина частоты сердечных сокраще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интенсивной нагрузки для учащихся основной медицинской группы составляет 170-200 уд/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й интенсивности следует считать такую, которая вызывает  140-160 уд/мин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ой интенсивности следует считать110-130 уд/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ждое занятие рекомендуется включать 2-3 коротких "пика" нагрузки продолжительностью до 2 минут при ЧСС 90-100% от максима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зирование нагрузки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ее объема и интен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ротокол  показателей пульса</a:t>
            </a:r>
            <a:br>
              <a:rPr sz="38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838080"/>
          <a:ext cx="8229600" cy="6197760"/>
        </p:xfrm>
        <a:graphic>
          <a:graphicData uri="http://schemas.openxmlformats.org/drawingml/2006/table">
            <a:tbl>
              <a:tblPr/>
              <a:tblGrid>
                <a:gridCol w="1028880"/>
                <a:gridCol w="1258560"/>
                <a:gridCol w="2625840"/>
                <a:gridCol w="1368360"/>
                <a:gridCol w="1149480"/>
                <a:gridCol w="79848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пуль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секу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  1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ые упр–я. Ходь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 с гимнастическими пал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, переход на ходьбу, упр–я на восстановление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колонну по 3. ОРУ на месте  с гимнастическими палками. Прыж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 27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аты в группиров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а на лопатках. Страхов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. Подводящие к опорному прыжку через коня бо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порного пры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е упражнения к выполнению комби- нации, разучивание акробатической комб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-ная ч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одну колонну, игра на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, выход из з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              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График динамики пульс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4983120"/>
        </p:xfrm>
        <a:graphic>
          <a:graphicData uri="http://schemas.openxmlformats.org/drawingml/2006/table"/>
        </a:graphic>
      </p:graphicFrame>
      <p:graphicFrame>
        <p:nvGraphicFramePr>
          <p:cNvPr id="132" name=""/>
          <p:cNvGraphicFramePr/>
          <p:nvPr/>
        </p:nvGraphicFramePr>
        <p:xfrm>
          <a:off x="533520" y="1219320"/>
          <a:ext cx="8232480" cy="4095720"/>
        </p:xfrm>
        <a:graphic>
          <a:graphicData uri="http://schemas.openxmlformats.org/drawingml/2006/table">
            <a:tbl>
              <a:tblPr/>
              <a:tblGrid>
                <a:gridCol w="914400"/>
                <a:gridCol w="73152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1080" y="5125320"/>
            <a:ext cx="63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       3       6         9        12      15      18      21      24       27       30      33      36      4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- 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- 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600200"/>
          <a:ext cx="7924680" cy="441648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2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200 уд/мин. или ниже нормы 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екомендуемые упражнения в недельном двигательном режим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70560"/>
        </p:xfrm>
        <a:graphic>
          <a:graphicData uri="http://schemas.openxmlformats.org/drawingml/2006/table">
            <a:tbl>
              <a:tblPr/>
              <a:tblGrid>
                <a:gridCol w="4941720"/>
                <a:gridCol w="1690920"/>
                <a:gridCol w="15969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двигательной деятельности (суммарно в недел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или ходьба на лыжах (к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–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со скалкой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–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–2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переклад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–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ибание и разгибание рук в упоре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–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прямых ног из положения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туловища из положения лежа на сп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едание на двух ногах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–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–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бъем нагруз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количеством выполненных упражнений, весом отягощений, длиной преодоленной дистанции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нтенсивность нагрузки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изуется временем, затраченным на выполнение конкретного объем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индивидуального тренировочного пульса (ИТП)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20 - (возраст) - (пульс в покое)Х0,6 + (пульс в по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т цифры 220 надо отнять свой возраст в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 полученной цифры отнять число ударов своего пульса за минуту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множить полученную цифру на 0,6 и прибавить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Если мне 40 лет и пульс в покое равен 66 уд./мин., то расчеты покажут, что мой ИТП составляет 134 ударов в минут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(220 – 40 – 66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0,6 + 66 = 13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ерхняя и нижняя границы тренировочного пульс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аксимально возможной нагрузки на сердце надо к величине тренировочного пульса прибавить 12. В приведенном выше примере она составляет 134 + 12 = 146 уд./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инимальной нагрузки следует отнять от величины тренировочного пульса 12. В приведенном выше примере она составляет 134 – 12 = 122 уд./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ТАНДАРТНАЯ ЧСС У ШКОЛЬНИКОВ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о Ф.С. Синякову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различного возраст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Младшая групп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средней групп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5T07:25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