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112-B152-4768-9742-83BEB1494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D5DA-F979-4EB5-BE0B-21280818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1A39-5B8B-4EF7-BE96-FD2E5A732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1D4A-2794-43E2-A236-E30AAE23B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344E-A3B6-4B1E-89D1-4E3BF6E40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33A7-5C21-450A-A854-FFFF0927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EF12-26A0-459C-B42A-7EC7CC512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B70C-469C-4A3F-897A-C70FA33A2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0768-6C22-4812-A423-2142A5E01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2E0F5-2F21-4FC7-A9F0-8EDA65C3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05FFF-6E30-4FC9-BE20-8B848C31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5EEC-40D0-4D5B-A0AD-DAB6622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1427-F290-4EDA-BC4B-8E9581E3D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B5BF-D3F9-47A1-A823-4526F64EB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5D7C-8449-4E44-9D3F-F8EC11C0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961FC-A1CE-475B-B2E6-1F2DBBD8D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F03A2-B646-41CF-893B-D8E1F87EE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5359-CD50-41DE-A94E-27641BA72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C8DC-229A-4A03-824C-4D1D4082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B3AC-4D0C-41A2-B74E-20AD0835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AA26-3FB6-4606-9606-8223E4AA1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F6BD-3434-4279-9B52-24B8C675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7C1A-AFB0-4282-AFF2-1F9B88F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7856-766D-4B96-B5D5-7781BE91E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55096-0916-4DEB-9CBD-91F50F4105E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094F-312F-4B2F-9B35-940C2BECE37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Физическая нагрузка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определенная мера влияния физических упражнений на организм заним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Показатели ЧСС в нагрузке для учащихся</a:t>
            </a: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900" spc="-1" strike="noStrike">
                <a:solidFill>
                  <a:srgbClr val="ffffff"/>
                </a:solidFill>
                <a:latin typeface="Arial"/>
              </a:rPr>
              <a:t>старшей группы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Пульс в состоянии покоя оценивается как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личный 4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0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хороший 6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4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довлетворительный 7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9 уд./мин.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удовлетворительный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ее 90 уд./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Зона низкой интенсивности.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пражнения в этой зоне выполняются с малой интенсивностью и скоростью, ЧСС не превышает 100–120 уд./ми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Зона умеренной интенсивности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примерно 50% от максимальной нагрузки. При работе в этой зоне деятельность всех органов и мышц происходит за счет использования кислорода, величина ЧСС достигает 130–160 уд./мин. Предельное время работы в этой зоне составляет для детей младшего школьного возраста – 15–16 мин., среднего школьного возраста – 20–30 мин., старшего школьного возраста – 30–60 мин. Учителю физической культуры надо учитывать эти данные при планировании нагрузки на уроках, дополнительных занятиях и при организации самостоятельных занятий по физической культуре. В старших классах для развития выносливости надо включать в урок бег продолжительностью от 10 до 15 мин., на уроках во втором полугодии время работы в этой зоне возрастает до 20–30 мин. (кроссы, лыжная подготовка и т.п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200" spc="-1" strike="noStrike">
                <a:solidFill>
                  <a:srgbClr val="ffffff"/>
                </a:solidFill>
                <a:latin typeface="Arial"/>
              </a:rPr>
              <a:t>Зона большой интенсивности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Это около 70% от максимальной нагрузки. Упражнения в этой зоне интенсивности вызывают наибольшее напряжение организма. Время работы в этой зоне не должно превышать 4–7 мин. у младших школьников и 10 мин. – у старш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чителю физической культуры надо учитывать, что при выполнении нагрузок в этой зоне работоспособность у девочек-подростков 13–14 лет несколько ниже, чем у девочек 11–12 лет, что обусловлено перестройкой в организме. Тем не менее не стоит забывать, что регулярное выполнение циклических упражнений при ЧСС 150–180 уд./мин. наилучшим образом способствует развитию аэробно-анаэробных возможностей организма. В этой связи возрастает роль занятий лыжной подготовкой, которые при прохождении части дистанции в высоком темпе (при ЧСС 150–170 уд./мин.) обеспечивают хороший тренировочный эффек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800" spc="-1" strike="noStrike">
                <a:solidFill>
                  <a:srgbClr val="ffffff"/>
                </a:solidFill>
                <a:latin typeface="Arial"/>
              </a:rPr>
              <a:t>Зона субмаксимальной или высокой интенсивности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примерно 80% от максимальной нагрузки. Предельная продолжительность выполнения циклических нагрузок в этой зоне составляет у младших школьников порядка 50 сек. (бег на 30 м, ускорения по 20 м, бег на 15–20 м), а у старших школьников – 1 ми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Зона максимальной интенсивности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100%)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ельное время выполнения циклических нагрузок составляет порядка 10 сек. Эта работа осуществляется организмом только за счет анаэробных источников энерг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Интегральным показателем реакции организма на выполненную работу является величина частоты сердечных сокращений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сокой интенсивной нагрузки для учащихся основной медицинской группы составляет 170-200 уд/ми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редней интенсивности следует считать такую, которая вызывает  140-160 уд/мин,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изкой интенсивности следует считать110-130 уд/ми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ждое занятие рекомендуется включать 2-3 коротких "пика" нагрузки продолжительностью до 2 минут при ЧСС 90-100% от максимальн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лассификация нагруз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95120" y="1539720"/>
          <a:ext cx="8339400" cy="4480200"/>
        </p:xfrm>
        <a:graphic>
          <a:graphicData uri="http://schemas.openxmlformats.org/drawingml/2006/table">
            <a:tbl>
              <a:tblPr/>
              <a:tblGrid>
                <a:gridCol w="4170600"/>
                <a:gridCol w="416880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ль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у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Классификация нагруз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95120" y="1539720"/>
          <a:ext cx="8339400" cy="4480200"/>
        </p:xfrm>
        <a:graphic>
          <a:graphicData uri="http://schemas.openxmlformats.org/drawingml/2006/table">
            <a:tbl>
              <a:tblPr/>
              <a:tblGrid>
                <a:gridCol w="4170600"/>
                <a:gridCol w="4168800"/>
              </a:tblGrid>
              <a:tr h="112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уль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груз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ьш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 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редня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130 ударов в минут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ла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Дозирование нагрузки 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е ее объема и интенс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Протокол  показателей пульса</a:t>
            </a:r>
            <a:br>
              <a:rPr sz="38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457200" y="838080"/>
          <a:ext cx="8229600" cy="6197760"/>
        </p:xfrm>
        <a:graphic>
          <a:graphicData uri="http://schemas.openxmlformats.org/drawingml/2006/table">
            <a:tbl>
              <a:tblPr/>
              <a:tblGrid>
                <a:gridCol w="1028880"/>
                <a:gridCol w="1258560"/>
                <a:gridCol w="2625840"/>
                <a:gridCol w="1368360"/>
                <a:gridCol w="1149480"/>
                <a:gridCol w="798480"/>
              </a:tblGrid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асти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рем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ме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держание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и пульс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меч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секу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мину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4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ительная часть  10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начала уро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евые упр–я. Ходьб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У с гимнастическими палка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г, переход на ходьбу, упр–я на восстановление дых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 в колонну по 3. ОРУ на месте  с гимнастическими палками. Прыжк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ая часть 27 ми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каты в группировк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ойка на лопатках. Страховка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. Подводящие к опорному прыжку через коня бок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 опорного прыж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одящие упражнения к выполнению комби- нации, разучивание акробатической комбин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-ная ча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 мин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естроение в одну колонну, игра на внима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ведение итогов, выход из зал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               15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80154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График динамики пульса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57200" y="1143000"/>
          <a:ext cx="8229600" cy="4983120"/>
        </p:xfrm>
        <a:graphic>
          <a:graphicData uri="http://schemas.openxmlformats.org/drawingml/2006/table"/>
        </a:graphic>
      </p:graphicFrame>
      <p:graphicFrame>
        <p:nvGraphicFramePr>
          <p:cNvPr id="132" name=""/>
          <p:cNvGraphicFramePr/>
          <p:nvPr/>
        </p:nvGraphicFramePr>
        <p:xfrm>
          <a:off x="533520" y="1219320"/>
          <a:ext cx="8232480" cy="4095720"/>
        </p:xfrm>
        <a:graphic>
          <a:graphicData uri="http://schemas.openxmlformats.org/drawingml/2006/table">
            <a:tbl>
              <a:tblPr/>
              <a:tblGrid>
                <a:gridCol w="914400"/>
                <a:gridCol w="731520"/>
                <a:gridCol w="731880"/>
                <a:gridCol w="731880"/>
                <a:gridCol w="731880"/>
                <a:gridCol w="731880"/>
                <a:gridCol w="731880"/>
                <a:gridCol w="731880"/>
                <a:gridCol w="731880"/>
                <a:gridCol w="731880"/>
                <a:gridCol w="73152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451080" y="5125320"/>
            <a:ext cx="639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0        3       6         9        12      15      18      21      24       27       30      33      36      40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5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- 13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4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 - 12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609480" y="1600200"/>
          <a:ext cx="7924680" cy="441792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147240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3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5 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5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72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0 уд/мин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ffff"/>
                </a:solidFill>
                <a:latin typeface="Arial"/>
              </a:rPr>
              <a:t>Оценка урока физической культуры по физиологической крив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609480" y="1600200"/>
          <a:ext cx="7924680" cy="4416480"/>
        </p:xfrm>
        <a:graphic>
          <a:graphicData uri="http://schemas.openxmlformats.org/drawingml/2006/table">
            <a:tbl>
              <a:tblPr/>
              <a:tblGrid>
                <a:gridCol w="1526400"/>
                <a:gridCol w="3756600"/>
                <a:gridCol w="2641680"/>
              </a:tblGrid>
              <a:tr h="441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2476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"2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ля 1 - 4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5 - 9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я 10 - 11 класс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ше 200 уд/мин. или ниже нормы "3"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Рекомендуемые упражнения в недельном двигательном режиме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4570560"/>
        </p:xfrm>
        <a:graphic>
          <a:graphicData uri="http://schemas.openxmlformats.org/drawingml/2006/table">
            <a:tbl>
              <a:tblPr/>
              <a:tblGrid>
                <a:gridCol w="4941720"/>
                <a:gridCol w="1690920"/>
                <a:gridCol w="1596960"/>
              </a:tblGrid>
              <a:tr h="733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праж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ъем двигательной деятельности (суммарно в неделю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г или ходьба на лыжах (км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–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–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ыжки со скалкой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00–2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0–2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тягивание на перекладине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–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гибание и разгибание рук в упоре лежа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0–2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прямых ног из положения лежа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–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днимание туловища из положения лежа на спине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–1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–1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седание на двух ногах (количество раз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–2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–2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Объем нагрузки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яется количеством выполненных упражнений, весом отягощений, длиной преодоленной дистанции и 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Интенсивность нагрузки</a:t>
            </a:r>
            <a:r>
              <a:rPr b="1" lang="en-US" sz="4200" spc="-1" strike="noStrike">
                <a:solidFill>
                  <a:srgbClr val="ffffff"/>
                </a:solidFill>
                <a:latin typeface="Arial"/>
              </a:rPr>
              <a:t>-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характеризуется временем, затраченным на выполнение конкретного объема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индивидуального тренировочного пульса (ИТП)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220 - (возраст) - (пульс в покое)Х0,6 + (пульс в покое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 От цифры 220 надо отнять свой возраст в года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 От полученной цифры отнять число ударов своего пульса за минуту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 Умножить полученную цифру на 0,6 и прибавить к ней величину пульса в поко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.Если мне 40 лет и пульс в покое равен 66 уд./мин., то расчеты покажут, что мой ИТП составляет 134 ударов в минуту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((220 – 40 – 66)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0,6 + 66 = 134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верхняя и нижняя границы тренировочного пульса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пределения максимально возможной нагрузки на сердце надо к величине тренировочного пульса прибавить 12. В приведенном выше примере она составляет 134 + 12 = 146 уд./мин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определения минимальной нагрузки следует отнять от величины тренировочного пульса 12. В приведенном выше примере она составляет 134 – 12 = 122 уд./ми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СТАНДАРТНАЯ ЧСС У ШКОЛЬНИКОВ</a:t>
            </a:r>
            <a:br>
              <a:rPr sz="2500"/>
            </a:br>
            <a:r>
              <a:rPr b="1" lang="ru-RU" sz="2500" spc="-1" strike="noStrike">
                <a:solidFill>
                  <a:srgbClr val="ffffff"/>
                </a:solidFill>
                <a:latin typeface="Arial"/>
              </a:rPr>
              <a:t>(по Ф.С. Синякову</a:t>
            </a:r>
            <a:r>
              <a:rPr b="1" lang="ru-RU" sz="3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609480" y="1600200"/>
          <a:ext cx="7924680" cy="441900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раст, л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вуш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нош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Показатели ЧСС в нагрузке для различного возраста</a:t>
            </a:r>
            <a:br>
              <a:rPr sz="25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Младшая групп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Показатели ЧСС в нагрузке для учащихся</a:t>
            </a:r>
            <a:r>
              <a:rPr b="1" i="1" lang="en-US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500" spc="-1" strike="noStrike">
                <a:solidFill>
                  <a:srgbClr val="ffffff"/>
                </a:solidFill>
                <a:latin typeface="Arial"/>
              </a:rPr>
              <a:t>средней групп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609480" y="1600200"/>
          <a:ext cx="7924680" cy="4418280"/>
        </p:xfrm>
        <a:graphic>
          <a:graphicData uri="http://schemas.openxmlformats.org/drawingml/2006/table">
            <a:tbl>
              <a:tblPr/>
              <a:tblGrid>
                <a:gridCol w="1585080"/>
                <a:gridCol w="1585080"/>
                <a:gridCol w="1585080"/>
                <a:gridCol w="1585080"/>
                <a:gridCol w="1584360"/>
              </a:tblGrid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СС/возрас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ксималь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4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5 % от ма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0-05T07:25:02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