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5A8-F754-4CB5-B2FF-A1CE3357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091-CE09-4244-BAD4-60D496E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437-41E6-4E51-B0DE-1B7AECE0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C3F-8BDC-4786-ADB6-08655F5A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753-096B-49FB-BC72-E3273B64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293-3630-4ECC-AE13-AE2FB2D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4DE-A4AE-45F4-8308-E7648C6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CD7-D1B3-45D9-B764-BE20F8A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1F2-3EF9-4BA6-9CA5-6B594A24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F46-CD25-4358-8548-CACFE30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0C8-B273-4AAC-A500-5666F19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D47-8CF5-4817-86DE-42C3650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66D-4EE9-408D-9965-3B4B4F444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nnamae.tln.edu.ee/06_07/urok/seminar_04_05_07/images/sem_2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метода групповой работы на уроках русского языка и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190760"/>
            <a:ext cx="3352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Кряжова И.А., 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Мозаичная группа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1216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делит тему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о частей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аждая группа получила бы свою часть темы. Также все группы получают список необходимых источников или сами учебные материалы, с помощью которых они изучают основы предложенной части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лен новой группы объясняет своим новым коллегам свою часть темы, основы которой он изучил в составе предыдущей группы и отвечает на заданные вопро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ключение работы составляется резюм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em_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2286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ем «Зигза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[zigzag.bmp]"/>
          <p:cNvPicPr/>
          <p:nvPr/>
        </p:nvPicPr>
        <p:blipFill>
          <a:blip r:embed="rId1"/>
          <a:stretch/>
        </p:blipFill>
        <p:spPr>
          <a:xfrm>
            <a:off x="1066680" y="1700280"/>
            <a:ext cx="7696440" cy="3241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24000" y="457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пи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организуются в группы по 6 человек для работы над учебным материалом,  который разбит на фраг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ребята, изучающие один и тот же вопрос, но состоящие в разных группах, встречаются и обмениваются информацией как эксперты по данному  вопросу. Это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встречей эксперто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ни возвращаются в свои группы и обучают всему новому, что узнали сами других членов группы. Те, в свою очередь, докладывают о своей  части задания (как зубцы одной пил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ует в работ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ет разные варианты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упает в роли наставника, исследователя или источни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итерии оцен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ется только конкретная работа ученика, но ни в коем случае не он сам и не уровень его способностей, не его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ученика сравнивается не с работами других учащихся, а с эталоном. Эталон известен учащимся зара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четкий алгоритм выведения отметки, по которому учащийся может сам определить свой уровень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523880" y="1371600"/>
            <a:ext cx="59436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336000" cy="4840200"/>
        </p:xfrm>
        <a:graphic>
          <a:graphicData uri="http://schemas.openxmlformats.org/drawingml/2006/table">
            <a:tbl>
              <a:tblPr/>
              <a:tblGrid>
                <a:gridCol w="6336000"/>
              </a:tblGrid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ть дружно: быть внимательными друг к другу, вежливыми, не отвлекаться на посторонние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шать друг другу, вовремя оказывать помощь, выполнять указания старш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ть по алгоритму (план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оевременно выполнять задание: следить за временем, доводить начатое дело до кон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чественно выполнять работу (аккуратно, без ошибок), соблюдать технику безопасности, экономить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ждый из группы должен уметь защищать общее дело и свое, в ча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900000" y="83664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пех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использова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уппово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уро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а и активность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гинальность и творческий подход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ие и совместная работа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соответственно ситуаци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задач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своей работы и других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у учит групповая рабо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16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труднич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вить вопро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ать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говарива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еделять роли и ответств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шать друг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беждать друг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чать за себ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7"/>
          <p:cNvPicPr/>
          <p:nvPr/>
        </p:nvPicPr>
        <p:blipFill>
          <a:blip r:embed="rId1"/>
          <a:stretch/>
        </p:blipFill>
        <p:spPr>
          <a:xfrm>
            <a:off x="5003640" y="1989000"/>
            <a:ext cx="385128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группов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па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«Продолж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 за сокровищ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ный 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ельф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Мозаичная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м «Зигзаг» (Метод пи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для генерации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ется жесткий рег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яются роли внутри группы (ведущего, секретаря, хронометри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работки коллективного решения внутри группы делаются доклады/сообщения от разных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«Продолжи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ана на выполн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й разного ро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ппой «по цепочк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"/>
          <p:cNvPicPr/>
          <p:nvPr/>
        </p:nvPicPr>
        <p:blipFill>
          <a:blip r:embed="rId1"/>
          <a:stretch/>
        </p:blipFill>
        <p:spPr>
          <a:xfrm>
            <a:off x="6400800" y="1066680"/>
            <a:ext cx="2347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мер использования игры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сказ на одну букв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834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вящение, Пушкин, Петербур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ездка в Петербург популярна. На переменах планировали поездку. Приготовили паспорта и пищу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шлось поехать в пятницу пораньше. Произошло первое происшествие – попутчица проспала. Подождали. В пути парни с подругами пели песни. Поездка проходила по плану. Пограничные препятствия преодолели превосходно. Получили печать в паспорт. Почти потеряли поклажу, но приостановились, проверили и поправили. Пошутили, посмеялись. Получили предложение поучаствовать в проекте. Перед площадью подзаправились. На подзаправку приехали последними. Поглазели на прохожих и присоединились к первым попутчикам. Поступило предложение посетить пункт продажи и покупки. Попутно полюбовались прекрасной природой, пожелтевшим перелеском, позолотившимися поля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iter_10"/>
          <p:cNvPicPr/>
          <p:nvPr/>
        </p:nvPicPr>
        <p:blipFill>
          <a:blip r:embed="rId1"/>
          <a:stretch/>
        </p:blipFill>
        <p:spPr>
          <a:xfrm>
            <a:off x="6858000" y="0"/>
            <a:ext cx="207000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хота за сокровищ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707920"/>
            <a:ext cx="7619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ставляет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могут требовать как знаний фактов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 так и осмыс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ния или по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Учащийся или группа должны ответить на вопросы, используя ресурсы интернета и/или учеб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5"/>
          <p:cNvPicPr/>
          <p:nvPr/>
        </p:nvPicPr>
        <p:blipFill>
          <a:blip r:embed="rId1"/>
          <a:stretch/>
        </p:blipFill>
        <p:spPr>
          <a:xfrm>
            <a:off x="6781680" y="260280"/>
            <a:ext cx="213372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ежный к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74872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Работа в группе, котор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начинается с реш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индивидуального зад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Все учащиеся получают аналогичные задания и самостоятельно выполняют их. После этого следует работа в парах. В парах учащиеся предлагают свои способы решения данного задания, 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торых выбирается лучше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лее две пары объединяются и работа продолжается в группе из четырех человек, где снова происходит обсуждение решений и выбирается лучшее из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онце работы все учащиеся попадают в одну группу.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На этом последнем этапе уже не происходит обсуждения решений, группы делаю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лады о своей работ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2"/>
          <p:cNvPicPr/>
          <p:nvPr/>
        </p:nvPicPr>
        <p:blipFill>
          <a:blip r:embed="rId1"/>
          <a:stretch/>
        </p:blipFill>
        <p:spPr>
          <a:xfrm>
            <a:off x="6324480" y="22860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Николаевна</cp:lastModifiedBy>
  <dcterms:modified xsi:type="dcterms:W3CDTF">2017-06-06T10:04:4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