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A88-4B11-4CD5-943A-C9EDEBB0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91C-8E2B-481C-B2FF-4BEEABA8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4EE-B528-4FD8-91A3-D3148C87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FA9-3D71-45EB-8164-B08653E6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F96-4B1D-4DA5-80CC-FD0F66BE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A32-D7DA-4E1A-895C-314E56E2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847-C2D1-4846-870C-0A8ADC2E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B73-F016-45B9-8EF0-9B2EFB89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BB5-14EA-4786-B200-73BE0816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5E1-A094-47F5-A033-922C5B7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539-5FDB-4C5E-886F-FC17F6E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403-8B3A-4CFE-9109-BB39C82F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D006-5DDE-4F11-8681-C1399BA27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innamae.tln.edu.ee/06_07/urok/seminar_04_05_07/images/sem_2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5438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ие метода групповой работы на уроках русского языка и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4190760"/>
            <a:ext cx="3352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Кряжова И.А., 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Мозаичная группа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01216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делит тему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колько частей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каждая группа получила бы свою часть темы. Также все группы получают список необходимых источников или сами учебные материалы, с помощью которых они изучают основы предложенной части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лен новой группы объясняет своим новым коллегам свою часть темы, основы которой он изучил в составе предыдущей группы и отвечает на заданные вопро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ключение работы составляется резюм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em_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2286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ем «Зигза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[zigzag.bmp]"/>
          <p:cNvPicPr/>
          <p:nvPr/>
        </p:nvPicPr>
        <p:blipFill>
          <a:blip r:embed="rId1"/>
          <a:stretch/>
        </p:blipFill>
        <p:spPr>
          <a:xfrm>
            <a:off x="1066680" y="1700280"/>
            <a:ext cx="7696440" cy="3241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324000" y="457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пи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53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еся организуются в группы по 6 человек для работы над учебным материалом,  который разбит на фраг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ребята, изучающие один и тот же вопрос, но состоящие в разных группах, встречаются и обмениваются информацией как эксперты по данному  вопросу. Это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встречей экспертов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они возвращаются в свои группы и обучают всему новому, что узнали сами других членов группы. Те, в свою очередь, докладывают о своей  части задания (как зубцы одной пил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1599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ител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вует в работе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ет разные варианты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упает в роли наставника, исследователя или источник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ритерии оцени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ется только конкретная работа ученика, но ни в коем случае не он сам и не уровень его способностей, не его л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ученика сравнивается не с работами других учащихся, а с эталоном. Эталон известен учащимся зара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четкий алгоритм выведения отметки, по которому учащийся может сам определить свой уровень дост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523880" y="1371600"/>
            <a:ext cx="59436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336000" cy="4840200"/>
        </p:xfrm>
        <a:graphic>
          <a:graphicData uri="http://schemas.openxmlformats.org/drawingml/2006/table">
            <a:tbl>
              <a:tblPr/>
              <a:tblGrid>
                <a:gridCol w="6336000"/>
              </a:tblGrid>
              <a:tr h="914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ать дружно: быть внимательными друг к другу, вежливыми, не отвлекаться на посторонние 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36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шать друг другу, вовремя оказывать помощь, выполнять указания старш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ать по алгоритму (план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оевременно выполнять задание: следить за временем, доводить начатое дело до кон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чественно выполнять работу (аккуратно, без ошибок), соблюдать технику безопасности, экономить 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55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ждый из группы должен уметь защищать общее дело и свое, в час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900000" y="83664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пех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использова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упповой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уро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ив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а и активность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игинальность и творческий подход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ическое мышление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ние и совместная работа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 соответственно ситуации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ые задачи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своей работы и других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у учит групповая рабо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162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труднича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вить вопро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шать пробл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говаривать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пределять роли и ответствен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шать друг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беждать друг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ечать за себ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7"/>
          <p:cNvPicPr/>
          <p:nvPr/>
        </p:nvPicPr>
        <p:blipFill>
          <a:blip r:embed="rId1"/>
          <a:stretch/>
        </p:blipFill>
        <p:spPr>
          <a:xfrm>
            <a:off x="5003640" y="1989000"/>
            <a:ext cx="3851280" cy="2892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группов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 па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«Продолж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а за сокровищ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жный 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ельф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Мозаичная груп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ем «Зигзаг» (Метод пил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для генерации и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людается жесткий рег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яются роли внутри группы (ведущего, секретаря, хронометрис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работки коллективного решения внутри группы делаются доклады/сообщения от разных груп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«Продолжи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ана на выполн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й разного ро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уппой «по цепочк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1"/>
          <p:cNvPicPr/>
          <p:nvPr/>
        </p:nvPicPr>
        <p:blipFill>
          <a:blip r:embed="rId1"/>
          <a:stretch/>
        </p:blipFill>
        <p:spPr>
          <a:xfrm>
            <a:off x="6400800" y="1066680"/>
            <a:ext cx="2347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мер использования игры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ссказ на одну букв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7834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вящение, Пушкин, Петербург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ездка в Петербург популярна. На переменах планировали поездку. Приготовили паспорта и пищу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шлось поехать в пятницу пораньше. Произошло первое происшествие – попутчица проспала. Подождали. В пути парни с подругами пели песни. Поездка проходила по плану. Пограничные препятствия преодолели превосходно. Получили печать в паспорт. Почти потеряли поклажу, но приостановились, проверили и поправили. Пошутили, посмеялись. Получили предложение поучаствовать в проекте. Перед площадью подзаправились. На подзаправку приехали последними. Поглазели на прохожих и присоединились к первым попутчикам. Поступило предложение посетить пункт продажи и покупки. Попутно полюбовались прекрасной природой, пожелтевшим перелеском, позолотившимися полям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piter_10"/>
          <p:cNvPicPr/>
          <p:nvPr/>
        </p:nvPicPr>
        <p:blipFill>
          <a:blip r:embed="rId1"/>
          <a:stretch/>
        </p:blipFill>
        <p:spPr>
          <a:xfrm>
            <a:off x="6858000" y="0"/>
            <a:ext cx="2070000" cy="2227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хота за сокровищ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2707920"/>
            <a:ext cx="7619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составляет воп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могут требовать как знаний фактов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так и осмыс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ния или по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Учащийся или группа должны ответить на вопросы, используя ресурсы интернета и/или учебн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5"/>
          <p:cNvPicPr/>
          <p:nvPr/>
        </p:nvPicPr>
        <p:blipFill>
          <a:blip r:embed="rId1"/>
          <a:stretch/>
        </p:blipFill>
        <p:spPr>
          <a:xfrm>
            <a:off x="6781680" y="260280"/>
            <a:ext cx="213372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-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нежный к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74872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Работа в группе, котор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начинается с реш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индивидуального зад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Все учащиеся получают аналогичные задания и самостоятельно выполняют их. После этого следует работа в парах. В парах учащиеся предлагают свои способы решения данного задания, из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торых выбирается лучше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лее две пары объединяются и работа продолжается в группе из четырех человек, где снова происходит обсуждение решений и выбирается лучшее из 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конце работы все учащиеся попадают в одну группу.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На этом последнем этапе уже не происходит обсуждения решений, группы делают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клады о своей работ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2"/>
          <p:cNvPicPr/>
          <p:nvPr/>
        </p:nvPicPr>
        <p:blipFill>
          <a:blip r:embed="rId1"/>
          <a:stretch/>
        </p:blipFill>
        <p:spPr>
          <a:xfrm>
            <a:off x="6324480" y="228600"/>
            <a:ext cx="25909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Николаевна</cp:lastModifiedBy>
  <dcterms:modified xsi:type="dcterms:W3CDTF">2017-06-06T10:04:4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