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8B59-B2BB-4AC5-95E5-9D5995F1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76DE-11C1-4DEE-A734-469D7D1A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3D1B-1CCF-42A0-AD31-CADF2E47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7DEE-650D-4596-99FF-7319A0A2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42D9-5839-4016-9799-B72EAEA8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6651-DC08-4005-95E1-489433EC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EBC1-16A7-4B94-8850-F3777592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30C6-ECE0-40A8-B105-F3DE80E2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507E-61DF-444E-BE86-23EC384C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6FDE-9636-475C-B5AD-31ACB760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B6A8-F413-4438-A7A7-D91DAC38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C1B2-995A-492B-963F-F75BE31F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2C9E-746F-42C3-B67D-03C613DE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83CF-9B35-43AB-98D2-3D1CFFBC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94E2-9269-45C8-B65B-4A967CAF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797C-6C67-49CF-90FD-EBCD8823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43CC-3974-4921-A96F-DE41A9F3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5048-9EEA-4B40-9E81-D6CC63F0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42A33-2250-4FF1-9715-892332E5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A446-6CD0-47BD-B899-0E95CCBF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E632-76E4-4FEB-89CA-98FE19DD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0355-B276-41B7-A455-28B7ED8D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2DDB-BD5F-4789-9C26-E1F4C254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1A93-D6A8-449A-BB72-4B4BD756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9BD9-826A-4B89-B5D4-C063BDBCC0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4A5C-8CD6-4A2A-B979-AA994B8C7D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едико-биологически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611280" y="1268280"/>
            <a:ext cx="784836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омплекс морфофункциональных показателей, определяющих физическую работоспособность индивида на момент об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Телос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озраст, пол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Двигательн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Тип конститу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ормосте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асте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гиперсте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Акселе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Ретард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Методы исследования физ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395280" y="1395360"/>
            <a:ext cx="610236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матоскоп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(наружный осмотр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Осанка (привычное положение частей тела у непринужденно стоящего челове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ояс верхних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озвоночный стол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Грудная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Жив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пит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Мускул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Форма ног (сто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Форма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о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Антропометр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(измер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3"/>
          <p:cNvSpPr/>
          <p:nvPr/>
        </p:nvSpPr>
        <p:spPr>
          <a:xfrm>
            <a:off x="395280" y="476280"/>
            <a:ext cx="813744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Телосложение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размеры, формы, пропорции и особенности взаимного расположения частей тела, а также особенности развития костной, жировой и мышечной тканей. Особенности физического развития и телосложения человека в значительной мере зависят от его конститу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онституц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– это совокупность функциональных и морфологических особенностей организма, сложившихся на основе наследственных и приобретенных свой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Факторы внешней среды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, влияющие на конституциональные особенности человека – социально-экономические условия, питание, перенесенные заболевания, а также занятия физической культурой и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Ретардац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замедление физического развития (наблюдается уменьшение тотальных размеров тела, физической работоспособности, дефектов опорно-двигательного аппарата: нарушения осанки, формы грудной клетки, ног и стоп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Акселерац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ускорение темпов роста и развития, увеличение размеров тела, более ранние сроки наступления полового созр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9298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Антропометрия (измерение параметров тела)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179280" y="1251000"/>
            <a:ext cx="878544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Рост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остомер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Вес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медицинские ве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Диаметры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(ширина плеч, ширина таза) 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толстотный цирк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Окружност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(шея, бедро, плечо, талия, грудная клетка) 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сантиметровая л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Сила мышц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(спины, кисти) 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динамометр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Жизненная емкость легких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спир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Жировая складка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– калип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омпоненты тел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(жировой, костный, мышечны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ердечно-сосудист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179280" y="1125360"/>
            <a:ext cx="8820360" cy="57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«Спортивное  сердце»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здоровое сердце, обладающее повышенными функциональ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ульс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- это толчкообразное колебание стенок артерий при заполнении их кровью, выбрасываемой при систоле левого желудо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Тахикард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– учащение  сердечных сокращений более 80 ударов в мин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Брадикард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– замедление  сердечных сокращений менее 60 ударов в мин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 норме у спортсменов в покое систолическое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АД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находится в пределах 100 - 129 мм рт.ст., а диастолическое – в пределах 60 - 79 мм рт.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вышение систолического и (или) диастолического давления выше верхней границы нормы называется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артериальной гипертензие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нижение систолического давления ниже 100 мм рт.ст. и диастолического ниже 60 мм рт.ст. называется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артериальной гипотоние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Электрокардиограф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(ЭКГ) – метод графической регистрации биопотенциалов сердечной мышцы, возникающих при ее возбужд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рм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442800" y="1052640"/>
            <a:ext cx="849636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Здоровье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– состояние организма, при котором функции всех его органов и систем уравновешены с внешней средой и отсутствуют болезненные проя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Болезнь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– состояние организма, при котором под влиянием каких-либо повреждающих воздействий нарушается нормальная жизнедеятельность организма, ограничивается способность приспосабливаться к изменениям условий внешней среды, снижается трудо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Наследственность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присущая всем организмам способность сохранять и передавать признаки строения и развития от предков к потом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Иммунитет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невосприимчивость организма к действию инфекционных агентов и вырабатываемых ими токси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иперем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местное расстройство кровообращения, заключающееся в избыточном содержании крови в тка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ровотечение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выход крови из сосудов в окружающую ср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Терморегуляц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способность организма сохранять температуру своего тела на определенном уровне независимо от колебаний температуры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29600" cy="858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71280" y="1052640"/>
            <a:ext cx="8748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енотип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индивидуальные морфофункциональные особенности организма, унаследованные от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Фенотип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морфофункциональные особенности организма, изменяющиеся под влиянием факторов внешней среды в течение всей жизни, отражая возрастную динамику физическо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Сенситивные периоды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озрастные периоды, когда интенсивно протекают процессы роста и развития (грудной, подростковый возраст) или процессы инволюции (пожилой и старческий возра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Минутный объем крови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количество крови, выбрасываемой сердцем при сокращении за одну мину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Ударный объем крови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количество крови, выбрасываемое в аорту при одной систоле в покое или при нагруз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ипогликемическое состояние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атологическое состояние организма, развившееся вследствие значительного снижения содержания глюкозы в крови (гипогликемия), уменьшается доставка глюкозы в ЦНС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равитационный шок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теря сознания при резком прекращении интенсивной работы на выносливость ввиду депонирования крови в сосудах н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Ортостатический коллапс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теря сознания при резком прекращении интенсивной работы на выносливость ввиду депонирования крови в сосу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50920" y="379440"/>
            <a:ext cx="8229600" cy="8589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395280" y="1052640"/>
            <a:ext cx="82090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умулятивный эффект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изменения в организме, происходящие на протяжении длительного периода, тренировки, в результате суммирования срочных и отставленных эффектов большого числа тренировочных зан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Отставленный тренировочный эффект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изменения, происходящие в организме в поздних фазах восстановления (на другой день после тренировки, в последующие д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Массаж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дозированное механическое и рефлекторное воздействие на тело человека с помощью специальных массажных приемов и аппа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едагогические средства восстановлен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средства, направленные на рациональное построение тренировки и ускорение восстано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сихологические средства восстановлен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средства, действие которых направлено, главным образом, на восстановление нервного равновесия и устойчивости психики спортсмена в связи с большими нагрузками и соревнов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Реабилитация спортсменов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восстановление спортсменов после перенесенных заболеваний, травм, физического перенапряж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03200" y="274680"/>
            <a:ext cx="8229600" cy="8589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3"/>
          <p:cNvSpPr/>
          <p:nvPr/>
        </p:nvSpPr>
        <p:spPr>
          <a:xfrm>
            <a:off x="403200" y="1052640"/>
            <a:ext cx="82296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ерелом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нарушение целостности кости под влиянием острой механической трав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Рана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повреждение ткани с нарушением целостности кожи или слизистой обол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Травм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вреждение тканей с нарушением их целостности или без него, вызванное каким-либо внешним воздейст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Спортивная травм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вреждение ткани организма в результате внешнего фактора, в том числе превышавшего физиологическую прочность ткани в процессе занятий физической культурой и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Ссадин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верхностное повреждение кожи вследствие резкого трения о твердый предм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Ушиб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закрытое механическое повреждение тканей или органов без видимых нарушений анатомической целос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Максимальное потребление кислорода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(МПК)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характеризует аэробную производительность организма; это количество кислорода, потребляемое спортсменом в течении 1 мин., когда дальнейшее увеличение мощности нагрузки не вызывает прироста потребления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сследование физической работо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434880" y="981000"/>
            <a:ext cx="8282160" cy="50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Тест Руфье-Дикс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Тест Руфье-Диксона позволяет оценить скорость восстановительных процессов после дозированной физической нагрузки и используется для характеристики общей физической работоспособ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Методика провед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В положении сидя в покое у испытуемого подсчитывается пульс в течение 15 секунд и приводится к данным за минуту (Ро). затем выполняется 30 глубоких приседаний за 45 секунд. После нагрузки у обследуемого в том же положении (сидя или лежа) за первые 15 и последние 15 секунд первой минуты отдыха подсчитывают пульс и приводится к данным за минуту (Р1 и Р2 соответственно). Расчет индекса Руфье-Диксона проводится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ИРД = (Р1 – 70) + 2 × (Р2 – Ро)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436680" y="41292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а физической работоспособности по индексу Руфье-Диксона (ИР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42920" y="1700280"/>
          <a:ext cx="7274160" cy="2592360"/>
        </p:xfrm>
        <a:graphic>
          <a:graphicData uri="http://schemas.openxmlformats.org/drawingml/2006/table">
            <a:tbl>
              <a:tblPr/>
              <a:tblGrid>
                <a:gridCol w="3705120"/>
                <a:gridCol w="3569040"/>
              </a:tblGrid>
              <a:tr h="4982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Р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 – 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л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,0 – 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орош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,0 – 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я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,0 и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лаб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66124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оличественная оценка скорости восстановительных процессов после дозированной физической нагрузки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Высота ступени и время восхождения в зависимости от пола и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2650680" y="395280"/>
            <a:ext cx="38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Гарвардский степ-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49360" y="2276640"/>
          <a:ext cx="8064360" cy="25239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67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нтинген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озраст,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ысота ступени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ремя восхождения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оверхность тела, м</a:t>
                      </a:r>
                      <a:r>
                        <a:rPr b="0" lang="ru-RU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ужч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Женщ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Юнош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Юнош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евуш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альчики и 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альчики и 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выше 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выше 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выше 1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енее 1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Восстановление спортивной работоспособности и нормального функционирования организма после тренировочных и соревновательных нагрузок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еотъемлемая составная часть системы подготовки, не менее важная, чем рациональный режим нагру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Утомление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закономерное физиологическое явление, следствие проделанной работы — характеризуется появлением чувства усталости, временных изменений обмена, регуляции, функционирования основных физиологических систем, уменьшением энергетических запасов, ухудшением реакции на нагрузку, снижением общей и спортивной работоспособ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Восстановление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это возвращение работоспособности и уровня функционирования организма к дорабочему уровню либо его превы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 физиологическим закономерностям восстановительного периода относят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неравномерность, гетерохронность, фазность (волнообраз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ринципы использования восстановительных средств в спо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омплекс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Совместимость и рациональное сочетание используем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чет индивидуальных особен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веренность в полной безвредности и малой токсичности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веренность что не относится к допин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чет вида спорта, задач и этапа тренировки, характера проведенной и предстоящей на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539640" y="476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осстановление спортивной работоспособности в процессе тренировки и соревнований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едико-биологические средства восстан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611280" y="1341360"/>
            <a:ext cx="813744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Естественные гигиенические средства (полноценное сбалансированное питание, рациональный режим дня, использование естественных сил природы, закаливание, гидропроцедуры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Специализированное питание (возмещение жидкости, питание в условиях соревн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Физические факторы восстановления (души, ванны, бани, тепловые камеры, локальное отрицательное давление, электротоки, массаж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Фармакологические средства восстан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В. Климова</cp:lastModifiedBy>
  <dcterms:modified xsi:type="dcterms:W3CDTF">2014-11-27T07:37:07Z</dcterms:modified>
  <cp:revision>53</cp:revision>
  <dc:subject/>
  <dc:title>PowerPoint Presentation</dc:title>
</cp:coreProperties>
</file>