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690C-B4F0-4994-84BB-D5B71B0A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56DF-3B49-4A20-B5D6-5F8BA41E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B088-7450-4F22-8A5B-57B4BE6B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E5D0-17C1-4365-970D-653541BF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F515-5648-42F3-89ED-5249B1A9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D7B5-3637-4284-A3BF-B2D09F5C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9A1A-EA2E-4C44-9C62-1AB7A5AC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ADBC-4993-43B7-ACCA-BAD1C788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5E09-4B40-4FF0-9329-B78DE2C7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C678-34A8-414F-9E3C-7E01E7FE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F693-8A48-4C11-9881-0F5F45FA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C8C01-D27D-4502-B39A-66CC7059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3BFC-11B6-4626-A890-12FD2594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6BDB-D34E-4770-951A-3DAB80AB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65CA-64DF-4504-A3FE-138E9FF5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B8F2-8514-4E97-AF5D-729B2A22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ACF3-2771-45B3-814E-61802B77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CA8B8-B784-458B-BC57-D4B241B8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3B0F-4C61-448E-8F3C-4414168A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10EA-8A59-4E85-A126-D78DFFA3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B327-2811-40A9-AE1A-3BC84D5F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2A13D-FF99-4A2D-B646-4C808B0E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B523-1309-4CF9-BE12-59AC9EC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63501-0D01-4739-8435-28E6AFC1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B331-6096-4D10-A690-B9299AD830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9BF9-0ADD-4D17-9D31-2E3F28D441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едико-биологические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611280" y="1268280"/>
            <a:ext cx="784836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Комплекс морфофункциональных показателей, определяющих физическую работоспособность индивида на момент об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Телос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Возраст, пол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Двигательная 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Тип конститу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нормосте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асте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гиперсте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Акселе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Ретард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Методы исследования физическ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395280" y="1395360"/>
            <a:ext cx="610236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матоскоп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(наружный осмотр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Осанка (привычное положение частей тела у непринужденно стоящего челове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ояс верхних конеч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озвоночный стол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Грудная 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Жив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Упит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Мускул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Форма ног (сто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Форма 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Ко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Антропометр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(измер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3"/>
          <p:cNvSpPr/>
          <p:nvPr/>
        </p:nvSpPr>
        <p:spPr>
          <a:xfrm>
            <a:off x="395280" y="476280"/>
            <a:ext cx="813744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Телосложение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- размеры, формы, пропорции и особенности взаимного расположения частей тела, а также особенности развития костной, жировой и мышечной тканей. Особенности физического развития и телосложения человека в значительной мере зависят от его конститу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Конституц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– это совокупность функциональных и морфологических особенностей организма, сложившихся на основе наследственных и приобретенных свой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Факторы внешней среды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, влияющие на конституциональные особенности человека – социально-экономические условия, питание, перенесенные заболевания, а также занятия физической культурой и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Ретардац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замедление физического развития (наблюдается уменьшение тотальных размеров тела, физической работоспособности, дефектов опорно-двигательного аппарата: нарушения осанки, формы грудной клетки, ног и стоп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Акселерац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ускорение темпов роста и развития, увеличение размеров тела, более ранние сроки наступления полового созр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9298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Антропометрия (измерение параметров тела)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179280" y="1251000"/>
            <a:ext cx="878544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Рост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ростомер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Вес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медицинские ве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Диаметры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(ширина плеч, ширина таза) 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толстотный цирку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Окружност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(шея, бедро, плечо, талия, грудная клетка) 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сантиметровая л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Сила мышц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(спины, кисти) 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динамометр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Жизненная емкость легких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спир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Жировая складка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– калип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Компоненты тела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(жировой, костный, мышечны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ердечно-сосудист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179280" y="1125360"/>
            <a:ext cx="8820360" cy="57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«Спортивное  сердце»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здоровое сердце, обладающее повышенными функциональ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ульс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- это толчкообразное колебание стенок артерий при заполнении их кровью, выбрасываемой при систоле левого желудо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Тахикард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– учащение  сердечных сокращений более 80 ударов в мину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Брадикард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– замедление  сердечных сокращений менее 60 ударов в мину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 норме у спортсменов в покое систолическое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АД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находится в пределах 100 - 129 мм рт.ст., а диастолическое – в пределах 60 - 79 мм рт.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вышение систолического и (или) диастолического давления выше верхней границы нормы называется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артериальной гипертензие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нижение систолического давления ниже 100 мм рт.ст. и диастолического ниже 60 мм рт.ст. называется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артериальной гипотоние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Электрокардиограф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(ЭКГ) – метод графической регистрации биопотенциалов сердечной мышцы, возникающих при ее возбужд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рм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442800" y="1052640"/>
            <a:ext cx="849636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Здоровье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– состояние организма, при котором функции всех его органов и систем уравновешены с внешней средой и отсутствуют болезненные проя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Болезнь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– состояние организма, при котором под влиянием каких-либо повреждающих воздействий нарушается нормальная жизнедеятельность организма, ограничивается способность приспосабливаться к изменениям условий внешней среды, снижается трудо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Наследственность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присущая всем организмам способность сохранять и передавать признаки строения и развития от предков к потом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Иммунитет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невосприимчивость организма к действию инфекционных агентов и вырабатываемых ими токси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Гиперем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местное расстройство кровообращения, заключающееся в избыточном содержании крови в тка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Кровотечение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выход крови из сосудов в окружающую сре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Терморегуляц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способность организма сохранять температуру своего тела на определенном уровне независимо от колебаний температуры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29600" cy="8589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71280" y="1052640"/>
            <a:ext cx="8748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Генотип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индивидуальные морфофункциональные особенности организма, унаследованные от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Фенотип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морфофункциональные особенности организма, изменяющиеся под влиянием факторов внешней среды в течение всей жизни, отражая возрастную динамику физического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Сенситивные периоды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возрастные периоды, когда интенсивно протекают процессы роста и развития (грудной, подростковый возраст) или процессы инволюции (пожилой и старческий возрас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Минутный объем крови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количество крови, выбрасываемой сердцем при сокращении за одну мину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Ударный объем крови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количество крови, выбрасываемое в аорту при одной систоле в покое или при нагруз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Гипогликемическое состояние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атологическое состояние организма, развившееся вследствие значительного снижения содержания глюкозы в крови (гипогликемия), уменьшается доставка глюкозы в ЦНС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Гравитационный шок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отеря сознания при резком прекращении интенсивной работы на выносливость ввиду депонирования крови в сосудах н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Ортостатический коллапс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отеря сознания при резком прекращении интенсивной работы на выносливость ввиду депонирования крови в сосу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50920" y="379440"/>
            <a:ext cx="8229600" cy="8589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395280" y="1052640"/>
            <a:ext cx="82090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Кумулятивный эффект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изменения в организме, происходящие на протяжении длительного периода, тренировки, в результате суммирования срочных и отставленных эффектов большого числа тренировочных зан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Отставленный тренировочный эффект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- изменения, происходящие в организме в поздних фазах восстановления (на другой день после тренировки, в последующие д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Массаж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- дозированное механическое и рефлекторное воздействие на тело человека с помощью специальных массажных приемов и аппа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едагогические средства восстановлен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средства, направленные на рациональное построение тренировки и ускорение восстано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сихологические средства восстановлен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средства, действие которых направлено, главным образом, на восстановление нервного равновесия и устойчивости психики спортсмена в связи с большими нагрузками и соревнов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Реабилитация спортсменов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восстановление спортсменов после перенесенных заболеваний, травм, физического перенапряж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03200" y="274680"/>
            <a:ext cx="8229600" cy="8589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3"/>
          <p:cNvSpPr/>
          <p:nvPr/>
        </p:nvSpPr>
        <p:spPr>
          <a:xfrm>
            <a:off x="403200" y="1052640"/>
            <a:ext cx="82296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ерелом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нарушение целостности кости под влиянием острой механической трав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Рана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- повреждение ткани с нарушением целостности кожи или слизистой обол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Травма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овреждение тканей с нарушением их целостности или без него, вызванное каким-либо внешним воздейств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Спортивная травма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овреждение ткани организма в результате внешнего фактора, в том числе превышавшего физиологическую прочность ткани в процессе занятий физической культурой и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Ссадина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оверхностное повреждение кожи вследствие резкого трения о твердый предм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Ушиб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- закрытое механическое повреждение тканей или органов без видимых нарушений анатомической целос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Максимальное потребление кислорода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(МПК)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характеризует аэробную производительность организма; это количество кислорода, потребляемое спортсменом в течении 1 мин., когда дальнейшее увеличение мощности нагрузки не вызывает прироста потребления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сследование физической работоспосо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"/>
          <p:cNvSpPr/>
          <p:nvPr/>
        </p:nvSpPr>
        <p:spPr>
          <a:xfrm>
            <a:off x="434880" y="981000"/>
            <a:ext cx="8282160" cy="50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Тест Руфье-Дикс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Тест Руфье-Диксона позволяет оценить скорость восстановительных процессов после дозированной физической нагрузки и используется для характеристики общей физической работоспособ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Методика провед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В положении сидя в покое у испытуемого подсчитывается пульс в течение 15 секунд и приводится к данным за минуту (Ро). затем выполняется 30 глубоких приседаний за 45 секунд. После нагрузки у обследуемого в том же положении (сидя или лежа) за первые 15 и последние 15 секунд первой минуты отдыха подсчитывают пульс и приводится к данным за минуту (Р1 и Р2 соответственно). Расчет индекса Руфье-Диксона проводится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ИРД = (Р1 – 70) + 2 × (Р2 – Ро)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436680" y="41292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ка физической работоспособности по индексу Руфье-Диксона (ИР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42920" y="1700280"/>
          <a:ext cx="7274160" cy="2592360"/>
        </p:xfrm>
        <a:graphic>
          <a:graphicData uri="http://schemas.openxmlformats.org/drawingml/2006/table">
            <a:tbl>
              <a:tblPr/>
              <a:tblGrid>
                <a:gridCol w="3705120"/>
                <a:gridCol w="3569040"/>
              </a:tblGrid>
              <a:tr h="4982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Р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 – 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л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,0 – 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орош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,0 – 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едня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,0 и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лаб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66124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Количественная оценка скорости восстановительных процессов после дозированной физической нагрузки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Высота ступени и время восхождения в зависимости от пола и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2650680" y="395280"/>
            <a:ext cx="38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Гарвардский степ-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49360" y="2276640"/>
          <a:ext cx="8064360" cy="25239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67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онтинген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озраст,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ысота ступени,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ремя восхождения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оверхность тела, м</a:t>
                      </a:r>
                      <a:r>
                        <a:rPr b="0" lang="ru-RU" sz="1400" spc="-1" strike="noStrike" baseline="30000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ужчи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Женщи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Юнош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Юнош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евуш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альчики и 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альчики и 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выше 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выше 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-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-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-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выше 1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енее 1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Восстановление спортивной работоспособности и нормального функционирования организма после тренировочных и соревновательных нагрузок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неотъемлемая составная часть системы подготовки, не менее важная, чем рациональный режим нагру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Утомление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закономерное физиологическое явление, следствие проделанной работы — характеризуется появлением чувства усталости, временных изменений обмена, регуляции, функционирования основных физиологических систем, уменьшением энергетических запасов, ухудшением реакции на нагрузку, снижением общей и спортивной работоспособ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Восстановление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это возвращение работоспособности и уровня функционирования организма к дорабочему уровню либо его превы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К физиологическим закономерностям восстановительного периода относят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неравномерность, гетерохронность, фазность (волнообраз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ринципы использования восстановительных средств в спо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Комплекс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Совместимость и рациональное сочетание используем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Учет индивидуальных особен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Уверенность в полной безвредности и малой токсичности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Уверенность что не относится к допин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Учет вида спорта, задач и этапа тренировки, характера проведенной и предстоящей нагру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539640" y="476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осстановление спортивной работоспособности в процессе тренировки и соревнований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едико-биологические средства восстан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611280" y="1341360"/>
            <a:ext cx="813744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Естественные гигиенические средства (полноценное сбалансированное питание, рациональный режим дня, использование естественных сил природы, закаливание, гидропроцедуры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Специализированное питание (возмещение жидкости, питание в условиях соревн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Физические факторы восстановления (души, ванны, бани, тепловые камеры, локальное отрицательное давление, электротоки, массаж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Фармакологические средства восстано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В. Климова</cp:lastModifiedBy>
  <dcterms:modified xsi:type="dcterms:W3CDTF">2014-11-27T07:37:07Z</dcterms:modified>
  <cp:revision>53</cp:revision>
  <dc:subject/>
  <dc:title>PowerPoint Presentation</dc:title>
</cp:coreProperties>
</file>