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CDF9-44D9-4029-9A8E-0685EFD51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B765A-47AC-4925-963C-D36E3F8CC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DA2F6-8699-4191-873F-E0ED711B2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8A83D-4E7E-4BDB-9BC8-6341E2A64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B7F1-87B9-4574-A2D7-C94D5459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4A8C9-28F0-4583-BD9A-060FAA57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DFFC-FF95-4923-A1C0-FE95FF89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AC825-E941-4805-83CE-8B95C99A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B37A5-A734-4548-81B6-EE819F83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B0B7-B5D4-4B96-926E-AA6E9C142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8AA5C-7CB9-4DEA-B0E1-87A3105B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AFD3-FB9A-4E4F-A4B1-3FCE5AB2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469E-DB32-405E-A0DE-C3E0F95C9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71A2-96DA-4352-BB96-2B7D5A063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17913-52EB-4A8D-B5B3-84BA6065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F3A09-0434-42A5-ACE0-41E5F2C1E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2459-46EE-4427-8AB4-35841B9F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E929C-BDEE-43B7-BEFF-E4CC6F49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20522-3844-479F-97E0-433DC9F1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AE580-A6D1-4A74-A703-26D0CAF8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F99E-9D8D-479D-A058-7996010B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CE0CF-34CA-435B-84F4-64C23E8C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CC5D-D820-45B0-BBE2-FA0CE0D1A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71B64-0241-45A2-B07F-BBCFB358E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BB71-E4AB-4A47-BEE1-01F47EBB562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E6436-849E-475D-943D-696CEB8BEF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Медико-биологические зн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изическое разви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3"/>
          <p:cNvSpPr/>
          <p:nvPr/>
        </p:nvSpPr>
        <p:spPr>
          <a:xfrm>
            <a:off x="611280" y="1268280"/>
            <a:ext cx="7848360" cy="48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мплекс морфофункциональных показателей, определяющих физическую работоспособность индивида на момент обслед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Телос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озраст, пол</a:t>
            </a: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Двигательная актив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Тип конститу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ормосте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асте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гиперстениче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Акселер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Ретардац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Методы исследования физ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3"/>
          <p:cNvSpPr/>
          <p:nvPr/>
        </p:nvSpPr>
        <p:spPr>
          <a:xfrm>
            <a:off x="395280" y="1395360"/>
            <a:ext cx="610236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Соматоскоп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наружный осмотр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Осанка (привычное положение частей тела у непринужденно стоящего человек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яс верхних конеч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Позвоночный стол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Грудная кле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Жив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пита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Мускул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орма ног (стоп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орма р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ж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Антропометр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измер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3"/>
          <p:cNvSpPr/>
          <p:nvPr/>
        </p:nvSpPr>
        <p:spPr>
          <a:xfrm>
            <a:off x="395280" y="476280"/>
            <a:ext cx="8137440" cy="52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елосложени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размеры, формы, пропорции и особенности взаимного расположения частей тела, а также особенности развития костной, жировой и мышечной тканей. Особенности физического развития и телосложения человека в значительной мере зависят от его конституц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онституция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это совокупность функциональных и морфологических особенностей организма, сложившихся на основе наследственных и приобретенных свойст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Факторы внешней сред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, влияющие на конституциональные особенности человека – социально-экономические условия, питание, перенесенные заболевания, а также занятия физической 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Ретарда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замедление физического развития (наблюдается уменьшение тотальных размеров тела, физической работоспособности, дефектов опорно-двигательного аппарата: нарушения осанки, формы грудной клетки, ног и стоп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кселера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ускорение темпов роста и развития, увеличение размеров тела, более ранние сроки наступления полового созр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92980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Антропометрия (измерение параметров тела)</a:t>
            </a: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179280" y="1251000"/>
            <a:ext cx="8785440" cy="24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ост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ростомер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Вес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медицинские ве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Диаметры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ширина плеч, ширина таза)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толстотный цирку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кружности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(шея, бедро, плечо, талия, грудная клетка)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сантиметровая л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ила мышц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(спины, кисти) 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динамометр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Жизненная емкость легких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спиромет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Жировая складка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– калип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омпоненты тел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(жировой, костный, мышечный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ердечно-сосудист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79280" y="1125360"/>
            <a:ext cx="8820360" cy="57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«Спортивное  сердце» 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- здоровое сердце, обладающее повышенными функциональными возможностя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Пульс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- это толчкообразное колебание стенок артерий при заполнении их кровью, выбрасываемой при систоле левого желудоч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Тахикард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– учащение  сердечных сокращений более 8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Брадикард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– замедление  сердечных сокращений менее 6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В норме у спортсменов в покое систолическое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Д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находится в пределах 100 - 129 мм рт.ст., а диастолическое – в пределах 60 - 79 мм рт.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Повышение систолического и (или) диастолического давления выше верхней границы нормы называетс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ртериальной гипертензи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Снижение систолического давления ниже 100 мм рт.ст. и диастолического ниже 60 мм рт.ст. называется </a:t>
            </a: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артериальной гипотонией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</a:rPr>
              <a:t>Электрокардиография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</a:rPr>
              <a:t> (ЭКГ) – метод графической регистрации биопотенциалов сердечной мышцы, возникающих при ее возбужден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рм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3"/>
          <p:cNvSpPr/>
          <p:nvPr/>
        </p:nvSpPr>
        <p:spPr>
          <a:xfrm>
            <a:off x="442800" y="1052640"/>
            <a:ext cx="849636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Здоровье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состояние организма, при котором функции всех его органов и систем уравновешены с внешней средой и отсутствуют болезненные проя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Болезнь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– состояние организма, при котором под влиянием каких-либо повреждающих воздействий нарушается нормальная жизнедеятельность организма, ограничивается способность приспосабливаться к изменениям условий внешней среды, снижается трудоспособ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Наследственность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присущая всем организмам способность сохранять и передавать признаки строения и развития от предков к потом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Иммунитет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невосприимчивость организма к действию инфекционных агентов и вырабатываемых ими токсин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иперем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местное расстройство кровообращения, заключающееся в избыточном содержании крови в тка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ровотечение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выход крови из сосудов в окружающую сре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ерморегуляц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– способность организма сохранять температуру своего тела на определенном уровне независимо от колебаний температуры окружающей сре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3" name="Прямоугольник 3"/>
          <p:cNvSpPr/>
          <p:nvPr/>
        </p:nvSpPr>
        <p:spPr>
          <a:xfrm>
            <a:off x="71280" y="1052640"/>
            <a:ext cx="874872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енотип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индивидуальные морфофункциональные особенности организма, унаследованные от родите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Фенотип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морфофункциональные особенности организма, изменяющиеся под влиянием факторов внешней среды в течение всей жизни, отражая возрастную динамику физического разви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енситивные периоды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возрастные периоды, когда интенсивно протекают процессы роста и развития (грудной, подростковый возраст) или процессы инволюции (пожилой и старческий возраст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инутный объем крови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количество крови, выбрасываемой сердцем при сокращении за одну мину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дарный объем крови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количество крови, выбрасываемое в аорту при одной систоле в покое или при нагруз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ипогликемическое состояние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атологическое состояние организма, развившееся вследствие значительного снижения содержания глюкозы в крови (гипогликемия), уменьшается доставка глюкозы в ЦНС.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Гравитационный шок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теря сознания при резком прекращении интенсивной работы на выносливость ввиду депонирования крови в сосудах но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ртостатический коллапс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теря сознания при резком прекращении интенсивной работы на выносливость ввиду депонирования крови в сосуд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5" name="Прямоугольник 3"/>
          <p:cNvSpPr/>
          <p:nvPr/>
        </p:nvSpPr>
        <p:spPr>
          <a:xfrm>
            <a:off x="395280" y="1052640"/>
            <a:ext cx="8209080" cy="53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Кумулятивный эффект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изменения в организме, происходящие на протяжении длительного периода, тренировки, в результате суммирования срочных и отставленных эффектов большого числа тренировочных занят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Отставленный тренировочный эффект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изменения, происходящие в организме в поздних фазах восстановления (на другой день после тренировки, в последующие дн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ассаж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дозированное механическое и рефлекторное воздействие на тело человека с помощью специальных массажных приемов и аппара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едагогические средства восстановлен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средства, направленные на рациональное построение тренировки и ускорение восстановл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сихологические средства восстановления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средства, действие которых направлено, главным образом, на восстановление нервного равновесия и устойчивости психики спортсмена в связи с большими нагрузками и соревновани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еабилитация спортсменов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восстановление спортсменов после перенесенных заболеваний, травм, физического перенапряжения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03200" y="274680"/>
            <a:ext cx="8229600" cy="858960"/>
          </a:xfrm>
          <a:prstGeom prst="rect">
            <a:avLst/>
          </a:prstGeom>
          <a:ln w="0">
            <a:noFill/>
          </a:ln>
        </p:spPr>
      </p:pic>
      <p:sp>
        <p:nvSpPr>
          <p:cNvPr id="137" name="Прямоугольник 3"/>
          <p:cNvSpPr/>
          <p:nvPr/>
        </p:nvSpPr>
        <p:spPr>
          <a:xfrm>
            <a:off x="403200" y="1052640"/>
            <a:ext cx="8229600" cy="51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ерелом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нарушение целостности кости под влиянием острой механической трав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Рана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повреждение ткани с нарушением целостности кожи или слизистой оболоч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Травм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вреждение тканей с нарушением их целостности или без него, вызванное каким-либо внешним воздейств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портивная травм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вреждение ткани организма в результате внешнего фактора, в том числе превышавшего физиологическую прочность ткани в процессе занятий физической культурой и спор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Ссадина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- поверхностное повреждение кожи вследствие резкого трения о твердый предм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Ушиб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- закрытое механическое повреждение тканей или органов без видимых нарушений анатомической целост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Максимальное потребление кислорода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(МПК)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характеризует аэробную производительность организма; это количество кислорода, потребляемое спортсменом в течении 1 мин., когда дальнейшее увеличение мощности нагрузки не вызывает прироста потребления кисло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30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Исследование физической работоспособ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"/>
          <p:cNvSpPr/>
          <p:nvPr/>
        </p:nvSpPr>
        <p:spPr>
          <a:xfrm>
            <a:off x="434880" y="981000"/>
            <a:ext cx="8282160" cy="50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</a:rPr>
              <a:t>Тест Руфье-Дикс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Тест Руфье-Диксона позволяет оценить скорость восстановительных процессов после дозированной физической нагрузки и используется для характеристики общей физической работоспособност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Методика проведе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4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В положении сидя в покое у испытуемого подсчитывается пульс в течение 15 секунд и приводится к данным за минуту (Ро). затем выполняется 30 глубоких приседаний за 45 секунд. После нагрузки у обследуемого в том же положении (сидя или лежа) за первые 15 и последние 15 секунд первой минуты отдыха подсчитывают пульс и приводится к данным за минуту (Р1 и Р2 соответственно). Расчет индекса Руфье-Диксона проводится по формул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</a:rPr>
              <a:t>ИРД = (Р1 – 70) + 2 × (Р2 – Ро)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436680" y="41292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ка физической работоспособности по индексу Руфье-Диксона (ИРД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042920" y="1700280"/>
          <a:ext cx="7274160" cy="2592360"/>
        </p:xfrm>
        <a:graphic>
          <a:graphicData uri="http://schemas.openxmlformats.org/drawingml/2006/table">
            <a:tbl>
              <a:tblPr/>
              <a:tblGrid>
                <a:gridCol w="3705120"/>
                <a:gridCol w="3569040"/>
              </a:tblGrid>
              <a:tr h="4982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ИР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ценк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0 – 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тлич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3,0 – 5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Хорош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6,0 – 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редня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8,0 и боле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лаб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560" y="1196640"/>
            <a:ext cx="866124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личественная оценка скорости восстановительных процессов после дозированной физической нагрузки</a:t>
            </a:r>
            <a:br>
              <a:rPr sz="1800"/>
            </a:b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Высота ступени и время восхождения в зависимости от пола и возра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2"/>
          <p:cNvSpPr/>
          <p:nvPr/>
        </p:nvSpPr>
        <p:spPr>
          <a:xfrm>
            <a:off x="2650680" y="395280"/>
            <a:ext cx="38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Гарвардский степ-те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49360" y="2276640"/>
          <a:ext cx="8064360" cy="2523960"/>
        </p:xfrm>
        <a:graphic>
          <a:graphicData uri="http://schemas.openxmlformats.org/drawingml/2006/table">
            <a:tbl>
              <a:tblPr/>
              <a:tblGrid>
                <a:gridCol w="1612800"/>
                <a:gridCol w="1612800"/>
                <a:gridCol w="1613160"/>
                <a:gridCol w="1612800"/>
                <a:gridCol w="1612800"/>
              </a:tblGrid>
              <a:tr h="67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Континген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озраст,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ысота ступени, с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Время восхождения, м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Поверхность тела, м</a:t>
                      </a:r>
                      <a:r>
                        <a:rPr b="0" lang="ru-RU" sz="1400" spc="-1" strike="noStrike" baseline="30000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ужч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Женщин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Юнош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Юнош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Девушк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альчики и 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альчики и девоч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выше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выше 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12-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8-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Свыше 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</a:rPr>
                        <a:t>Менее 1,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Восстановление спортивной работоспособности и нормального функционирования организма после тренировочных и соревновательных нагрузок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неотъемлемая составная часть системы подготовки, не менее важная, чем рациональный режим нагруз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Утомление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закономерное физиологическое явление, следствие проделанной работы — характеризуется появлением чувства усталости, временных изменений обмена, регуляции, функционирования основных физиологических систем, уменьшением энергетических запасов, ухудшением реакции на нагрузку, снижением общей и спортивной работоспособ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</a:rPr>
              <a:t>Восстановление 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это возвращение работоспособности и уровня функционирования организма к дорабочему уровню либо его превыш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 физиологическим закономерностям восстановительного периода относят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</a:rPr>
              <a:t> неравномерность, гетерохронность, фазность (волнообраз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</a:rPr>
              <a:t>Принципы использования восстановительных средств в спор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Комплексн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Совместимость и рациональное сочетание используем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чет индивидуальных особен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веренность в полной безвредности и малой токсичности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веренность что не относится к допинг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Учет вида спорта, задач и этапа тренировки, характера проведенной и предстоящей нагру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539640" y="476280"/>
            <a:ext cx="86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осстановление спортивной работоспособности в процессе тренировки и соревнований</a:t>
            </a: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Медико-биологические средства восстанов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3"/>
          <p:cNvSpPr/>
          <p:nvPr/>
        </p:nvSpPr>
        <p:spPr>
          <a:xfrm>
            <a:off x="611280" y="1341360"/>
            <a:ext cx="8137440" cy="24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Естественные гигиенические средства (полноценное сбалансированное питание, рациональный режим дня, использование естественных сил природы, закаливание, гидропроцедуры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Специализированное питание (возмещение жидкости, питание в условиях соревнов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изические факторы восстановления (души, ванны, бани, тепловые камеры, локальное отрицательное давление, электротоки, массаж и др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</a:rPr>
              <a:t>Фармакологические средства восстанов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В. Климова</cp:lastModifiedBy>
  <dcterms:modified xsi:type="dcterms:W3CDTF">2014-11-27T07:37:07Z</dcterms:modified>
  <cp:revision>53</cp:revision>
  <dc:subject/>
  <dc:title>PowerPoint Presentation</dc:title>
</cp:coreProperties>
</file>