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35984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еминар для педагог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ГБОУ СОШ № 386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«Профилактика экстремизма и ксенофобии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Неформальные молодёжные объединения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2015 г.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980640"/>
            <a:ext cx="8496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Narrow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4" descr="http://www.b-port.com/mediafiles/items/2013/03/101183/acccff272bd45951501f62dd04022c4c_L.jpg"/>
          <p:cNvPicPr/>
          <p:nvPr/>
        </p:nvPicPr>
        <p:blipFill>
          <a:blip r:embed="rId1"/>
          <a:stretch/>
        </p:blipFill>
        <p:spPr>
          <a:xfrm>
            <a:off x="2268360" y="2781360"/>
            <a:ext cx="47768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кстремизм – деятельность общественных и религиозных объединений, либо иных организаций, либо физических лиц по планированию, подготовке и совершению действий, направленных на подрыв безопасности государства, возбуждение расовой, национальной, религиозной и социальной розни, связанной с насилием или призывом к насилию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560" y="3284640"/>
            <a:ext cx="83170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сенофобия – негативные чувства к другим нациям, этносам или религиям, основанные на страхе перед неизвестным, на незнании чужих обычаев, боязни людей другой культуры (иррациональное явление). Объединение на «образе врага», разжигание ненавист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ционализм – сознательная идентификация себя с определенной нацией (не обязательно агрессивная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548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Неформальные объединен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980640"/>
            <a:ext cx="878508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еюридическое понятие, пришедшее из газет в 80-е годы как противовес «формальным», то есть незарегистрированные официально – «самодеятельные организации» энтузиастов-общественников, «подпольные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ейчас: объединения по признаку субкультуры без четкого определения членства, относятся к категории досуговых, ориентированных на свободное времяпрепровождение, среди которых выделяют и оппозиционные формирования, и «клубы по интересам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убкультура – это специфическая часть культуры вообще, выражена системой символов, норм, ценностей и социальных институтов, определяющей поведение индивидов и групп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99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Экстремистские (агрессивные) НМО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9280" y="76464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от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атанист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кинхеды (нацисты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4/88 (националисты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нтиф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A.C.A.B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у-клукс-клан, КК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еталлист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ан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3" name="Picture 2" descr="C:\Documents and Settings\elli\Рабочий стол\Новая папка\x_eac8c704.jpg"/>
          <p:cNvPicPr/>
          <p:nvPr/>
        </p:nvPicPr>
        <p:blipFill>
          <a:blip r:embed="rId1"/>
          <a:srcRect l="0" t="0" r="12279" b="0"/>
          <a:stretch/>
        </p:blipFill>
        <p:spPr>
          <a:xfrm>
            <a:off x="3708360" y="981000"/>
            <a:ext cx="1944720" cy="331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bm.img.com.ua/img/prikol/images/large/3/9/41793_20932.jpg"/>
          <p:cNvPicPr/>
          <p:nvPr/>
        </p:nvPicPr>
        <p:blipFill>
          <a:blip r:embed="rId2"/>
          <a:stretch/>
        </p:blipFill>
        <p:spPr>
          <a:xfrm>
            <a:off x="5651640" y="907920"/>
            <a:ext cx="1692000" cy="354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E:\ан1.jpg"/>
          <p:cNvPicPr/>
          <p:nvPr/>
        </p:nvPicPr>
        <p:blipFill>
          <a:blip r:embed="rId3"/>
          <a:stretch/>
        </p:blipFill>
        <p:spPr>
          <a:xfrm>
            <a:off x="3564000" y="3905280"/>
            <a:ext cx="259704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bolshe_mentov"/>
          <p:cNvPicPr/>
          <p:nvPr/>
        </p:nvPicPr>
        <p:blipFill>
          <a:blip r:embed="rId4"/>
          <a:srcRect l="0" t="0" r="0" b="5315"/>
          <a:stretch/>
        </p:blipFill>
        <p:spPr>
          <a:xfrm>
            <a:off x="7202520" y="1413000"/>
            <a:ext cx="1941480" cy="30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Klan-in-gainesville.jpg"/>
          <p:cNvPicPr/>
          <p:nvPr/>
        </p:nvPicPr>
        <p:blipFill>
          <a:blip r:embed="rId5"/>
          <a:srcRect l="10318" t="9418" r="0" b="0"/>
          <a:stretch/>
        </p:blipFill>
        <p:spPr>
          <a:xfrm>
            <a:off x="6227640" y="4581360"/>
            <a:ext cx="280044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ttp://im1-tub-ru.yandex.net/i?id=d5216bf3c85173b910a9bf3f59bbe6c7-24-144&amp;n=21"/>
          <p:cNvPicPr/>
          <p:nvPr/>
        </p:nvPicPr>
        <p:blipFill>
          <a:blip r:embed="rId6"/>
          <a:stretch/>
        </p:blipFill>
        <p:spPr>
          <a:xfrm>
            <a:off x="324000" y="4797360"/>
            <a:ext cx="310176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086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Другие НМ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реш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Picture 9" descr="1296649396%5Fx%5Fab478fa9"/>
          <p:cNvPicPr/>
          <p:nvPr/>
        </p:nvPicPr>
        <p:blipFill>
          <a:blip r:embed="rId1"/>
          <a:stretch/>
        </p:blipFill>
        <p:spPr>
          <a:xfrm>
            <a:off x="2195640" y="1268280"/>
            <a:ext cx="16714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0CAHRNFA8"/>
          <p:cNvPicPr/>
          <p:nvPr/>
        </p:nvPicPr>
        <p:blipFill>
          <a:blip r:embed="rId2"/>
          <a:stretch/>
        </p:blipFill>
        <p:spPr>
          <a:xfrm>
            <a:off x="3924360" y="404640"/>
            <a:ext cx="1977840" cy="264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343772893_56cksC_HASk"/>
          <p:cNvPicPr/>
          <p:nvPr/>
        </p:nvPicPr>
        <p:blipFill>
          <a:blip r:embed="rId3"/>
          <a:stretch/>
        </p:blipFill>
        <p:spPr>
          <a:xfrm>
            <a:off x="5975280" y="1890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trash-makeup-09"/>
          <p:cNvPicPr/>
          <p:nvPr/>
        </p:nvPicPr>
        <p:blipFill>
          <a:blip r:embed="rId4"/>
          <a:stretch/>
        </p:blipFill>
        <p:spPr>
          <a:xfrm>
            <a:off x="0" y="1197000"/>
            <a:ext cx="2122560" cy="318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girl-2"/>
          <p:cNvPicPr/>
          <p:nvPr/>
        </p:nvPicPr>
        <p:blipFill>
          <a:blip r:embed="rId5"/>
          <a:stretch/>
        </p:blipFill>
        <p:spPr>
          <a:xfrm>
            <a:off x="2771640" y="3689280"/>
            <a:ext cx="238284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672705114"/>
          <p:cNvPicPr/>
          <p:nvPr/>
        </p:nvPicPr>
        <p:blipFill>
          <a:blip r:embed="rId6"/>
          <a:stretch/>
        </p:blipFill>
        <p:spPr>
          <a:xfrm>
            <a:off x="324000" y="43894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Image00021110"/>
          <p:cNvPicPr/>
          <p:nvPr/>
        </p:nvPicPr>
        <p:blipFill>
          <a:blip r:embed="rId7"/>
          <a:stretch/>
        </p:blipFill>
        <p:spPr>
          <a:xfrm>
            <a:off x="5148360" y="3284640"/>
            <a:ext cx="1863720" cy="281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20fa322f22e1"/>
          <p:cNvPicPr/>
          <p:nvPr/>
        </p:nvPicPr>
        <p:blipFill>
          <a:blip r:embed="rId8"/>
          <a:stretch/>
        </p:blipFill>
        <p:spPr>
          <a:xfrm>
            <a:off x="7093080" y="3860640"/>
            <a:ext cx="193680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086600" cy="4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анильные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Picture 5" descr="based"/>
          <p:cNvPicPr/>
          <p:nvPr/>
        </p:nvPicPr>
        <p:blipFill>
          <a:blip r:embed="rId1"/>
          <a:stretch/>
        </p:blipFill>
        <p:spPr>
          <a:xfrm>
            <a:off x="7020000" y="2276640"/>
            <a:ext cx="1881000" cy="25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22675%5Ftribune%5Fmy%5Fvse%5Fvanilnye"/>
          <p:cNvPicPr/>
          <p:nvPr/>
        </p:nvPicPr>
        <p:blipFill>
          <a:blip r:embed="rId2"/>
          <a:stretch/>
        </p:blipFill>
        <p:spPr>
          <a:xfrm>
            <a:off x="5940360" y="4941720"/>
            <a:ext cx="2606760" cy="172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000001-small"/>
          <p:cNvPicPr/>
          <p:nvPr/>
        </p:nvPicPr>
        <p:blipFill>
          <a:blip r:embed="rId3"/>
          <a:stretch/>
        </p:blipFill>
        <p:spPr>
          <a:xfrm>
            <a:off x="6156360" y="260280"/>
            <a:ext cx="246204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kartinki-vanilki"/>
          <p:cNvPicPr/>
          <p:nvPr/>
        </p:nvPicPr>
        <p:blipFill>
          <a:blip r:embed="rId4"/>
          <a:stretch/>
        </p:blipFill>
        <p:spPr>
          <a:xfrm>
            <a:off x="250920" y="836640"/>
            <a:ext cx="2800080" cy="18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devushki%5Fvanilki1"/>
          <p:cNvPicPr/>
          <p:nvPr/>
        </p:nvPicPr>
        <p:blipFill>
          <a:blip r:embed="rId5"/>
          <a:stretch/>
        </p:blipFill>
        <p:spPr>
          <a:xfrm>
            <a:off x="3851280" y="404640"/>
            <a:ext cx="1657440" cy="498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16"/>
          <p:cNvPicPr/>
          <p:nvPr/>
        </p:nvPicPr>
        <p:blipFill>
          <a:blip r:embed="rId6"/>
          <a:stretch/>
        </p:blipFill>
        <p:spPr>
          <a:xfrm>
            <a:off x="539640" y="2924280"/>
            <a:ext cx="3017880" cy="1725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247458506%5Fgirl031"/>
          <p:cNvPicPr/>
          <p:nvPr/>
        </p:nvPicPr>
        <p:blipFill>
          <a:blip r:embed="rId7"/>
          <a:stretch/>
        </p:blipFill>
        <p:spPr>
          <a:xfrm>
            <a:off x="1258920" y="4869000"/>
            <a:ext cx="2529000" cy="167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45b4649087ae"/>
          <p:cNvPicPr/>
          <p:nvPr/>
        </p:nvPicPr>
        <p:blipFill>
          <a:blip r:embed="rId8"/>
          <a:stretch/>
        </p:blipFill>
        <p:spPr>
          <a:xfrm>
            <a:off x="5580000" y="2781360"/>
            <a:ext cx="12859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8000" y="188640"/>
            <a:ext cx="84312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Хипстер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Феномен ТП или ТП-хикки (фрикессы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айд по ТХ, игроман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иногрыз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усский мар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авы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перы, Pitb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тафарианство, раста,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гг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таку, манги, аниме и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орам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8" name="Picture 4" descr="tupaya"/>
          <p:cNvPicPr/>
          <p:nvPr/>
        </p:nvPicPr>
        <p:blipFill>
          <a:blip r:embed="rId1"/>
          <a:stretch/>
        </p:blipFill>
        <p:spPr>
          <a:xfrm>
            <a:off x="4716360" y="119700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RM2006logo"/>
          <p:cNvPicPr/>
          <p:nvPr/>
        </p:nvPicPr>
        <p:blipFill>
          <a:blip r:embed="rId2"/>
          <a:stretch/>
        </p:blipFill>
        <p:spPr>
          <a:xfrm>
            <a:off x="2556000" y="1557360"/>
            <a:ext cx="2001600" cy="113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00px-Dreadlocked_rasta"/>
          <p:cNvPicPr/>
          <p:nvPr/>
        </p:nvPicPr>
        <p:blipFill>
          <a:blip r:embed="rId3"/>
          <a:stretch/>
        </p:blipFill>
        <p:spPr>
          <a:xfrm>
            <a:off x="4067280" y="2492280"/>
            <a:ext cx="1906560" cy="275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mydim.ua/pub/images/2f3d901ca32648d1.jpg"/>
          <p:cNvPicPr/>
          <p:nvPr/>
        </p:nvPicPr>
        <p:blipFill>
          <a:blip r:embed="rId4"/>
          <a:srcRect l="6235" t="4725" r="0" b="0"/>
          <a:stretch/>
        </p:blipFill>
        <p:spPr>
          <a:xfrm>
            <a:off x="5580000" y="4468680"/>
            <a:ext cx="356400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guriguriblog.files.wordpress.com/2009/03/cc-code-geass1920.png"/>
          <p:cNvPicPr/>
          <p:nvPr/>
        </p:nvPicPr>
        <p:blipFill>
          <a:blip r:embed="rId5"/>
          <a:srcRect l="0" t="12910" r="0" b="0"/>
          <a:stretch/>
        </p:blipFill>
        <p:spPr>
          <a:xfrm>
            <a:off x="971640" y="4976640"/>
            <a:ext cx="3456000" cy="188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Хипстер среди чужих"/>
          <p:cNvPicPr/>
          <p:nvPr/>
        </p:nvPicPr>
        <p:blipFill>
          <a:blip r:embed="rId6"/>
          <a:srcRect l="0" t="7142" r="14384" b="4853"/>
          <a:stretch/>
        </p:blipFill>
        <p:spPr>
          <a:xfrm>
            <a:off x="5688000" y="0"/>
            <a:ext cx="3456000" cy="266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im2-tub-ru.yandex.net/i?id=b4179b9256ebac932cbadf767b643d95-54-144&amp;n=21"/>
          <p:cNvPicPr/>
          <p:nvPr/>
        </p:nvPicPr>
        <p:blipFill>
          <a:blip r:embed="rId7"/>
          <a:stretch/>
        </p:blipFill>
        <p:spPr>
          <a:xfrm>
            <a:off x="6227640" y="2673360"/>
            <a:ext cx="273708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ричины участия молодежи в НМО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691920"/>
            <a:ext cx="86407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онимание в семье, вызов семье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успеваемость в школе и отчуждение от школьного коллектив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желание быть как все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Желание утвердиться, привлечь к себе внимание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ань моде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лияние криминальных структур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пирование образцов западной культуры, структур и течени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сутствие интереса к чему-либо и цели в жизн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развитая сфера организации досуга в стран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зрастные увлечения, потребность в необычных эмоциональных впечатлениях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дейные убеждения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зов обществу, возможность проявить протест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0866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Из материалов Юнеско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1071360"/>
            <a:ext cx="8001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Для будущих и уже работающих учителей и всех, кто имеет отношение к образованию, было бы очень полезно определить меру своего понимания других, отличающихся от них самих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ажно осознавать влияние своего поведения на поведение обучающихс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грессивность личности влияет на социальное поведение, способствует проявлению соперничества, конфронтации в отношениях и конфликтов с окружающими людь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20:55:45Z</dcterms:created>
  <dc:creator>НАТУСИК</dc:creator>
  <dc:description/>
  <cp:keywords/>
  <dc:language>en-US</dc:language>
  <cp:lastModifiedBy>1</cp:lastModifiedBy>
  <dcterms:modified xsi:type="dcterms:W3CDTF">2015-02-24T11:28:03Z</dcterms:modified>
  <cp:revision>74</cp:revision>
  <dc:subject/>
  <dc:title> Неформальные молодёжные объеди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49</vt:lpwstr>
  </property>
</Properties>
</file>