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F027-DDE0-4F3E-9247-96C1EF2F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10BA-A9CD-4A8A-998F-F531811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EDDE-0ABC-4379-9CA0-F461BDD7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0476-38BD-488C-B36B-6AC0405A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DFD-2434-4027-8005-0A7536E4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A200-7A73-4A88-8031-9310784A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B9D-04BD-45E3-8122-FF2FD58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6EA1-E19F-4897-B2C4-499B6891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28CC-6B2E-4932-8F0A-3E5F84EC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327-8813-4ADB-8327-4A082A6E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0593-4BB4-4F5D-8FE7-64EE1C7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F5F6-881A-47FC-868E-776FAA4A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8276-815D-44C8-91E9-9011379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35E2-8CE1-45E1-81F0-3A17210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F513-6686-44D9-A88A-06875DD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4BC5-8D1D-4B68-834B-C5B87DFB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AB20-8031-4BE6-9AC3-B724C6D0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FB07-A35E-4CCA-984A-735A1676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8C78-E530-462C-8937-97A4E8AB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A92C-0F5C-44D7-80D3-76CE252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8A59-E3A6-44B2-B786-DD6B8CA3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ECEC-C48F-4922-8652-1EB119C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D946-F06D-411E-9042-161FEE4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C731-71F1-4575-9F3B-15A48CA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80DA-B048-4446-8C7A-B44E89530C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1D8-5D4C-487E-A6F4-F29FD248CC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ndon2012.rsport.ru/london2012/medals/list/?country_id=441298496" TargetMode="External"/><Relationship Id="rId2" Type="http://schemas.openxmlformats.org/officeDocument/2006/relationships/hyperlink" Target="http://london2012.rsport.ru/london2012/medals/list/?country_id=441297373" TargetMode="External"/><Relationship Id="rId3" Type="http://schemas.openxmlformats.org/officeDocument/2006/relationships/hyperlink" Target="http://london2012.rsport.ru/london2012/medals/list/?country_id=581350902" TargetMode="External"/><Relationship Id="rId4" Type="http://schemas.openxmlformats.org/officeDocument/2006/relationships/hyperlink" Target="http://london2012.rsport.ru/london2012/medals/list/?country_id=441298235" TargetMode="External"/><Relationship Id="rId5" Type="http://schemas.openxmlformats.org/officeDocument/2006/relationships/hyperlink" Target="http://london2012.rsport.ru/london2012/medals/list/?country_id=441297734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ochi.snowrock.ru/country/russia" TargetMode="External"/><Relationship Id="rId2" Type="http://schemas.openxmlformats.org/officeDocument/2006/relationships/hyperlink" Target="http://sochi.snowrock.ru/country/norway" TargetMode="External"/><Relationship Id="rId3" Type="http://schemas.openxmlformats.org/officeDocument/2006/relationships/hyperlink" Target="http://sochi.snowrock.ru/country/canada" TargetMode="External"/><Relationship Id="rId4" Type="http://schemas.openxmlformats.org/officeDocument/2006/relationships/hyperlink" Target="http://sochi.snowrock.ru/country/usa" TargetMode="External"/><Relationship Id="rId5" Type="http://schemas.openxmlformats.org/officeDocument/2006/relationships/hyperlink" Target="http://sochi.snowrock.ru/country/netherlands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2;&#1085;&#1085;&#1099;&#1081;_&#1089;&#1087;&#1086;&#1088;&#1090;" TargetMode="External"/><Relationship Id="rId2" Type="http://schemas.openxmlformats.org/officeDocument/2006/relationships/hyperlink" Target="https://ru.wikipedia.org/wiki/&#1044;&#1077;&#1084;&#1095;&#1077;&#1085;&#1082;&#1086;,_&#1040;&#1083;&#1100;&#1073;&#1077;&#1088;&#1090;_&#1052;&#1080;&#1093;&#1072;&#1081;&#1083;&#1086;&#1074;&#1080;&#1095;" TargetMode="External"/><Relationship Id="rId3" Type="http://schemas.openxmlformats.org/officeDocument/2006/relationships/hyperlink" Target="https://ru.wikipedia.org/wiki/&#1047;&#1080;&#1084;&#1085;&#1080;&#1077;_&#1054;&#1083;&#1080;&#1084;&#1087;&#1080;&#1081;&#1089;&#1082;&#1080;&#1077;_&#1080;&#1075;&#1088;&#1099;" TargetMode="External"/><Relationship Id="rId4" Type="http://schemas.openxmlformats.org/officeDocument/2006/relationships/hyperlink" Target="https://ru.wikipedia.org/wiki/&#1047;&#1080;&#1084;&#1085;&#1080;&#1077;_&#1054;&#1083;&#1080;&#1084;&#1087;&#1080;&#1081;&#1089;&#1082;&#1080;&#1077;_&#1080;&#1075;&#1088;&#1099;_1992" TargetMode="External"/><Relationship Id="rId5" Type="http://schemas.openxmlformats.org/officeDocument/2006/relationships/hyperlink" Target="https://ru.wikipedia.org/wiki/&#1047;&#1080;&#1084;&#1085;&#1080;&#1077;_&#1054;&#1083;&#1080;&#1084;&#1087;&#1080;&#1081;&#1089;&#1082;&#1080;&#1077;_&#1080;&#1075;&#1088;&#1099;_1994" TargetMode="External"/><Relationship Id="rId6" Type="http://schemas.openxmlformats.org/officeDocument/2006/relationships/hyperlink" Target="https://ru.wikipedia.org/wiki/&#1047;&#1080;&#1084;&#1085;&#1080;&#1077;_&#1054;&#1083;&#1080;&#1084;&#1087;&#1080;&#1081;&#1089;&#1082;&#1080;&#1077;_&#1080;&#1075;&#1088;&#1099;_1998" TargetMode="External"/><Relationship Id="rId7" Type="http://schemas.openxmlformats.org/officeDocument/2006/relationships/hyperlink" Target="https://ru.wikipedia.org/wiki/&#1047;&#1080;&#1084;&#1085;&#1080;&#1077;_&#1054;&#1083;&#1080;&#1084;&#1087;&#1080;&#1081;&#1089;&#1082;&#1080;&#1077;_&#1080;&#1075;&#1088;&#1099;_2002" TargetMode="External"/><Relationship Id="rId8" Type="http://schemas.openxmlformats.org/officeDocument/2006/relationships/hyperlink" Target="https://ru.wikipedia.org/wiki/&#1047;&#1080;&#1084;&#1085;&#1080;&#1077;_&#1054;&#1083;&#1080;&#1084;&#1087;&#1080;&#1081;&#1089;&#1082;&#1080;&#1077;_&#1080;&#1075;&#1088;&#1099;_2006" TargetMode="External"/><Relationship Id="rId9" Type="http://schemas.openxmlformats.org/officeDocument/2006/relationships/hyperlink" Target="https://ru.wikipedia.org/wiki/&#1047;&#1080;&#1084;&#1085;&#1080;&#1077;_&#1054;&#1083;&#1080;&#1084;&#1087;&#1080;&#1081;&#1089;&#1082;&#1080;&#1077;_&#1080;&#1075;&#1088;&#1099;_2010" TargetMode="External"/><Relationship Id="rId10" Type="http://schemas.openxmlformats.org/officeDocument/2006/relationships/hyperlink" Target="https://ru.wikipedia.org/wiki/&#1047;&#1080;&#1084;&#1085;&#1080;&#1077;_&#1054;&#1083;&#1080;&#1084;&#1087;&#1080;&#1081;&#1089;&#1082;&#1080;&#1077;_&#1080;&#1075;&#1088;&#1099;_2014" TargetMode="External"/><Relationship Id="rId11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2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3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4" Type="http://schemas.openxmlformats.org/officeDocument/2006/relationships/hyperlink" Target="https://ru.wikipedia.org/wiki/&#1055;&#1088;&#1099;&#1078;&#1082;&#1080;_&#1085;&#1072;_&#1083;&#1099;&#1078;&#1072;&#1093;_&#1089;_&#1090;&#1088;&#1072;&#1084;&#1087;&#1083;&#1080;&#1085;&#1072;" TargetMode="External"/><Relationship Id="rId15" Type="http://schemas.openxmlformats.org/officeDocument/2006/relationships/hyperlink" Target="https://ru.wikipedia.org/wiki/&#1050;&#1072;&#1089;&#1072;&#1081;,_&#1053;&#1086;&#1088;&#1080;&#1072;&#1082;&#1080;" TargetMode="External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3;&#1102;&#1097;&#1077;&#1085;&#1082;&#1086;,_&#1045;&#1074;&#1075;&#1077;&#1085;&#1080;&#1081;_&#1042;&#1080;&#1082;&#1090;&#1086;&#1088;&#1086;&#1074;&#1080;&#1095;" TargetMode="External"/><Relationship Id="rId2" Type="http://schemas.openxmlformats.org/officeDocument/2006/relationships/hyperlink" Target="https://ru.wikipedia.org/wiki/&#1060;&#1080;&#1075;&#1091;&#1088;&#1085;&#1086;&#1077;_&#1082;&#1072;&#1090;&#1072;&#1085;&#1080;&#1077;_&#1085;&#1072;_&#1079;&#1080;&#1084;&#1085;&#1080;&#1093;_&#1054;&#1083;&#1080;&#1084;&#1087;&#1080;&#1081;&#1089;&#1082;&#1080;&#1093;_&#1080;&#1075;&#1088;&#1072;&#1093;_2014_&#8212;_&#1082;&#1086;&#1084;&#1072;&#1085;&#1076;&#1085;&#1099;&#1077;_&#1089;&#1086;&#1088;&#1077;&#1074;&#1085;&#1086;&#1074;&#1072;&#1085;&#1080;&#1103;" TargetMode="External"/><Relationship Id="rId3" Type="http://schemas.openxmlformats.org/officeDocument/2006/relationships/hyperlink" Target="https://ru.wikipedia.org/wiki/&#1064;&#1074;&#1077;&#1094;&#1080;&#1103;" TargetMode="External"/><Relationship Id="rId4" Type="http://schemas.openxmlformats.org/officeDocument/2006/relationships/hyperlink" Target="https://ru.wikipedia.org/wiki/&#1043;&#1088;&#1072;&#1092;&#1089;&#1090;&#1088;&#1105;&#1084;,_&#1049;&#1080;&#1083;&#1083;&#1080;&#1089;" TargetMode="External"/><Relationship Id="rId5" Type="http://schemas.openxmlformats.org/officeDocument/2006/relationships/hyperlink" Target="https://ru.wikipedia.org/wiki/&#1060;&#1080;&#1075;&#1091;&#1088;&#1085;&#1086;&#1077;_&#1082;&#1072;&#1090;&#1072;&#1085;&#1080;&#1077;" TargetMode="External"/><Relationship Id="rId6" Type="http://schemas.openxmlformats.org/officeDocument/2006/relationships/hyperlink" Target="https://ru.wikipedia.org/wiki/&#1051;&#1080;&#1087;&#1085;&#1080;&#1094;&#1082;&#1072;&#1103;,_&#1070;&#1083;&#1080;&#1103;_&#1042;&#1103;&#1095;&#1077;&#1089;&#1083;&#1072;&#1074;&#1086;&#1074;&#1085;&#1072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5;,_&#1042;&#1080;&#1082;&#1090;&#1086;&#1088;" TargetMode="External"/><Relationship Id="rId2" Type="http://schemas.openxmlformats.org/officeDocument/2006/relationships/hyperlink" Target="https://ru.wikipedia.org/wiki/&#1064;&#1086;&#1088;&#1090;-&#1090;&#1088;&#1077;&#1082;_&#1085;&#1072;_&#1054;&#1083;&#1080;&#1084;&#1087;&#1080;&#1081;&#1089;&#1082;&#1080;&#1093;_&#1080;&#1075;&#1088;&#1072;&#1093;" TargetMode="External"/><Relationship Id="rId3" Type="http://schemas.openxmlformats.org/officeDocument/2006/relationships/hyperlink" Target="https://ru.wikipedia.org/wiki/&#1058;&#1088;&#1077;&#1090;&#1100;&#1103;&#1082;&#1086;&#1074;,_&#1040;&#1083;&#1077;&#1082;&#1089;&#1072;&#1085;&#1076;&#1088;_&#1042;&#1083;&#1072;&#1076;&#1080;&#1084;&#1080;&#1088;&#1086;&#1074;&#1080;&#1095;_(&#1089;&#1082;&#1077;&#1083;&#1077;&#1090;&#1086;&#1085;&#1080;&#1089;&#1090;)" TargetMode="External"/><Relationship Id="rId4" Type="http://schemas.openxmlformats.org/officeDocument/2006/relationships/hyperlink" Target="https://ru.wikipedia.org/wiki/&#1057;&#1082;&#1077;&#1083;&#1077;&#1090;&#1086;&#1085;_&#1085;&#1072;_&#1054;&#1083;&#1080;&#1084;&#1087;&#1080;&#1081;&#1089;&#1082;&#1080;&#1093;_&#1080;&#1075;&#1088;&#1072;&#1093;" TargetMode="External"/><Relationship Id="rId5" Type="http://schemas.openxmlformats.org/officeDocument/2006/relationships/hyperlink" Target="https://ru.wikipedia.org/wiki/&#1047;&#1091;&#1073;&#1082;&#1086;&#1074;,_&#1040;&#1083;&#1077;&#1082;&#1089;&#1072;&#1085;&#1076;&#1088;_&#1070;&#1088;&#1100;&#1077;&#1074;&#1080;&#1095;" TargetMode="External"/><Relationship Id="rId6" Type="http://schemas.openxmlformats.org/officeDocument/2006/relationships/hyperlink" Target="https://ru.wikipedia.org/wiki/&#1042;&#1086;&#1077;&#1074;&#1086;&#1076;&#1072;,_&#1040;&#1083;&#1077;&#1082;&#1089;&#1077;&#1081;_&#1048;&#1074;&#1072;&#1085;&#1086;&#1074;&#1080;&#1095;" TargetMode="External"/><Relationship Id="rId7" Type="http://schemas.openxmlformats.org/officeDocument/2006/relationships/hyperlink" Target="https://ru.wikipedia.org/wiki/&#1041;&#1086;&#1073;&#1089;&#1083;&#1077;&#1081;" TargetMode="External"/><Relationship Id="rId8" Type="http://schemas.openxmlformats.org/officeDocument/2006/relationships/hyperlink" Target="https://ru.wikipedia.org/wiki/&#1041;&#1086;&#1073;&#1089;&#1083;&#1077;&#1081;_&#1085;&#1072;_&#1079;&#1080;&#1084;&#1085;&#1080;&#1093;_&#1054;&#1083;&#1080;&#1084;&#1087;&#1080;&#1081;&#1089;&#1082;&#1080;&#1093;_&#1080;&#1075;&#1088;&#1072;&#1093;_2014_&#8212;_&#1076;&#1074;&#1086;&#1081;&#1082;&#1080;_(&#1084;&#1091;&#1078;&#1095;&#1080;&#1085;&#1099;)" TargetMode="External"/><Relationship Id="rId9" Type="http://schemas.openxmlformats.org/officeDocument/2006/relationships/hyperlink" Target="https://ru.wikipedia.org/wiki/&#1047;&#1080;&#1084;&#1085;&#1080;&#1077;_&#1054;&#1083;&#1080;&#1084;&#1087;&#1080;&#1081;&#1089;&#1082;&#1080;&#1077;_&#1080;&#1075;&#1088;&#1099;_1988" TargetMode="External"/><Relationship Id="rId10" Type="http://schemas.openxmlformats.org/officeDocument/2006/relationships/hyperlink" Target="https://ru.wikipedia.org/wiki/&#1059;&#1072;&#1081;&#1083;&#1076;,_&#1042;&#1080;&#1082;" TargetMode="External"/><Relationship Id="rId11" Type="http://schemas.openxmlformats.org/officeDocument/2006/relationships/hyperlink" Target="https://ru.wikipedia.org/wiki/&#1057;&#1085;&#1086;&#1091;&#1073;&#1086;&#1088;&#1076;_&#1085;&#1072;_&#1054;&#1083;&#1080;&#1084;&#1087;&#1080;&#1081;&#1089;&#1082;&#1080;&#1093;_&#1080;&#1075;&#1088;&#1072;&#1093;" TargetMode="External"/><Relationship Id="rId12" Type="http://schemas.openxmlformats.org/officeDocument/2006/relationships/hyperlink" Target="https://ru.wikipedia.org/wiki/&#1057;&#1083;&#1072;&#1083;&#1086;&#1084;_(&#1089;&#1085;&#1086;&#1091;&#1073;&#1086;&#1088;&#1076;)" TargetMode="External"/><Relationship Id="rId13" Type="http://schemas.openxmlformats.org/officeDocument/2006/relationships/hyperlink" Target="https://ru.wikipedia.org/wiki/&#1057;&#1086;&#1090;&#1085;&#1080;&#1082;&#1086;&#1074;&#1072;,_&#1040;&#1076;&#1077;&#1083;&#1080;&#1085;&#1072;_&#1044;&#1084;&#1080;&#1090;&#1088;&#1080;&#1077;&#1074;&#1085;&#1072;" TargetMode="External"/><Relationship Id="rId14" Type="http://schemas.openxmlformats.org/officeDocument/2006/relationships/hyperlink" Target="https://ru.wikipedia.org/wiki/&#1046;&#1077;&#1085;&#1089;&#1082;&#1086;&#1077;_&#1086;&#1076;&#1080;&#1085;&#1086;&#1095;&#1085;&#1086;&#1077;_&#1092;&#1080;&#1075;&#1091;&#1088;&#1085;&#1086;&#1077;_&#1082;&#1072;&#1090;&#1072;&#1085;&#1080;&#1077;" TargetMode="External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4;&#1086;&#1088;&#1090;-&#1090;&#1088;&#1077;&#1082;" TargetMode="External"/><Relationship Id="rId2" Type="http://schemas.openxmlformats.org/officeDocument/2006/relationships/hyperlink" Target="https://ru.wikipedia.org/wiki/&#1057;&#1077;&#1084;&#1105;&#1085;_&#1045;&#1083;&#1080;&#1089;&#1090;&#1088;&#1072;&#1090;&#1086;&#1074;" TargetMode="External"/><Relationship Id="rId3" Type="http://schemas.openxmlformats.org/officeDocument/2006/relationships/hyperlink" Target="https://ru.wikipedia.org/wiki/&#1043;&#1088;&#1080;&#1075;&#1086;&#1088;&#1100;&#1077;&#1074;,_&#1042;&#1083;&#1072;&#1076;&#1080;&#1084;&#1080;&#1088;_&#1042;&#1080;&#1082;&#1090;&#1086;&#1088;&#1086;&#1074;&#1080;&#1095;_(&#1082;&#1086;&#1085;&#1100;&#1082;&#1086;&#1073;&#1077;&#1078;&#1077;&#1094;)" TargetMode="External"/><Relationship Id="rId4" Type="http://schemas.openxmlformats.org/officeDocument/2006/relationships/hyperlink" Target="https://ru.wikipedia.org/wiki/&#1056;&#1091;&#1089;&#1083;&#1072;&#1085;_&#1047;&#1072;&#1093;&#1072;&#1088;&#1086;&#1074;" TargetMode="External"/><Relationship Id="rId5" Type="http://schemas.openxmlformats.org/officeDocument/2006/relationships/hyperlink" Target="https://ru.wikipedia.org/wiki/&#1055;&#1072;&#1088;&#1072;&#1083;&#1083;&#1077;&#1083;&#1100;&#1085;&#1099;&#1081;_&#1089;&#1083;&#1072;&#1083;&#1086;&#1084;" TargetMode="External"/><Relationship Id="rId6" Type="http://schemas.openxmlformats.org/officeDocument/2006/relationships/hyperlink" Target="https://ru.wikipedia.org/wiki/&#1042;&#1086;&#1083;&#1082;&#1086;&#1074;,_&#1040;&#1083;&#1077;&#1082;&#1089;&#1077;&#1081;_&#1040;&#1085;&#1072;&#1090;&#1086;&#1083;&#1100;&#1077;&#1074;&#1080;&#1095;" TargetMode="External"/><Relationship Id="rId7" Type="http://schemas.openxmlformats.org/officeDocument/2006/relationships/hyperlink" Target="https://ru.wikipedia.org/wiki/&#1059;&#1089;&#1090;&#1102;&#1075;&#1086;&#1074;,_&#1045;&#1074;&#1075;&#1077;&#1085;&#1080;&#1081;_&#1056;&#1086;&#1084;&#1072;&#1085;&#1086;&#1074;&#1080;&#1095;" TargetMode="External"/><Relationship Id="rId8" Type="http://schemas.openxmlformats.org/officeDocument/2006/relationships/hyperlink" Target="https://ru.wikipedia.org/wiki/&#1052;&#1072;&#1083;&#1099;&#1096;&#1082;&#1086;,_&#1044;&#1084;&#1080;&#1090;&#1088;&#1080;&#1081;_&#1042;&#1083;&#1072;&#1076;&#1080;&#1084;&#1080;&#1088;&#1086;&#1074;&#1080;&#1095;" TargetMode="External"/><Relationship Id="rId9" Type="http://schemas.openxmlformats.org/officeDocument/2006/relationships/hyperlink" Target="https://ru.wikipedia.org/wiki/&#1064;&#1080;&#1087;&#1091;&#1083;&#1080;&#1085;,_&#1040;&#1085;&#1090;&#1086;&#1085;_&#1042;&#1083;&#1072;&#1076;&#1080;&#1084;&#1080;&#1088;&#1086;&#1074;&#1080;&#1095;" TargetMode="External"/><Relationship Id="rId10" Type="http://schemas.openxmlformats.org/officeDocument/2006/relationships/hyperlink" Target="https://ru.wikipedia.org/wiki/&#1041;&#1080;&#1072;&#1090;&#1083;&#1086;&#1085;_&#1085;&#1072;_&#1079;&#1080;&#1084;&#1085;&#1080;&#1093;_&#1054;&#1083;&#1080;&#1084;&#1087;&#1080;&#1081;&#1089;&#1082;&#1080;&#1093;_&#1080;&#1075;&#1088;&#1072;&#1093;_2014_&#8212;_&#1101;&#1089;&#1090;&#1072;&#1092;&#1077;&#1090;&#1072;_(&#1084;&#1091;&#1078;&#1095;&#1080;&#1085;&#1099;)" TargetMode="External"/><Relationship Id="rId11" Type="http://schemas.openxmlformats.org/officeDocument/2006/relationships/hyperlink" Target="https://ru.wikipedia.org/wiki/&#1069;&#1089;&#1090;&#1072;&#1092;&#1077;&#1090;&#1072;_(&#1073;&#1080;&#1072;&#1090;&#1083;&#1086;&#1085;)" TargetMode="External"/><Relationship Id="rId12" Type="http://schemas.openxmlformats.org/officeDocument/2006/relationships/hyperlink" Target="https://ru.wikipedia.org/wiki/&#1041;&#1080;&#1072;&#1090;&#1083;&#1086;&#1085;_&#1085;&#1072;_&#1079;&#1080;&#1084;&#1085;&#1080;&#1093;_&#1054;&#1083;&#1080;&#1084;&#1087;&#1080;&#1081;&#1089;&#1082;&#1080;&#1093;_&#1080;&#1075;&#1088;&#1072;&#1093;_1988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7;&#1075;&#1082;&#1086;&#1074;,_&#1040;&#1083;&#1077;&#1082;&#1089;&#1072;&#1085;&#1076;&#1088;_&#1043;&#1077;&#1085;&#1085;&#1072;&#1076;&#1100;&#1077;&#1074;&#1080;&#1095;" TargetMode="External"/><Relationship Id="rId2" Type="http://schemas.openxmlformats.org/officeDocument/2006/relationships/hyperlink" Target="https://ru.wikipedia.org/wiki/&#1042;&#1099;&#1083;&#1077;&#1075;&#1078;&#1072;&#1085;&#1080;&#1085;,_&#1052;&#1072;&#1082;&#1089;&#1080;&#1084;_&#1052;&#1080;&#1093;&#1072;&#1081;&#1083;&#1086;&#1074;&#1080;&#1095;" TargetMode="External"/><Relationship Id="rId3" Type="http://schemas.openxmlformats.org/officeDocument/2006/relationships/hyperlink" Target="https://ru.wikipedia.org/wiki/&#1063;&#1077;&#1088;&#1085;&#1086;&#1091;&#1089;&#1086;&#1074;,_&#1048;&#1083;&#1100;&#1103;_&#1043;&#1088;&#1080;&#1075;&#1086;&#1088;&#1100;&#1077;&#1074;&#1080;&#1095;" TargetMode="External"/><Relationship Id="rId4" Type="http://schemas.openxmlformats.org/officeDocument/2006/relationships/hyperlink" Target="https://ru.wikipedia.org/wiki/&#1051;&#1099;&#1078;&#1085;&#1099;&#1077;_&#1075;&#1086;&#1085;&#1082;&#1080;_&#1085;&#1072;_&#1079;&#1080;&#1084;&#1085;&#1080;&#1093;_&#1054;&#1083;&#1080;&#1084;&#1087;&#1080;&#1081;&#1089;&#1082;&#1080;&#1093;_&#1080;&#1075;&#1088;&#1072;&#1093;_2014_&#8212;_&#1084;&#1072;&#1089;&#1089;-&#1089;&#1090;&#1072;&#1088;&#1090;_&#1085;&#1072;_50_&#1082;&#1084;_&#1089;&#1074;&#1086;&#1073;&#1086;&#1076;&#1085;&#1099;&#1084;_&#1089;&#1090;&#1080;&#1083;&#1077;&#1084;_(&#1084;&#1091;&#1078;&#1095;&#1080;&#1085;&#1099;)" TargetMode="External"/><Relationship Id="rId5" Type="http://schemas.openxmlformats.org/officeDocument/2006/relationships/hyperlink" Target="https://ru.wikipedia.org/wiki/&#1047;&#1091;&#1073;&#1082;&#1086;&#1074;,_&#1040;&#1083;&#1077;&#1082;&#1089;&#1072;&#1085;&#1076;&#1088;_&#1070;&#1088;&#1100;&#1077;&#1074;&#1080;&#1095;" TargetMode="External"/><Relationship Id="rId6" Type="http://schemas.openxmlformats.org/officeDocument/2006/relationships/hyperlink" Target="https://ru.wikipedia.org/wiki/&#1053;&#1077;&#1075;&#1086;&#1076;&#1072;&#1081;&#1083;&#1086;,_&#1040;&#1083;&#1077;&#1082;&#1089;&#1077;&#1081;_&#1040;&#1083;&#1077;&#1082;&#1089;&#1072;&#1085;&#1076;&#1088;&#1086;&#1074;&#1080;&#1095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новы истории физической культуры, этапы ее развития в России, вклад российских спортсменов и развитие международного олимпийск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Organization Chart 5"/>
          <p:cNvGrpSpPr/>
          <p:nvPr/>
        </p:nvGrpSpPr>
        <p:grpSpPr>
          <a:xfrm>
            <a:off x="324000" y="476280"/>
            <a:ext cx="8819280" cy="5543280"/>
            <a:chOff x="324000" y="476280"/>
            <a:chExt cx="8819280" cy="5543280"/>
          </a:xfrm>
        </p:grpSpPr>
        <p:cxnSp>
          <p:nvCxnSpPr>
            <p:cNvPr id="190" name="_s6148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722200" y="1703520"/>
              <a:ext cx="1109160" cy="308736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49"/>
            <p:cNvCxnSpPr>
              <a:stCxn id="194" idx="0"/>
              <a:endCxn id="192" idx="2"/>
            </p:cNvCxnSpPr>
            <p:nvPr/>
          </p:nvCxnSpPr>
          <p:spPr>
            <a:xfrm flipV="1">
              <a:off x="4733280" y="2692800"/>
              <a:ext cx="3240" cy="110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0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635560" y="1703880"/>
              <a:ext cx="1109160" cy="308736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6151"/>
            <p:cNvSpPr/>
            <p:nvPr/>
          </p:nvSpPr>
          <p:spPr>
            <a:xfrm>
              <a:off x="3410640" y="47628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итет России бы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здан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1989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6152"/>
            <p:cNvSpPr/>
            <p:nvPr/>
          </p:nvSpPr>
          <p:spPr>
            <a:xfrm>
              <a:off x="32400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аралимпийские иг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одятс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960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нные в Моск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980г Игры бы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свяще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2-й Олимпиад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6153"/>
            <p:cNvSpPr/>
            <p:nvPr/>
          </p:nvSpPr>
          <p:spPr>
            <a:xfrm>
              <a:off x="341064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первые с 1912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ртсмены наш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раны выступали по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оссийским флаг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996г на Игр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6 Олимпиад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Атлант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6154"/>
            <p:cNvSpPr/>
            <p:nvPr/>
          </p:nvSpPr>
          <p:spPr>
            <a:xfrm>
              <a:off x="649764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едставители М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ля Российск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едерации после 2004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италий Смирнов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амильТарпищев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лександр Поп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гры в Древней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907560"/>
            <a:ext cx="813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776 г. до н. э.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лимпийский праздник проводился каждые 4 года в местечке Олим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Олимпийские игры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портивные сост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Олимпионик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бедитель состязаний на О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Элланодики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уд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 участию в игра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не допускались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рабы, варвары , жен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аво принимать участие в ДОИ имели только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вободные греки муж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одолжительность античных Игр Олимпиады изменялась и к 468г. до н.э. достигла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776 г. до н. э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атлеты состязались в беге на одну стадию (192м 27 см)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победитель ОИ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Короибос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8000" y="4759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Феодос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Римский император в 394 г. н.э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. – запретил олимпийские сост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Чемпионом ОИ был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честь афинского воина Филипидиса, принесшего в Афины весть о победе над персами, во время современных игр Олимпиады проводятся соревнования в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арафоне, дистанция 42 км19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Олимпийский чемпион победивший в беге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Спирос Лу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Играх 1908г.в Лондоне неудача постигла участника бега на марафонской дистанции – он пересек линию финиша, но медаль чемпиона ему не вручили: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етри, после падения, зрители и судьи помогли подняться и пересечь линию фини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360" y="549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Сент-Луисе в марафонской дистанции победил американец Лорде. После вручения золотой медали он был ее лишен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большую часть дистанции проехал на ма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О.И. в городе Париже 1900 году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лимпийцам не вручали золотые ме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чемпион в истории современных О.И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Джеймс Конн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ибольшее количество золотых медалей на одной Олимпиаде завоевал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Марк Спитц (7 золотых медалей в плавании Олимпиада в Мюнх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ибольшее количество золотых медалей по 9 в современных Играх олимпиад завоевали: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ааво Нурми, Лариса Латынина, Марк Спитц, Карл Лью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9360" y="53172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203640" y="542880"/>
            <a:ext cx="2592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XII Олимпи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н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ркие. Зимние. Тво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62440" y="2781360"/>
            <a:ext cx="22899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лисма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 медвежон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йка, Леопар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ик и Снежи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203640" y="2760840"/>
            <a:ext cx="25923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игр пополн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шестью новыми видами соревн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597000" y="2938320"/>
            <a:ext cx="22856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ми видами ст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упстай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ристай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упстайл в сноубор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араллельный слал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оубор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700360" y="5167440"/>
            <a:ext cx="36003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Игр увелич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2 видов соревн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Сочи разыграно буде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тов наград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95 Росс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-7920" y="5167440"/>
            <a:ext cx="29178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6 вид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женские прыжки на лыж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 трамплина, смешанную эстафе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биатлоне, командное фигур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тание, эстафету в санном спор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 лыжный хаф-пайп у мужчин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 женщ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МЕНОСЦЫ СБОРНОЙ РОСС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14200" y="1197000"/>
          <a:ext cx="8750520" cy="4022640"/>
        </p:xfrm>
        <a:graphic>
          <a:graphicData uri="http://schemas.openxmlformats.org/drawingml/2006/table">
            <a:tbl>
              <a:tblPr/>
              <a:tblGrid>
                <a:gridCol w="1749600"/>
                <a:gridCol w="720720"/>
                <a:gridCol w="2368440"/>
                <a:gridCol w="1614600"/>
                <a:gridCol w="22971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на Иг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лехам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 Чеп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 и 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Каре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Прокурор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Лавро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д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т-Лейк-Си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Прокур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Поп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митрий Дороф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ь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Кирил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кет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кув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Моро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кк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нд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я Шарап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н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Зуб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с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, 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ный зачет Лондон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341360"/>
          <a:ext cx="8578800" cy="2490840"/>
        </p:xfrm>
        <a:graphic>
          <a:graphicData uri="http://schemas.openxmlformats.org/drawingml/2006/table">
            <a:tbl>
              <a:tblPr/>
              <a:tblGrid>
                <a:gridCol w="599760"/>
                <a:gridCol w="2291040"/>
                <a:gridCol w="1141200"/>
                <a:gridCol w="1716120"/>
                <a:gridCol w="1714680"/>
                <a:gridCol w="1116000"/>
              </a:tblGrid>
              <a:tr h="64404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Всего меда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 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 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 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 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5"/>
                        </a:rPr>
                        <a:t> 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2" name="Picture 4" descr="http://london2012.rsport.ru/i/_olympics/layout/medals-gold.png"/>
          <p:cNvPicPr/>
          <p:nvPr/>
        </p:nvPicPr>
        <p:blipFill>
          <a:blip r:embed="rId6"/>
          <a:stretch/>
        </p:blipFill>
        <p:spPr>
          <a:xfrm>
            <a:off x="132084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london2012.rsport.ru/i/_olympics/layout/medals-silver.png"/>
          <p:cNvPicPr/>
          <p:nvPr/>
        </p:nvPicPr>
        <p:blipFill>
          <a:blip r:embed="rId7"/>
          <a:stretch/>
        </p:blipFill>
        <p:spPr>
          <a:xfrm>
            <a:off x="141300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london2012.rsport.ru/i/_olympics/layout/medals-bronze.png"/>
          <p:cNvPicPr/>
          <p:nvPr/>
        </p:nvPicPr>
        <p:blipFill>
          <a:blip r:embed="rId8"/>
          <a:stretch/>
        </p:blipFill>
        <p:spPr>
          <a:xfrm>
            <a:off x="150480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5" name="DefaultOcx" descr=""/>
          <p:cNvPicPr/>
          <p:nvPr/>
        </p:nvPicPr>
        <p:blipFill>
          <a:blip r:embed="rId9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ный зачет Сочи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1557360"/>
          <a:ext cx="8820000" cy="2536920"/>
        </p:xfrm>
        <a:graphic>
          <a:graphicData uri="http://schemas.openxmlformats.org/drawingml/2006/table">
            <a:tbl>
              <a:tblPr/>
              <a:tblGrid>
                <a:gridCol w="2573280"/>
                <a:gridCol w="2571840"/>
                <a:gridCol w="919080"/>
                <a:gridCol w="919080"/>
                <a:gridCol w="917640"/>
                <a:gridCol w="919080"/>
              </a:tblGrid>
              <a:tr h="880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5"/>
                        </a:rPr>
                        <a:t>Нидерл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8920" y="1125360"/>
            <a:ext cx="88203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Саночник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Альберт Демченко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ял участие в своих седьмых подряд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Олимпийских игра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: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1992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1994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1998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2002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2006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2010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2014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Он установил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рекорд по количеству участий в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зимних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 Игра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истории Олимпийских игр. В тот же день это достижение повторил японски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прыгун с трамплин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5"/>
              </a:rPr>
              <a:t>Нориаки Касай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который участвовал в тех же семи Олимпиадах, что и Демчен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74320" y="1341000"/>
            <a:ext cx="85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Евгений Плющенко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в золото во впервые включённых в олимпийскую программу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командных соревнования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повторил рекорд 82-летней давности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швед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Йиллиса Графстрём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о количеству олимпийских наград в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фигурном катании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по 4). Золото 15-летне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Юлии Липницкой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тех же командных соревнованиях сделало её самой юной чемпионкой зимних Игр в истории России (ранее этого не удавалось никому моложе 20 л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3188520" y="47628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Organization Chart 5"/>
          <p:cNvGrpSpPr/>
          <p:nvPr/>
        </p:nvGrpSpPr>
        <p:grpSpPr>
          <a:xfrm>
            <a:off x="108000" y="476280"/>
            <a:ext cx="8856000" cy="6119280"/>
            <a:chOff x="108000" y="476280"/>
            <a:chExt cx="8856000" cy="61192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73440" y="1985040"/>
              <a:ext cx="1224360" cy="31003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5640" y="2923200"/>
              <a:ext cx="3240" cy="122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374200" y="1985400"/>
              <a:ext cx="1224360" cy="31003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07600" y="47628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Древняя Гре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Олимпиад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1080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ерми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«Олимпиад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Древней Гре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етырехлет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иод межд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и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076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гры Олимпи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аздновали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территор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орода-поли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ли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3072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енеров называ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гимнаста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летов, нанесши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мертельные ра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пернику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изгоня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о стадио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964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5 февраля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Виктор А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в забег на дистанции 1000 метров, принёс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шорт-трек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В этот же день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Александр Третья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завоевал первую в истории Росс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скелетон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7 февраля экипаж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Александра Зуб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я Воеводы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ёс России первое золото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бобсле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двойк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СССР выиграл одно золото в бобслее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1988 году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9 февраля сноубордист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Вик Уайлд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ыиграл для России первую в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сноуборд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дисциплине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параллельный гигантский слалом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0 февраля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Аделина Сотни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есла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женском одиночном фигурном катании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на Олимпийски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1 февраля Виктор Ан выиграл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шорт-трек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на дистанции 500 метров. Получасом позже Ан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Семен Елистрат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Владимир Григорье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Руслан Захар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одержали победу в эстафете на дистанции 500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2 февраля Вик Уайлд завоевал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параллельном слалом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В тот же день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й Вол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Евгений Устюг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Дмитрий Малышко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Антон Шипули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ыиграл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мужскую эстафету 4×7,5 км в биатлон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принеся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биатлонной эстафет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до этого последний раз только СССР выигрывал мужскую эстафет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1988 году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3 февраля полный комплект медалей завоевали российские лыжник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Александр Лег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Максим Вылегжани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Илья Черноус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о результатам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гонки на 50 км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впервые в истории весь мужской пьедестал в лыжном марафоне заняли спортсмены из одной страны). В тот же день экипаж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Александра Зуб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состоящий из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я Негодайло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Алексея Воеводы 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и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Дмитрия Трунен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л золото в бобслее на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четвёрк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впервые в истории СССР и России была выиграна медаль в бобслее-четвёр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Возрождение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Organization Chart 3"/>
          <p:cNvGrpSpPr/>
          <p:nvPr/>
        </p:nvGrpSpPr>
        <p:grpSpPr>
          <a:xfrm>
            <a:off x="179280" y="907920"/>
            <a:ext cx="8784720" cy="5760000"/>
            <a:chOff x="179280" y="907920"/>
            <a:chExt cx="8784720" cy="5760000"/>
          </a:xfrm>
        </p:grpSpPr>
        <p:cxnSp>
          <p:nvCxnSpPr>
            <p:cNvPr id="117" name="_s2052"/>
            <p:cNvCxnSpPr>
              <a:stCxn id="118" idx="0"/>
              <a:endCxn id="119" idx="2"/>
            </p:cNvCxnSpPr>
            <p:nvPr/>
          </p:nvCxnSpPr>
          <p:spPr>
            <a:xfrm flipV="1">
              <a:off x="7646040" y="450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3"/>
            <p:cNvCxnSpPr>
              <a:stCxn id="121" idx="0"/>
              <a:endCxn id="122" idx="2"/>
            </p:cNvCxnSpPr>
            <p:nvPr/>
          </p:nvCxnSpPr>
          <p:spPr>
            <a:xfrm flipV="1">
              <a:off x="4571280" y="450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054"/>
            <p:cNvCxnSpPr>
              <a:stCxn id="119" idx="0"/>
              <a:endCxn id="124" idx="2"/>
            </p:cNvCxnSpPr>
            <p:nvPr/>
          </p:nvCxnSpPr>
          <p:spPr>
            <a:xfrm flipV="1" rot="16200000">
              <a:off x="5748480" y="1170000"/>
              <a:ext cx="720720" cy="3075480"/>
            </a:xfrm>
            <a:prstGeom prst="bentConnector3">
              <a:avLst>
                <a:gd name="adj1" fmla="val 16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5"/>
            <p:cNvCxnSpPr>
              <a:stCxn id="122" idx="0"/>
              <a:endCxn id="124" idx="2"/>
            </p:cNvCxnSpPr>
            <p:nvPr/>
          </p:nvCxnSpPr>
          <p:spPr>
            <a:xfrm flipV="1">
              <a:off x="4571280" y="234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24" idx="2"/>
            </p:cNvCxnSpPr>
            <p:nvPr/>
          </p:nvCxnSpPr>
          <p:spPr>
            <a:xfrm flipH="1" flipV="1" rot="5400000">
              <a:off x="2673720" y="1170000"/>
              <a:ext cx="720720" cy="3075480"/>
            </a:xfrm>
            <a:prstGeom prst="bentConnector3">
              <a:avLst>
                <a:gd name="adj1" fmla="val 16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254040" y="90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Пьер де Куберт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1863-1937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французск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обществен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дея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8"/>
            <p:cNvSpPr/>
            <p:nvPr/>
          </p:nvSpPr>
          <p:spPr>
            <a:xfrm>
              <a:off x="17928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выступает во всемир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звестном парижск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ниверситете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Конгр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озрож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х игр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9"/>
            <p:cNvSpPr/>
            <p:nvPr/>
          </p:nvSpPr>
          <p:spPr>
            <a:xfrm>
              <a:off x="325404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2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чал работ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еждународ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тлетический конгресс,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Франция, Великобритании. США, Росси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Швеции, Испании, Италии, Бельги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идерландов и Греции, а Австралия и Япо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держали идею созыва конгресса. 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0"/>
            <p:cNvSpPr/>
            <p:nvPr/>
          </p:nvSpPr>
          <p:spPr>
            <a:xfrm>
              <a:off x="632880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 конгрессе был соз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ОК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из представителей 12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вый президент МОК бы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реческий поэ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метриус Викелас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61"/>
            <p:cNvSpPr/>
            <p:nvPr/>
          </p:nvSpPr>
          <p:spPr>
            <a:xfrm>
              <a:off x="3254040" y="522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 июня 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 конгресс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ыло принято решение прове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вые Олимпийские игр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временности 1896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их родине - в столице Гре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Афин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2"/>
            <p:cNvSpPr/>
            <p:nvPr/>
          </p:nvSpPr>
          <p:spPr>
            <a:xfrm>
              <a:off x="6328800" y="522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 числе первых 13 членов МО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ыл педагог генерал А. Бутовск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убертен считал Бутовского свои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единомышленнико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994г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международный год спорт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 олимпийского идеала)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00-лет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юбилей олимпий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Олимпийские принципы, традиции,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rganization Chart 3"/>
          <p:cNvGrpSpPr/>
          <p:nvPr/>
        </p:nvGrpSpPr>
        <p:grpSpPr>
          <a:xfrm>
            <a:off x="442800" y="1052640"/>
            <a:ext cx="8521200" cy="5615280"/>
            <a:chOff x="442800" y="1052640"/>
            <a:chExt cx="8521200" cy="5615280"/>
          </a:xfrm>
        </p:grpSpPr>
        <p:cxnSp>
          <p:nvCxnSpPr>
            <p:cNvPr id="130" name="_s2052"/>
            <p:cNvCxnSpPr>
              <a:stCxn id="131" idx="0"/>
              <a:endCxn id="132" idx="2"/>
            </p:cNvCxnSpPr>
            <p:nvPr/>
          </p:nvCxnSpPr>
          <p:spPr>
            <a:xfrm flipV="1">
              <a:off x="4703040" y="4561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53"/>
            <p:cNvCxnSpPr>
              <a:stCxn id="134" idx="0"/>
              <a:endCxn id="135" idx="2"/>
            </p:cNvCxnSpPr>
            <p:nvPr/>
          </p:nvCxnSpPr>
          <p:spPr>
            <a:xfrm flipV="1">
              <a:off x="1720440" y="4561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4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5843160" y="1315080"/>
              <a:ext cx="702360" cy="298296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5"/>
            <p:cNvCxnSpPr>
              <a:stCxn id="132" idx="0"/>
              <a:endCxn id="138" idx="2"/>
            </p:cNvCxnSpPr>
            <p:nvPr/>
          </p:nvCxnSpPr>
          <p:spPr>
            <a:xfrm flipV="1">
              <a:off x="4703040" y="2455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6"/>
            <p:cNvCxnSpPr>
              <a:stCxn id="135" idx="0"/>
              <a:endCxn id="138" idx="2"/>
            </p:cNvCxnSpPr>
            <p:nvPr/>
          </p:nvCxnSpPr>
          <p:spPr>
            <a:xfrm flipH="1" flipV="1" rot="5400000">
              <a:off x="2860920" y="1315440"/>
              <a:ext cx="702360" cy="298296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2057"/>
            <p:cNvSpPr/>
            <p:nvPr/>
          </p:nvSpPr>
          <p:spPr>
            <a:xfrm>
              <a:off x="3425040" y="105264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Олимпийская хартия</a:t>
              </a: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сновной закон всемир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движения, своего ро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конституция, свод основ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законов по которым живет мир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лимпийского спорта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44280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зм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едставляет собой философи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жизни. Соединяет спорт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ультурой и образовани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ремится к созданию обр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жиз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9"/>
            <p:cNvSpPr/>
            <p:nvPr/>
          </p:nvSpPr>
          <p:spPr>
            <a:xfrm>
              <a:off x="342504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Целью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зм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является становление спор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службу гармонично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звитию человека, с т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чтобы способствовать создани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ирового общест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60"/>
            <p:cNvSpPr/>
            <p:nvPr/>
          </p:nvSpPr>
          <p:spPr>
            <a:xfrm>
              <a:off x="640764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ада»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означает период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стоящий из четыре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следовательных лет,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тор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чинается в день открыт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етних олимпийских иг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оканчивается с открыт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ледующих летних иг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1"/>
            <p:cNvSpPr/>
            <p:nvPr/>
          </p:nvSpPr>
          <p:spPr>
            <a:xfrm>
              <a:off x="442800" y="5264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 ней изложены принцип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зма, правила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 проведения Олимпийских игр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стройство олимпий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2"/>
            <p:cNvSpPr/>
            <p:nvPr/>
          </p:nvSpPr>
          <p:spPr>
            <a:xfrm>
              <a:off x="3425040" y="5264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тические принципы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мысл в благородств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честности поведения спортсме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онятие гармонич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звития человек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льное те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 единственное развитие спортсмен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 менее важен разу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Organization Chart 2"/>
          <p:cNvGrpSpPr/>
          <p:nvPr/>
        </p:nvGrpSpPr>
        <p:grpSpPr>
          <a:xfrm>
            <a:off x="324000" y="457200"/>
            <a:ext cx="8568720" cy="6138720"/>
            <a:chOff x="324000" y="457200"/>
            <a:chExt cx="8568720" cy="6138720"/>
          </a:xfrm>
        </p:grpSpPr>
        <p:cxnSp>
          <p:nvCxnSpPr>
            <p:cNvPr id="142" name="_s3076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659920" y="1859760"/>
              <a:ext cx="1228320" cy="333324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3077"/>
            <p:cNvCxnSpPr>
              <a:stCxn id="146" idx="0"/>
              <a:endCxn id="144" idx="2"/>
            </p:cNvCxnSpPr>
            <p:nvPr/>
          </p:nvCxnSpPr>
          <p:spPr>
            <a:xfrm flipV="1" rot="16200000">
              <a:off x="4549320" y="2970360"/>
              <a:ext cx="1228320" cy="111168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3078"/>
            <p:cNvCxnSpPr>
              <a:stCxn id="148" idx="0"/>
              <a:endCxn id="144" idx="2"/>
            </p:cNvCxnSpPr>
            <p:nvPr/>
          </p:nvCxnSpPr>
          <p:spPr>
            <a:xfrm flipH="1" flipV="1" rot="5400000">
              <a:off x="3438360" y="2971080"/>
              <a:ext cx="1228320" cy="111096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9"/>
            <p:cNvCxnSpPr>
              <a:stCxn id="150" idx="0"/>
              <a:endCxn id="144" idx="2"/>
            </p:cNvCxnSpPr>
            <p:nvPr/>
          </p:nvCxnSpPr>
          <p:spPr>
            <a:xfrm flipH="1" flipV="1" rot="5400000">
              <a:off x="2327400" y="1860120"/>
              <a:ext cx="1228320" cy="333252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3080"/>
            <p:cNvSpPr/>
            <p:nvPr/>
          </p:nvSpPr>
          <p:spPr>
            <a:xfrm>
              <a:off x="3655800" y="45720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симв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едставляет собой пя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еплетенных колец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цетворяет един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яти континентов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тречу спортсмен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его ми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1"/>
            <p:cNvSpPr/>
            <p:nvPr/>
          </p:nvSpPr>
          <p:spPr>
            <a:xfrm>
              <a:off x="32400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дев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«Быстрее, выше, сильне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ыражает устрем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втором был священни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до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itius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Altius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Fori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2"/>
            <p:cNvSpPr/>
            <p:nvPr/>
          </p:nvSpPr>
          <p:spPr>
            <a:xfrm>
              <a:off x="254556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ая эмбл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5 колец с каким-нибуд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ругим элементо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мблема М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е кольц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 девиз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«Быстрее, выше, сильнее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Эмблема олимпий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митета России включе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3-цветное изображ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языка пламени, цвет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лага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3"/>
            <p:cNvSpPr/>
            <p:nvPr/>
          </p:nvSpPr>
          <p:spPr>
            <a:xfrm>
              <a:off x="476712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фл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дея Кубертена. МО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твердил ее в 1913г. Фла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ешено было подн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Играх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916г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Помеш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вая мировая война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лаг впервые поднят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920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закрытии представит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орода,  проводившего игр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дает президенту МОК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т-мэру города-организатор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 года флаг хранится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дании муниципалите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4"/>
            <p:cNvSpPr/>
            <p:nvPr/>
          </p:nvSpPr>
          <p:spPr>
            <a:xfrm>
              <a:off x="698868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ого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ождается от солнеч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учей у развалин храма Зев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Олимпии Кубертен в 1912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первые огонь зажгл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грах 1928г в Амстердам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 зимних -1952г. в Осл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Эстафета факелов вперв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стоялось в 1936г.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осковской олимпиаде ого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жигал олимпий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чемпион баскетболист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ергей Бел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                                                                                                    "/>
            <p:cNvPicPr/>
            <p:nvPr/>
          </p:nvPicPr>
          <p:blipFill>
            <a:blip r:embed="rId1"/>
            <a:srcRect l="27858" t="73741" r="27937" b="4724"/>
            <a:stretch/>
          </p:blipFill>
          <p:spPr>
            <a:xfrm>
              <a:off x="4140720" y="2417760"/>
              <a:ext cx="929880" cy="442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179280" y="476280"/>
            <a:ext cx="8713080" cy="5975280"/>
            <a:chOff x="179280" y="476280"/>
            <a:chExt cx="8713080" cy="5975280"/>
          </a:xfrm>
        </p:grpSpPr>
        <p:cxnSp>
          <p:nvCxnSpPr>
            <p:cNvPr id="153" name="_s41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462640" y="1938240"/>
              <a:ext cx="1195560" cy="3050280"/>
            </a:xfrm>
            <a:prstGeom prst="bentConnector3">
              <a:avLst>
                <a:gd name="adj1" fmla="val 9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4101"/>
            <p:cNvCxnSpPr>
              <a:stCxn id="157" idx="0"/>
              <a:endCxn id="155" idx="2"/>
            </p:cNvCxnSpPr>
            <p:nvPr/>
          </p:nvCxnSpPr>
          <p:spPr>
            <a:xfrm flipV="1">
              <a:off x="4535640" y="2865600"/>
              <a:ext cx="3960" cy="119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4102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413080" y="1938240"/>
              <a:ext cx="1195560" cy="3050280"/>
            </a:xfrm>
            <a:prstGeom prst="bentConnector3">
              <a:avLst>
                <a:gd name="adj1" fmla="val 9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4103"/>
            <p:cNvSpPr/>
            <p:nvPr/>
          </p:nvSpPr>
          <p:spPr>
            <a:xfrm>
              <a:off x="3228840" y="47628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лятва спортсмен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вый текст Кубертен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1913г.Впервые произнес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920г. Клятва «От имени все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сменов я обещаю, чт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ы будем участвовать в эт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грах, уважая и соблюд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авила, по которым о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водятся, в истин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ивном духе, во слав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а и во имя чес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воих команд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104"/>
            <p:cNvSpPr/>
            <p:nvPr/>
          </p:nvSpPr>
          <p:spPr>
            <a:xfrm>
              <a:off x="17928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лятва суд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лятва арбитров Игр п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едложению ОК ССС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ложена на Играх-68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ехико. Клятва «От име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сех судей и официа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иц я обещаю, что мы буд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полнять наши обяза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о время этих  Игр со все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спристрастностью, уваж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соблюдая правила, п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торым они проводятся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длинно спортивном дух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105"/>
            <p:cNvSpPr/>
            <p:nvPr/>
          </p:nvSpPr>
          <p:spPr>
            <a:xfrm>
              <a:off x="322884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алисман Иг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первые на играх в Мехико – появил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алисман 68 (ягуар), Москва 80(мишка)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ос-Анджелесе 84 (орленок), Сеуле 8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тигренок), Барселона 92 (пес), Атл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существо Иззи). Спортсмен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олельщики слегка суеверн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106"/>
            <p:cNvSpPr/>
            <p:nvPr/>
          </p:nvSpPr>
          <p:spPr>
            <a:xfrm>
              <a:off x="627840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е награ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ручают в каждом номере программы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бедителю и призерам: золотую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еребреные и бронзовую. Диплома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граждаются победители и призеры, 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астники занявшие 4-8 места в лич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командных соревнованиях. Дипло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памятные медали вручают вс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астникам и официальным лиц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манд. Орден учрежден в 1974г име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 степени: золотой и серебряны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 особые заслуги пер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лимпийским движение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Organization Chart 2"/>
          <p:cNvGrpSpPr/>
          <p:nvPr/>
        </p:nvGrpSpPr>
        <p:grpSpPr>
          <a:xfrm>
            <a:off x="108000" y="404640"/>
            <a:ext cx="8928360" cy="6264000"/>
            <a:chOff x="108000" y="404640"/>
            <a:chExt cx="8928360" cy="6264000"/>
          </a:xfrm>
        </p:grpSpPr>
        <p:cxnSp>
          <p:nvCxnSpPr>
            <p:cNvPr id="161" name="_s6148"/>
            <p:cNvCxnSpPr>
              <a:stCxn id="162" idx="1"/>
              <a:endCxn id="163" idx="2"/>
            </p:cNvCxnSpPr>
            <p:nvPr/>
          </p:nvCxnSpPr>
          <p:spPr>
            <a:xfrm rot="10800000">
              <a:off x="2763720" y="885600"/>
              <a:ext cx="727200" cy="554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49"/>
            <p:cNvCxnSpPr>
              <a:stCxn id="165" idx="0"/>
              <a:endCxn id="166" idx="2"/>
            </p:cNvCxnSpPr>
            <p:nvPr/>
          </p:nvCxnSpPr>
          <p:spPr>
            <a:xfrm flipV="1">
              <a:off x="6305760" y="5222520"/>
              <a:ext cx="7560" cy="241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50"/>
            <p:cNvCxnSpPr>
              <a:stCxn id="166" idx="1"/>
              <a:endCxn id="163" idx="2"/>
            </p:cNvCxnSpPr>
            <p:nvPr/>
          </p:nvCxnSpPr>
          <p:spPr>
            <a:xfrm rot="10800000">
              <a:off x="2763720" y="885600"/>
              <a:ext cx="885960" cy="409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6151"/>
            <p:cNvCxnSpPr>
              <a:stCxn id="169" idx="1"/>
              <a:endCxn id="163" idx="2"/>
            </p:cNvCxnSpPr>
            <p:nvPr/>
          </p:nvCxnSpPr>
          <p:spPr>
            <a:xfrm rot="10800000">
              <a:off x="2763720" y="885600"/>
              <a:ext cx="885960" cy="337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6152"/>
            <p:cNvCxnSpPr>
              <a:stCxn id="171" idx="1"/>
              <a:endCxn id="163" idx="2"/>
            </p:cNvCxnSpPr>
            <p:nvPr/>
          </p:nvCxnSpPr>
          <p:spPr>
            <a:xfrm rot="10800000">
              <a:off x="2763720" y="885600"/>
              <a:ext cx="885960" cy="265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6153"/>
            <p:cNvCxnSpPr>
              <a:stCxn id="173" idx="1"/>
              <a:endCxn id="163" idx="2"/>
            </p:cNvCxnSpPr>
            <p:nvPr/>
          </p:nvCxnSpPr>
          <p:spPr>
            <a:xfrm rot="10800000">
              <a:off x="2763720" y="885600"/>
              <a:ext cx="885960" cy="192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6154"/>
            <p:cNvCxnSpPr>
              <a:stCxn id="175" idx="1"/>
              <a:endCxn id="163" idx="2"/>
            </p:cNvCxnSpPr>
            <p:nvPr/>
          </p:nvCxnSpPr>
          <p:spPr>
            <a:xfrm rot="10800000">
              <a:off x="2763720" y="885600"/>
              <a:ext cx="885960" cy="120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55"/>
            <p:cNvCxnSpPr>
              <a:stCxn id="177" idx="1"/>
              <a:endCxn id="163" idx="2"/>
            </p:cNvCxnSpPr>
            <p:nvPr/>
          </p:nvCxnSpPr>
          <p:spPr>
            <a:xfrm rot="10800000">
              <a:off x="2763720" y="885600"/>
              <a:ext cx="885960" cy="4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6156"/>
            <p:cNvSpPr/>
            <p:nvPr/>
          </p:nvSpPr>
          <p:spPr>
            <a:xfrm>
              <a:off x="108000" y="40464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Президенты МОК в разные г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57"/>
            <p:cNvSpPr/>
            <p:nvPr/>
          </p:nvSpPr>
          <p:spPr>
            <a:xfrm>
              <a:off x="3649680" y="112716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метриус Викел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греческий общественный деятель и поэт. Посл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ведения игр в Афинах подал в отставку. (1894-1896г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158"/>
            <p:cNvSpPr/>
            <p:nvPr/>
          </p:nvSpPr>
          <p:spPr>
            <a:xfrm>
              <a:off x="3649680" y="185004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ьер де Кубертен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ранцузский общественный деятель. Проведены игр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7 Олимпиад. Автор ритуалов, эмблемы, клятвы.(1896-1924) почти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ле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6159"/>
            <p:cNvSpPr/>
            <p:nvPr/>
          </p:nvSpPr>
          <p:spPr>
            <a:xfrm>
              <a:off x="3649680" y="257292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нри де Байле-Латур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раф и спортсмен Бельгия. В 1906г организовал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ОК у себя на родине, был президентом до конца своих дней.(1925-1942)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6160"/>
            <p:cNvSpPr/>
            <p:nvPr/>
          </p:nvSpPr>
          <p:spPr>
            <a:xfrm>
              <a:off x="3649680" y="329580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игфрид Эдстрем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швед, инженер-электрик. Благодаря ему Игры1912г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шли успешно, организовал легкоатлетическую федерацию (1943-1952)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161"/>
            <p:cNvSpPr/>
            <p:nvPr/>
          </p:nvSpPr>
          <p:spPr>
            <a:xfrm>
              <a:off x="3649680" y="401868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вери Брендедж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США) лучший легкоатлет своей страны. Стал обладател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 золотого Олимпийского ордена. Борец за идеи олимпизма.(1952-1972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0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162"/>
            <p:cNvSpPr/>
            <p:nvPr/>
          </p:nvSpPr>
          <p:spPr>
            <a:xfrm>
              <a:off x="3649680" y="4741200"/>
              <a:ext cx="530712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айкл Килланин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рландский журналист, лорд, активно занимался пропаганд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а. Благодаря ему состоялись Игры в Москве. (1972-1980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 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63"/>
            <p:cNvSpPr/>
            <p:nvPr/>
          </p:nvSpPr>
          <p:spPr>
            <a:xfrm>
              <a:off x="3649680" y="5464080"/>
              <a:ext cx="530712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Хуан Антонио Самаранч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реформатор олимпийского движения. Игры в Калга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Сеуле 1988 прошли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пешно. (1980-2001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1 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64"/>
            <p:cNvSpPr/>
            <p:nvPr/>
          </p:nvSpPr>
          <p:spPr>
            <a:xfrm>
              <a:off x="3490920" y="6186960"/>
              <a:ext cx="554544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Жак Рогге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льгиец, врач, 2 чемпион мира по парусному спорту, участник 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лимпиад, инициатор проведения Европейских олимпийских фестивалей. (2001-201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3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М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556000" y="4051440"/>
            <a:ext cx="4152600" cy="27972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6"/>
          <p:cNvSpPr/>
          <p:nvPr/>
        </p:nvSpPr>
        <p:spPr>
          <a:xfrm>
            <a:off x="250920" y="76500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́мас Б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ятель немецкого и международного олимпийского движения, президент Международного олимпийского комитета с 10 сентября 2013 года, в прошлом — президент Олимпийской спортивной конфедерации Германии. Президент апелляционного комитета Спортивного арбитражного суда. В прошлом — фехтовальщик на рапирах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лимпийский чемпион 1976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ндном первенстве, чемпион мира 1977 года в командном перве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нию юрист, окончил университет Вюрцбурга. Свободно говорит, помимо родного немецкого, на французском, английском и испанском язы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Organization Chart 5"/>
          <p:cNvGrpSpPr/>
          <p:nvPr/>
        </p:nvGrpSpPr>
        <p:grpSpPr>
          <a:xfrm>
            <a:off x="0" y="476280"/>
            <a:ext cx="9143280" cy="6379560"/>
            <a:chOff x="0" y="476280"/>
            <a:chExt cx="9143280" cy="6379560"/>
          </a:xfrm>
        </p:grpSpPr>
        <p:cxnSp>
          <p:nvCxnSpPr>
            <p:cNvPr id="182" name="_s5124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533200" y="2065320"/>
              <a:ext cx="1276560" cy="3200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5125"/>
            <p:cNvCxnSpPr>
              <a:stCxn id="186" idx="0"/>
              <a:endCxn id="184" idx="2"/>
            </p:cNvCxnSpPr>
            <p:nvPr/>
          </p:nvCxnSpPr>
          <p:spPr>
            <a:xfrm flipV="1">
              <a:off x="4571280" y="3027600"/>
              <a:ext cx="3240" cy="127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5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2332800" y="2065320"/>
              <a:ext cx="1276560" cy="3200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5127"/>
            <p:cNvSpPr/>
            <p:nvPr/>
          </p:nvSpPr>
          <p:spPr>
            <a:xfrm>
              <a:off x="3200040" y="47628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Фигурист Никола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анин-Коломенкин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ал олимпийским1908 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4 Олимпийских игр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Лондо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128"/>
            <p:cNvSpPr/>
            <p:nvPr/>
          </p:nvSpPr>
          <p:spPr>
            <a:xfrm>
              <a:off x="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в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едставител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оссии в М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был генер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лекс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митриев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Бутовский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129"/>
            <p:cNvSpPr/>
            <p:nvPr/>
          </p:nvSpPr>
          <p:spPr>
            <a:xfrm>
              <a:off x="320004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зимних Олимпий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ах ССС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ебютирова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1956 г н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7 игр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Кортина д,Ампеццо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тал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130"/>
            <p:cNvSpPr/>
            <p:nvPr/>
          </p:nvSpPr>
          <p:spPr>
            <a:xfrm>
              <a:off x="640044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вая совет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ая чемпио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1952г. Хельсинк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инлянд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омашкова-Пономаре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тание дис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 Ю. Бахилина</cp:lastModifiedBy>
  <dcterms:modified xsi:type="dcterms:W3CDTF">2014-10-13T03:19:51Z</dcterms:modified>
  <cp:revision>41</cp:revision>
  <dc:subject/>
  <dc:title>PowerPoint Presentation</dc:title>
</cp:coreProperties>
</file>