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F5D71-8D2E-43C9-996A-354EEBF56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58DFB-5E04-4BBE-AF97-C24A3B209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46A7DB-68CA-405C-A2D6-BE6368608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7963F-0806-4E20-90D5-5F4EBBDD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49438-347C-48B1-A1E0-349EBF9E7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B781-4F53-4AFB-B081-B8D55EC4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3A59-2590-4DB5-BBB0-2BC461E6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CE9C-2CEB-46E6-90C7-93C95CC8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66AF7-9859-43D3-AB1E-69C96413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BFA0-11FE-42C2-8756-31E7ED37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2934-FCEC-4C5C-A60C-8B2D116B3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37613-E7AE-4DC3-8877-15CFF72F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CE765-9052-4996-9C72-A67F5A74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00AD-FF2E-44D3-A605-E76A8C99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D0EE6-580F-407E-9D5D-D7A8A8D82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2A6F-DC38-4E7E-8AED-CB23AC1C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A5FB2-98EB-455A-BD86-0DAAAD83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4E00D-658E-4772-A64D-F70D939E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B393A-7E7B-4F74-AAE3-CEF3E8D9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59160-C132-4596-BF85-B9B10BDD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98BC5-33CD-4183-82A1-AD90939D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09089E-C90B-4D35-B17A-88AF02A4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0E3F3-8706-4FF7-80DE-9A5A6F91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AE00-4540-47A8-AE89-2B4262F2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1F1D6-F573-4214-83E7-7B426191D1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4574-014B-426C-BE73-9FC59212AF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ondon2012.rsport.ru/london2012/medals/list/?country_id=441298496" TargetMode="External"/><Relationship Id="rId2" Type="http://schemas.openxmlformats.org/officeDocument/2006/relationships/hyperlink" Target="http://london2012.rsport.ru/london2012/medals/list/?country_id=441297373" TargetMode="External"/><Relationship Id="rId3" Type="http://schemas.openxmlformats.org/officeDocument/2006/relationships/hyperlink" Target="http://london2012.rsport.ru/london2012/medals/list/?country_id=581350902" TargetMode="External"/><Relationship Id="rId4" Type="http://schemas.openxmlformats.org/officeDocument/2006/relationships/hyperlink" Target="http://london2012.rsport.ru/london2012/medals/list/?country_id=441298235" TargetMode="External"/><Relationship Id="rId5" Type="http://schemas.openxmlformats.org/officeDocument/2006/relationships/hyperlink" Target="http://london2012.rsport.ru/london2012/medals/list/?country_id=441297734" TargetMode="External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sochi.snowrock.ru/country/russia" TargetMode="External"/><Relationship Id="rId2" Type="http://schemas.openxmlformats.org/officeDocument/2006/relationships/hyperlink" Target="http://sochi.snowrock.ru/country/norway" TargetMode="External"/><Relationship Id="rId3" Type="http://schemas.openxmlformats.org/officeDocument/2006/relationships/hyperlink" Target="http://sochi.snowrock.ru/country/canada" TargetMode="External"/><Relationship Id="rId4" Type="http://schemas.openxmlformats.org/officeDocument/2006/relationships/hyperlink" Target="http://sochi.snowrock.ru/country/usa" TargetMode="External"/><Relationship Id="rId5" Type="http://schemas.openxmlformats.org/officeDocument/2006/relationships/hyperlink" Target="http://sochi.snowrock.ru/country/netherlands" TargetMode="External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7;&#1072;&#1085;&#1085;&#1099;&#1081;_&#1089;&#1087;&#1086;&#1088;&#1090;" TargetMode="External"/><Relationship Id="rId2" Type="http://schemas.openxmlformats.org/officeDocument/2006/relationships/hyperlink" Target="https://ru.wikipedia.org/wiki/&#1044;&#1077;&#1084;&#1095;&#1077;&#1085;&#1082;&#1086;,_&#1040;&#1083;&#1100;&#1073;&#1077;&#1088;&#1090;_&#1052;&#1080;&#1093;&#1072;&#1081;&#1083;&#1086;&#1074;&#1080;&#1095;" TargetMode="External"/><Relationship Id="rId3" Type="http://schemas.openxmlformats.org/officeDocument/2006/relationships/hyperlink" Target="https://ru.wikipedia.org/wiki/&#1047;&#1080;&#1084;&#1085;&#1080;&#1077;_&#1054;&#1083;&#1080;&#1084;&#1087;&#1080;&#1081;&#1089;&#1082;&#1080;&#1077;_&#1080;&#1075;&#1088;&#1099;" TargetMode="External"/><Relationship Id="rId4" Type="http://schemas.openxmlformats.org/officeDocument/2006/relationships/hyperlink" Target="https://ru.wikipedia.org/wiki/&#1047;&#1080;&#1084;&#1085;&#1080;&#1077;_&#1054;&#1083;&#1080;&#1084;&#1087;&#1080;&#1081;&#1089;&#1082;&#1080;&#1077;_&#1080;&#1075;&#1088;&#1099;_1992" TargetMode="External"/><Relationship Id="rId5" Type="http://schemas.openxmlformats.org/officeDocument/2006/relationships/hyperlink" Target="https://ru.wikipedia.org/wiki/&#1047;&#1080;&#1084;&#1085;&#1080;&#1077;_&#1054;&#1083;&#1080;&#1084;&#1087;&#1080;&#1081;&#1089;&#1082;&#1080;&#1077;_&#1080;&#1075;&#1088;&#1099;_1994" TargetMode="External"/><Relationship Id="rId6" Type="http://schemas.openxmlformats.org/officeDocument/2006/relationships/hyperlink" Target="https://ru.wikipedia.org/wiki/&#1047;&#1080;&#1084;&#1085;&#1080;&#1077;_&#1054;&#1083;&#1080;&#1084;&#1087;&#1080;&#1081;&#1089;&#1082;&#1080;&#1077;_&#1080;&#1075;&#1088;&#1099;_1998" TargetMode="External"/><Relationship Id="rId7" Type="http://schemas.openxmlformats.org/officeDocument/2006/relationships/hyperlink" Target="https://ru.wikipedia.org/wiki/&#1047;&#1080;&#1084;&#1085;&#1080;&#1077;_&#1054;&#1083;&#1080;&#1084;&#1087;&#1080;&#1081;&#1089;&#1082;&#1080;&#1077;_&#1080;&#1075;&#1088;&#1099;_2002" TargetMode="External"/><Relationship Id="rId8" Type="http://schemas.openxmlformats.org/officeDocument/2006/relationships/hyperlink" Target="https://ru.wikipedia.org/wiki/&#1047;&#1080;&#1084;&#1085;&#1080;&#1077;_&#1054;&#1083;&#1080;&#1084;&#1087;&#1080;&#1081;&#1089;&#1082;&#1080;&#1077;_&#1080;&#1075;&#1088;&#1099;_2006" TargetMode="External"/><Relationship Id="rId9" Type="http://schemas.openxmlformats.org/officeDocument/2006/relationships/hyperlink" Target="https://ru.wikipedia.org/wiki/&#1047;&#1080;&#1084;&#1085;&#1080;&#1077;_&#1054;&#1083;&#1080;&#1084;&#1087;&#1080;&#1081;&#1089;&#1082;&#1080;&#1077;_&#1080;&#1075;&#1088;&#1099;_2010" TargetMode="External"/><Relationship Id="rId10" Type="http://schemas.openxmlformats.org/officeDocument/2006/relationships/hyperlink" Target="https://ru.wikipedia.org/wiki/&#1047;&#1080;&#1084;&#1085;&#1080;&#1077;_&#1054;&#1083;&#1080;&#1084;&#1087;&#1080;&#1081;&#1089;&#1082;&#1080;&#1077;_&#1080;&#1075;&#1088;&#1099;_2014" TargetMode="External"/><Relationship Id="rId11" Type="http://schemas.openxmlformats.org/officeDocument/2006/relationships/hyperlink" Target="https://ru.wikipedia.org/wiki/&#1057;&#1087;&#1080;&#1089;&#1086;&#1082;_&#1089;&#1087;&#1086;&#1088;&#1090;&#1089;&#1084;&#1077;&#1085;&#1086;&#1074;_&#1089;_&#1085;&#1072;&#1080;&#1073;&#1086;&#1083;&#1100;&#1096;&#1080;&#1084;_&#1082;&#1086;&#1083;&#1080;&#1095;&#1077;&#1089;&#1090;&#1074;&#1086;&#1084;_&#1091;&#1095;&#1072;&#1089;&#1090;&#1080;&#1081;_&#1074;_&#1054;&#1083;&#1080;&#1084;&#1087;&#1080;&#1081;&#1089;&#1082;&#1080;&#1093;_&#1080;&#1075;&#1088;&#1072;&#1093;" TargetMode="External"/><Relationship Id="rId12" Type="http://schemas.openxmlformats.org/officeDocument/2006/relationships/hyperlink" Target="https://ru.wikipedia.org/wiki/&#1057;&#1087;&#1080;&#1089;&#1086;&#1082;_&#1089;&#1087;&#1086;&#1088;&#1090;&#1089;&#1084;&#1077;&#1085;&#1086;&#1074;_&#1089;_&#1085;&#1072;&#1080;&#1073;&#1086;&#1083;&#1100;&#1096;&#1080;&#1084;_&#1082;&#1086;&#1083;&#1080;&#1095;&#1077;&#1089;&#1090;&#1074;&#1086;&#1084;_&#1091;&#1095;&#1072;&#1089;&#1090;&#1080;&#1081;_&#1074;_&#1054;&#1083;&#1080;&#1084;&#1087;&#1080;&#1081;&#1089;&#1082;&#1080;&#1093;_&#1080;&#1075;&#1088;&#1072;&#1093;" TargetMode="External"/><Relationship Id="rId13" Type="http://schemas.openxmlformats.org/officeDocument/2006/relationships/hyperlink" Target="https://ru.wikipedia.org/wiki/&#1057;&#1087;&#1080;&#1089;&#1086;&#1082;_&#1089;&#1087;&#1086;&#1088;&#1090;&#1089;&#1084;&#1077;&#1085;&#1086;&#1074;_&#1089;_&#1085;&#1072;&#1080;&#1073;&#1086;&#1083;&#1100;&#1096;&#1080;&#1084;_&#1082;&#1086;&#1083;&#1080;&#1095;&#1077;&#1089;&#1090;&#1074;&#1086;&#1084;_&#1091;&#1095;&#1072;&#1089;&#1090;&#1080;&#1081;_&#1074;_&#1054;&#1083;&#1080;&#1084;&#1087;&#1080;&#1081;&#1089;&#1082;&#1080;&#1093;_&#1080;&#1075;&#1088;&#1072;&#1093;" TargetMode="External"/><Relationship Id="rId14" Type="http://schemas.openxmlformats.org/officeDocument/2006/relationships/hyperlink" Target="https://ru.wikipedia.org/wiki/&#1055;&#1088;&#1099;&#1078;&#1082;&#1080;_&#1085;&#1072;_&#1083;&#1099;&#1078;&#1072;&#1093;_&#1089;_&#1090;&#1088;&#1072;&#1084;&#1087;&#1083;&#1080;&#1085;&#1072;" TargetMode="External"/><Relationship Id="rId15" Type="http://schemas.openxmlformats.org/officeDocument/2006/relationships/hyperlink" Target="https://ru.wikipedia.org/wiki/&#1050;&#1072;&#1089;&#1072;&#1081;,_&#1053;&#1086;&#1088;&#1080;&#1072;&#1082;&#1080;" TargetMode="External"/><Relationship Id="rId1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5;&#1083;&#1102;&#1097;&#1077;&#1085;&#1082;&#1086;,_&#1045;&#1074;&#1075;&#1077;&#1085;&#1080;&#1081;_&#1042;&#1080;&#1082;&#1090;&#1086;&#1088;&#1086;&#1074;&#1080;&#1095;" TargetMode="External"/><Relationship Id="rId2" Type="http://schemas.openxmlformats.org/officeDocument/2006/relationships/hyperlink" Target="https://ru.wikipedia.org/wiki/&#1060;&#1080;&#1075;&#1091;&#1088;&#1085;&#1086;&#1077;_&#1082;&#1072;&#1090;&#1072;&#1085;&#1080;&#1077;_&#1085;&#1072;_&#1079;&#1080;&#1084;&#1085;&#1080;&#1093;_&#1054;&#1083;&#1080;&#1084;&#1087;&#1080;&#1081;&#1089;&#1082;&#1080;&#1093;_&#1080;&#1075;&#1088;&#1072;&#1093;_2014_&#8212;_&#1082;&#1086;&#1084;&#1072;&#1085;&#1076;&#1085;&#1099;&#1077;_&#1089;&#1086;&#1088;&#1077;&#1074;&#1085;&#1086;&#1074;&#1072;&#1085;&#1080;&#1103;" TargetMode="External"/><Relationship Id="rId3" Type="http://schemas.openxmlformats.org/officeDocument/2006/relationships/hyperlink" Target="https://ru.wikipedia.org/wiki/&#1064;&#1074;&#1077;&#1094;&#1080;&#1103;" TargetMode="External"/><Relationship Id="rId4" Type="http://schemas.openxmlformats.org/officeDocument/2006/relationships/hyperlink" Target="https://ru.wikipedia.org/wiki/&#1043;&#1088;&#1072;&#1092;&#1089;&#1090;&#1088;&#1105;&#1084;,_&#1049;&#1080;&#1083;&#1083;&#1080;&#1089;" TargetMode="External"/><Relationship Id="rId5" Type="http://schemas.openxmlformats.org/officeDocument/2006/relationships/hyperlink" Target="https://ru.wikipedia.org/wiki/&#1060;&#1080;&#1075;&#1091;&#1088;&#1085;&#1086;&#1077;_&#1082;&#1072;&#1090;&#1072;&#1085;&#1080;&#1077;" TargetMode="External"/><Relationship Id="rId6" Type="http://schemas.openxmlformats.org/officeDocument/2006/relationships/hyperlink" Target="https://ru.wikipedia.org/wiki/&#1051;&#1080;&#1087;&#1085;&#1080;&#1094;&#1082;&#1072;&#1103;,_&#1070;&#1083;&#1080;&#1103;_&#1042;&#1103;&#1095;&#1077;&#1089;&#1083;&#1072;&#1074;&#1086;&#1074;&#1085;&#1072;" TargetMode="External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40;&#1085;,_&#1042;&#1080;&#1082;&#1090;&#1086;&#1088;" TargetMode="External"/><Relationship Id="rId2" Type="http://schemas.openxmlformats.org/officeDocument/2006/relationships/hyperlink" Target="https://ru.wikipedia.org/wiki/&#1064;&#1086;&#1088;&#1090;-&#1090;&#1088;&#1077;&#1082;_&#1085;&#1072;_&#1054;&#1083;&#1080;&#1084;&#1087;&#1080;&#1081;&#1089;&#1082;&#1080;&#1093;_&#1080;&#1075;&#1088;&#1072;&#1093;" TargetMode="External"/><Relationship Id="rId3" Type="http://schemas.openxmlformats.org/officeDocument/2006/relationships/hyperlink" Target="https://ru.wikipedia.org/wiki/&#1058;&#1088;&#1077;&#1090;&#1100;&#1103;&#1082;&#1086;&#1074;,_&#1040;&#1083;&#1077;&#1082;&#1089;&#1072;&#1085;&#1076;&#1088;_&#1042;&#1083;&#1072;&#1076;&#1080;&#1084;&#1080;&#1088;&#1086;&#1074;&#1080;&#1095;_(&#1089;&#1082;&#1077;&#1083;&#1077;&#1090;&#1086;&#1085;&#1080;&#1089;&#1090;)" TargetMode="External"/><Relationship Id="rId4" Type="http://schemas.openxmlformats.org/officeDocument/2006/relationships/hyperlink" Target="https://ru.wikipedia.org/wiki/&#1057;&#1082;&#1077;&#1083;&#1077;&#1090;&#1086;&#1085;_&#1085;&#1072;_&#1054;&#1083;&#1080;&#1084;&#1087;&#1080;&#1081;&#1089;&#1082;&#1080;&#1093;_&#1080;&#1075;&#1088;&#1072;&#1093;" TargetMode="External"/><Relationship Id="rId5" Type="http://schemas.openxmlformats.org/officeDocument/2006/relationships/hyperlink" Target="https://ru.wikipedia.org/wiki/&#1047;&#1091;&#1073;&#1082;&#1086;&#1074;,_&#1040;&#1083;&#1077;&#1082;&#1089;&#1072;&#1085;&#1076;&#1088;_&#1070;&#1088;&#1100;&#1077;&#1074;&#1080;&#1095;" TargetMode="External"/><Relationship Id="rId6" Type="http://schemas.openxmlformats.org/officeDocument/2006/relationships/hyperlink" Target="https://ru.wikipedia.org/wiki/&#1042;&#1086;&#1077;&#1074;&#1086;&#1076;&#1072;,_&#1040;&#1083;&#1077;&#1082;&#1089;&#1077;&#1081;_&#1048;&#1074;&#1072;&#1085;&#1086;&#1074;&#1080;&#1095;" TargetMode="External"/><Relationship Id="rId7" Type="http://schemas.openxmlformats.org/officeDocument/2006/relationships/hyperlink" Target="https://ru.wikipedia.org/wiki/&#1041;&#1086;&#1073;&#1089;&#1083;&#1077;&#1081;" TargetMode="External"/><Relationship Id="rId8" Type="http://schemas.openxmlformats.org/officeDocument/2006/relationships/hyperlink" Target="https://ru.wikipedia.org/wiki/&#1041;&#1086;&#1073;&#1089;&#1083;&#1077;&#1081;_&#1085;&#1072;_&#1079;&#1080;&#1084;&#1085;&#1080;&#1093;_&#1054;&#1083;&#1080;&#1084;&#1087;&#1080;&#1081;&#1089;&#1082;&#1080;&#1093;_&#1080;&#1075;&#1088;&#1072;&#1093;_2014_&#8212;_&#1076;&#1074;&#1086;&#1081;&#1082;&#1080;_(&#1084;&#1091;&#1078;&#1095;&#1080;&#1085;&#1099;)" TargetMode="External"/><Relationship Id="rId9" Type="http://schemas.openxmlformats.org/officeDocument/2006/relationships/hyperlink" Target="https://ru.wikipedia.org/wiki/&#1047;&#1080;&#1084;&#1085;&#1080;&#1077;_&#1054;&#1083;&#1080;&#1084;&#1087;&#1080;&#1081;&#1089;&#1082;&#1080;&#1077;_&#1080;&#1075;&#1088;&#1099;_1988" TargetMode="External"/><Relationship Id="rId10" Type="http://schemas.openxmlformats.org/officeDocument/2006/relationships/hyperlink" Target="https://ru.wikipedia.org/wiki/&#1059;&#1072;&#1081;&#1083;&#1076;,_&#1042;&#1080;&#1082;" TargetMode="External"/><Relationship Id="rId11" Type="http://schemas.openxmlformats.org/officeDocument/2006/relationships/hyperlink" Target="https://ru.wikipedia.org/wiki/&#1057;&#1085;&#1086;&#1091;&#1073;&#1086;&#1088;&#1076;_&#1085;&#1072;_&#1054;&#1083;&#1080;&#1084;&#1087;&#1080;&#1081;&#1089;&#1082;&#1080;&#1093;_&#1080;&#1075;&#1088;&#1072;&#1093;" TargetMode="External"/><Relationship Id="rId12" Type="http://schemas.openxmlformats.org/officeDocument/2006/relationships/hyperlink" Target="https://ru.wikipedia.org/wiki/&#1057;&#1083;&#1072;&#1083;&#1086;&#1084;_(&#1089;&#1085;&#1086;&#1091;&#1073;&#1086;&#1088;&#1076;)" TargetMode="External"/><Relationship Id="rId13" Type="http://schemas.openxmlformats.org/officeDocument/2006/relationships/hyperlink" Target="https://ru.wikipedia.org/wiki/&#1057;&#1086;&#1090;&#1085;&#1080;&#1082;&#1086;&#1074;&#1072;,_&#1040;&#1076;&#1077;&#1083;&#1080;&#1085;&#1072;_&#1044;&#1084;&#1080;&#1090;&#1088;&#1080;&#1077;&#1074;&#1085;&#1072;" TargetMode="External"/><Relationship Id="rId14" Type="http://schemas.openxmlformats.org/officeDocument/2006/relationships/hyperlink" Target="https://ru.wikipedia.org/wiki/&#1046;&#1077;&#1085;&#1089;&#1082;&#1086;&#1077;_&#1086;&#1076;&#1080;&#1085;&#1086;&#1095;&#1085;&#1086;&#1077;_&#1092;&#1080;&#1075;&#1091;&#1088;&#1085;&#1086;&#1077;_&#1082;&#1072;&#1090;&#1072;&#1085;&#1080;&#1077;" TargetMode="External"/><Relationship Id="rId1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64;&#1086;&#1088;&#1090;-&#1090;&#1088;&#1077;&#1082;" TargetMode="External"/><Relationship Id="rId2" Type="http://schemas.openxmlformats.org/officeDocument/2006/relationships/hyperlink" Target="https://ru.wikipedia.org/wiki/&#1057;&#1077;&#1084;&#1105;&#1085;_&#1045;&#1083;&#1080;&#1089;&#1090;&#1088;&#1072;&#1090;&#1086;&#1074;" TargetMode="External"/><Relationship Id="rId3" Type="http://schemas.openxmlformats.org/officeDocument/2006/relationships/hyperlink" Target="https://ru.wikipedia.org/wiki/&#1043;&#1088;&#1080;&#1075;&#1086;&#1088;&#1100;&#1077;&#1074;,_&#1042;&#1083;&#1072;&#1076;&#1080;&#1084;&#1080;&#1088;_&#1042;&#1080;&#1082;&#1090;&#1086;&#1088;&#1086;&#1074;&#1080;&#1095;_(&#1082;&#1086;&#1085;&#1100;&#1082;&#1086;&#1073;&#1077;&#1078;&#1077;&#1094;)" TargetMode="External"/><Relationship Id="rId4" Type="http://schemas.openxmlformats.org/officeDocument/2006/relationships/hyperlink" Target="https://ru.wikipedia.org/wiki/&#1056;&#1091;&#1089;&#1083;&#1072;&#1085;_&#1047;&#1072;&#1093;&#1072;&#1088;&#1086;&#1074;" TargetMode="External"/><Relationship Id="rId5" Type="http://schemas.openxmlformats.org/officeDocument/2006/relationships/hyperlink" Target="https://ru.wikipedia.org/wiki/&#1055;&#1072;&#1088;&#1072;&#1083;&#1083;&#1077;&#1083;&#1100;&#1085;&#1099;&#1081;_&#1089;&#1083;&#1072;&#1083;&#1086;&#1084;" TargetMode="External"/><Relationship Id="rId6" Type="http://schemas.openxmlformats.org/officeDocument/2006/relationships/hyperlink" Target="https://ru.wikipedia.org/wiki/&#1042;&#1086;&#1083;&#1082;&#1086;&#1074;,_&#1040;&#1083;&#1077;&#1082;&#1089;&#1077;&#1081;_&#1040;&#1085;&#1072;&#1090;&#1086;&#1083;&#1100;&#1077;&#1074;&#1080;&#1095;" TargetMode="External"/><Relationship Id="rId7" Type="http://schemas.openxmlformats.org/officeDocument/2006/relationships/hyperlink" Target="https://ru.wikipedia.org/wiki/&#1059;&#1089;&#1090;&#1102;&#1075;&#1086;&#1074;,_&#1045;&#1074;&#1075;&#1077;&#1085;&#1080;&#1081;_&#1056;&#1086;&#1084;&#1072;&#1085;&#1086;&#1074;&#1080;&#1095;" TargetMode="External"/><Relationship Id="rId8" Type="http://schemas.openxmlformats.org/officeDocument/2006/relationships/hyperlink" Target="https://ru.wikipedia.org/wiki/&#1052;&#1072;&#1083;&#1099;&#1096;&#1082;&#1086;,_&#1044;&#1084;&#1080;&#1090;&#1088;&#1080;&#1081;_&#1042;&#1083;&#1072;&#1076;&#1080;&#1084;&#1080;&#1088;&#1086;&#1074;&#1080;&#1095;" TargetMode="External"/><Relationship Id="rId9" Type="http://schemas.openxmlformats.org/officeDocument/2006/relationships/hyperlink" Target="https://ru.wikipedia.org/wiki/&#1064;&#1080;&#1087;&#1091;&#1083;&#1080;&#1085;,_&#1040;&#1085;&#1090;&#1086;&#1085;_&#1042;&#1083;&#1072;&#1076;&#1080;&#1084;&#1080;&#1088;&#1086;&#1074;&#1080;&#1095;" TargetMode="External"/><Relationship Id="rId10" Type="http://schemas.openxmlformats.org/officeDocument/2006/relationships/hyperlink" Target="https://ru.wikipedia.org/wiki/&#1041;&#1080;&#1072;&#1090;&#1083;&#1086;&#1085;_&#1085;&#1072;_&#1079;&#1080;&#1084;&#1085;&#1080;&#1093;_&#1054;&#1083;&#1080;&#1084;&#1087;&#1080;&#1081;&#1089;&#1082;&#1080;&#1093;_&#1080;&#1075;&#1088;&#1072;&#1093;_2014_&#8212;_&#1101;&#1089;&#1090;&#1072;&#1092;&#1077;&#1090;&#1072;_(&#1084;&#1091;&#1078;&#1095;&#1080;&#1085;&#1099;)" TargetMode="External"/><Relationship Id="rId11" Type="http://schemas.openxmlformats.org/officeDocument/2006/relationships/hyperlink" Target="https://ru.wikipedia.org/wiki/&#1069;&#1089;&#1090;&#1072;&#1092;&#1077;&#1090;&#1072;_(&#1073;&#1080;&#1072;&#1090;&#1083;&#1086;&#1085;)" TargetMode="External"/><Relationship Id="rId12" Type="http://schemas.openxmlformats.org/officeDocument/2006/relationships/hyperlink" Target="https://ru.wikipedia.org/wiki/&#1041;&#1080;&#1072;&#1090;&#1083;&#1086;&#1085;_&#1085;&#1072;_&#1079;&#1080;&#1084;&#1085;&#1080;&#1093;_&#1054;&#1083;&#1080;&#1084;&#1087;&#1080;&#1081;&#1089;&#1082;&#1080;&#1093;_&#1080;&#1075;&#1088;&#1072;&#1093;_1988" TargetMode="External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s://ru.wikipedia.org/wiki/&#1051;&#1077;&#1075;&#1082;&#1086;&#1074;,_&#1040;&#1083;&#1077;&#1082;&#1089;&#1072;&#1085;&#1076;&#1088;_&#1043;&#1077;&#1085;&#1085;&#1072;&#1076;&#1100;&#1077;&#1074;&#1080;&#1095;" TargetMode="External"/><Relationship Id="rId2" Type="http://schemas.openxmlformats.org/officeDocument/2006/relationships/hyperlink" Target="https://ru.wikipedia.org/wiki/&#1042;&#1099;&#1083;&#1077;&#1075;&#1078;&#1072;&#1085;&#1080;&#1085;,_&#1052;&#1072;&#1082;&#1089;&#1080;&#1084;_&#1052;&#1080;&#1093;&#1072;&#1081;&#1083;&#1086;&#1074;&#1080;&#1095;" TargetMode="External"/><Relationship Id="rId3" Type="http://schemas.openxmlformats.org/officeDocument/2006/relationships/hyperlink" Target="https://ru.wikipedia.org/wiki/&#1063;&#1077;&#1088;&#1085;&#1086;&#1091;&#1089;&#1086;&#1074;,_&#1048;&#1083;&#1100;&#1103;_&#1043;&#1088;&#1080;&#1075;&#1086;&#1088;&#1100;&#1077;&#1074;&#1080;&#1095;" TargetMode="External"/><Relationship Id="rId4" Type="http://schemas.openxmlformats.org/officeDocument/2006/relationships/hyperlink" Target="https://ru.wikipedia.org/wiki/&#1051;&#1099;&#1078;&#1085;&#1099;&#1077;_&#1075;&#1086;&#1085;&#1082;&#1080;_&#1085;&#1072;_&#1079;&#1080;&#1084;&#1085;&#1080;&#1093;_&#1054;&#1083;&#1080;&#1084;&#1087;&#1080;&#1081;&#1089;&#1082;&#1080;&#1093;_&#1080;&#1075;&#1088;&#1072;&#1093;_2014_&#8212;_&#1084;&#1072;&#1089;&#1089;-&#1089;&#1090;&#1072;&#1088;&#1090;_&#1085;&#1072;_50_&#1082;&#1084;_&#1089;&#1074;&#1086;&#1073;&#1086;&#1076;&#1085;&#1099;&#1084;_&#1089;&#1090;&#1080;&#1083;&#1077;&#1084;_(&#1084;&#1091;&#1078;&#1095;&#1080;&#1085;&#1099;)" TargetMode="External"/><Relationship Id="rId5" Type="http://schemas.openxmlformats.org/officeDocument/2006/relationships/hyperlink" Target="https://ru.wikipedia.org/wiki/&#1047;&#1091;&#1073;&#1082;&#1086;&#1074;,_&#1040;&#1083;&#1077;&#1082;&#1089;&#1072;&#1085;&#1076;&#1088;_&#1070;&#1088;&#1100;&#1077;&#1074;&#1080;&#1095;" TargetMode="External"/><Relationship Id="rId6" Type="http://schemas.openxmlformats.org/officeDocument/2006/relationships/hyperlink" Target="https://ru.wikipedia.org/wiki/&#1053;&#1077;&#1075;&#1086;&#1076;&#1072;&#1081;&#1083;&#1086;,_&#1040;&#1083;&#1077;&#1082;&#1089;&#1077;&#1081;_&#1040;&#1083;&#1077;&#1082;&#1089;&#1072;&#1085;&#1076;&#1088;&#1086;&#1074;&#1080;&#1095;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сновы истории физической культуры, этапы ее развития в России, вклад российских спортсменов и развитие международного олимпийского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Organization Chart 5"/>
          <p:cNvGrpSpPr/>
          <p:nvPr/>
        </p:nvGrpSpPr>
        <p:grpSpPr>
          <a:xfrm>
            <a:off x="324000" y="476280"/>
            <a:ext cx="8819280" cy="5543280"/>
            <a:chOff x="324000" y="476280"/>
            <a:chExt cx="8819280" cy="5543280"/>
          </a:xfrm>
        </p:grpSpPr>
        <p:cxnSp>
          <p:nvCxnSpPr>
            <p:cNvPr id="190" name="_s6148"/>
            <p:cNvCxnSpPr>
              <a:stCxn id="191" idx="0"/>
              <a:endCxn id="192" idx="2"/>
            </p:cNvCxnSpPr>
            <p:nvPr/>
          </p:nvCxnSpPr>
          <p:spPr>
            <a:xfrm flipV="1" rot="16200000">
              <a:off x="5722200" y="1703520"/>
              <a:ext cx="1109160" cy="3087360"/>
            </a:xfrm>
            <a:prstGeom prst="bentConnector3">
              <a:avLst>
                <a:gd name="adj1" fmla="val 209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6149"/>
            <p:cNvCxnSpPr>
              <a:stCxn id="194" idx="0"/>
              <a:endCxn id="192" idx="2"/>
            </p:cNvCxnSpPr>
            <p:nvPr/>
          </p:nvCxnSpPr>
          <p:spPr>
            <a:xfrm flipV="1">
              <a:off x="4733280" y="2692800"/>
              <a:ext cx="3240" cy="1109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6150"/>
            <p:cNvCxnSpPr>
              <a:stCxn id="196" idx="0"/>
              <a:endCxn id="192" idx="2"/>
            </p:cNvCxnSpPr>
            <p:nvPr/>
          </p:nvCxnSpPr>
          <p:spPr>
            <a:xfrm flipH="1" flipV="1" rot="5400000">
              <a:off x="2635560" y="1703880"/>
              <a:ext cx="1109160" cy="3087360"/>
            </a:xfrm>
            <a:prstGeom prst="bentConnector3">
              <a:avLst>
                <a:gd name="adj1" fmla="val 2090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2" name="_s6151"/>
            <p:cNvSpPr/>
            <p:nvPr/>
          </p:nvSpPr>
          <p:spPr>
            <a:xfrm>
              <a:off x="3410640" y="476280"/>
              <a:ext cx="2645640" cy="2217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лимпийск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комитет России был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оздан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1989 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6152"/>
            <p:cNvSpPr/>
            <p:nvPr/>
          </p:nvSpPr>
          <p:spPr>
            <a:xfrm>
              <a:off x="324000" y="3802320"/>
              <a:ext cx="2645640" cy="2217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аралимпийские игр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оводятся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1960 г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оведенные в Москв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1980г Игры был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освящен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22-й Олимпиад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6153"/>
            <p:cNvSpPr/>
            <p:nvPr/>
          </p:nvSpPr>
          <p:spPr>
            <a:xfrm>
              <a:off x="3410640" y="3802320"/>
              <a:ext cx="2645640" cy="2217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первые с 1912 го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портсмены наше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траны выступали под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оссийским флаг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1996г на Игра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26 Олимпиад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 Атланте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6154"/>
            <p:cNvSpPr/>
            <p:nvPr/>
          </p:nvSpPr>
          <p:spPr>
            <a:xfrm>
              <a:off x="6497640" y="3802320"/>
              <a:ext cx="2645640" cy="22172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едставители Мок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ля Российско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едерации после 2004г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италий Смирнов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ШамильТарпищев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Александр Поп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entury"/>
              </a:rPr>
              <a:t>Игры в Древней Гре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68360" y="907560"/>
            <a:ext cx="81360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776 г. до н. э. –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олимпийский праздник проводился каждые 4 года в местечке Олимп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Олимпийские игры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спортивные состяз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Олимпионик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обедитель состязаний на О.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Элланодики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суд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К участию в играх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не допускались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рабы, варвары , женщи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раво принимать участие в ДОИ имели только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свободные греки мужчи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родолжительность античных Игр Олимпиады изменялась и к 468г. до н.э. достигла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5 д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776 г. до н. э –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атлеты состязались в беге на одну стадию (192м 27 см). 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ервый победитель ОИ –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Короибос</a:t>
            </a: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68000" y="475920"/>
            <a:ext cx="8002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Феодосий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Century"/>
              </a:rPr>
              <a:t>I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Римский император в 394 г. н.э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. – запретил олимпийские состяз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Чемпионом ОИ был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ифаг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 честь афинского воина Филипидиса, принесшего в Афины весть о победе над персами, во время современных игр Олимпиады проводятся соревнования в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марафоне, дистанция 42 км195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ервый Олимпийский чемпион победивший в беге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– Спирос Лу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На Играх 1908г.в Лондоне неудача постигла участника бега на марафонской дистанции – он пересек линию финиша, но медаль чемпиона ему не вручили: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иетри, после падения, зрители и судьи помогли подняться и пересечь линию финиш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68360" y="549000"/>
            <a:ext cx="82072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В Сент-Луисе в марафонской дистанции победил американец Лорде. После вручения золотой медали он был ее лишен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– большую часть дистанции проехал на маши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На О.И. в городе Париже 1900 году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олимпийцам не вручали золотые меда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Первый чемпион в истории современных О.И.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– Джеймс Конн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Наибольшее количество золотых медалей на одной Олимпиаде завоевал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– Марк Спитц (7 золотых медалей в плавании Олимпиада в Мюнхен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"/>
              </a:rPr>
              <a:t>Наибольшее количество золотых медалей по 9 в современных Играх олимпиад завоевали: 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ааво Нурми, Лариса Латынина, Марк Спитц, Карл Лью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-9360" y="531720"/>
            <a:ext cx="9144000" cy="6121440"/>
          </a:xfrm>
          <a:prstGeom prst="rect">
            <a:avLst/>
          </a:prstGeom>
          <a:ln w="0">
            <a:noFill/>
          </a:ln>
        </p:spPr>
      </p:pic>
      <p:sp>
        <p:nvSpPr>
          <p:cNvPr id="202" name="TextBox 3"/>
          <p:cNvSpPr/>
          <p:nvPr/>
        </p:nvSpPr>
        <p:spPr>
          <a:xfrm>
            <a:off x="3203640" y="542880"/>
            <a:ext cx="25923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чи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XXII Олимпий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имние иг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Жаркие. Зимние. Тво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5"/>
          <p:cNvSpPr/>
          <p:nvPr/>
        </p:nvSpPr>
        <p:spPr>
          <a:xfrm>
            <a:off x="262440" y="2781360"/>
            <a:ext cx="228996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лисман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Белый медвежонок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йка, Леопард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Лучик и Снежин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3203640" y="2760840"/>
            <a:ext cx="259236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а игр пополнила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шестью новыми видами соревнова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7"/>
          <p:cNvSpPr/>
          <p:nvPr/>
        </p:nvSpPr>
        <p:spPr>
          <a:xfrm>
            <a:off x="6597000" y="2938320"/>
            <a:ext cx="228564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овыми видами стал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лоупстайл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во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фристайл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лоупстайл в сноуборд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араллельный слалом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ноуборд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2700360" y="5167440"/>
            <a:ext cx="3600360" cy="14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грамма Игр увеличилас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на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12 видов соревнований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и в Сочи разыграно будет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плектов наград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95 Россия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9"/>
          <p:cNvSpPr/>
          <p:nvPr/>
        </p:nvSpPr>
        <p:spPr>
          <a:xfrm>
            <a:off x="-7920" y="5167440"/>
            <a:ext cx="291780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6 вид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: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женские прыжки на лыж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с трамплина, смешанную эстафет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в биатлоне, командное фигурно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катание, эстафету в санном спорт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и лыжный хаф-пайп у мужчин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у женщин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НАМЕНОСЦЫ СБОРНОЙ РОССИИ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214200" y="1197000"/>
          <a:ext cx="8750520" cy="4022640"/>
        </p:xfrm>
        <a:graphic>
          <a:graphicData uri="http://schemas.openxmlformats.org/drawingml/2006/table">
            <a:tbl>
              <a:tblPr/>
              <a:tblGrid>
                <a:gridCol w="1749600"/>
                <a:gridCol w="720720"/>
                <a:gridCol w="2368440"/>
                <a:gridCol w="1614600"/>
                <a:gridCol w="2297160"/>
              </a:tblGrid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с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амил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 спор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зультат на Игра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ллехамм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гей Чеп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атл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 и 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3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лант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6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андр Карел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рьб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га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ей Прокурор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ыж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мед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дн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рей Лавров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ндб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т-Лейк-Си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ей Прокуро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ыжи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мед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фи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андр Попов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вание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мед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ур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митрий Дорофе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ьки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35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к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дрей Кириленк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скетбо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мед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нкуве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ей Мороз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кк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 медал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онд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рия Шарап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нни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ебр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лександр Зуб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бс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лото, золот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ьный зачет Лондон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324000" y="1341360"/>
          <a:ext cx="8578800" cy="2490840"/>
        </p:xfrm>
        <a:graphic>
          <a:graphicData uri="http://schemas.openxmlformats.org/drawingml/2006/table">
            <a:tbl>
              <a:tblPr/>
              <a:tblGrid>
                <a:gridCol w="599760"/>
                <a:gridCol w="2291040"/>
                <a:gridCol w="1141200"/>
                <a:gridCol w="1716120"/>
                <a:gridCol w="1714680"/>
                <a:gridCol w="1116000"/>
              </a:tblGrid>
              <a:tr h="644040"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69598"/>
                          </a:solidFill>
                          <a:latin typeface="Arial"/>
                        </a:rPr>
                        <a:t>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aeb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69598"/>
                          </a:solidFill>
                          <a:latin typeface="Arial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aeb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aeb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aeb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aeb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869598"/>
                          </a:solidFill>
                          <a:latin typeface="Arial"/>
                        </a:rPr>
                        <a:t>Всего меда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aeb"/>
                    </a:solidFill>
                  </a:tcPr>
                </a:tc>
              </a:tr>
              <a:tr h="369720"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4320">
                      <a:solidFill>
                        <a:srgbClr val="e9eaeb"/>
                      </a:solidFill>
                    </a:lnR>
                    <a:lnT>
                      <a:noFill/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/>
                        </a:rPr>
                        <a:t> 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>
                      <a:noFill/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>
                      <a:noFill/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>
                      <a:noFill/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>
                      <a:noFill/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2"/>
                        </a:rPr>
                        <a:t> Кита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>
                      <a:noFill/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3"/>
                        </a:rPr>
                        <a:t> Великобрит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>
                      <a:noFill/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4"/>
                        </a:rPr>
                        <a:t> 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>
                      <a:noFill/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9720"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>
                      <a:noFill/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5"/>
                        </a:rPr>
                        <a:t> Герм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 w="4320">
                      <a:solidFill>
                        <a:srgbClr val="e9eaeb"/>
                      </a:solidFill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47520" bIns="4752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e9eaeb"/>
                      </a:solidFill>
                    </a:lnL>
                    <a:lnR>
                      <a:noFill/>
                    </a:lnR>
                    <a:lnT w="4320">
                      <a:solidFill>
                        <a:srgbClr val="9faaac"/>
                      </a:solidFill>
                    </a:lnT>
                    <a:lnB w="4320">
                      <a:solidFill>
                        <a:srgbClr val="9faaac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12" name="Picture 4" descr="http://london2012.rsport.ru/i/_olympics/layout/medals-gold.png"/>
          <p:cNvPicPr/>
          <p:nvPr/>
        </p:nvPicPr>
        <p:blipFill>
          <a:blip r:embed="rId6"/>
          <a:stretch/>
        </p:blipFill>
        <p:spPr>
          <a:xfrm>
            <a:off x="1320840" y="1881360"/>
            <a:ext cx="123840" cy="1332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http://london2012.rsport.ru/i/_olympics/layout/medals-silver.png"/>
          <p:cNvPicPr/>
          <p:nvPr/>
        </p:nvPicPr>
        <p:blipFill>
          <a:blip r:embed="rId7"/>
          <a:stretch/>
        </p:blipFill>
        <p:spPr>
          <a:xfrm>
            <a:off x="1413000" y="1881360"/>
            <a:ext cx="123840" cy="133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http://london2012.rsport.ru/i/_olympics/layout/medals-bronze.png"/>
          <p:cNvPicPr/>
          <p:nvPr/>
        </p:nvPicPr>
        <p:blipFill>
          <a:blip r:embed="rId8"/>
          <a:stretch/>
        </p:blipFill>
        <p:spPr>
          <a:xfrm>
            <a:off x="1504800" y="1881360"/>
            <a:ext cx="123840" cy="133200"/>
          </a:xfrm>
          <a:prstGeom prst="rect">
            <a:avLst/>
          </a:prstGeom>
          <a:ln w="0">
            <a:noFill/>
          </a:ln>
        </p:spPr>
      </p:pic>
      <p:pic>
        <p:nvPicPr>
          <p:cNvPr id="215" name="DefaultOcx" descr=""/>
          <p:cNvPicPr/>
          <p:nvPr/>
        </p:nvPicPr>
        <p:blipFill>
          <a:blip r:embed="rId9"/>
          <a:stretch/>
        </p:blipFill>
        <p:spPr>
          <a:xfrm>
            <a:off x="0" y="0"/>
            <a:ext cx="914400" cy="22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ьный зачет Сочи 20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108000" y="1557360"/>
          <a:ext cx="8820000" cy="2536920"/>
        </p:xfrm>
        <a:graphic>
          <a:graphicData uri="http://schemas.openxmlformats.org/drawingml/2006/table">
            <a:tbl>
              <a:tblPr/>
              <a:tblGrid>
                <a:gridCol w="2573280"/>
                <a:gridCol w="2571840"/>
                <a:gridCol w="919080"/>
                <a:gridCol w="919080"/>
                <a:gridCol w="917640"/>
                <a:gridCol w="919080"/>
              </a:tblGrid>
              <a:tr h="88020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олот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ребр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рон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315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1"/>
                        </a:rPr>
                        <a:t>Росс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315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2"/>
                        </a:rPr>
                        <a:t>Норвег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3"/>
                        </a:rPr>
                        <a:t>Кан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4"/>
                        </a:rPr>
                        <a:t>СШ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1560"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6666"/>
                          </a:solidFill>
                          <a:uFillTx/>
                          <a:latin typeface="Arial"/>
                          <a:hlinkClick r:id="rId5"/>
                        </a:rPr>
                        <a:t>Нидерлан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28440" rIns="28440" tIns="28440" bIns="2844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440" marR="28440">
                    <a:lnL w="4320">
                      <a:solidFill>
                        <a:srgbClr val="f0f0f0"/>
                      </a:solidFill>
                    </a:lnL>
                    <a:lnR w="4320">
                      <a:solidFill>
                        <a:srgbClr val="f0f0f0"/>
                      </a:solidFill>
                    </a:lnR>
                    <a:lnT w="4320">
                      <a:solidFill>
                        <a:srgbClr val="f0f0f0"/>
                      </a:solidFill>
                    </a:lnT>
                    <a:lnB w="4320">
                      <a:solidFill>
                        <a:srgbClr val="f0f0f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и Сочи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78920" y="1125360"/>
            <a:ext cx="8820360" cy="417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"/>
              </a:rPr>
              <a:t>Саночник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2"/>
              </a:rPr>
              <a:t>Альберт Демченко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принял участие в своих седьмых подряд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3"/>
              </a:rPr>
              <a:t>Олимпийских играх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: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4"/>
              </a:rPr>
              <a:t>1992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5"/>
              </a:rPr>
              <a:t>1994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6"/>
              </a:rPr>
              <a:t>1998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7"/>
              </a:rPr>
              <a:t>2002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8"/>
              </a:rPr>
              <a:t>2006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9"/>
              </a:rPr>
              <a:t>2010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и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0"/>
              </a:rPr>
              <a:t>2014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. Он установил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1"/>
              </a:rPr>
              <a:t>рекорд по количеству участий в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2"/>
              </a:rPr>
              <a:t>зимних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3"/>
              </a:rPr>
              <a:t> Играх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в истории Олимпийских игр. В тот же день это достижение повторил японский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4"/>
              </a:rPr>
              <a:t>прыгун с трамплина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5"/>
              </a:rPr>
              <a:t>Нориаки Касай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 который участвовал в тех же семи Олимпиадах, что и Демченк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74320" y="1341000"/>
            <a:ext cx="85676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"/>
              </a:rPr>
              <a:t>Евгений Плющенко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 выиграв золото во впервые включённых в олимпийскую программу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2"/>
              </a:rPr>
              <a:t>командных соревнованиях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 повторил рекорд 82-летней давности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3"/>
              </a:rPr>
              <a:t>шведа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4"/>
              </a:rPr>
              <a:t>Йиллиса Графстрёма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по количеству олимпийских наград в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5"/>
              </a:rPr>
              <a:t>фигурном катании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(по 4). Золото 15-летней </a:t>
            </a:r>
            <a:r>
              <a:rPr b="0" lang="ru-RU" sz="28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6"/>
              </a:rPr>
              <a:t>Юлии Липницкой</a:t>
            </a:r>
            <a:r>
              <a:rPr b="0" lang="ru-RU" sz="28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в тех же командных соревнованиях сделало её самой юной чемпионкой зимних Игр в истории России (ранее этого не удавалось никому моложе 20 лет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3"/>
          <p:cNvSpPr/>
          <p:nvPr/>
        </p:nvSpPr>
        <p:spPr>
          <a:xfrm>
            <a:off x="3188520" y="47628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и Сочи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Organization Chart 5"/>
          <p:cNvGrpSpPr/>
          <p:nvPr/>
        </p:nvGrpSpPr>
        <p:grpSpPr>
          <a:xfrm>
            <a:off x="108000" y="476280"/>
            <a:ext cx="8856000" cy="6119280"/>
            <a:chOff x="108000" y="476280"/>
            <a:chExt cx="8856000" cy="6119280"/>
          </a:xfrm>
        </p:grpSpPr>
        <p:cxnSp>
          <p:nvCxnSpPr>
            <p:cNvPr id="108" name="_s1028"/>
            <p:cNvCxnSpPr>
              <a:stCxn id="109" idx="0"/>
              <a:endCxn id="110" idx="2"/>
            </p:cNvCxnSpPr>
            <p:nvPr/>
          </p:nvCxnSpPr>
          <p:spPr>
            <a:xfrm flipV="1" rot="16200000">
              <a:off x="5473440" y="1985040"/>
              <a:ext cx="1224360" cy="3100320"/>
            </a:xfrm>
            <a:prstGeom prst="bentConnector3">
              <a:avLst>
                <a:gd name="adj1" fmla="val 209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29"/>
            <p:cNvCxnSpPr>
              <a:stCxn id="112" idx="0"/>
              <a:endCxn id="110" idx="2"/>
            </p:cNvCxnSpPr>
            <p:nvPr/>
          </p:nvCxnSpPr>
          <p:spPr>
            <a:xfrm flipV="1">
              <a:off x="4535640" y="2923200"/>
              <a:ext cx="3240" cy="1224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3" name="_s1030"/>
            <p:cNvCxnSpPr>
              <a:stCxn id="114" idx="0"/>
              <a:endCxn id="110" idx="2"/>
            </p:cNvCxnSpPr>
            <p:nvPr/>
          </p:nvCxnSpPr>
          <p:spPr>
            <a:xfrm flipH="1" flipV="1" rot="5400000">
              <a:off x="2374200" y="1985400"/>
              <a:ext cx="1224360" cy="3100320"/>
            </a:xfrm>
            <a:prstGeom prst="bentConnector3">
              <a:avLst>
                <a:gd name="adj1" fmla="val 2091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0" name="_s1031"/>
            <p:cNvSpPr/>
            <p:nvPr/>
          </p:nvSpPr>
          <p:spPr>
            <a:xfrm>
              <a:off x="3207600" y="476280"/>
              <a:ext cx="2656800" cy="2447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Times New Roman"/>
                </a:rPr>
                <a:t>Древняя Греция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300" spc="-1" strike="noStrike">
                  <a:solidFill>
                    <a:srgbClr val="000000"/>
                  </a:solidFill>
                  <a:latin typeface="Times New Roman"/>
                </a:rPr>
                <a:t>Олимпиада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1032"/>
            <p:cNvSpPr/>
            <p:nvPr/>
          </p:nvSpPr>
          <p:spPr>
            <a:xfrm>
              <a:off x="108000" y="4147920"/>
              <a:ext cx="2656800" cy="2447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Термин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«Олимпиада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 Древней Греци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Четырехлетни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ериод межд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лимпийским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играм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3"/>
            <p:cNvSpPr/>
            <p:nvPr/>
          </p:nvSpPr>
          <p:spPr>
            <a:xfrm>
              <a:off x="3207600" y="4147920"/>
              <a:ext cx="2656800" cy="2447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Игры Олимпиад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аздновалис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на территори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города-полис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Элид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034"/>
            <p:cNvSpPr/>
            <p:nvPr/>
          </p:nvSpPr>
          <p:spPr>
            <a:xfrm>
              <a:off x="6307200" y="4147920"/>
              <a:ext cx="2656800" cy="2447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Тренеров называл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гимнастами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Атлетов, нанесши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мертельные ран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опернику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 изгоня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со стадио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и Сочи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39640" y="1125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15 февраля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"/>
              </a:rPr>
              <a:t>Виктор Ан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 выиграв забег на дистанции 1000 метров, принёс России первую в истории победу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2"/>
              </a:rPr>
              <a:t>шорт-треке на Олимпийских играх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. В этот же день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3"/>
              </a:rPr>
              <a:t>Александр Третьяко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завоевал первую в истории России победу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4"/>
              </a:rPr>
              <a:t>скелетоне на Олимпийских играх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17 февраля экипаж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5"/>
              </a:rPr>
              <a:t>Александра Зубкова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и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6"/>
              </a:rPr>
              <a:t>Алексея Воеводы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принёс России первое золото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7"/>
              </a:rPr>
              <a:t>бобслее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8"/>
              </a:rPr>
              <a:t>двойках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(СССР выиграл одно золото в бобслее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9"/>
              </a:rPr>
              <a:t>1988 году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19 февраля сноубордист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0"/>
              </a:rPr>
              <a:t>Вик Уайлд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выиграл для России первую в золотую медаль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1"/>
              </a:rPr>
              <a:t>сноуборде на Олимпийских играх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в дисциплине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2"/>
              </a:rPr>
              <a:t>параллельный гигантский слалом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20 февраля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3"/>
              </a:rPr>
              <a:t>Аделина Сотникова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принесла России первую в истории победу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4"/>
              </a:rPr>
              <a:t>женском одиночном фигурном катании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на Олимпийских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и Сочи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68360" y="1196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21 февраля Виктор Ан выиграл золотую медаль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"/>
              </a:rPr>
              <a:t>шорт-треке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на дистанции 500 метров. Получасом позже Ан,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2"/>
              </a:rPr>
              <a:t>Семен Елистрато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3"/>
              </a:rPr>
              <a:t>Владимир Григорье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и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4"/>
              </a:rPr>
              <a:t>Руслан Захаро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одержали победу в эстафете на дистанции 5000 метр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22 февраля Вик Уайлд завоевал золотую медаль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5"/>
              </a:rPr>
              <a:t>параллельном слаломе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. В тот же день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6"/>
              </a:rPr>
              <a:t>Алексей Волко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7"/>
              </a:rPr>
              <a:t>Евгений Устюго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8"/>
              </a:rPr>
              <a:t>Дмитрий Малышко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и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9"/>
              </a:rPr>
              <a:t>Антон Шипулин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выиграли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0"/>
              </a:rPr>
              <a:t>мужскую эстафету 4×7,5 км в биатлоне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 принеся России первую в истории победу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1"/>
              </a:rPr>
              <a:t>биатлонной эстафете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(до этого последний раз только СССР выигрывал мужскую эстафету в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2"/>
              </a:rPr>
              <a:t>1988 году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али Сочи 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640" y="1483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23 февраля полный комплект медалей завоевали российские лыжники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1"/>
              </a:rPr>
              <a:t>Александр Легко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2"/>
              </a:rPr>
              <a:t>Максим Вылегжанин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и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3"/>
              </a:rPr>
              <a:t>Илья Черноусов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по результатам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4"/>
              </a:rPr>
              <a:t>гонки на 50 км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(впервые в истории весь мужской пьедестал в лыжном марафоне заняли спортсмены из одной страны). В тот же день экипаж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5"/>
              </a:rPr>
              <a:t>Александра Зубкова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 состоящий из </a:t>
            </a:r>
            <a:r>
              <a:rPr b="0" lang="ru-RU" sz="2400" spc="-1" strike="noStrike" u="sng">
                <a:solidFill>
                  <a:srgbClr val="006666"/>
                </a:solidFill>
                <a:uFillTx/>
                <a:latin typeface="Times New Roman"/>
                <a:ea typeface="Times New Roman"/>
                <a:hlinkClick r:id="rId6"/>
              </a:rPr>
              <a:t>Алексея Негодайло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 </a:t>
            </a:r>
            <a:r>
              <a:rPr b="0" lang="ru-RU" sz="2400" spc="-1" strike="noStrike">
                <a:solidFill>
                  <a:srgbClr val="0b0080"/>
                </a:solidFill>
                <a:latin typeface="Times New Roman"/>
                <a:ea typeface="Times New Roman"/>
              </a:rPr>
              <a:t>Алексея Воеводы 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и </a:t>
            </a:r>
            <a:r>
              <a:rPr b="0" lang="ru-RU" sz="2400" spc="-1" strike="noStrike">
                <a:solidFill>
                  <a:srgbClr val="0b0080"/>
                </a:solidFill>
                <a:latin typeface="Times New Roman"/>
                <a:ea typeface="Times New Roman"/>
              </a:rPr>
              <a:t>Дмитрия Труненкова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, выиграл золото в бобслее на </a:t>
            </a:r>
            <a:r>
              <a:rPr b="0" lang="ru-RU" sz="2400" spc="-1" strike="noStrike">
                <a:solidFill>
                  <a:srgbClr val="0b0080"/>
                </a:solidFill>
                <a:latin typeface="Times New Roman"/>
                <a:ea typeface="Times New Roman"/>
              </a:rPr>
              <a:t>четвёрках</a:t>
            </a:r>
            <a:r>
              <a:rPr b="0" lang="ru-RU" sz="2400" spc="-1" strike="noStrike">
                <a:solidFill>
                  <a:srgbClr val="252525"/>
                </a:solidFill>
                <a:latin typeface="Times New Roman"/>
                <a:ea typeface="Times New Roman"/>
              </a:rPr>
              <a:t> (впервые в истории СССР и России была выиграна медаль в бобслее-четвёрк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Возрождение Олимпийских иг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Organization Chart 3"/>
          <p:cNvGrpSpPr/>
          <p:nvPr/>
        </p:nvGrpSpPr>
        <p:grpSpPr>
          <a:xfrm>
            <a:off x="179280" y="907920"/>
            <a:ext cx="8784720" cy="5760000"/>
            <a:chOff x="179280" y="907920"/>
            <a:chExt cx="8784720" cy="5760000"/>
          </a:xfrm>
        </p:grpSpPr>
        <p:cxnSp>
          <p:nvCxnSpPr>
            <p:cNvPr id="117" name="_s2052"/>
            <p:cNvCxnSpPr>
              <a:stCxn id="118" idx="0"/>
              <a:endCxn id="119" idx="2"/>
            </p:cNvCxnSpPr>
            <p:nvPr/>
          </p:nvCxnSpPr>
          <p:spPr>
            <a:xfrm flipV="1">
              <a:off x="7646040" y="4507560"/>
              <a:ext cx="3960" cy="720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2053"/>
            <p:cNvCxnSpPr>
              <a:stCxn id="121" idx="0"/>
              <a:endCxn id="122" idx="2"/>
            </p:cNvCxnSpPr>
            <p:nvPr/>
          </p:nvCxnSpPr>
          <p:spPr>
            <a:xfrm flipV="1">
              <a:off x="4571280" y="4507560"/>
              <a:ext cx="3960" cy="720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3" name="_s2054"/>
            <p:cNvCxnSpPr>
              <a:stCxn id="119" idx="0"/>
              <a:endCxn id="124" idx="2"/>
            </p:cNvCxnSpPr>
            <p:nvPr/>
          </p:nvCxnSpPr>
          <p:spPr>
            <a:xfrm flipV="1" rot="16200000">
              <a:off x="5748480" y="1170000"/>
              <a:ext cx="720720" cy="3075480"/>
            </a:xfrm>
            <a:prstGeom prst="bentConnector3">
              <a:avLst>
                <a:gd name="adj1" fmla="val 162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5" name="_s2055"/>
            <p:cNvCxnSpPr>
              <a:stCxn id="122" idx="0"/>
              <a:endCxn id="124" idx="2"/>
            </p:cNvCxnSpPr>
            <p:nvPr/>
          </p:nvCxnSpPr>
          <p:spPr>
            <a:xfrm flipV="1">
              <a:off x="4571280" y="2347560"/>
              <a:ext cx="3960" cy="7207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6" name="_s2056"/>
            <p:cNvCxnSpPr>
              <a:stCxn id="127" idx="0"/>
              <a:endCxn id="124" idx="2"/>
            </p:cNvCxnSpPr>
            <p:nvPr/>
          </p:nvCxnSpPr>
          <p:spPr>
            <a:xfrm flipH="1" flipV="1" rot="5400000">
              <a:off x="2673720" y="1170000"/>
              <a:ext cx="720720" cy="3075480"/>
            </a:xfrm>
            <a:prstGeom prst="bentConnector3">
              <a:avLst>
                <a:gd name="adj1" fmla="val 1624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24" name="_s2057"/>
            <p:cNvSpPr/>
            <p:nvPr/>
          </p:nvSpPr>
          <p:spPr>
            <a:xfrm>
              <a:off x="3254040" y="907920"/>
              <a:ext cx="2635200" cy="1440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Пьер де Куберте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(1863-1937гг.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французски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общественный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Times New Roman"/>
                </a:rPr>
                <a:t>деятель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2058"/>
            <p:cNvSpPr/>
            <p:nvPr/>
          </p:nvSpPr>
          <p:spPr>
            <a:xfrm>
              <a:off x="179280" y="3067920"/>
              <a:ext cx="2635200" cy="1440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94г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выступает во всемирно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известном парижском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университете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«Конгресс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возрожд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их игр»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_s2059"/>
            <p:cNvSpPr/>
            <p:nvPr/>
          </p:nvSpPr>
          <p:spPr>
            <a:xfrm>
              <a:off x="3254040" y="3067920"/>
              <a:ext cx="2635200" cy="1440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92г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начал работ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Международный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атлетический конгресс,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0 стр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Франция, Великобритании. США, России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Швеции, Испании, Италии, Бельгии,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Нидерландов и Греции, а Австралия и Япония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0" spc="-1" strike="noStrike">
                  <a:solidFill>
                    <a:srgbClr val="000000"/>
                  </a:solidFill>
                  <a:latin typeface="Times New Roman"/>
                </a:rPr>
                <a:t>подержали идею созыва конгресса. )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060"/>
            <p:cNvSpPr/>
            <p:nvPr/>
          </p:nvSpPr>
          <p:spPr>
            <a:xfrm>
              <a:off x="6328800" y="3067920"/>
              <a:ext cx="2635200" cy="1440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894г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на конгрессе был созд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МОК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из представителей 12 стр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ервый президент МОК бы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греческий поэт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еметриус Викелас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061"/>
            <p:cNvSpPr/>
            <p:nvPr/>
          </p:nvSpPr>
          <p:spPr>
            <a:xfrm>
              <a:off x="3254040" y="5227920"/>
              <a:ext cx="2635200" cy="1440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23 июня 1894г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на конгресс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было принято решение провест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ервые Олимпийские игр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современности 1896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 их родине - в столице Греци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Афина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_s2062"/>
            <p:cNvSpPr/>
            <p:nvPr/>
          </p:nvSpPr>
          <p:spPr>
            <a:xfrm>
              <a:off x="6328800" y="5227920"/>
              <a:ext cx="2635200" cy="144000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 числе первых 13 членов МОК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был педагог генерал А. Бутовски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убертен считал Бутовского свои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единомышленником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1994г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(международный год спорт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и олимпийского идеала)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00-лет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юбилей олимпийского движен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99"/>
                </a:solidFill>
                <a:latin typeface="Times New Roman"/>
              </a:rPr>
              <a:t>Олимпийские принципы, традиции, прави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Organization Chart 3"/>
          <p:cNvGrpSpPr/>
          <p:nvPr/>
        </p:nvGrpSpPr>
        <p:grpSpPr>
          <a:xfrm>
            <a:off x="442800" y="1052640"/>
            <a:ext cx="8521200" cy="5615280"/>
            <a:chOff x="442800" y="1052640"/>
            <a:chExt cx="8521200" cy="5615280"/>
          </a:xfrm>
        </p:grpSpPr>
        <p:cxnSp>
          <p:nvCxnSpPr>
            <p:cNvPr id="130" name="_s2052"/>
            <p:cNvCxnSpPr>
              <a:stCxn id="131" idx="0"/>
              <a:endCxn id="132" idx="2"/>
            </p:cNvCxnSpPr>
            <p:nvPr/>
          </p:nvCxnSpPr>
          <p:spPr>
            <a:xfrm flipV="1">
              <a:off x="4703040" y="4561560"/>
              <a:ext cx="3960" cy="7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3" name="_s2053"/>
            <p:cNvCxnSpPr>
              <a:stCxn id="134" idx="0"/>
              <a:endCxn id="135" idx="2"/>
            </p:cNvCxnSpPr>
            <p:nvPr/>
          </p:nvCxnSpPr>
          <p:spPr>
            <a:xfrm flipV="1">
              <a:off x="1720440" y="4561560"/>
              <a:ext cx="3960" cy="7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6" name="_s2054"/>
            <p:cNvCxnSpPr>
              <a:stCxn id="137" idx="0"/>
              <a:endCxn id="138" idx="2"/>
            </p:cNvCxnSpPr>
            <p:nvPr/>
          </p:nvCxnSpPr>
          <p:spPr>
            <a:xfrm flipV="1" rot="16200000">
              <a:off x="5843160" y="1315080"/>
              <a:ext cx="702360" cy="2982960"/>
            </a:xfrm>
            <a:prstGeom prst="bentConnector3">
              <a:avLst>
                <a:gd name="adj1" fmla="val 162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9" name="_s2055"/>
            <p:cNvCxnSpPr>
              <a:stCxn id="132" idx="0"/>
              <a:endCxn id="138" idx="2"/>
            </p:cNvCxnSpPr>
            <p:nvPr/>
          </p:nvCxnSpPr>
          <p:spPr>
            <a:xfrm flipV="1">
              <a:off x="4703040" y="2455560"/>
              <a:ext cx="3960" cy="702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0" name="_s2056"/>
            <p:cNvCxnSpPr>
              <a:stCxn id="135" idx="0"/>
              <a:endCxn id="138" idx="2"/>
            </p:cNvCxnSpPr>
            <p:nvPr/>
          </p:nvCxnSpPr>
          <p:spPr>
            <a:xfrm flipH="1" flipV="1" rot="5400000">
              <a:off x="2860920" y="1315440"/>
              <a:ext cx="702360" cy="2982960"/>
            </a:xfrm>
            <a:prstGeom prst="bentConnector3">
              <a:avLst>
                <a:gd name="adj1" fmla="val 162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8" name="_s2057"/>
            <p:cNvSpPr/>
            <p:nvPr/>
          </p:nvSpPr>
          <p:spPr>
            <a:xfrm>
              <a:off x="3425040" y="1052640"/>
              <a:ext cx="2556360" cy="1403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500" spc="-1" strike="noStrike">
                  <a:solidFill>
                    <a:srgbClr val="000000"/>
                  </a:solidFill>
                  <a:latin typeface="Times New Roman"/>
                </a:rPr>
                <a:t>Олимпийская хартия</a:t>
              </a: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 –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основной закон всемирного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движения, своего рода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конституция, свод основных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законов по которым живет мир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олимпийского спорта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_s2058"/>
            <p:cNvSpPr/>
            <p:nvPr/>
          </p:nvSpPr>
          <p:spPr>
            <a:xfrm>
              <a:off x="442800" y="3158280"/>
              <a:ext cx="2556360" cy="1403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«Олимпизм»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редставляет собой философию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жизни. Соединяет спорт с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культурой и образованием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тремится к созданию образ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жизни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_s2059"/>
            <p:cNvSpPr/>
            <p:nvPr/>
          </p:nvSpPr>
          <p:spPr>
            <a:xfrm>
              <a:off x="3425040" y="3158280"/>
              <a:ext cx="2556360" cy="1403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Целью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«олимпизма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является становление спорт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на службу гармоничному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развитию человека, с тем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чтобы способствовать созданию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мирового обществ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_s2060"/>
            <p:cNvSpPr/>
            <p:nvPr/>
          </p:nvSpPr>
          <p:spPr>
            <a:xfrm>
              <a:off x="6407640" y="3158280"/>
              <a:ext cx="2556360" cy="1403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«Олимпиада»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означает период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остоящий из четырех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оследовательных лет,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оторы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чинается в день открыти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етних олимпийских игр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 оканчивается с открытие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ледующих летних игр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2061"/>
            <p:cNvSpPr/>
            <p:nvPr/>
          </p:nvSpPr>
          <p:spPr>
            <a:xfrm>
              <a:off x="442800" y="5264280"/>
              <a:ext cx="2556360" cy="1403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 ней изложены принцип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лимпизма, правила организаци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и проведения Олимпийских игр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устройство олимпийск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движен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_s2062"/>
            <p:cNvSpPr/>
            <p:nvPr/>
          </p:nvSpPr>
          <p:spPr>
            <a:xfrm>
              <a:off x="3425040" y="5264280"/>
              <a:ext cx="2556360" cy="14036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1.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Этические принципы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мысл в благородстве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честности поведения спортсмена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2. 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Понятие гармоничног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развития человека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(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ильное тел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е единственное развитие спортсмена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е менее важен разум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Organization Chart 2"/>
          <p:cNvGrpSpPr/>
          <p:nvPr/>
        </p:nvGrpSpPr>
        <p:grpSpPr>
          <a:xfrm>
            <a:off x="324000" y="457200"/>
            <a:ext cx="8568720" cy="6138720"/>
            <a:chOff x="324000" y="457200"/>
            <a:chExt cx="8568720" cy="6138720"/>
          </a:xfrm>
        </p:grpSpPr>
        <p:cxnSp>
          <p:nvCxnSpPr>
            <p:cNvPr id="142" name="_s3076"/>
            <p:cNvCxnSpPr>
              <a:stCxn id="143" idx="0"/>
              <a:endCxn id="144" idx="2"/>
            </p:cNvCxnSpPr>
            <p:nvPr/>
          </p:nvCxnSpPr>
          <p:spPr>
            <a:xfrm flipV="1" rot="16200000">
              <a:off x="5659920" y="1859760"/>
              <a:ext cx="1228320" cy="3333240"/>
            </a:xfrm>
            <a:prstGeom prst="bentConnector3">
              <a:avLst>
                <a:gd name="adj1" fmla="val 92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5" name="_s3077"/>
            <p:cNvCxnSpPr>
              <a:stCxn id="146" idx="0"/>
              <a:endCxn id="144" idx="2"/>
            </p:cNvCxnSpPr>
            <p:nvPr/>
          </p:nvCxnSpPr>
          <p:spPr>
            <a:xfrm flipV="1" rot="16200000">
              <a:off x="4549320" y="2970360"/>
              <a:ext cx="1228320" cy="1111680"/>
            </a:xfrm>
            <a:prstGeom prst="bentConnector3">
              <a:avLst>
                <a:gd name="adj1" fmla="val 92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7" name="_s3078"/>
            <p:cNvCxnSpPr>
              <a:stCxn id="148" idx="0"/>
              <a:endCxn id="144" idx="2"/>
            </p:cNvCxnSpPr>
            <p:nvPr/>
          </p:nvCxnSpPr>
          <p:spPr>
            <a:xfrm flipH="1" flipV="1" rot="5400000">
              <a:off x="3438360" y="2971080"/>
              <a:ext cx="1228320" cy="1110960"/>
            </a:xfrm>
            <a:prstGeom prst="bentConnector3">
              <a:avLst>
                <a:gd name="adj1" fmla="val 92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49" name="_s3079"/>
            <p:cNvCxnSpPr>
              <a:stCxn id="150" idx="0"/>
              <a:endCxn id="144" idx="2"/>
            </p:cNvCxnSpPr>
            <p:nvPr/>
          </p:nvCxnSpPr>
          <p:spPr>
            <a:xfrm flipH="1" flipV="1" rot="5400000">
              <a:off x="2327400" y="1860120"/>
              <a:ext cx="1228320" cy="3332520"/>
            </a:xfrm>
            <a:prstGeom prst="bentConnector3">
              <a:avLst>
                <a:gd name="adj1" fmla="val 92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44" name="_s3080"/>
            <p:cNvSpPr/>
            <p:nvPr/>
          </p:nvSpPr>
          <p:spPr>
            <a:xfrm>
              <a:off x="3655800" y="457200"/>
              <a:ext cx="1904040" cy="245556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455560"/>
                <a:gd name="textAreaBottom" fmla="*/ 2362680 h 2455560"/>
              </a:gdLst>
              <a:ahLst/>
              <a:rect l="textAreaLeft" t="textAreaTop" r="textAreaRight" b="textAreaBottom"/>
              <a:pathLst>
                <a:path w="21600" h="27855">
                  <a:moveTo>
                    <a:pt x="3600" y="0"/>
                  </a:moveTo>
                  <a:arcTo wR="3600" hR="3600" stAng="16200000" swAng="-5400000"/>
                  <a:lnTo>
                    <a:pt x="0" y="24255"/>
                  </a:lnTo>
                  <a:arcTo wR="3600" hR="3600" stAng="10800000" swAng="-5400000"/>
                  <a:lnTo>
                    <a:pt x="18000" y="278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ий символ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редставляет собой пят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ереплетенных колец,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лицетворяет един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пяти континентов 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стречу спортсменов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сего мир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_s3081"/>
            <p:cNvSpPr/>
            <p:nvPr/>
          </p:nvSpPr>
          <p:spPr>
            <a:xfrm>
              <a:off x="324000" y="4140360"/>
              <a:ext cx="1904040" cy="245556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455560"/>
                <a:gd name="textAreaBottom" fmla="*/ 2362680 h 2455560"/>
              </a:gdLst>
              <a:ahLst/>
              <a:rect l="textAreaLeft" t="textAreaTop" r="textAreaRight" b="textAreaBottom"/>
              <a:pathLst>
                <a:path w="21600" h="27855">
                  <a:moveTo>
                    <a:pt x="3600" y="0"/>
                  </a:moveTo>
                  <a:arcTo wR="3600" hR="3600" stAng="16200000" swAng="-5400000"/>
                  <a:lnTo>
                    <a:pt x="0" y="24255"/>
                  </a:lnTo>
                  <a:arcTo wR="3600" hR="3600" stAng="10800000" swAng="-5400000"/>
                  <a:lnTo>
                    <a:pt x="18000" y="278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ий дев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«Быстрее, выше, сильнее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выражает устремления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ого движения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Автором был священник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Дидон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Citius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Altius</a:t>
              </a: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Foriu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_s3082"/>
            <p:cNvSpPr/>
            <p:nvPr/>
          </p:nvSpPr>
          <p:spPr>
            <a:xfrm>
              <a:off x="2545560" y="4140360"/>
              <a:ext cx="1904040" cy="245556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455560"/>
                <a:gd name="textAreaBottom" fmla="*/ 2362680 h 2455560"/>
              </a:gdLst>
              <a:ahLst/>
              <a:rect l="textAreaLeft" t="textAreaTop" r="textAreaRight" b="textAreaBottom"/>
              <a:pathLst>
                <a:path w="21600" h="27855">
                  <a:moveTo>
                    <a:pt x="3600" y="0"/>
                  </a:moveTo>
                  <a:arcTo wR="3600" hR="3600" stAng="16200000" swAng="-5400000"/>
                  <a:lnTo>
                    <a:pt x="0" y="24255"/>
                  </a:lnTo>
                  <a:arcTo wR="3600" hR="3600" stAng="10800000" swAng="-5400000"/>
                  <a:lnTo>
                    <a:pt x="18000" y="278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ая эмбле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5 колец с каким-нибудь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другим элементом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Эмблема МОК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ие кольц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Times New Roman"/>
                </a:rPr>
                <a:t>с девизом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«Быстрее, выше, сильнее»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Эмблема олимпийског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омитета России включен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3-цветное изображ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языка пламени, цвет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флага Росс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_s3083"/>
            <p:cNvSpPr/>
            <p:nvPr/>
          </p:nvSpPr>
          <p:spPr>
            <a:xfrm>
              <a:off x="4767120" y="4140360"/>
              <a:ext cx="1904040" cy="245556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455560"/>
                <a:gd name="textAreaBottom" fmla="*/ 2362680 h 2455560"/>
              </a:gdLst>
              <a:ahLst/>
              <a:rect l="textAreaLeft" t="textAreaTop" r="textAreaRight" b="textAreaBottom"/>
              <a:pathLst>
                <a:path w="21600" h="27855">
                  <a:moveTo>
                    <a:pt x="3600" y="0"/>
                  </a:moveTo>
                  <a:arcTo wR="3600" hR="3600" stAng="16200000" swAng="-5400000"/>
                  <a:lnTo>
                    <a:pt x="0" y="24255"/>
                  </a:lnTo>
                  <a:arcTo wR="3600" hR="3600" stAng="10800000" swAng="-5400000"/>
                  <a:lnTo>
                    <a:pt x="18000" y="278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ий флаг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дея Кубертена. МОК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твердил ее в 1913г. Фла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решено было поднят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 Играх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916г.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Помешал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ервая мировая война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Флаг впервые поднят в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920г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 закрытии представител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города,  проводившего игры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ередает президенту МОК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тот-мэру города-организатор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4 года флаг хранится в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задании муниципалитета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_s3084"/>
            <p:cNvSpPr/>
            <p:nvPr/>
          </p:nvSpPr>
          <p:spPr>
            <a:xfrm>
              <a:off x="6988680" y="4140360"/>
              <a:ext cx="1904040" cy="2455560"/>
            </a:xfrm>
            <a:custGeom>
              <a:avLst/>
              <a:gdLst>
                <a:gd name="textAreaLeft" fmla="*/ 92880 w 1904040"/>
                <a:gd name="textAreaRight" fmla="*/ 1811160 w 1904040"/>
                <a:gd name="textAreaTop" fmla="*/ 92880 h 2455560"/>
                <a:gd name="textAreaBottom" fmla="*/ 2362680 h 2455560"/>
              </a:gdLst>
              <a:ahLst/>
              <a:rect l="textAreaLeft" t="textAreaTop" r="textAreaRight" b="textAreaBottom"/>
              <a:pathLst>
                <a:path w="21600" h="27855">
                  <a:moveTo>
                    <a:pt x="3600" y="0"/>
                  </a:moveTo>
                  <a:arcTo wR="3600" hR="3600" stAng="16200000" swAng="-5400000"/>
                  <a:lnTo>
                    <a:pt x="0" y="24255"/>
                  </a:lnTo>
                  <a:arcTo wR="3600" hR="3600" stAng="10800000" swAng="-5400000"/>
                  <a:lnTo>
                    <a:pt x="18000" y="278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ий огон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Рождается от солнеч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учей у развалин храма Зевс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 Олимпии Кубертен в 1912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первые огонь зажгли на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грах 1928г в Амстердаме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  зимних -1952г. в Осло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Эстафета факелов впервы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остоялось в 1936г.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Московской олимпиаде огонь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зажигал олимпийски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чемпион баскетболист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ергей Белов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Picture 13" descr="                                                                                                    "/>
            <p:cNvPicPr/>
            <p:nvPr/>
          </p:nvPicPr>
          <p:blipFill>
            <a:blip r:embed="rId1"/>
            <a:srcRect l="27858" t="73741" r="27937" b="4724"/>
            <a:stretch/>
          </p:blipFill>
          <p:spPr>
            <a:xfrm>
              <a:off x="4140720" y="2417760"/>
              <a:ext cx="929880" cy="44244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Organization Chart 2"/>
          <p:cNvGrpSpPr/>
          <p:nvPr/>
        </p:nvGrpSpPr>
        <p:grpSpPr>
          <a:xfrm>
            <a:off x="179280" y="476280"/>
            <a:ext cx="8713080" cy="5975280"/>
            <a:chOff x="179280" y="476280"/>
            <a:chExt cx="8713080" cy="5975280"/>
          </a:xfrm>
        </p:grpSpPr>
        <p:cxnSp>
          <p:nvCxnSpPr>
            <p:cNvPr id="153" name="_s4100"/>
            <p:cNvCxnSpPr>
              <a:stCxn id="154" idx="0"/>
              <a:endCxn id="155" idx="2"/>
            </p:cNvCxnSpPr>
            <p:nvPr/>
          </p:nvCxnSpPr>
          <p:spPr>
            <a:xfrm flipV="1" rot="16200000">
              <a:off x="5462640" y="1938240"/>
              <a:ext cx="1195560" cy="3050280"/>
            </a:xfrm>
            <a:prstGeom prst="bentConnector3">
              <a:avLst>
                <a:gd name="adj1" fmla="val 95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6" name="_s4101"/>
            <p:cNvCxnSpPr>
              <a:stCxn id="157" idx="0"/>
              <a:endCxn id="155" idx="2"/>
            </p:cNvCxnSpPr>
            <p:nvPr/>
          </p:nvCxnSpPr>
          <p:spPr>
            <a:xfrm flipV="1">
              <a:off x="4535640" y="2865600"/>
              <a:ext cx="3960" cy="119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4102"/>
            <p:cNvCxnSpPr>
              <a:stCxn id="159" idx="0"/>
              <a:endCxn id="155" idx="2"/>
            </p:cNvCxnSpPr>
            <p:nvPr/>
          </p:nvCxnSpPr>
          <p:spPr>
            <a:xfrm flipH="1" flipV="1" rot="5400000">
              <a:off x="2413080" y="1938240"/>
              <a:ext cx="1195560" cy="3050280"/>
            </a:xfrm>
            <a:prstGeom prst="bentConnector3">
              <a:avLst>
                <a:gd name="adj1" fmla="val 954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5" name="_s4103"/>
            <p:cNvSpPr/>
            <p:nvPr/>
          </p:nvSpPr>
          <p:spPr>
            <a:xfrm>
              <a:off x="3228840" y="476280"/>
              <a:ext cx="2613960" cy="2390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лятва спортсменов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ервый текст Кубертен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 1913г.Впервые произнесе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920г. Клятва «От имени все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портсменов я обещаю, чт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мы будем участвовать в эти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грах, уважая и соблюдая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равила, по которым он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роводятся, в истинн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портивном духе, во славу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порта и во имя чест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воих команд»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4104"/>
            <p:cNvSpPr/>
            <p:nvPr/>
          </p:nvSpPr>
          <p:spPr>
            <a:xfrm>
              <a:off x="179280" y="4061520"/>
              <a:ext cx="2613960" cy="2390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Клятва судей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лятва арбитров Игр п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редложению ОК СССР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заложена на Играх-68 в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Мехико. Клятва «От имен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сех судей и официальных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иц я обещаю, что мы буде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ыполнять наши обязан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о время этих  Игр со все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беспристрастностью, уважа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 соблюдая правила, по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оторым они проводятся в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одлинно спортивном духе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4105"/>
            <p:cNvSpPr/>
            <p:nvPr/>
          </p:nvSpPr>
          <p:spPr>
            <a:xfrm>
              <a:off x="3228840" y="4061520"/>
              <a:ext cx="2613960" cy="2390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Талисман Игр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первые на играх в Мехико – появилс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талисман 68 (ягуар), Москва 80(мишка),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ос-Анджелесе 84 (орленок), Сеуле 88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(тигренок), Барселона 92 (пес), Атлант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(существо Иззи). Спортсмены 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болельщики слегка суеверны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_s4106"/>
            <p:cNvSpPr/>
            <p:nvPr/>
          </p:nvSpPr>
          <p:spPr>
            <a:xfrm>
              <a:off x="6278400" y="4061520"/>
              <a:ext cx="2613960" cy="239004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Times New Roman"/>
                </a:rPr>
                <a:t>Олимпийские награды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Вручают в каждом номере программы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обедителю и призерам: золотую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еребреные и бронзовую. Дипломам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аграждаются победители и призеры, 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частники занявшие 4-8 места в личных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 командных соревнованиях. Диплом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 памятные медали вручают все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частникам и официальным лица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команд. Орден учрежден в 1974г имее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2 степени: золотой и серебряный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За особые заслуги перед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олимпийским движением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Organization Chart 2"/>
          <p:cNvGrpSpPr/>
          <p:nvPr/>
        </p:nvGrpSpPr>
        <p:grpSpPr>
          <a:xfrm>
            <a:off x="108000" y="404640"/>
            <a:ext cx="8928360" cy="6264000"/>
            <a:chOff x="108000" y="404640"/>
            <a:chExt cx="8928360" cy="6264000"/>
          </a:xfrm>
        </p:grpSpPr>
        <p:cxnSp>
          <p:nvCxnSpPr>
            <p:cNvPr id="161" name="_s6148"/>
            <p:cNvCxnSpPr>
              <a:stCxn id="162" idx="1"/>
              <a:endCxn id="163" idx="2"/>
            </p:cNvCxnSpPr>
            <p:nvPr/>
          </p:nvCxnSpPr>
          <p:spPr>
            <a:xfrm rot="10800000">
              <a:off x="2763720" y="885600"/>
              <a:ext cx="727200" cy="55422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4" name="_s6149"/>
            <p:cNvCxnSpPr>
              <a:stCxn id="165" idx="0"/>
              <a:endCxn id="166" idx="2"/>
            </p:cNvCxnSpPr>
            <p:nvPr/>
          </p:nvCxnSpPr>
          <p:spPr>
            <a:xfrm flipV="1">
              <a:off x="6305760" y="5222520"/>
              <a:ext cx="7560" cy="2415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150"/>
            <p:cNvCxnSpPr>
              <a:stCxn id="166" idx="1"/>
              <a:endCxn id="163" idx="2"/>
            </p:cNvCxnSpPr>
            <p:nvPr/>
          </p:nvCxnSpPr>
          <p:spPr>
            <a:xfrm rot="10800000">
              <a:off x="2763720" y="885600"/>
              <a:ext cx="885960" cy="40964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6151"/>
            <p:cNvCxnSpPr>
              <a:stCxn id="169" idx="1"/>
              <a:endCxn id="163" idx="2"/>
            </p:cNvCxnSpPr>
            <p:nvPr/>
          </p:nvCxnSpPr>
          <p:spPr>
            <a:xfrm rot="10800000">
              <a:off x="2763720" y="885600"/>
              <a:ext cx="885960" cy="3373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0" name="_s6152"/>
            <p:cNvCxnSpPr>
              <a:stCxn id="171" idx="1"/>
              <a:endCxn id="163" idx="2"/>
            </p:cNvCxnSpPr>
            <p:nvPr/>
          </p:nvCxnSpPr>
          <p:spPr>
            <a:xfrm rot="10800000">
              <a:off x="2763720" y="885600"/>
              <a:ext cx="885960" cy="2652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6153"/>
            <p:cNvCxnSpPr>
              <a:stCxn id="173" idx="1"/>
              <a:endCxn id="163" idx="2"/>
            </p:cNvCxnSpPr>
            <p:nvPr/>
          </p:nvCxnSpPr>
          <p:spPr>
            <a:xfrm rot="10800000">
              <a:off x="2763720" y="885600"/>
              <a:ext cx="885960" cy="1928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6154"/>
            <p:cNvCxnSpPr>
              <a:stCxn id="175" idx="1"/>
              <a:endCxn id="163" idx="2"/>
            </p:cNvCxnSpPr>
            <p:nvPr/>
          </p:nvCxnSpPr>
          <p:spPr>
            <a:xfrm rot="10800000">
              <a:off x="2763720" y="885600"/>
              <a:ext cx="885960" cy="1206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6" name="_s6155"/>
            <p:cNvCxnSpPr>
              <a:stCxn id="177" idx="1"/>
              <a:endCxn id="163" idx="2"/>
            </p:cNvCxnSpPr>
            <p:nvPr/>
          </p:nvCxnSpPr>
          <p:spPr>
            <a:xfrm rot="10800000">
              <a:off x="2763720" y="885600"/>
              <a:ext cx="885960" cy="482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63" name="_s6156"/>
            <p:cNvSpPr/>
            <p:nvPr/>
          </p:nvSpPr>
          <p:spPr>
            <a:xfrm>
              <a:off x="108000" y="404640"/>
              <a:ext cx="531288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600" spc="-1" strike="noStrike">
                  <a:solidFill>
                    <a:srgbClr val="000000"/>
                  </a:solidFill>
                  <a:latin typeface="Times New Roman"/>
                </a:rPr>
                <a:t>Президенты МОК в разные г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_s6157"/>
            <p:cNvSpPr/>
            <p:nvPr/>
          </p:nvSpPr>
          <p:spPr>
            <a:xfrm>
              <a:off x="3649680" y="1127160"/>
              <a:ext cx="531288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Деметриус Викелас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греческий общественный деятель и поэт. Посл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роведения игр в Афинах подал в отставку. (1894-1896г)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год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6158"/>
            <p:cNvSpPr/>
            <p:nvPr/>
          </p:nvSpPr>
          <p:spPr>
            <a:xfrm>
              <a:off x="3649680" y="1850040"/>
              <a:ext cx="531288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Пьер де Кубертен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французский общественный деятель. Проведены игры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7 Олимпиад. Автор ритуалов, эмблемы, клятвы.(1896-1924) почти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лет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6159"/>
            <p:cNvSpPr/>
            <p:nvPr/>
          </p:nvSpPr>
          <p:spPr>
            <a:xfrm>
              <a:off x="3649680" y="2572920"/>
              <a:ext cx="531288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Анри де Байле-Латур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граф и спортсмен Бельгия. В 1906г организовал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НОК у себя на родине, был президентом до конца своих дней.(1925-1942)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_s6160"/>
            <p:cNvSpPr/>
            <p:nvPr/>
          </p:nvSpPr>
          <p:spPr>
            <a:xfrm>
              <a:off x="3649680" y="3295800"/>
              <a:ext cx="531288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Зигфрид Эдстрем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швед, инженер-электрик. Благодаря ему Игры1912г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прошли успешно, организовал легкоатлетическую федерацию (1943-1952)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8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6161"/>
            <p:cNvSpPr/>
            <p:nvPr/>
          </p:nvSpPr>
          <p:spPr>
            <a:xfrm>
              <a:off x="3649680" y="4018680"/>
              <a:ext cx="531288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Эвери Брендедж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(США) лучший легкоатлет своей страны. Стал обладателем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1 золотого Олимпийского ордена. Борец за идеи олимпизма.(1952-1972)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20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162"/>
            <p:cNvSpPr/>
            <p:nvPr/>
          </p:nvSpPr>
          <p:spPr>
            <a:xfrm>
              <a:off x="3649680" y="4741200"/>
              <a:ext cx="530712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Майкл Килланин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рландский журналист, лорд, активно занимался пропагандой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Спорта. Благодаря ему состоялись Игры в Москве. (1972-1980)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8 л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_s6163"/>
            <p:cNvSpPr/>
            <p:nvPr/>
          </p:nvSpPr>
          <p:spPr>
            <a:xfrm>
              <a:off x="3649680" y="5464080"/>
              <a:ext cx="530712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Хуан Антонио Самаранч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 реформатор олимпийского движения. Игры в Калгари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и Сеуле 1988 прошли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успешно. (1980-2001) </a:t>
              </a: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21 г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164"/>
            <p:cNvSpPr/>
            <p:nvPr/>
          </p:nvSpPr>
          <p:spPr>
            <a:xfrm>
              <a:off x="3490920" y="6186960"/>
              <a:ext cx="5545440" cy="48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Times New Roman"/>
                </a:rPr>
                <a:t>Жак Рогге </a:t>
              </a: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бельгиец, врач, 2 чемпион мира по парусному спорту, участник 3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Олимпиад, инициатор проведения Европейских олимпийских фестивалей. (2001-2013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3200" y="26028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идент М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2556000" y="4051440"/>
            <a:ext cx="4152600" cy="2797200"/>
          </a:xfrm>
          <a:prstGeom prst="rect">
            <a:avLst/>
          </a:prstGeom>
          <a:ln w="0">
            <a:noFill/>
          </a:ln>
        </p:spPr>
      </p:pic>
      <p:sp>
        <p:nvSpPr>
          <p:cNvPr id="180" name="Прямоугольник 6"/>
          <p:cNvSpPr/>
          <p:nvPr/>
        </p:nvSpPr>
        <p:spPr>
          <a:xfrm>
            <a:off x="250920" y="765000"/>
            <a:ext cx="8532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́мас Бах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деятель немецкого и международного олимпийского движения, президент Международного олимпийского комитета с 10 сентября 2013 года, в прошлом — президент Олимпийской спортивной конфедерации Германии. Президент апелляционного комитета Спортивного арбитражного суда. В прошлом — фехтовальщик на рапирах,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лимпийский чемпион 1976 год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мандном первенстве, чемпион мира 1977 года в командном первенств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образованию юрист, окончил университет Вюрцбурга. Свободно говорит, помимо родного немецкого, на французском, английском и испанском язык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Organization Chart 5"/>
          <p:cNvGrpSpPr/>
          <p:nvPr/>
        </p:nvGrpSpPr>
        <p:grpSpPr>
          <a:xfrm>
            <a:off x="0" y="476280"/>
            <a:ext cx="9143280" cy="6379560"/>
            <a:chOff x="0" y="476280"/>
            <a:chExt cx="9143280" cy="6379560"/>
          </a:xfrm>
        </p:grpSpPr>
        <p:cxnSp>
          <p:nvCxnSpPr>
            <p:cNvPr id="182" name="_s5124"/>
            <p:cNvCxnSpPr>
              <a:stCxn id="183" idx="0"/>
              <a:endCxn id="184" idx="2"/>
            </p:cNvCxnSpPr>
            <p:nvPr/>
          </p:nvCxnSpPr>
          <p:spPr>
            <a:xfrm flipV="1" rot="16200000">
              <a:off x="5533200" y="2065320"/>
              <a:ext cx="1276560" cy="3200760"/>
            </a:xfrm>
            <a:prstGeom prst="bentConnector3">
              <a:avLst>
                <a:gd name="adj1" fmla="val 209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5" name="_s5125"/>
            <p:cNvCxnSpPr>
              <a:stCxn id="186" idx="0"/>
              <a:endCxn id="184" idx="2"/>
            </p:cNvCxnSpPr>
            <p:nvPr/>
          </p:nvCxnSpPr>
          <p:spPr>
            <a:xfrm flipV="1">
              <a:off x="4571280" y="3027600"/>
              <a:ext cx="3240" cy="1276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5126"/>
            <p:cNvCxnSpPr>
              <a:stCxn id="188" idx="0"/>
              <a:endCxn id="184" idx="2"/>
            </p:cNvCxnSpPr>
            <p:nvPr/>
          </p:nvCxnSpPr>
          <p:spPr>
            <a:xfrm flipH="1" flipV="1" rot="5400000">
              <a:off x="2332800" y="2065320"/>
              <a:ext cx="1276560" cy="3200760"/>
            </a:xfrm>
            <a:prstGeom prst="bentConnector3">
              <a:avLst>
                <a:gd name="adj1" fmla="val 2090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4" name="_s5127"/>
            <p:cNvSpPr/>
            <p:nvPr/>
          </p:nvSpPr>
          <p:spPr>
            <a:xfrm>
              <a:off x="3200040" y="476280"/>
              <a:ext cx="2742840" cy="255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Фигурист Никола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Панин-Коломенкин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стал олимпийским1908 г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на 4 Олимпийских играх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 Лондо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5128"/>
            <p:cNvSpPr/>
            <p:nvPr/>
          </p:nvSpPr>
          <p:spPr>
            <a:xfrm>
              <a:off x="0" y="4304160"/>
              <a:ext cx="2742840" cy="255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ервы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редставитель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России в М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был генера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Алексей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Дмитриевич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Бутовский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5129"/>
            <p:cNvSpPr/>
            <p:nvPr/>
          </p:nvSpPr>
          <p:spPr>
            <a:xfrm>
              <a:off x="3200040" y="4304160"/>
              <a:ext cx="2742840" cy="255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 зимних Олимпийски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играх СССР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дебютировал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 1956 г на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7 игра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в Кортина д,Ампеццо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Итал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_s5130"/>
            <p:cNvSpPr/>
            <p:nvPr/>
          </p:nvSpPr>
          <p:spPr>
            <a:xfrm>
              <a:off x="6400440" y="4304160"/>
              <a:ext cx="2742840" cy="2551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Первая советска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Олимпийская чемпион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в1952г. Хельсинки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Times New Roman"/>
                </a:rPr>
                <a:t>Финлянд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Ромашкова-Пономаре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Times New Roman"/>
                </a:rPr>
                <a:t>метание дис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Евгения Ю. Бахилина</cp:lastModifiedBy>
  <dcterms:modified xsi:type="dcterms:W3CDTF">2014-10-13T03:19:51Z</dcterms:modified>
  <cp:revision>41</cp:revision>
  <dc:subject/>
  <dc:title>PowerPoint Presentation</dc:title>
</cp:coreProperties>
</file>