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75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72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640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640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7AB4-8629-4792-A74E-B224A91C7E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4AA6-55EE-4C10-9588-C854DF7494F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ACC-20C2-43C2-B3D3-EDBE4C6A39D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91A3-AA19-408C-A691-64CCE55DD9C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4A23-F635-411F-B79B-70BE5307A2A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A45-5465-4AEB-80EC-FA1ED43A8F0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DDE-B762-46CB-B21B-0C140D1A875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3890-876F-4AE0-A46C-9421848A255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F08-C823-4BC6-A8BE-10938EDDD68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2591-7DBC-4566-B009-A0AE80A408C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392-9760-4B8C-8C19-37B1896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B73-A6E1-4EBF-BAE3-B17C7F8F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194-059B-4D2F-9C6C-2A180C6B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FB3-2FF1-4697-8288-CBF2A555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76C-514E-4EA9-8D01-48EBA2A3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8E3C-6392-41D2-8D97-E150E2AE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D74B-ACC5-487C-81BB-7A6D90C9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230-911B-41A7-B63D-C37252D5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C264-F813-498D-BD72-B5A39D8F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0A34-0F10-4ADD-9ACA-5B02A9E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426A-EAC5-4691-B280-A9E48CB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C4A-8E12-455D-B30D-87FF0CF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7746-C5D1-46F4-945F-28214BFB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ACF-BB7B-4772-8145-64BE17F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5E21-AF35-4FF0-AD57-807873F7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9551-0F01-4A46-9FE4-E77B3059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DEE-661F-453B-BD60-636D41FC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4E0-C22C-41BA-BF6C-6FBD463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2C9-E0D3-47C8-9A2E-B27DC7FE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F7F-A11F-48CB-A9B0-D6CE9C5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671-7D65-4B2E-9A68-C3DEE227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537-9C87-41E5-B41D-76B9164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37D-8F72-452C-9085-5324984D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D1B-384B-454F-AE9C-F4A11ED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E8B-AAFE-4659-B913-79EA3800469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B922-0011-49DA-A69E-339BFB579AA6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т конфликта к культуре психологического общения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5640" y="435132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«Умение избежать конфликта — одна из составных частей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педагогической мудрости учителя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Предупреждая конфликт, педагог не только охраняет,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но и создает воспитательную силу коллектива»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В.А.Сухомлинский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59280" y="333360"/>
            <a:ext cx="5760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Семинар для педагогов ГБОУ СОШ № 386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21. 01. 2016 г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785880" y="185724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b5249"/>
                </a:solidFill>
                <a:latin typeface="Times New Roman"/>
              </a:rPr>
              <a:t>Практическая часть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00040"/>
            <a:ext cx="7772400" cy="14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Единый алгоритм решения любого школьного конфликт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320" y="1285920"/>
            <a:ext cx="84294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ервое, что окажет пользу, когда проблема назрела, это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спокойстви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торой момент — анализ ситуации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ез предвзятост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Третьим важным пунктом является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ткрытый диалог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 между конфликтующими сторонами, умение выслушать собеседника, спокойно изложить свой взгляд на проблему конфликт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Четвертое, что поможет прийти к нужному конструктивному итогу —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ыявление общей цел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, способов решения проблемы, позволяющих к этой цели прийт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ятым станут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ыводы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, которые помогут избежать ошибок общения и взаимодействия в будуще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680" y="142848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сякая ошибка учителя при разрешении конфликта порождает новые ситуации и конфликты, в которые включаются другие ученики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нфликт в педагогической деятельности легче предупредить, чем успешно разрешить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нфликты с родителями решаются на правовой основ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007800" y="785880"/>
            <a:ext cx="34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 вооружение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дуйтесь жизни! Живите без конфликтов! Удачи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Радость - это маленькие Счастье, Любовь и Свобода, которые хотят заполнить собой все пространство и объять необъятное. &#10;Пусть эти маленькие Чудеса преследуют всех и будут неотъемлемой частью каждого. &#10;Ищите Радость в мелочах и Чудите сами. "/>
          <p:cNvPicPr/>
          <p:nvPr/>
        </p:nvPicPr>
        <p:blipFill>
          <a:blip r:embed="rId2"/>
          <a:stretch/>
        </p:blipFill>
        <p:spPr>
          <a:xfrm>
            <a:off x="1714680" y="2286000"/>
            <a:ext cx="60721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радость на иврите"/>
          <p:cNvPicPr/>
          <p:nvPr/>
        </p:nvPicPr>
        <p:blipFill>
          <a:blip r:embed="rId3"/>
          <a:stretch/>
        </p:blipFill>
        <p:spPr>
          <a:xfrm>
            <a:off x="1714680" y="2286000"/>
            <a:ext cx="61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Причины конфликтов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124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предсказуемость поведе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хранить свой социальный статус любыми средствами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характер отношений, которые уже сложились между отдельными личностям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ичностные качества оппонентов (раздражительность,   грубость, мстительность,   самодовольство,   беспомощность   и др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эмоциональное состояние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отест против несправедливост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и т.д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8001000" cy="11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Стили поведения в конфликтной ситуац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38080" y="2514600"/>
            <a:ext cx="8001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b5249"/>
                </a:solidFill>
                <a:latin typeface="Times New Roman"/>
              </a:rPr>
              <a:t>  </a:t>
            </a: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  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клонен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  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отивоборство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компромисс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испособление (уступчивость)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сотрудничество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57160" y="857160"/>
            <a:ext cx="78580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Уклонение</a:t>
            </a:r>
            <a:r>
              <a:rPr b="1" i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избегание, уход)</a:t>
            </a:r>
            <a:r>
              <a:rPr b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ход от ответственности за реше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исход конфликта для индивида не особенно важен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 индивида не хватает власти для решения конфликта в свою пользу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зобновление конфлик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42960" y="733320"/>
            <a:ext cx="8001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Противоборство, конкуренция</a:t>
            </a:r>
            <a:r>
              <a:rPr b="0" i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ктивной борьбой индивида за свои интерес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именением власти, принуждения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прос победы или поражения, что предполагает жесткую позицию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сугубление конфлик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14400" y="1295280"/>
            <a:ext cx="79246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</a:rPr>
              <a:t>При </a:t>
            </a: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компромиссе</a:t>
            </a:r>
            <a:r>
              <a:rPr b="0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оиски решения за счет взаимных уступок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ыработка промежуточного решения, устраивающего обе сторон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решение на определенный период времен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42960" y="785880"/>
            <a:ext cx="80722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Уступчивость, приспособление</a:t>
            </a:r>
            <a:r>
              <a:rPr b="0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сохранение или восстановление благоприятных отношений с оппонентом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сглаживание разногласий за счет собственных интересо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ажнее сохранить хорошие отношения с оппонентом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зможно разрешение конфлик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71680" y="714240"/>
            <a:ext cx="82674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Сотрудничество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индивид активно участвует в поиск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решения, не забывая при этом и свои интерес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открытый обмен мнениям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обсуждение вопрос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ыработка общего решения с соблюдением интересов всех участников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42960" y="642960"/>
            <a:ext cx="80722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зависимо от выбора пути решения конфликта следует помнить, что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структивный конфликт – </a:t>
            </a:r>
            <a:r>
              <a:rPr b="0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средство изменений и роста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Агрессия вызывает только агрессию в ответ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Для вмешательства в конфликт необходимо четко знать причины его возникновения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Решение не может гарантировать изменение человека, тем более за 1-2 дня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фликтная ситуация и конфликт при умелом использовании механизмов управления могут стать эффективными средствами воспитательного процесс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14:19Z</dcterms:created>
  <dc:creator>АЛЕНА</dc:creator>
  <dc:description/>
  <dc:language>en-US</dc:language>
  <cp:lastModifiedBy>1</cp:lastModifiedBy>
  <dcterms:modified xsi:type="dcterms:W3CDTF">2016-01-21T10:31:00Z</dcterms:modified>
  <cp:revision>84</cp:revision>
  <dc:subject/>
  <dc:title>Конфликты  и пути их решения</dc:title>
</cp:coreProperties>
</file>