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675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72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7640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680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7640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59C0-9D07-4927-9E5B-4DF16EE092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7AED-838E-4EA6-8150-7C0086D5CFBE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19B6-F100-4962-8145-75AACD0E4B4D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F6EC-AA90-4EB9-B903-A738F1B4B90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3756-CE2A-4124-A3D1-C121B2108C5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175E-BA6B-4704-BF7F-A054FFCAF81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ECC1-6187-42F9-8213-AF598077519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F026-FA62-4AF9-B169-9844DEE34AA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EDFB-7B1D-4F9D-82B7-C0DE9325E3D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0DD4-7373-4B60-B151-933FD74448C3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FDD-9CC7-408B-8291-313C9D79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A8F-58D6-41F8-90EB-5ADB7C57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6D4-0330-47DA-B650-BA946AC5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663-D30C-4452-A3CE-CB8A3238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2C15-4B4E-4F92-9C4D-4E95D2A1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0B38-F44D-4997-8966-9171A83C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8424-04AA-4DC1-B350-6D63CC9D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E580-8CCC-4DE6-A1D6-F13E4157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E253-A517-41BD-AE2D-7BA4101B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540F-8EA7-4852-9E00-00ACC34F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94E6-DA3A-4559-9E07-BDE7F047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CDE-324A-4304-901E-1DA3C10A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8AF0-3632-4E76-8F00-26EC97D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860F-6FDB-413B-8C03-09056233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4AF1-4204-459A-A116-A5D7319A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6930-D0FA-47F4-B787-E8C75C40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596C-38D8-46FD-A992-ED44D8B0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C12-75D3-4196-8FE4-EA24BAF7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F29-2F2F-4E7D-9007-0C984734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862-E7BD-4FD4-A91C-0B0D88B9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C65-71E0-486B-9E82-E0BD270B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6F1-0C1D-4B64-B917-DA4E4A84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5D7-0297-4F7E-9FFD-B5F22900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330-4E27-4CB1-AEF8-35ECB2E0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E30B-4A4F-4A89-8977-5DF3EDA683D9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51E7-E9A3-4EF8-80FB-F365D8940DBC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т конфликта к культуре психологического общения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5640" y="435132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«Умение избежать конфликта — одна из составных частей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педагогической мудрости учителя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Предупреждая конфликт, педагог не только охраняет,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но и создает воспитательную силу коллектива»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b5249"/>
                </a:solidFill>
                <a:latin typeface="Arial"/>
              </a:rPr>
              <a:t>В.А.Сухомлинский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59280" y="333360"/>
            <a:ext cx="5760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Семинар для педагогов ГБОУ СОШ № 386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21. 01. 2016 г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785880" y="185724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5b5249"/>
                </a:solidFill>
                <a:latin typeface="Times New Roman"/>
              </a:rPr>
              <a:t>Практическая часть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00040"/>
            <a:ext cx="7772400" cy="14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a3d7a"/>
                </a:solidFill>
                <a:latin typeface="Times New Roman"/>
              </a:rPr>
              <a:t>Единый алгоритм решения любого школьного конфликт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1320" y="1285920"/>
            <a:ext cx="84294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ервое, что окажет пользу, когда проблема назрела, это 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спокойстви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торой момент — анализ ситуации 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ез предвзятост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Третьим важным пунктом является 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ткрытый диалог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 между конфликтующими сторонами, умение выслушать собеседника, спокойно изложить свой взгляд на проблему конфликт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Четвертое, что поможет прийти к нужному конструктивному итогу —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ыявление общей цел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, способов решения проблемы, позволяющих к этой цели прийт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ятым станут 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ыводы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, которые помогут избежать ошибок общения и взаимодействия в будущем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680" y="142848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сякая ошибка учителя при разрешении конфликта порождает новые ситуации и конфликты, в которые включаются другие ученики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нфликт в педагогической деятельности легче предупредить, чем успешно разрешить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нфликты с родителями решаются на правовой основ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3007800" y="785880"/>
            <a:ext cx="34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 вооружение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адуйтесь жизни! Живите без конфликтов! Удачи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Радость - это маленькие Счастье, Любовь и Свобода, которые хотят заполнить собой все пространство и объять необъятное. &#10;Пусть эти маленькие Чудеса преследуют всех и будут неотъемлемой частью каждого. &#10;Ищите Радость в мелочах и Чудите сами. "/>
          <p:cNvPicPr/>
          <p:nvPr/>
        </p:nvPicPr>
        <p:blipFill>
          <a:blip r:embed="rId2"/>
          <a:stretch/>
        </p:blipFill>
        <p:spPr>
          <a:xfrm>
            <a:off x="1714680" y="2286000"/>
            <a:ext cx="60721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радость на иврите"/>
          <p:cNvPicPr/>
          <p:nvPr/>
        </p:nvPicPr>
        <p:blipFill>
          <a:blip r:embed="rId3"/>
          <a:stretch/>
        </p:blipFill>
        <p:spPr>
          <a:xfrm>
            <a:off x="1714680" y="2286000"/>
            <a:ext cx="61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Причины конфликтов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8124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епредсказуемость поведения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хранить свой социальный статус любыми средствами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характер отношений, которые уже сложились между отдельными личностям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личностные качества оппонентов (раздражительность,   грубость, мстительность,   самодовольство,   беспомощность   и др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эмоциональное состояние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протест против несправедливост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и т.д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066320"/>
            <a:ext cx="8001000" cy="11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Стили поведения в конфликтной ситуац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38080" y="2514600"/>
            <a:ext cx="8001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b5249"/>
                </a:solidFill>
                <a:latin typeface="Times New Roman"/>
              </a:rPr>
              <a:t>  </a:t>
            </a: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  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клонение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  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противоборство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компромисс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приспособление (уступчивость)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сотрудничество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57160" y="857160"/>
            <a:ext cx="785808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Уклонение</a:t>
            </a:r>
            <a:r>
              <a:rPr b="1" i="1" lang="ru-RU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(избегание, уход)</a:t>
            </a:r>
            <a:r>
              <a:rPr b="1" lang="ru-RU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</a:t>
            </a:r>
            <a:r>
              <a:rPr b="0" lang="ru-RU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ход от ответственности за решения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исход конфликта для индивида не особенно важен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 индивида не хватает власти для решения конфликта в свою пользу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озобновление конфликт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42960" y="733320"/>
            <a:ext cx="8001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Противоборство, конкуренция</a:t>
            </a:r>
            <a:r>
              <a:rPr b="0" i="1" lang="ru-RU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активной борьбой индивида за свои интересы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применением власти, принуждения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опрос победы или поражения, что предполагает жесткую позицию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сугубление конфликт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14400" y="1295280"/>
            <a:ext cx="792468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</a:rPr>
              <a:t>При </a:t>
            </a: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компромиссе</a:t>
            </a:r>
            <a:r>
              <a:rPr b="0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поиски решения за счет взаимных уступок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ыработка промежуточного решения, устраивающего обе стороны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решение на определенный период времен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42960" y="785880"/>
            <a:ext cx="807228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Уступчивость, приспособление</a:t>
            </a:r>
            <a:r>
              <a:rPr b="0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сохранение или восстановление благоприятных отношений с оппонентом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сглаживание разногласий за счет собственных интересо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ажнее сохранить хорошие отношения с оппонентом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озможно разрешение конфликт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571680" y="714240"/>
            <a:ext cx="82674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Сотрудничество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индивид активно участвует в поиск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решения, не забывая при этом и свои интересы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открытый обмен мнениям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обсуждение вопрос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b5249"/>
              </a:buClr>
              <a:buFont typeface="Arial"/>
              <a:buChar char="•"/>
              <a:tabLst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ыработка общего решения с соблюдением интересов всех участников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42960" y="642960"/>
            <a:ext cx="80722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Независимо от выбора пути решения конфликта следует помнить, что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структивный конфликт – </a:t>
            </a:r>
            <a:r>
              <a:rPr b="0" lang="ru-RU" sz="2400" spc="-1" strike="noStrike" u="sng">
                <a:solidFill>
                  <a:srgbClr val="5b5249"/>
                </a:solidFill>
                <a:uFillTx/>
                <a:latin typeface="Times New Roman"/>
              </a:rPr>
              <a:t>средство изменений и роста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- Агрессия вызывает только агрессию в ответ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- Для вмешательства в конфликт необходимо четко знать причины его возникновения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- Решение не может гарантировать изменение человека, тем более за 1-2 дня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фликтная ситуация и конфликт при умелом использовании механизмов управления могут стать эффективными средствами воспитательного процесс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14:19Z</dcterms:created>
  <dc:creator>АЛЕНА</dc:creator>
  <dc:description/>
  <dc:language>en-US</dc:language>
  <cp:lastModifiedBy>1</cp:lastModifiedBy>
  <dcterms:modified xsi:type="dcterms:W3CDTF">2016-01-21T10:31:00Z</dcterms:modified>
  <cp:revision>84</cp:revision>
  <dc:subject/>
  <dc:title>Конфликты  и пути их решения</dc:title>
</cp:coreProperties>
</file>