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B89-D324-4580-A78F-738615C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302-4855-4221-9FA0-863ACC9D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7D5-8E4A-4CF2-8E94-FAFE1A80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792-5FD8-4F38-9FF2-5044DB75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C2A-C3A1-4D80-A0C2-966537FC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07F5-C96A-4795-B0E1-9E40FC8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BA38-85DF-4380-A999-828B27A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797F-4C0B-4531-AE99-5D3D86C3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A72-3B7C-4F8B-9EB6-58F86B14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67C-6D83-415B-A2C5-C400B499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FFA-7A86-4413-A984-9A4A17B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27B-1199-45AD-8053-9266FC2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A70C-4D9D-46ED-BE0B-A186CE0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821-46E0-441D-A15A-B208933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019-FFA6-4185-8F98-702C33EE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0514-4277-4760-97D7-3AEED9FB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B7CF-ECB8-406E-9E11-8899E95A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B530-7506-40AF-ACF9-C74CF6BD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DEE1-A94B-4432-A944-A6D7216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3B92-4968-4939-8299-A36EAF89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C17A-49FA-4383-B558-FD2CDF9E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19D4-8A08-4641-BA11-B090B995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9C5-6A7A-4242-A1CD-F5DE96D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7D95-4084-4478-92EA-3870E3D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249D-8967-4EA4-88AF-FC8AE12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D9BC-9124-47E1-9B48-8A3219B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9081-0816-4466-A6D6-5979EE8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1778-7393-4D28-9C4F-91E9F320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B0BD-9C6F-48BE-91AA-698AEF11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5191-990F-4732-B979-A3577D9D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0712-FDAD-461C-BC22-7CF35A6C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AD1D-1CE5-417B-9B93-35CA4F0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3A22-B4AC-4D1A-B2BE-F57E40E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922-936C-4EDD-AD30-F52B558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9086-DA32-433C-AFF5-DF49FFE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DA7C-52BC-4BE5-B1C6-60BFD831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1EEA-B64D-4CD8-A0EA-FCE2FC0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4BE1-CC03-49FF-9B76-5DCE9C4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8A02-3DFF-471B-A787-BDFF4A4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747F-DD32-49CC-B385-B68F191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F288-6841-449A-9AC8-0567D9E7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B71D-CFF5-4FCC-9E53-40155A9B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8855-E5A3-411E-906E-3FB9B256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DF41-A732-459B-8AD5-4FA63E63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FF0-04DC-4B20-9920-4534050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0A98-42B1-4C74-AB82-72967A6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31C3-99D3-4FE3-B019-28897CFB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42D0D-32A6-4D38-84EB-8B56B170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95FA0-38C0-4B7C-9074-D519D1A9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EFCE-7B58-45D6-AE0C-67962DF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4DD4-32B9-4D56-A313-1F7C0CC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81CF-A289-4CB9-90A6-2373EA16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3A55-94BD-4C2B-BE8F-B9EA539C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EDBA-B193-45F9-8246-108C6CC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4645-9BF7-4B75-9BF9-032398A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099-D639-4E7C-8F6A-5EE4D27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70F4-B3E9-4D95-B4C8-3896980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4FF28-FB5A-4306-A0E1-C0C8FE37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CE7B-7B10-4F50-96D1-5190279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3EAA-B946-408E-AE39-7CFC36B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397B-E8D3-4205-AE27-DBDBF45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7DDF-4D78-4846-9B41-AD0EC95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4FC2-4816-4E88-A7AB-C3935A4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B7D0-F48E-445A-9B05-217315D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C422-9033-4BF4-9B6E-9B25704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1591E-E525-4B6B-8419-47E046F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DE1-0085-4F85-B6DB-7E5671A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01C7F-6A10-4EB5-95D9-AA2F1E0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052C-C0B6-4AD9-9A8E-0AF6DE38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5F4E-F99F-4377-BFA6-F6370B9A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B873-7FCE-40AA-8616-1F06FEC9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37B0-1177-4822-AAFC-1BFAFB91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056A-9B4B-4773-A38E-408F8F9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105F-E0F9-4877-BC53-3EB0FAE1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02127-5E5C-47E2-BEF6-9B3B326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DE66-BC9C-48CD-A641-1A45155D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9F2A-31C2-4AAB-99A6-3C4BBAA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08F-49B4-4498-A23A-60EE9F9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ADC4-4E87-4E5E-871B-ED8B6B6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9AC6-B679-42A1-988D-44D1ADD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99941-14AE-4167-BD25-7D42310A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C6FF-77B5-4125-8862-3840A301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6603-8571-475E-A3FA-79E9BB92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BBB-E54B-44C9-90C0-0EFD5FF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0048-DE40-4354-892B-71BCB9B98DE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22C-CFCC-4FBF-94EC-3BC485FD02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6DF-4C87-49E0-9438-A2CD8FD6619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DC25-3162-4FAF-9E07-E241720DD5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3B9-EDB0-4172-920E-E521C36D2AC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F69-A9AE-4066-9195-F24F6A4C2F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E140-8DFA-4608-A6AB-3FEB74B7E30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E37D-587D-44C3-A9F5-AC1ED74E04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5BF-8DF2-4C69-A1BE-959ADCB1A46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2FA1-A442-45CD-8228-E1EFE58D19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3C0-7D49-45EC-9C17-668AFC70D56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884-93A1-4CA9-ABF4-4737579885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EBC-FE49-43A0-B3AD-6CFA7DB72DA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2D4-46DF-4ABE-8302-50335334C5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sdn.ru/museum/catalogue/exhibit9159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ановка проблемы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71920" y="1785600"/>
            <a:ext cx="5572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цепь велика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– расскочилася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им концом по барину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гим – по мужику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muzruk.info/wp-content/uploads/2012/04/nekrasov1.jpg"/>
          <p:cNvPicPr/>
          <p:nvPr/>
        </p:nvPicPr>
        <p:blipFill>
          <a:blip r:embed="rId1"/>
          <a:stretch/>
        </p:blipFill>
        <p:spPr>
          <a:xfrm>
            <a:off x="71280" y="1585800"/>
            <a:ext cx="4000680" cy="462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BE2-D77B-4F9E-BE68-185DD09D62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Подготовка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1360" y="1447920"/>
            <a:ext cx="807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читайте пункт 1 на с. 138-141 и выполните задание на следующем слайде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E1D-A968-46BA-9C09-5B81721A48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cs414928.vk.me/u329122237/docs/a0b2978dd9e5/slide_9.jpg?extra=mHGBiise0djajlgC-6l2B1QIOpWpIfWXOZsOr394f-BmZVKOi551YXFj7wm9cLpudAuiAOxMIEIwS9e65nRW1AqLjkjzmaKZ-LPO0SrhcWptBLSrVpDCvq4kFT_IpH4-4hL7WzpDSh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B66-C14D-45FF-B072-DE2984FD41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4"/>
          <p:cNvCxnSpPr/>
          <p:nvPr/>
        </p:nvCxnSpPr>
        <p:spPr>
          <a:xfrm>
            <a:off x="1071360" y="2714400"/>
            <a:ext cx="2858040" cy="5720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6"/>
          <p:cNvCxnSpPr/>
          <p:nvPr/>
        </p:nvCxnSpPr>
        <p:spPr>
          <a:xfrm>
            <a:off x="2357280" y="2356920"/>
            <a:ext cx="4501440" cy="10724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8"/>
          <p:cNvCxnSpPr/>
          <p:nvPr/>
        </p:nvCxnSpPr>
        <p:spPr>
          <a:xfrm flipH="1">
            <a:off x="785520" y="2143080"/>
            <a:ext cx="2929680" cy="12866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4" name="Прямая со стрелкой 10"/>
          <p:cNvCxnSpPr/>
          <p:nvPr/>
        </p:nvCxnSpPr>
        <p:spPr>
          <a:xfrm flipH="1">
            <a:off x="4928400" y="1785960"/>
            <a:ext cx="2520" cy="135792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5" name="Прямая со стрелкой 16"/>
          <p:cNvCxnSpPr/>
          <p:nvPr/>
        </p:nvCxnSpPr>
        <p:spPr>
          <a:xfrm flipH="1">
            <a:off x="2642400" y="1500120"/>
            <a:ext cx="3786840" cy="164376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18"/>
          <p:cNvCxnSpPr/>
          <p:nvPr/>
        </p:nvCxnSpPr>
        <p:spPr>
          <a:xfrm flipH="1">
            <a:off x="8213400" y="1214280"/>
            <a:ext cx="2160" cy="192960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Ход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Манифеста об отмене крепостного права заполните схем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ав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A0E-4141-45DF-A814-F45ABF088F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776160" y="785880"/>
            <a:ext cx="8367840" cy="607212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0B1-7337-4D88-95B8-4F78A2CD19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887840" y="342900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958640" y="342900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ав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1812600" y="564372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ременнообяз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6508080" y="563076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бстве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бота с визуальным источник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едставьте себя в роли помещик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ина. Ваша реакция на порядок выплаты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3AF-CA34-4A7B-ADC8-50648482E9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Последств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0008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исторической науке нет единой точки зрения на последствия реформы 1861 г. Ряд ученых считает, что реформа явилась безусловным добром для России. А как считаете В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обходим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ведите Вашу точку зрения и 3 аргумента в ее защиту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вышенн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ведите по 2 аргумента в защиту и опровержение представленной точки зр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69F-B028-4981-909E-DDF3128576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чники иллюстра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muzruk.info/?p=952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2: 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vsdn.ru/museum/catalogue/exhibit9159.ht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festival.1september.ru/articles/606515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032-1A23-4711-9F17-DD5C987E65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блема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91404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отрывка предположите, что означает «Цепь великая»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ак оценивает Некрасов отмену крепостного прав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гласны ли вы с оценкой автор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DFB-B53B-4407-B965-490CB67A6F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4"/>
          <p:cNvSpPr/>
          <p:nvPr/>
        </p:nvSpPr>
        <p:spPr>
          <a:xfrm>
            <a:off x="857160" y="542916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мена крепостного права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Добро или Зло для Российской империи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4073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естьянска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форма 1861 г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BB94-D611-4531-B7DD-4168A09675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остоятельно выяснить, смог ли Александр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 разработке реформы учесть интересы и помещиков, и крестьян.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142A-35F9-41DF-8758-B58CFC6E31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лгоритм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помнить причины проведен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ссмотреть подготовку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анализировать основной документ – Манифест об освобождении крестьян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явить достоинства и недостатки реформы. Определить последств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529-599B-424C-B87C-0CD27CC2D6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4280" y="1856880"/>
            <a:ext cx="7498080" cy="34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пределите причины отмены крепостного права, указанные в исторических источниках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9C9E-AB6D-4659-B873-96232A49A0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1.Письмо помещика А.И. Кошеле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зглянем на барщинную работу. Придет крестьянин сколь возможно позже, осматривается, и оглядывается сколь возможно чаще и дольше, а работает сколь возможно меньше, - ему не дело делать, а день убить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5CFB-96B2-4001-8BDB-FE789D1993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2. Из отчет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деления канцелярии Его императорского величест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ообще крепостное состояние есть пороховой погреб под государством и тем опаснее, что войско составлено из крестьян же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7CEC-987E-4963-BD5D-8CB4199634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3.Из воспоминаний журналиста  И. Горизонтова об обороне Севастопол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увствовалось, что нас победила Европа не храбростью, не личной доблестью, а посредством умственного развития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E7E-46BD-496F-9AE8-35561AEADC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7:39:35Z</dcterms:created>
  <dc:creator>Antony</dc:creator>
  <dc:description/>
  <dc:language>en-US</dc:language>
  <cp:lastModifiedBy>А. Турков</cp:lastModifiedBy>
  <dcterms:modified xsi:type="dcterms:W3CDTF">2016-03-22T06:35:16Z</dcterms:modified>
  <cp:revision>21</cp:revision>
  <dc:subject/>
  <dc:title>Крестьянская реформа 1861 г.</dc:title>
</cp:coreProperties>
</file>