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D9D-3F02-4A7D-8CD6-E320E5A8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1D4-A6AC-4882-9F53-0F291E60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61D-CC46-4694-82B7-E6FCA511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4F0-E112-4CED-8657-C24EFE10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CF9D-CF69-4A8B-B6B6-F54E1CB7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56C1-2751-487D-857C-32F93A14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E054-A7DA-4DEC-A21C-CE534B0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C87-63A3-4750-839F-8AECF24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913-9C29-44FF-B339-6276E57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E9E-F751-414A-BE28-A150131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0653-F806-4AC8-85F0-DDBD94D2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A27-0CB4-498E-BDF7-000F2E2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ED87-B9C3-477F-853C-11C918B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E907-B161-40D4-8894-4E696D2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7B7-C68B-4F66-BFDC-B4AF8AE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FAAA-2953-4F71-ACC5-63B098C4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3D03-EEF4-4F8B-83E8-A598C034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1859-3BAC-4469-B0D4-451B78C0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5FDA-D2AA-4F23-8E59-EB184102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0627-F9B9-404A-8C1D-2F9E49E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A054-1CD8-4063-A725-E3DB6F8C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A1E2-277E-4A78-A938-6A93C088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881-91E3-42FF-9AF2-73F66622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154E-BAC1-415D-80F9-81B1EF01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5ACA-4116-4724-A826-14C3118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CE99-7B08-4B1F-A730-7D032E1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7DFF-B1F2-4CCE-A97F-23A78A7A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D2D6-ADF6-4D4C-BFE5-61A0F0E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E8AD-2B80-49CF-ACFD-181F0CA2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C5AF-3D6C-4ABD-B44C-EA8D746C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8153-E6CA-4D85-83EA-3108CA01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1FD9-A556-4BF9-BFAA-A7C8E7E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3060-7C31-46D8-B244-35172080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D8F-1414-4963-ADC4-882D78ED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196B-BBB8-4B6E-B6C8-AB0153E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24DC-7C34-4400-8088-871B012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6B70-9D3D-4B64-AA5D-564C9BFC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59A8-4D79-4EB7-8BFD-CAA51E9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DE25-37E7-4C70-BFFF-1FEFC91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D868-A255-4339-89D0-F7429AD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24F5-89E6-4EFB-A675-CA70592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60A7-2C1D-4E4C-8551-B4DC49C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2B47-535B-4DB8-9C7E-B3F5E197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4D99-5943-4596-8005-876BCCA7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640-4111-4C7A-8C01-3B586630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9210-0EBA-4E8B-9FE2-DC8B3F3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A4B5-FAA5-4FBE-AEC8-90BC932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AEF2-2E39-4D96-B36F-F862736F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4002-7DC1-4FFE-B6FE-4934EF44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C12C-8167-4A36-974D-8CFCD8E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779C-DE4A-4C86-BE5A-A71A0C3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0903-7C0A-4F30-A452-5444859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BAEC-516E-40C8-8E75-CFFBA58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4438-5275-4EFD-8796-7F905DEE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B18D-15FF-48A7-A8DD-C37CB0A2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EA0-A94A-4C7E-8CFD-0F5403F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AECB-E477-4C6C-95E8-129960DB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4E6D-70C1-46B4-81D1-B3D76026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D3BD-6FE0-4456-A881-79CF8B9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0CD97-293A-4D24-8274-5C289C1A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5125-9FCE-4FFD-9199-BE9F165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2CF5-F0BB-4C00-859C-CE05245F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B0D00-5EFE-4087-8AFE-9E5C2E0A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EA5E4-E57F-41CA-8E22-0C2EFD3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C4625-FC9D-4585-A892-D240112C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C115-4B76-4CB5-9798-2B9206A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350-4FE2-4E34-92F3-565EA9B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CD42-204A-4840-8514-AC3DF5AE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AB07-2ED2-4877-BAE6-AF24FBCA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6A28-5B18-4055-901B-F79D5D40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BB5D-6AB0-40EA-A86A-5C4D686B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9A961-AF23-4CA7-9E1C-C7310DC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6EAC5-675D-4F9D-B678-D01113B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1E94C-4A1C-43BE-A2A9-893971C7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C95CE-DD9E-4A05-8C08-CA1C3CE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816E-405F-423E-8D72-2BA57A0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AFE40-9E5E-4D96-B71C-F831ED5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564-551F-4723-8CCC-1937CCB2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140D-8B0B-4E31-94D7-E711502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3C9A-48F7-4BDE-B33D-80E3C5D3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00D5-A8CD-489D-BE96-3723916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71FB-4DF0-495F-97B1-3D02E5F5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6A0B-BF75-4328-A8BE-881C4D18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592-12DA-4199-96E8-0845C3D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F903-1C2C-42CC-9631-3B06A630B8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924-349E-4110-B06F-AA65526403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82F-E58D-4F5D-A36A-F73B44F99AC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2AF-0684-4E07-B694-4876E876A7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3BB-FA5D-4F28-AFFD-1BE085C78DF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3773-6067-40DF-B84B-4EAE4C3D0B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0A7B-041F-4252-BB0B-666899A76D1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A75C-4ADD-4455-AE74-3876E1830D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1DD-B4BC-467D-A3E3-4B93E8C798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4BD8-ED51-44F4-9C2A-629CFFD0CD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B47-F10E-4CEC-8EF1-9B3A1034A6D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032E-063D-4410-9422-81964AE27A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CFC-C11F-4729-822F-CB7AF7DC1E3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B819-E354-41FA-BB5A-71AE1FFD85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vsdn.ru/museum/catalogue/exhibit9159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ановка проблемы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71920" y="1785600"/>
            <a:ext cx="5572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цепь велика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рвалась – расскочилася: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им концом по барину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гим – по мужику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9960" indent="-2401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muzruk.info/wp-content/uploads/2012/04/nekrasov1.jpg"/>
          <p:cNvPicPr/>
          <p:nvPr/>
        </p:nvPicPr>
        <p:blipFill>
          <a:blip r:embed="rId1"/>
          <a:stretch/>
        </p:blipFill>
        <p:spPr>
          <a:xfrm>
            <a:off x="71280" y="1585800"/>
            <a:ext cx="4000680" cy="462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F34-A981-47E0-B238-061E8CC1D9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Подготовка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1360" y="1447920"/>
            <a:ext cx="807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читайте пункт 1 на с. 138-141 и выполните задание на следующем слайде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CD4-E542-4FD5-AB06-9458E203DA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cs414928.vk.me/u329122237/docs/a0b2978dd9e5/slide_9.jpg?extra=mHGBiise0djajlgC-6l2B1QIOpWpIfWXOZsOr394f-BmZVKOi551YXFj7wm9cLpudAuiAOxMIEIwS9e65nRW1AqLjkjzmaKZ-LPO0SrhcWptBLSrVpDCvq4kFT_IpH4-4hL7WzpDSh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B4F-9875-4CF6-8577-37643494F3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Прямая со стрелкой 4"/>
          <p:cNvCxnSpPr/>
          <p:nvPr/>
        </p:nvCxnSpPr>
        <p:spPr>
          <a:xfrm>
            <a:off x="1071360" y="2714400"/>
            <a:ext cx="2858040" cy="5720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6"/>
          <p:cNvCxnSpPr/>
          <p:nvPr/>
        </p:nvCxnSpPr>
        <p:spPr>
          <a:xfrm>
            <a:off x="2357280" y="2356920"/>
            <a:ext cx="4501440" cy="10724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8"/>
          <p:cNvCxnSpPr/>
          <p:nvPr/>
        </p:nvCxnSpPr>
        <p:spPr>
          <a:xfrm flipH="1">
            <a:off x="785520" y="2143080"/>
            <a:ext cx="2929680" cy="128664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4" name="Прямая со стрелкой 10"/>
          <p:cNvCxnSpPr/>
          <p:nvPr/>
        </p:nvCxnSpPr>
        <p:spPr>
          <a:xfrm flipH="1">
            <a:off x="4928400" y="1785960"/>
            <a:ext cx="2520" cy="135792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5" name="Прямая со стрелкой 16"/>
          <p:cNvCxnSpPr/>
          <p:nvPr/>
        </p:nvCxnSpPr>
        <p:spPr>
          <a:xfrm flipH="1">
            <a:off x="2642400" y="1500120"/>
            <a:ext cx="3786840" cy="164376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18"/>
          <p:cNvCxnSpPr/>
          <p:nvPr/>
        </p:nvCxnSpPr>
        <p:spPr>
          <a:xfrm flipH="1">
            <a:off x="8213400" y="1214280"/>
            <a:ext cx="2160" cy="1929600"/>
          </a:xfrm>
          <a:prstGeom prst="straightConnector1">
            <a:avLst/>
          </a:prstGeom>
          <a:ln w="7632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Ход рефор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Манифеста об отмене крепостного права заполните схем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ав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874-B90B-4825-9C83-52744FF9E8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776160" y="785880"/>
            <a:ext cx="8367840" cy="6072120"/>
          </a:xfrm>
          <a:prstGeom prst="rect">
            <a:avLst/>
          </a:prstGeom>
          <a:ln w="0">
            <a:noFill/>
          </a:ln>
        </p:spPr>
      </p:pic>
      <p:sp>
        <p:nvSpPr>
          <p:cNvPr id="36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93F-4EE9-4E6D-A10D-A82AFB0074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887840" y="342900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об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4958640" y="342900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ав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1812600" y="564372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ременнообяз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6508080" y="563076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бстве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 Ход реформ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71360" y="928800"/>
            <a:ext cx="80722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бота с визуальным источник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едставьте себя в роли помещика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естьянина. Ваша реакция на порядок выплаты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84A-4444-4BC9-9AA5-5538BB5974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Последств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0008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исторической науке нет единой точки зрения на последствия реформы 1861 г. Ряд ученых считает, что реформа явилась безусловным добром для России. А как считаете В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обходим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иведите Вашу точку зрения и 3 аргумента в ее защиту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вышенный уровен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ведите по 2 аргумента в защиту и опровержение представленной точки зр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just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01C-F706-40A2-9096-C4B8E4F913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чники иллюстра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muzruk.info/?p=952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2: 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vsdn.ru/museum/catalogue/exhibit9159.ht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айд 11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festival.1september.ru/articles/606515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A1D-A07D-4CF1-B1A3-FAB5AF8C2B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блема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42640" y="91404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основе отрывка предположите, что означает «Цепь великая»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ак оценивает Некрасов отмену крепостного прав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гласны ли вы с оценкой автор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7FD-CCAD-46B8-A2E6-2E054AFBCD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4"/>
          <p:cNvSpPr/>
          <p:nvPr/>
        </p:nvSpPr>
        <p:spPr>
          <a:xfrm>
            <a:off x="857160" y="542916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мена крепостного права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Добро или Зло для Российской империи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4073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естьянска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форма 1861 г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21E-4BEA-4DC8-9826-249D915485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амостоятельно выяснить, смог ли Александр 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 разработке реформы учесть интересы и помещиков, и крестьян.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4AEB-2D79-4E42-83AC-BEA21FA7A3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лгоритм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помнить причины проведен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ссмотреть подготовку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оанализировать основной документ – Манифест об освобождении крестьян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явить достоинства и недостатки реформы. Определить последствия ре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81D7-B5C0-4E4D-8285-01A1B81BFA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4280" y="1856880"/>
            <a:ext cx="7498080" cy="34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пределите причины отмены крепостного права, указанные в исторических источниках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810A-2BF6-46DD-A995-318A307CEE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1.Письмо помещика А.И. Кошеле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зглянем на барщинную работу. Придет крестьянин сколь возможно позже, осматривается, и оглядывается сколь возможно чаще и дольше, а работает сколь возможно меньше, - ему не дело делать, а день убить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E2A-244B-411D-A5C9-1C13CD08F8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2. Из отчет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деления канцелярии Его императорского величества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ообще крепостное состояние есть пороховой погреб под государством и тем опаснее, что войско составлено из крестьян же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7AE-E09A-4F17-9441-84CD7331ED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Вспоминаем изученный материа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кумент №3.Из воспоминаний журналиста  И. Горизонтова об обороне Севастопол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увствовалось, что нас победила Европа не храбростью, не личной доблестью, а посредством умственного развития”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6FF-BF14-4423-8D03-C9FC62E0CE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7:39:35Z</dcterms:created>
  <dc:creator>Antony</dc:creator>
  <dc:description/>
  <dc:language>en-US</dc:language>
  <cp:lastModifiedBy>А. Турков</cp:lastModifiedBy>
  <dcterms:modified xsi:type="dcterms:W3CDTF">2016-03-22T06:35:16Z</dcterms:modified>
  <cp:revision>21</cp:revision>
  <dc:subject/>
  <dc:title>Крестьянская реформа 1861 г.</dc:title>
</cp:coreProperties>
</file>