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C09-B4B8-44C1-9AEB-E21C644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393-FCAC-4936-88FA-8560711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CD7-3585-437C-83DF-A4A058F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36E-B285-4A85-833D-AF540D3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B07-DF5C-47B9-B312-7EB88C2E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74D-7D73-444C-8F80-610467C6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BE1-E3B3-44A8-B6BF-5DBC756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D51-C423-497C-99BD-7382F36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BE3-77FF-4B98-9189-3AFDCCF6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F4A-0DFB-4ACE-9FD2-D2F5D60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934-D354-4A50-BB38-D650297B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21A-4BA6-48FF-9AE7-3AD3BE1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832-0834-4E80-AC32-F98F4560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652000" y="278028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еловек и природ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65232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265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23316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213080" y="-316080"/>
            <a:ext cx="15768360" cy="1182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53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984480" cy="29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3554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70120"/>
            <a:ext cx="39592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20:14:47Z</dcterms:created>
  <dc:creator>Acer</dc:creator>
  <dc:description/>
  <dc:language>en-US</dc:language>
  <cp:lastModifiedBy>Acer</cp:lastModifiedBy>
  <dcterms:modified xsi:type="dcterms:W3CDTF">2017-06-06T11:40:56Z</dcterms:modified>
  <cp:revision>10</cp:revision>
  <dc:subject/>
  <dc:title>Слайд 1</dc:title>
</cp:coreProperties>
</file>