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D44-D683-44EC-98E5-CF4A2D6E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9E1-9BC9-4B57-B270-E61978E7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CFD-41F9-4915-AE7B-2B8CE31F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4CC-8DF6-4CE6-90EB-59E9C800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144-A167-41AE-97E9-F38BDA50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20A-AEB6-4BD0-A415-8412A895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B59-8A91-4FC1-8CE9-F4A123A1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914E-6495-40C1-B558-94A3BFC7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9E1-E6A0-4EED-9853-AEAAE6AD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366-30CA-44C1-990E-70287A06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D36-7E40-46A9-B5E6-6EB3C5FF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D88-0784-44CC-844E-0A05CD00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4BB6-DD1D-45C7-B8B8-7F0FFBD49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30360" y="-471600"/>
            <a:ext cx="10404720" cy="7802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5652000" y="2780280"/>
            <a:ext cx="57610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еловек и природа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65232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32360" y="83664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79280" y="3645000"/>
            <a:ext cx="3683160" cy="2762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2655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476360" y="0"/>
            <a:ext cx="12233160" cy="91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4213080" y="-316080"/>
            <a:ext cx="15768360" cy="1182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0538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88640"/>
            <a:ext cx="8229600" cy="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933720" cy="295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3984480" cy="298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11280" y="355428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716360" y="3570120"/>
            <a:ext cx="39592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350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4T20:14:47Z</dcterms:created>
  <dc:creator>Acer</dc:creator>
  <dc:description/>
  <dc:language>en-US</dc:language>
  <cp:lastModifiedBy>Acer</cp:lastModifiedBy>
  <dcterms:modified xsi:type="dcterms:W3CDTF">2017-06-06T11:40:56Z</dcterms:modified>
  <cp:revision>10</cp:revision>
  <dc:subject/>
  <dc:title>Слайд 1</dc:title>
</cp:coreProperties>
</file>