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27F7-7613-41CA-8319-BE0EF763AC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3B40-F76C-4975-89A6-669BC7E166A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F8810-D823-4694-AAB9-05726E77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E73E-3A63-4C63-9F2E-A7ACE7E8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92EA-EC5B-4AF4-8DA6-BF08E0C1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74DC-6A92-4D82-ABA9-CB131CAF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71BC-379C-496C-8A8E-926AB6C5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5B4E-225E-4AB6-A337-30BBD8DB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A1EC-255E-440F-BBCD-90CC31DF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F2FF-97E9-48D0-BA69-F24521F1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C28F-5163-4DB9-9F01-A4E21241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E6BD-0778-4692-9A7A-1223C9F7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F412-F75A-492E-8610-BF3E8B9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361B-A508-426D-A4BC-14C774A1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85D-7714-4BF2-9BA4-544E7AE5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FCCE-57FB-4C7F-AE4B-296B11D9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45A3-0B12-4ABE-ADEE-92C1ED92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5AEF-D300-475F-BD0B-AFD305E9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0379-EFF8-4092-B644-EDA85CFC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8BF06-182D-406D-964B-1BBBB314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4880-D6A9-4819-9CBF-3F1D9249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4DA7-BFF1-457B-A33C-C6E5727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E8BA-E8DF-4B67-A47B-2682C157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46A9-4C9A-4C1F-BBE0-DA98524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21C1-C2B4-4670-BDF6-602B674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B530-9149-475C-A996-791CC9E6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ED5B-D0DF-46C4-BAE5-2A6F1CC739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20FA-78BD-4950-977F-4E9A538CB0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79;&#1086;&#1074;&#1089;&#1082;&#1080;&#1081;_&#1079;&#1072;&#1087;&#1086;&#1074;&#1077;&#1076;&#1085;&#1080;&#1082;" TargetMode="External"/><Relationship Id="rId2" Type="http://schemas.openxmlformats.org/officeDocument/2006/relationships/hyperlink" Target="http://ru.wikipedia.org/wiki/&#1050;&#1077;&#1076;&#1088;&#1086;&#1074;&#1072;&#1103;_&#1055;&#1072;&#1076;&#1100;" TargetMode="External"/><Relationship Id="rId3" Type="http://schemas.openxmlformats.org/officeDocument/2006/relationships/hyperlink" Target="http://ru.wikipedia.org/wiki/&#1059;&#1089;&#1089;&#1091;&#1088;&#1080;&#1081;&#1089;&#1082;&#1080;&#1081;_&#1079;&#1072;&#1087;&#1086;&#1074;&#1077;&#1076;&#1085;&#1080;&#1082;" TargetMode="External"/><Relationship Id="rId4" Type="http://schemas.openxmlformats.org/officeDocument/2006/relationships/hyperlink" Target="http://ru.wikipedia.org/wiki/&#1040;&#1084;&#1091;&#1088;&#1089;&#1082;&#1080;&#1081;_&#1090;&#1080;&#1075;&#1088;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3;&#1100;&#1085;&#1080;&#1081;_&#1042;&#1086;&#1089;&#1090;&#1086;&#1082;" TargetMode="External"/><Relationship Id="rId2" Type="http://schemas.openxmlformats.org/officeDocument/2006/relationships/hyperlink" Target="http://ru.wikipedia.org/wiki/&#1042;&#1089;&#1077;&#1084;&#1080;&#1088;&#1085;&#1099;&#1081;_&#1092;&#1086;&#1085;&#1076;_&#1076;&#1080;&#1082;&#1086;&#1081;_&#1087;&#1088;&#1080;&#1088;&#1086;&#1076;&#1099;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0_&#1075;&#1086;&#1076;" TargetMode="External"/><Relationship Id="rId2" Type="http://schemas.openxmlformats.org/officeDocument/2006/relationships/hyperlink" Target="http://ru.wikipedia.org/wiki/&#1042;&#1083;&#1072;&#1076;&#1080;&#1074;&#1086;&#1089;&#1090;&#1086;&#1082;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10_&#1075;&#1086;&#1076;" TargetMode="External"/><Relationship Id="rId2" Type="http://schemas.openxmlformats.org/officeDocument/2006/relationships/hyperlink" Target="http://ru.wikipedia.org/wiki/&#1042;&#1083;&#1072;&#1076;&#1080;&#1074;&#1086;&#1089;&#1090;&#1086;&#1082;" TargetMode="External"/><Relationship Id="rId3" Type="http://schemas.openxmlformats.org/officeDocument/2006/relationships/hyperlink" Target="http://ru.wikipedia.org/wiki/&#1057;&#1072;&#1084;&#1084;&#1080;&#1090;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0%EC%F3%F0%F1%EA%E8%E9_%F2%E8%E3%F0" TargetMode="External"/><Relationship Id="rId2" Type="http://schemas.openxmlformats.org/officeDocument/2006/relationships/hyperlink" Target="http://ru.wikipedia.org/wiki/%C0%EC%F3%F0%F1%EA%E8%E9_%F2%E8%E3%F0" TargetMode="External"/><Relationship Id="rId3" Type="http://schemas.openxmlformats.org/officeDocument/2006/relationships/hyperlink" Target="http://ru.wikipedia.org/wiki/%C0%EC%F3%F0%F1%EA%E8%E9_%F2%E8%E3%F0" TargetMode="External"/><Relationship Id="rId4" Type="http://schemas.openxmlformats.org/officeDocument/2006/relationships/hyperlink" Target="http://ru.wikipedia.org/wiki/%C0%EC%F3%F0%F1%EA%E8%E9_%F2%E8%E3%F0" TargetMode="External"/><Relationship Id="rId5" Type="http://schemas.openxmlformats.org/officeDocument/2006/relationships/hyperlink" Target="http://ru.wikipedia.org/wiki/%C0%EC%F3%F0%F1%EA%E8%E9_%F2%E8%E3%F0" TargetMode="External"/><Relationship Id="rId6" Type="http://schemas.openxmlformats.org/officeDocument/2006/relationships/hyperlink" Target="http://ru.wikipedia.org/wiki/%C0%EC%F3%F0%F1%EA%E8%E9_%F2%E8%E3%F0" TargetMode="External"/><Relationship Id="rId7" Type="http://schemas.openxmlformats.org/officeDocument/2006/relationships/hyperlink" Target="http://ru.wikipedia.org/wiki/%C0%EC%F3%F0%F1%EA%E8%E9_%F2%E8%E3%F0" TargetMode="External"/><Relationship Id="rId8" Type="http://schemas.openxmlformats.org/officeDocument/2006/relationships/hyperlink" Target="http://ru.wikipedia.org/wiki/%C0%EC%F3%F0%F1%EA%E8%E9_%F2%E8%E3%F0" TargetMode="External"/><Relationship Id="rId9" Type="http://schemas.openxmlformats.org/officeDocument/2006/relationships/hyperlink" Target="http://ru.wikipedia.org/wiki/%C0%EC%F3%F0%F1%EA%E8%E9_%F2%E8%E3%F0" TargetMode="External"/><Relationship Id="rId10" Type="http://schemas.openxmlformats.org/officeDocument/2006/relationships/hyperlink" Target="http://ru.wikipedia.org/wiki/%C0%EC%F3%F0%F1%EA%E8%E9_%F2%E8%E3%F0" TargetMode="External"/><Relationship Id="rId11" Type="http://schemas.openxmlformats.org/officeDocument/2006/relationships/hyperlink" Target="http://ru.wikipedia.org/wiki/%C0%EC%F3%F0%F1%EA%E8%E9_%F2%E8%E3%F0" TargetMode="External"/><Relationship Id="rId12" Type="http://schemas.openxmlformats.org/officeDocument/2006/relationships/hyperlink" Target="http://ru.wikipedia.org/wiki/%C0%EC%F3%F0%F1%EA%E8%E9_%F2%E8%E3%F0" TargetMode="External"/><Relationship Id="rId13" Type="http://schemas.openxmlformats.org/officeDocument/2006/relationships/hyperlink" Target="http://ru.wikipedia.org/wiki/%C0%EC%F3%F0%F1%EA%E8%E9_%F2%E8%E3%F0" TargetMode="External"/><Relationship Id="rId14" Type="http://schemas.openxmlformats.org/officeDocument/2006/relationships/hyperlink" Target="http://ru.wikipedia.org/wiki/%C0%EC%F3%F0%F1%EA%E8%E9_%F2%E8%E3%F0" TargetMode="External"/><Relationship Id="rId15" Type="http://schemas.openxmlformats.org/officeDocument/2006/relationships/hyperlink" Target="http://ru.wikipedia.org/wiki/%C0%EC%F3%F0%F1%EA%E8%E9_%F2%E8%E3%F0" TargetMode="External"/><Relationship Id="rId16" Type="http://schemas.openxmlformats.org/officeDocument/2006/relationships/hyperlink" Target="http://ru.wikipedia.org/wiki/%C0%EC%F3%F0%F1%EA%E8%E9_%F2%E8%E3%F0" TargetMode="External"/><Relationship Id="rId17" Type="http://schemas.openxmlformats.org/officeDocument/2006/relationships/hyperlink" Target="http://ru.wikipedia.org/wiki/%C0%EC%F3%F0%F1%EA%E8%E9_%F2%E8%E3%F0" TargetMode="External"/><Relationship Id="rId18" Type="http://schemas.openxmlformats.org/officeDocument/2006/relationships/hyperlink" Target="http://ru.wikipedia.org/wiki/%C0%EC%F3%F0%F1%EA%E8%E9_%F2%E8%E3%F0" TargetMode="External"/><Relationship Id="rId19" Type="http://schemas.openxmlformats.org/officeDocument/2006/relationships/hyperlink" Target="http://ru.wikipedia.org/wiki/%C0%EC%F3%F0%F1%EA%E8%E9_%F2%E8%E3%F0" TargetMode="External"/><Relationship Id="rId20" Type="http://schemas.openxmlformats.org/officeDocument/2006/relationships/hyperlink" Target="http://ru.wikipedia.org/wiki/%C0%EC%F3%F0%F1%EA%E8%E9_%F2%E8%E3%F0" TargetMode="External"/><Relationship Id="rId21" Type="http://schemas.openxmlformats.org/officeDocument/2006/relationships/hyperlink" Target="http://ru.wikipedia.org/wiki/%C0%EC%F3%F0%F1%EA%E8%E9_%F2%E8%E3%F0" TargetMode="External"/><Relationship Id="rId22" Type="http://schemas.openxmlformats.org/officeDocument/2006/relationships/hyperlink" Target="http://ru.wikipedia.org/wiki/%C0%EC%F3%F0%F1%EA%E8%E9_%F2%E8%E3%F0" TargetMode="External"/><Relationship Id="rId23" Type="http://schemas.openxmlformats.org/officeDocument/2006/relationships/hyperlink" Target="http://ru.wikipedia.org/wiki/%C0%EC%F3%F0%F1%EA%E8%E9_%F2%E8%E3%F0" TargetMode="External"/><Relationship Id="rId24" Type="http://schemas.openxmlformats.org/officeDocument/2006/relationships/hyperlink" Target="http://ru.wikipedia.org/wiki/%C0%EC%F3%F0%F1%EA%E8%E9_%F2%E8%E3%F0" TargetMode="External"/><Relationship Id="rId25" Type="http://schemas.openxmlformats.org/officeDocument/2006/relationships/hyperlink" Target="http://ru.wikipedia.org/wiki/%C0%EC%F3%F0%F1%EA%E8%E9_%F2%E8%E3%F0" TargetMode="External"/><Relationship Id="rId26" Type="http://schemas.openxmlformats.org/officeDocument/2006/relationships/hyperlink" Target="http://ru.wikipedia.org/wiki/%C0%EC%F3%F0%F1%EA%E8%E9_%F2%E8%E3%F0" TargetMode="External"/><Relationship Id="rId27" Type="http://schemas.openxmlformats.org/officeDocument/2006/relationships/hyperlink" Target="http://ru.wikipedia.org/wiki/%C0%EC%F3%F0%F1%EA%E8%E9_%F2%E8%E3%F0" TargetMode="External"/><Relationship Id="rId28" Type="http://schemas.openxmlformats.org/officeDocument/2006/relationships/hyperlink" Target="http://ru.wikipedia.org/wiki/%C0%EC%F3%F0%F1%EA%E8%E9_%F2%E8%E3%F0" TargetMode="External"/><Relationship Id="rId29" Type="http://schemas.openxmlformats.org/officeDocument/2006/relationships/hyperlink" Target="http://ru.wikipedia.org/wiki/%C0%EC%F3%F0%F1%EA%E8%E9_%F2%E8%E3%F0" TargetMode="External"/><Relationship Id="rId30" Type="http://schemas.openxmlformats.org/officeDocument/2006/relationships/hyperlink" Target="http://ru.wikipedia.org/wiki/%C0%EC%F3%F0%F1%EA%E8%E9_%F2%E8%E3%F0" TargetMode="External"/><Relationship Id="rId31" Type="http://schemas.openxmlformats.org/officeDocument/2006/relationships/hyperlink" Target="http://ru.wikipedia.org/wiki/%C0%EC%F3%F0%F1%EA%E8%E9_%F2%E8%E3%F0" TargetMode="External"/><Relationship Id="rId32" Type="http://schemas.openxmlformats.org/officeDocument/2006/relationships/hyperlink" Target="http://ru.wikipedia.org/wiki/%C0%EC%F3%F0%F1%EA%E8%E9_%F2%E8%E3%F0" TargetMode="External"/><Relationship Id="rId33" Type="http://schemas.openxmlformats.org/officeDocument/2006/relationships/hyperlink" Target="http://ru.wikipedia.org/wiki/%C0%EC%F3%F0%F1%EA%E8%E9_%F2%E8%E3%F0" TargetMode="External"/><Relationship Id="rId34" Type="http://schemas.openxmlformats.org/officeDocument/2006/relationships/hyperlink" Target="http://ru.wikipedia.org/wiki/%C0%EC%F3%F0%F1%EA%E8%E9_%F2%E8%E3%F0" TargetMode="External"/><Relationship Id="rId35" Type="http://schemas.openxmlformats.org/officeDocument/2006/relationships/hyperlink" Target="http://www.wf.ru/tiger/tiger_ru.html" TargetMode="External"/><Relationship Id="rId36" Type="http://schemas.openxmlformats.org/officeDocument/2006/relationships/hyperlink" Target="http://www.wf.ru/tiger/tiger_ru.html" TargetMode="External"/><Relationship Id="rId37" Type="http://schemas.openxmlformats.org/officeDocument/2006/relationships/hyperlink" Target="http://www.wf.ru/tiger/tiger_ru.html" TargetMode="External"/><Relationship Id="rId38" Type="http://schemas.openxmlformats.org/officeDocument/2006/relationships/hyperlink" Target="http://www.wf.ru/tiger/tiger_ru.html" TargetMode="External"/><Relationship Id="rId39" Type="http://schemas.openxmlformats.org/officeDocument/2006/relationships/hyperlink" Target="http://www.wf.ru/tiger/tiger_ru.html" TargetMode="External"/><Relationship Id="rId40" Type="http://schemas.openxmlformats.org/officeDocument/2006/relationships/hyperlink" Target="http://www.wf.ru/tiger/tiger_ru.html" TargetMode="External"/><Relationship Id="rId41" Type="http://schemas.openxmlformats.org/officeDocument/2006/relationships/hyperlink" Target="http://www.wf.ru/tiger/tiger_ru.html" TargetMode="External"/><Relationship Id="rId42" Type="http://schemas.openxmlformats.org/officeDocument/2006/relationships/hyperlink" Target="http://www.wf.ru/tiger/tiger_ru.html" TargetMode="External"/><Relationship Id="rId43" Type="http://schemas.openxmlformats.org/officeDocument/2006/relationships/hyperlink" Target="http://www.wf.ru/tiger/tiger_ru.html" TargetMode="External"/><Relationship Id="rId44" Type="http://schemas.openxmlformats.org/officeDocument/2006/relationships/hyperlink" Target="http://www.wf.ru/tiger/tiger_ru.html" TargetMode="External"/><Relationship Id="rId45" Type="http://schemas.openxmlformats.org/officeDocument/2006/relationships/hyperlink" Target="http://www.wf.ru/tiger/tiger_ru.html" TargetMode="External"/><Relationship Id="rId46" Type="http://schemas.openxmlformats.org/officeDocument/2006/relationships/hyperlink" Target="http://www.wf.ru/tiger/tiger_ru.html" TargetMode="External"/><Relationship Id="rId47" Type="http://schemas.openxmlformats.org/officeDocument/2006/relationships/hyperlink" Target="http://www.wf.ru/tiger/tiger_ru.html" TargetMode="External"/><Relationship Id="rId48" Type="http://schemas.openxmlformats.org/officeDocument/2006/relationships/hyperlink" Target="http://www.wf.ru/tiger/tiger_ru.html" TargetMode="External"/><Relationship Id="rId49" Type="http://schemas.openxmlformats.org/officeDocument/2006/relationships/hyperlink" Target="http://www.wf.ru/tiger/tiger_ru.html" TargetMode="External"/><Relationship Id="rId50" Type="http://schemas.openxmlformats.org/officeDocument/2006/relationships/hyperlink" Target="http://helpanimal.ucoz.ru/index/amurskij_tigr/0-21" TargetMode="External"/><Relationship Id="rId51" Type="http://schemas.openxmlformats.org/officeDocument/2006/relationships/hyperlink" Target="http://helpanimal.ucoz.ru/index/amurskij_tigr/0-21" TargetMode="External"/><Relationship Id="rId52" Type="http://schemas.openxmlformats.org/officeDocument/2006/relationships/hyperlink" Target="http://helpanimal.ucoz.ru/index/amurskij_tigr/0-21" TargetMode="External"/><Relationship Id="rId53" Type="http://schemas.openxmlformats.org/officeDocument/2006/relationships/hyperlink" Target="http://helpanimal.ucoz.ru/index/amurskij_tigr/0-21" TargetMode="External"/><Relationship Id="rId54" Type="http://schemas.openxmlformats.org/officeDocument/2006/relationships/hyperlink" Target="http://helpanimal.ucoz.ru/index/amurskij_tigr/0-21" TargetMode="External"/><Relationship Id="rId55" Type="http://schemas.openxmlformats.org/officeDocument/2006/relationships/hyperlink" Target="http://helpanimal.ucoz.ru/index/amurskij_tigr/0-21" TargetMode="External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00"/>
                </a:solidFill>
                <a:latin typeface="Garamond"/>
              </a:rPr>
              <a:t>Проект «Амурский тигр»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4" descr="a_tigr2"/>
          <p:cNvPicPr/>
          <p:nvPr/>
        </p:nvPicPr>
        <p:blipFill>
          <a:blip r:embed="rId1"/>
          <a:stretch/>
        </p:blipFill>
        <p:spPr>
          <a:xfrm>
            <a:off x="2133720" y="243828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109" name="Багетная рамка 5"/>
          <p:cNvSpPr/>
          <p:nvPr/>
        </p:nvSpPr>
        <p:spPr>
          <a:xfrm>
            <a:off x="3124080" y="6324480"/>
            <a:ext cx="3048120" cy="533520"/>
          </a:xfrm>
          <a:prstGeom prst="bevel">
            <a:avLst>
              <a:gd name="adj" fmla="val 2213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раз  жизни амурского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8765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реал обитания: Амурская область, Хабаровский край, Приамурье, Китай, Корея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рриторию  (1000 км) помечает мочой и царапинами на деревья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mdv000340m"/>
          <p:cNvPicPr/>
          <p:nvPr/>
        </p:nvPicPr>
        <p:blipFill>
          <a:blip r:embed="rId1"/>
          <a:stretch/>
        </p:blipFill>
        <p:spPr>
          <a:xfrm>
            <a:off x="4876920" y="1371600"/>
            <a:ext cx="397656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раз  жизни амурского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цы ведут одиночную жизнь, самки часто встречаются группам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тигрицы рождается 3-4 слепых детеныша, глаза открываются через 9 дней, мать кормит их молок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6 месяцев тигрята выходят на охоту вместе с матерь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Attachment"/>
          <p:cNvPicPr/>
          <p:nvPr/>
        </p:nvPicPr>
        <p:blipFill>
          <a:blip r:embed="rId1"/>
          <a:stretch/>
        </p:blipFill>
        <p:spPr>
          <a:xfrm rot="1720200">
            <a:off x="4249440" y="2152800"/>
            <a:ext cx="432288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раз  жизни амурского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 время охоты, тигр ударом лапы убивает лошадь, делает 5-ти метровые прыжки. Любимая пища – олени, дикие кабаны, козы, кабарга. Для нормального существования ему надо съедать за год  80 копытных животны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" descr="C:\Users\User\Desktop\тигр\тигр и косуля.jpg"/>
          <p:cNvPicPr/>
          <p:nvPr/>
        </p:nvPicPr>
        <p:blipFill>
          <a:blip r:embed="rId1"/>
          <a:stretch/>
        </p:blipFill>
        <p:spPr>
          <a:xfrm>
            <a:off x="2514600" y="4038480"/>
            <a:ext cx="3908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раз  жизни амурского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-за недостатка пищи тигр ест рыбу, мышей, лягушек, саранчу и даже плоды растений, часто нападает на домашний скот. Может оставаться без пищи несколько дн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4" descr="399px-Tigergebiss"/>
          <p:cNvPicPr/>
          <p:nvPr/>
        </p:nvPicPr>
        <p:blipFill>
          <a:blip r:embed="rId1"/>
          <a:stretch/>
        </p:blipFill>
        <p:spPr>
          <a:xfrm>
            <a:off x="4419720" y="1374840"/>
            <a:ext cx="4724280" cy="548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aramond"/>
              </a:rPr>
              <a:t>Численность тигров за последние 60 лет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47г – 250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67г – 320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87г – 524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0г – 428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8г – 400 тигр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16г – 480—540 особ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c931c2c6f2a3"/>
          <p:cNvPicPr/>
          <p:nvPr/>
        </p:nvPicPr>
        <p:blipFill>
          <a:blip r:embed="rId1"/>
          <a:stretch/>
        </p:blipFill>
        <p:spPr>
          <a:xfrm>
            <a:off x="4191120" y="1523880"/>
            <a:ext cx="5790960" cy="5035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храна тиг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952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947 году был издан </a:t>
            </a:r>
            <a:r>
              <a:rPr b="1" lang="ru-RU" sz="3200" spc="-1" strike="noStrike">
                <a:solidFill>
                  <a:srgbClr val="ffc000"/>
                </a:solidFill>
                <a:latin typeface="Garamond"/>
              </a:rPr>
              <a:t>указ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запрет отстрела тигр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935 г создан первый заповедник для тигров – Сихотэ–Алинь, позднее —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Лазовски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Кедровая Падь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Уссурийский заповедни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на территории которых сейчас охраняется в том числе 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амурский тигр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Т11"/>
          <p:cNvPicPr/>
          <p:nvPr/>
        </p:nvPicPr>
        <p:blipFill>
          <a:blip r:embed="rId5"/>
          <a:stretch/>
        </p:blipFill>
        <p:spPr>
          <a:xfrm rot="1068000">
            <a:off x="4419720" y="2514600"/>
            <a:ext cx="450684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aramond"/>
              </a:rPr>
              <a:t>Основные  причины исчезновения амурских тигров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раконьерский  отстрел, для использования частей тела тигров в лечебных целях  в таких странах, как Корея, Вьетнам, Япония, Китай (что совершенно опровергает официальная медицина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рубка  леса (кедра, дуба, плодами, которых питаются копытные, а они в свою очередь являются пищей тигр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ленькие  территории заповедников (тиграм приходится уходить в поисках пищи в Якутию и трассу Б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храна амурского тигра на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Дальнем Восток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является одной из главных задач с самого начала работы в России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Всемирного фонда дикой природы (WWF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который издал «Стратегии сохранения амурского тигра в России». Этот  документ устанавливает главные направления деятельности по сохранению тигра на Дальнем Востоке Росс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4" descr="mdv000335m"/>
          <p:cNvPicPr/>
          <p:nvPr/>
        </p:nvPicPr>
        <p:blipFill>
          <a:blip r:embed="rId3"/>
          <a:stretch/>
        </p:blipFill>
        <p:spPr>
          <a:xfrm>
            <a:off x="4398840" y="1295280"/>
            <a:ext cx="4516560" cy="4953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 привлечения внимания общественности к проблеме сохранения тигров в дикой природе в России проводится ежегодный праздник-акция под названием «День тигра». Впервые, он стал отмечаться в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0 году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о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Владивосток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siberieatigrisaltaica_3"/>
          <p:cNvPicPr/>
          <p:nvPr/>
        </p:nvPicPr>
        <p:blipFill>
          <a:blip r:embed="rId3"/>
          <a:stretch/>
        </p:blipFill>
        <p:spPr>
          <a:xfrm rot="1056600">
            <a:off x="4068720" y="1208160"/>
            <a:ext cx="4686480" cy="3733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1640" y="228600"/>
            <a:ext cx="4267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ентябре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10 год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о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Владивосток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рошел международ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игринный Саммит на уровне глав правительств 13 стран, на территории которых обитают тигры. В ходе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саммит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бсудили проблему сокращения мировой популяции тигров, а так же постройки совместного российско-китайского запове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4" descr="siberieatigrisaltaica_12"/>
          <p:cNvPicPr/>
          <p:nvPr/>
        </p:nvPicPr>
        <p:blipFill>
          <a:blip r:embed="rId4"/>
          <a:stretch/>
        </p:blipFill>
        <p:spPr>
          <a:xfrm rot="20075400">
            <a:off x="-124920" y="1566360"/>
            <a:ext cx="4572000" cy="3643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Привет! Меня зовут Егор Коркубет. </a:t>
            </a:r>
            <a:br>
              <a:rPr sz="4400"/>
            </a:b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Я ученик 4 «А» класса.</a:t>
            </a:r>
            <a:br>
              <a:rPr sz="4400"/>
            </a:b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В своем проекте я расскажу вам о проблеме сокращения численности одного из животных, занесенных в Красную книгу – амурском тигре, о мерах по его защите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aramond"/>
              </a:rPr>
              <a:t>Для  сохранения численности амурского тигра необходимо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ого контролировать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браконьерскую охоту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амурского тигра. К сожалению,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в Росси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убийство уссурийского тигра на человека всего лишь накладывают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штраф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в отличие от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Кита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где за это убийца карается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смертной казнь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хранять численность и не допускать 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вырубку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уссурийской тайг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которая является единственным местом обитания амурского тиг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одить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разъяснительную работу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реди населения об уникальности амурского тигра и его значении в природ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влекать внимание учащихся и взрослых к 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проблеме сохранения амурского тигр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редством выпуска листовок, буклетов и стенгаз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Спасибо за внимание!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4" descr="0_5b5a_2be4c480_L"/>
          <p:cNvPicPr/>
          <p:nvPr/>
        </p:nvPicPr>
        <p:blipFill>
          <a:blip r:embed="rId1"/>
          <a:stretch/>
        </p:blipFill>
        <p:spPr>
          <a:xfrm>
            <a:off x="2743200" y="1600200"/>
            <a:ext cx="40482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295280" y="-482760"/>
            <a:ext cx="7010640" cy="68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уемая литерату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расная книга РСФСР. Животные. [текст] - М.: Россельхозиздат, 1985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кипедия [текст, иллюстрация] //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wikipedi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org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wiki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/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C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0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EC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6"/>
              </a:rPr>
              <a:t>3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7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8"/>
              </a:rPr>
              <a:t>0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9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0"/>
              </a:rPr>
              <a:t>1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1"/>
              </a:rPr>
              <a:t>EA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2"/>
              </a:rPr>
              <a:t>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3"/>
              </a:rPr>
              <a:t>E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4"/>
              </a:rPr>
              <a:t>8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5"/>
              </a:rPr>
              <a:t>E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6"/>
              </a:rPr>
              <a:t>9_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7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8"/>
              </a:rPr>
              <a:t>2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9"/>
              </a:rPr>
              <a:t>E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0"/>
              </a:rPr>
              <a:t>8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1"/>
              </a:rPr>
              <a:t>E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2"/>
              </a:rPr>
              <a:t>3%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3"/>
              </a:rPr>
              <a:t>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4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 амурском тигре [текст, иллюстрация] //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5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6"/>
              </a:rPr>
              <a:t>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7"/>
              </a:rPr>
              <a:t>www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8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9"/>
              </a:rPr>
              <a:t>wf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0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1"/>
              </a:rPr>
              <a:t>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2"/>
              </a:rPr>
              <a:t>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3"/>
              </a:rPr>
              <a:t>tiger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4"/>
              </a:rPr>
              <a:t>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5"/>
              </a:rPr>
              <a:t>tiger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6"/>
              </a:rPr>
              <a:t>_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7"/>
              </a:rPr>
              <a:t>ru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8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49"/>
              </a:rPr>
              <a:t>html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йт «ЖИВОТНЫЕ ВОКРУГ НАС» [текст, иллюстрация] //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50"/>
              </a:rPr>
              <a:t>http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1"/>
              </a:rPr>
              <a:t>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52"/>
              </a:rPr>
              <a:t>helpanimal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3"/>
              </a:rPr>
              <a:t>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54"/>
              </a:rPr>
              <a:t>ucoz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5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e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urskij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_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g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/0-2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явление основных мест  обитания и причин сокращения численности амурского тигра за последнее врем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уск букл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images"/>
          <p:cNvPicPr/>
          <p:nvPr/>
        </p:nvPicPr>
        <p:blipFill>
          <a:blip r:embed="rId1"/>
          <a:stretch/>
        </p:blipFill>
        <p:spPr>
          <a:xfrm>
            <a:off x="4648320" y="380880"/>
            <a:ext cx="398304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одобрать материал, научно-популярную и  художественную литературу, данные из Интернета 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изучить подобранный материа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сравнить численность по периодам жизни через 20 лет (1960, 1980, ..  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выявить причины сокращения численности  тигро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внести предложения по охране диких живот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Объект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мест обитания и численности амурского тиг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tiger_30th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Предмет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места обитания и численность тиг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C:\Users\User\Desktop\тигр\тигр по воде.jpg"/>
          <p:cNvPicPr/>
          <p:nvPr/>
        </p:nvPicPr>
        <p:blipFill>
          <a:blip r:embed="rId1"/>
          <a:stretch/>
        </p:blipFill>
        <p:spPr>
          <a:xfrm>
            <a:off x="2971800" y="2362320"/>
            <a:ext cx="280836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Гипотез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если мы выявим причины сокращения амурского тигра, то численность их увеличитс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350484"/>
          <p:cNvPicPr/>
          <p:nvPr/>
        </p:nvPicPr>
        <p:blipFill>
          <a:blip r:embed="rId1"/>
          <a:stretch/>
        </p:blipFill>
        <p:spPr>
          <a:xfrm rot="537000">
            <a:off x="3600000" y="3115800"/>
            <a:ext cx="5077080" cy="3573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aramond"/>
              </a:rPr>
              <a:t>Амурский тигр занесен в Красную книгу с 1947 года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n20091116_4"/>
          <p:cNvPicPr/>
          <p:nvPr/>
        </p:nvPicPr>
        <p:blipFill>
          <a:blip r:embed="rId1"/>
          <a:stretch/>
        </p:blipFill>
        <p:spPr>
          <a:xfrm rot="20649600">
            <a:off x="347760" y="2036520"/>
            <a:ext cx="4190760" cy="3127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278026"/>
          <p:cNvPicPr/>
          <p:nvPr/>
        </p:nvPicPr>
        <p:blipFill>
          <a:blip r:embed="rId2"/>
          <a:stretch/>
        </p:blipFill>
        <p:spPr>
          <a:xfrm>
            <a:off x="487692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Garamond"/>
              </a:rPr>
              <a:t>Красная книг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мурский тигр живет в снегах, самый северный и самый крупный из тигров. Вес тигра больше 300 кг, он может развить скорость до 50 км в час. Тело очень гибкое, голова округлая, густая шерсть светлого окраса. На брюхе 5-ти сантиметровый  слой жира, который спасает его от леденящего ветра и сильных морозов. У тигра бинокулярное зрение. Он различает цвета, а ночью видит в 5 раз лучше, чем челове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Marina</cp:lastModifiedBy>
  <dcterms:modified xsi:type="dcterms:W3CDTF">2016-04-03T13:52:52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