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702-07B6-4FE5-809E-6D0EB34EF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0446-EE96-4A0C-9EA2-1F71477F72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ABAE-386C-49AE-AE4B-BA05DE8D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482B-7B90-4C70-94A5-8CE024A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1483-E01D-49E0-922F-012D3C61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86AB-03EC-4440-A51E-EB5E6F57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C46-2671-470F-9AA0-FDC62661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3A6-2CF5-451D-B6CB-5136413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B26-E227-43A5-BB85-4CDAFBF7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B138-5ED1-4646-9EE1-BC10A4F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C13-AE21-4DC3-B56C-1B7CCE1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4925-A719-45A0-A6A2-C788C08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494D-AF4F-43D5-85AD-57A867C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811A-CB85-4CD7-8937-926274B3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F6FE-51E0-41AD-9F2B-21A2153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A485-65F3-4AA5-AFBB-EE74C35F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A29-7C75-49A9-9573-5D1EF96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A06F-B152-4125-9873-DF75F86E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C38-B68A-44E1-B6BC-84903E69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55A2-6FC4-4F0C-99BD-5D20AB90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1C29-BD00-4A46-B2C8-95A2A62F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A549-429C-4C80-915C-34DE608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AD43-39BE-4E60-94DD-C1C5935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0874-687A-49CD-A90B-594FBA4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6FD5-C352-4D96-BA8B-52A3CDA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0C83-5CCC-473B-B898-A5B9CE4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6492-30E8-4517-B1FB-4B9088B89F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690-CC3C-4249-98A1-36E33689B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86;&#1074;&#1089;&#1082;&#1080;&#1081;_&#1079;&#1072;&#1087;&#1086;&#1074;&#1077;&#1076;&#1085;&#1080;&#1082;" TargetMode="External"/><Relationship Id="rId2" Type="http://schemas.openxmlformats.org/officeDocument/2006/relationships/hyperlink" Target="http://ru.wikipedia.org/wiki/&#1050;&#1077;&#1076;&#1088;&#1086;&#1074;&#1072;&#1103;_&#1055;&#1072;&#1076;&#1100;" TargetMode="External"/><Relationship Id="rId3" Type="http://schemas.openxmlformats.org/officeDocument/2006/relationships/hyperlink" Target="http://ru.wikipedia.org/wiki/&#1059;&#1089;&#1089;&#1091;&#1088;&#1080;&#1081;&#1089;&#1082;&#1080;&#1081;_&#1079;&#1072;&#1087;&#1086;&#1074;&#1077;&#1076;&#1085;&#1080;&#1082;" TargetMode="External"/><Relationship Id="rId4" Type="http://schemas.openxmlformats.org/officeDocument/2006/relationships/hyperlink" Target="http://ru.wikipedia.org/wiki/&#1040;&#1084;&#1091;&#1088;&#1089;&#1082;&#1080;&#1081;_&#1090;&#1080;&#1075;&#1088;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100;&#1085;&#1080;&#1081;_&#1042;&#1086;&#1089;&#1090;&#1086;&#1082;" TargetMode="External"/><Relationship Id="rId2" Type="http://schemas.openxmlformats.org/officeDocument/2006/relationships/hyperlink" Target="http://ru.wikipedia.org/wiki/&#1042;&#1089;&#1077;&#1084;&#1080;&#1088;&#1085;&#1099;&#1081;_&#1092;&#1086;&#1085;&#1076;_&#1076;&#1080;&#1082;&#1086;&#1081;_&#1087;&#1088;&#1080;&#1088;&#1086;&#1076;&#1099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0_&#1075;&#1086;&#1076;" TargetMode="External"/><Relationship Id="rId2" Type="http://schemas.openxmlformats.org/officeDocument/2006/relationships/hyperlink" Target="http://ru.wikipedia.org/wiki/&#1042;&#1083;&#1072;&#1076;&#1080;&#1074;&#1086;&#1089;&#1090;&#1086;&#1082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10_&#1075;&#1086;&#1076;" TargetMode="External"/><Relationship Id="rId2" Type="http://schemas.openxmlformats.org/officeDocument/2006/relationships/hyperlink" Target="http://ru.wikipedia.org/wiki/&#1042;&#1083;&#1072;&#1076;&#1080;&#1074;&#1086;&#1089;&#1090;&#1086;&#1082;" TargetMode="External"/><Relationship Id="rId3" Type="http://schemas.openxmlformats.org/officeDocument/2006/relationships/hyperlink" Target="http://ru.wikipedia.org/wiki/&#1057;&#1072;&#1084;&#1084;&#1080;&#1090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C%F3%F0%F1%EA%E8%E9_%F2%E8%E3%F0" TargetMode="External"/><Relationship Id="rId2" Type="http://schemas.openxmlformats.org/officeDocument/2006/relationships/hyperlink" Target="http://ru.wikipedia.org/wiki/%C0%EC%F3%F0%F1%EA%E8%E9_%F2%E8%E3%F0" TargetMode="External"/><Relationship Id="rId3" Type="http://schemas.openxmlformats.org/officeDocument/2006/relationships/hyperlink" Target="http://ru.wikipedia.org/wiki/%C0%EC%F3%F0%F1%EA%E8%E9_%F2%E8%E3%F0" TargetMode="External"/><Relationship Id="rId4" Type="http://schemas.openxmlformats.org/officeDocument/2006/relationships/hyperlink" Target="http://ru.wikipedia.org/wiki/%C0%EC%F3%F0%F1%EA%E8%E9_%F2%E8%E3%F0" TargetMode="External"/><Relationship Id="rId5" Type="http://schemas.openxmlformats.org/officeDocument/2006/relationships/hyperlink" Target="http://ru.wikipedia.org/wiki/%C0%EC%F3%F0%F1%EA%E8%E9_%F2%E8%E3%F0" TargetMode="External"/><Relationship Id="rId6" Type="http://schemas.openxmlformats.org/officeDocument/2006/relationships/hyperlink" Target="http://ru.wikipedia.org/wiki/%C0%EC%F3%F0%F1%EA%E8%E9_%F2%E8%E3%F0" TargetMode="External"/><Relationship Id="rId7" Type="http://schemas.openxmlformats.org/officeDocument/2006/relationships/hyperlink" Target="http://ru.wikipedia.org/wiki/%C0%EC%F3%F0%F1%EA%E8%E9_%F2%E8%E3%F0" TargetMode="External"/><Relationship Id="rId8" Type="http://schemas.openxmlformats.org/officeDocument/2006/relationships/hyperlink" Target="http://ru.wikipedia.org/wiki/%C0%EC%F3%F0%F1%EA%E8%E9_%F2%E8%E3%F0" TargetMode="External"/><Relationship Id="rId9" Type="http://schemas.openxmlformats.org/officeDocument/2006/relationships/hyperlink" Target="http://ru.wikipedia.org/wiki/%C0%EC%F3%F0%F1%EA%E8%E9_%F2%E8%E3%F0" TargetMode="External"/><Relationship Id="rId10" Type="http://schemas.openxmlformats.org/officeDocument/2006/relationships/hyperlink" Target="http://ru.wikipedia.org/wiki/%C0%EC%F3%F0%F1%EA%E8%E9_%F2%E8%E3%F0" TargetMode="External"/><Relationship Id="rId11" Type="http://schemas.openxmlformats.org/officeDocument/2006/relationships/hyperlink" Target="http://ru.wikipedia.org/wiki/%C0%EC%F3%F0%F1%EA%E8%E9_%F2%E8%E3%F0" TargetMode="External"/><Relationship Id="rId12" Type="http://schemas.openxmlformats.org/officeDocument/2006/relationships/hyperlink" Target="http://ru.wikipedia.org/wiki/%C0%EC%F3%F0%F1%EA%E8%E9_%F2%E8%E3%F0" TargetMode="External"/><Relationship Id="rId13" Type="http://schemas.openxmlformats.org/officeDocument/2006/relationships/hyperlink" Target="http://ru.wikipedia.org/wiki/%C0%EC%F3%F0%F1%EA%E8%E9_%F2%E8%E3%F0" TargetMode="External"/><Relationship Id="rId14" Type="http://schemas.openxmlformats.org/officeDocument/2006/relationships/hyperlink" Target="http://ru.wikipedia.org/wiki/%C0%EC%F3%F0%F1%EA%E8%E9_%F2%E8%E3%F0" TargetMode="External"/><Relationship Id="rId15" Type="http://schemas.openxmlformats.org/officeDocument/2006/relationships/hyperlink" Target="http://ru.wikipedia.org/wiki/%C0%EC%F3%F0%F1%EA%E8%E9_%F2%E8%E3%F0" TargetMode="External"/><Relationship Id="rId16" Type="http://schemas.openxmlformats.org/officeDocument/2006/relationships/hyperlink" Target="http://ru.wikipedia.org/wiki/%C0%EC%F3%F0%F1%EA%E8%E9_%F2%E8%E3%F0" TargetMode="External"/><Relationship Id="rId17" Type="http://schemas.openxmlformats.org/officeDocument/2006/relationships/hyperlink" Target="http://ru.wikipedia.org/wiki/%C0%EC%F3%F0%F1%EA%E8%E9_%F2%E8%E3%F0" TargetMode="External"/><Relationship Id="rId18" Type="http://schemas.openxmlformats.org/officeDocument/2006/relationships/hyperlink" Target="http://ru.wikipedia.org/wiki/%C0%EC%F3%F0%F1%EA%E8%E9_%F2%E8%E3%F0" TargetMode="External"/><Relationship Id="rId19" Type="http://schemas.openxmlformats.org/officeDocument/2006/relationships/hyperlink" Target="http://ru.wikipedia.org/wiki/%C0%EC%F3%F0%F1%EA%E8%E9_%F2%E8%E3%F0" TargetMode="External"/><Relationship Id="rId20" Type="http://schemas.openxmlformats.org/officeDocument/2006/relationships/hyperlink" Target="http://ru.wikipedia.org/wiki/%C0%EC%F3%F0%F1%EA%E8%E9_%F2%E8%E3%F0" TargetMode="External"/><Relationship Id="rId21" Type="http://schemas.openxmlformats.org/officeDocument/2006/relationships/hyperlink" Target="http://ru.wikipedia.org/wiki/%C0%EC%F3%F0%F1%EA%E8%E9_%F2%E8%E3%F0" TargetMode="External"/><Relationship Id="rId22" Type="http://schemas.openxmlformats.org/officeDocument/2006/relationships/hyperlink" Target="http://ru.wikipedia.org/wiki/%C0%EC%F3%F0%F1%EA%E8%E9_%F2%E8%E3%F0" TargetMode="External"/><Relationship Id="rId23" Type="http://schemas.openxmlformats.org/officeDocument/2006/relationships/hyperlink" Target="http://ru.wikipedia.org/wiki/%C0%EC%F3%F0%F1%EA%E8%E9_%F2%E8%E3%F0" TargetMode="External"/><Relationship Id="rId24" Type="http://schemas.openxmlformats.org/officeDocument/2006/relationships/hyperlink" Target="http://ru.wikipedia.org/wiki/%C0%EC%F3%F0%F1%EA%E8%E9_%F2%E8%E3%F0" TargetMode="External"/><Relationship Id="rId25" Type="http://schemas.openxmlformats.org/officeDocument/2006/relationships/hyperlink" Target="http://ru.wikipedia.org/wiki/%C0%EC%F3%F0%F1%EA%E8%E9_%F2%E8%E3%F0" TargetMode="External"/><Relationship Id="rId26" Type="http://schemas.openxmlformats.org/officeDocument/2006/relationships/hyperlink" Target="http://ru.wikipedia.org/wiki/%C0%EC%F3%F0%F1%EA%E8%E9_%F2%E8%E3%F0" TargetMode="External"/><Relationship Id="rId27" Type="http://schemas.openxmlformats.org/officeDocument/2006/relationships/hyperlink" Target="http://ru.wikipedia.org/wiki/%C0%EC%F3%F0%F1%EA%E8%E9_%F2%E8%E3%F0" TargetMode="External"/><Relationship Id="rId28" Type="http://schemas.openxmlformats.org/officeDocument/2006/relationships/hyperlink" Target="http://ru.wikipedia.org/wiki/%C0%EC%F3%F0%F1%EA%E8%E9_%F2%E8%E3%F0" TargetMode="External"/><Relationship Id="rId29" Type="http://schemas.openxmlformats.org/officeDocument/2006/relationships/hyperlink" Target="http://ru.wikipedia.org/wiki/%C0%EC%F3%F0%F1%EA%E8%E9_%F2%E8%E3%F0" TargetMode="External"/><Relationship Id="rId30" Type="http://schemas.openxmlformats.org/officeDocument/2006/relationships/hyperlink" Target="http://ru.wikipedia.org/wiki/%C0%EC%F3%F0%F1%EA%E8%E9_%F2%E8%E3%F0" TargetMode="External"/><Relationship Id="rId31" Type="http://schemas.openxmlformats.org/officeDocument/2006/relationships/hyperlink" Target="http://ru.wikipedia.org/wiki/%C0%EC%F3%F0%F1%EA%E8%E9_%F2%E8%E3%F0" TargetMode="External"/><Relationship Id="rId32" Type="http://schemas.openxmlformats.org/officeDocument/2006/relationships/hyperlink" Target="http://ru.wikipedia.org/wiki/%C0%EC%F3%F0%F1%EA%E8%E9_%F2%E8%E3%F0" TargetMode="External"/><Relationship Id="rId33" Type="http://schemas.openxmlformats.org/officeDocument/2006/relationships/hyperlink" Target="http://ru.wikipedia.org/wiki/%C0%EC%F3%F0%F1%EA%E8%E9_%F2%E8%E3%F0" TargetMode="External"/><Relationship Id="rId34" Type="http://schemas.openxmlformats.org/officeDocument/2006/relationships/hyperlink" Target="http://ru.wikipedia.org/wiki/%C0%EC%F3%F0%F1%EA%E8%E9_%F2%E8%E3%F0" TargetMode="External"/><Relationship Id="rId35" Type="http://schemas.openxmlformats.org/officeDocument/2006/relationships/hyperlink" Target="http://www.wf.ru/tiger/tiger_ru.html" TargetMode="External"/><Relationship Id="rId36" Type="http://schemas.openxmlformats.org/officeDocument/2006/relationships/hyperlink" Target="http://www.wf.ru/tiger/tiger_ru.html" TargetMode="External"/><Relationship Id="rId37" Type="http://schemas.openxmlformats.org/officeDocument/2006/relationships/hyperlink" Target="http://www.wf.ru/tiger/tiger_ru.html" TargetMode="External"/><Relationship Id="rId38" Type="http://schemas.openxmlformats.org/officeDocument/2006/relationships/hyperlink" Target="http://www.wf.ru/tiger/tiger_ru.html" TargetMode="External"/><Relationship Id="rId39" Type="http://schemas.openxmlformats.org/officeDocument/2006/relationships/hyperlink" Target="http://www.wf.ru/tiger/tiger_ru.html" TargetMode="External"/><Relationship Id="rId40" Type="http://schemas.openxmlformats.org/officeDocument/2006/relationships/hyperlink" Target="http://www.wf.ru/tiger/tiger_ru.html" TargetMode="External"/><Relationship Id="rId41" Type="http://schemas.openxmlformats.org/officeDocument/2006/relationships/hyperlink" Target="http://www.wf.ru/tiger/tiger_ru.html" TargetMode="External"/><Relationship Id="rId42" Type="http://schemas.openxmlformats.org/officeDocument/2006/relationships/hyperlink" Target="http://www.wf.ru/tiger/tiger_ru.html" TargetMode="External"/><Relationship Id="rId43" Type="http://schemas.openxmlformats.org/officeDocument/2006/relationships/hyperlink" Target="http://www.wf.ru/tiger/tiger_ru.html" TargetMode="External"/><Relationship Id="rId44" Type="http://schemas.openxmlformats.org/officeDocument/2006/relationships/hyperlink" Target="http://www.wf.ru/tiger/tiger_ru.html" TargetMode="External"/><Relationship Id="rId45" Type="http://schemas.openxmlformats.org/officeDocument/2006/relationships/hyperlink" Target="http://www.wf.ru/tiger/tiger_ru.html" TargetMode="External"/><Relationship Id="rId46" Type="http://schemas.openxmlformats.org/officeDocument/2006/relationships/hyperlink" Target="http://www.wf.ru/tiger/tiger_ru.html" TargetMode="External"/><Relationship Id="rId47" Type="http://schemas.openxmlformats.org/officeDocument/2006/relationships/hyperlink" Target="http://www.wf.ru/tiger/tiger_ru.html" TargetMode="External"/><Relationship Id="rId48" Type="http://schemas.openxmlformats.org/officeDocument/2006/relationships/hyperlink" Target="http://www.wf.ru/tiger/tiger_ru.html" TargetMode="External"/><Relationship Id="rId49" Type="http://schemas.openxmlformats.org/officeDocument/2006/relationships/hyperlink" Target="http://www.wf.ru/tiger/tiger_ru.html" TargetMode="External"/><Relationship Id="rId50" Type="http://schemas.openxmlformats.org/officeDocument/2006/relationships/hyperlink" Target="http://helpanimal.ucoz.ru/index/amurskij_tigr/0-21" TargetMode="External"/><Relationship Id="rId51" Type="http://schemas.openxmlformats.org/officeDocument/2006/relationships/hyperlink" Target="http://helpanimal.ucoz.ru/index/amurskij_tigr/0-21" TargetMode="External"/><Relationship Id="rId52" Type="http://schemas.openxmlformats.org/officeDocument/2006/relationships/hyperlink" Target="http://helpanimal.ucoz.ru/index/amurskij_tigr/0-21" TargetMode="External"/><Relationship Id="rId53" Type="http://schemas.openxmlformats.org/officeDocument/2006/relationships/hyperlink" Target="http://helpanimal.ucoz.ru/index/amurskij_tigr/0-21" TargetMode="External"/><Relationship Id="rId54" Type="http://schemas.openxmlformats.org/officeDocument/2006/relationships/hyperlink" Target="http://helpanimal.ucoz.ru/index/amurskij_tigr/0-21" TargetMode="External"/><Relationship Id="rId55" Type="http://schemas.openxmlformats.org/officeDocument/2006/relationships/hyperlink" Target="http://helpanimal.ucoz.ru/index/amurskij_tigr/0-21" TargetMode="External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00"/>
                </a:solidFill>
                <a:latin typeface="Garamond"/>
              </a:rPr>
              <a:t>Проект «Амурский тигр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4" descr="a_tigr2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109" name="Багетная рамка 5"/>
          <p:cNvSpPr/>
          <p:nvPr/>
        </p:nvSpPr>
        <p:spPr>
          <a:xfrm>
            <a:off x="3124080" y="6324480"/>
            <a:ext cx="3048120" cy="533520"/>
          </a:xfrm>
          <a:prstGeom prst="bevel">
            <a:avLst>
              <a:gd name="adj" fmla="val 2213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8765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еал обитания: Амурская область, Хабаровский край, Приамурье, Китай, Корея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рриторию  (1000 км) помечает мочой и царапинами на деревья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mdv000340m"/>
          <p:cNvPicPr/>
          <p:nvPr/>
        </p:nvPicPr>
        <p:blipFill>
          <a:blip r:embed="rId1"/>
          <a:stretch/>
        </p:blipFill>
        <p:spPr>
          <a:xfrm>
            <a:off x="4876920" y="1371600"/>
            <a:ext cx="397656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цы ведут одиночную жизнь, самки часто встречаются группам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тигрицы рождается 3-4 слепых детеныша, глаза открываются через 9 дней, мать кормит их молок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6 месяцев тигрята выходят на охоту вместе с матерь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Attachment"/>
          <p:cNvPicPr/>
          <p:nvPr/>
        </p:nvPicPr>
        <p:blipFill>
          <a:blip r:embed="rId1"/>
          <a:stretch/>
        </p:blipFill>
        <p:spPr>
          <a:xfrm rot="1720200">
            <a:off x="4249440" y="215280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 время охоты, тигр ударом лапы убивает лошадь, делает 5-ти метровые прыжки. Любимая пища – олени, дикие кабаны, козы, кабарга. Для нормального существования ему надо съедать за год  80 копытных животны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C:\Users\User\Desktop\тигр\тигр и косуля.jpg"/>
          <p:cNvPicPr/>
          <p:nvPr/>
        </p:nvPicPr>
        <p:blipFill>
          <a:blip r:embed="rId1"/>
          <a:stretch/>
        </p:blipFill>
        <p:spPr>
          <a:xfrm>
            <a:off x="2514600" y="4038480"/>
            <a:ext cx="3908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-за недостатка пищи тигр ест рыбу, мышей, лягушек, саранчу и даже плоды растений, часто нападает на домашний скот. Может оставаться без пищи несколько дн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399px-Tigergebiss"/>
          <p:cNvPicPr/>
          <p:nvPr/>
        </p:nvPicPr>
        <p:blipFill>
          <a:blip r:embed="rId1"/>
          <a:stretch/>
        </p:blipFill>
        <p:spPr>
          <a:xfrm>
            <a:off x="4419720" y="1374840"/>
            <a:ext cx="4724280" cy="548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Численность тигров за последние 60 лет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47г – 25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67г – 32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87г – 524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0г – 428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8г – 40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16г – 480—540 особ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c931c2c6f2a3"/>
          <p:cNvPicPr/>
          <p:nvPr/>
        </p:nvPicPr>
        <p:blipFill>
          <a:blip r:embed="rId1"/>
          <a:stretch/>
        </p:blipFill>
        <p:spPr>
          <a:xfrm>
            <a:off x="4191120" y="1523880"/>
            <a:ext cx="579096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храна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952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47 году был издан </a:t>
            </a:r>
            <a:r>
              <a:rPr b="1" lang="ru-RU" sz="3200" spc="-1" strike="noStrike">
                <a:solidFill>
                  <a:srgbClr val="ffc000"/>
                </a:solidFill>
                <a:latin typeface="Garamond"/>
              </a:rPr>
              <a:t>указ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запрет отстрела тиг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35 г создан первый заповедник для тигров – Сихотэ–Алинь, позднее —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Лазовски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едровая Пад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Уссурийский заповед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на территории которых сейчас охраняется в том числе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амурский тигр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Т11"/>
          <p:cNvPicPr/>
          <p:nvPr/>
        </p:nvPicPr>
        <p:blipFill>
          <a:blip r:embed="rId5"/>
          <a:stretch/>
        </p:blipFill>
        <p:spPr>
          <a:xfrm rot="1068000">
            <a:off x="4419720" y="2514600"/>
            <a:ext cx="450684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Основные  причины исчезновения амурских тигро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раконьерский  отстрел, для использования частей тела тигров в лечебных целях  в таких странах, как Корея, Вьетнам, Япония, Китай (что совершенно опровергает официальная медицина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рубка  леса (кедра, дуба, плодами, которых питаются копытные, а они в свою очередь являются пищей тигр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ленькие  территории заповедников (тиграм приходится уходить в поисках пищи в Якутию и трассу Б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храна амурского тигра н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Дальнем Восток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является одной из главных задач с самого начала работы в России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семирного фонда дикой природы (WWF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издал «Стратегии сохранения амурского тигра в России». Этот  документ устанавливает главные направления деятельности по сохранению тигра на Дальнем Востоке Ро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mdv000335m"/>
          <p:cNvPicPr/>
          <p:nvPr/>
        </p:nvPicPr>
        <p:blipFill>
          <a:blip r:embed="rId3"/>
          <a:stretch/>
        </p:blipFill>
        <p:spPr>
          <a:xfrm>
            <a:off x="4398840" y="1295280"/>
            <a:ext cx="451656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 привлечения внимания общественности к проблеме сохранения тигров в дикой природе в России проводится ежегодный праздник-акция под названием «День тигра». Впервые, он стал отмечаться 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0 год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ладивосток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siberieatigrisaltaica_3"/>
          <p:cNvPicPr/>
          <p:nvPr/>
        </p:nvPicPr>
        <p:blipFill>
          <a:blip r:embed="rId3"/>
          <a:stretch/>
        </p:blipFill>
        <p:spPr>
          <a:xfrm rot="1056600">
            <a:off x="4068720" y="1208160"/>
            <a:ext cx="468648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1640" y="228600"/>
            <a:ext cx="4267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нтябр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10 год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ладивосток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рошел международ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игринный Саммит на уровне глав правительств 13 стран, на территории которых обитают тигры. В ход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самми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судили проблему сокращения мировой популяции тигров, а так же постройки совместного российско-китайского запове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siberieatigrisaltaica_12"/>
          <p:cNvPicPr/>
          <p:nvPr/>
        </p:nvPicPr>
        <p:blipFill>
          <a:blip r:embed="rId4"/>
          <a:stretch/>
        </p:blipFill>
        <p:spPr>
          <a:xfrm rot="20075400">
            <a:off x="-124920" y="1566360"/>
            <a:ext cx="457200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ривет! Меня зовут Егор Коркубет. </a:t>
            </a:r>
            <a:br>
              <a:rPr sz="4400"/>
            </a:b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Я ученик 4 «А» класса.</a:t>
            </a:r>
            <a:br>
              <a:rPr sz="4400"/>
            </a:b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В своем проекте я расскажу вам о проблеме сокращения численности одного из животных, занесенных в Красную книгу – амурском тигре, о мерах по его защите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Для  сохранения численности амурского тигра необходимо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о контролировать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браконьерскую охоту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амурского тигра. К сожалению,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в Росси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убийство уссурийского тигра на человека всего лишь накладывают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штраф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в отличие от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Кита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где за это убийца карается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смертной казнь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хранять численность и не допускать 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вырубк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уссурийской тайг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ая является единственным местом обитания амурского тиг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одить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разъяснительную работу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еди населения об уникальности амурского тигра и его значении в природ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влекать внимание учащихся и взрослых к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проблеме сохранения амурского тигр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редством выпуска листовок, буклетов и стенгаз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Спасибо за внимание!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0_5b5a_2be4c480_L"/>
          <p:cNvPicPr/>
          <p:nvPr/>
        </p:nvPicPr>
        <p:blipFill>
          <a:blip r:embed="rId1"/>
          <a:stretch/>
        </p:blipFill>
        <p:spPr>
          <a:xfrm>
            <a:off x="2743200" y="1600200"/>
            <a:ext cx="40482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295280" y="-482760"/>
            <a:ext cx="7010640" cy="68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асная книга РСФСР. Животные. [текст] - М.: Россельхозиздат, 1985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кипедия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wikipedi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org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wiki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0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E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3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0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1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1"/>
              </a:rPr>
              <a:t>E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2"/>
              </a:rPr>
              <a:t>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3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4"/>
              </a:rPr>
              <a:t>8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5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6"/>
              </a:rPr>
              <a:t>9_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7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8"/>
              </a:rPr>
              <a:t>2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9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0"/>
              </a:rPr>
              <a:t>8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1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2"/>
              </a:rPr>
              <a:t>3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3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4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 амурском тигре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5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6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7"/>
              </a:rPr>
              <a:t>www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8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9"/>
              </a:rPr>
              <a:t>w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0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1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2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3"/>
              </a:rPr>
              <a:t>tiger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4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5"/>
              </a:rPr>
              <a:t>tiger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6"/>
              </a:rPr>
              <a:t>_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7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8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9"/>
              </a:rPr>
              <a:t>html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йт «ЖИВОТНЫЕ ВОКРУГ НАС»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0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1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2"/>
              </a:rPr>
              <a:t>helpanimal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3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4"/>
              </a:rPr>
              <a:t>ucoz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5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urskij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g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0-2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явление основных мест  обитания и причин сокращения численности амурского тигра за последнее врем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уск букл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images"/>
          <p:cNvPicPr/>
          <p:nvPr/>
        </p:nvPicPr>
        <p:blipFill>
          <a:blip r:embed="rId1"/>
          <a:stretch/>
        </p:blipFill>
        <p:spPr>
          <a:xfrm>
            <a:off x="4648320" y="380880"/>
            <a:ext cx="39830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добрать материал, научно-популярную и  художественную литературу, данные из Интернета 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изучить подобранный материа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сравнить численность по периодам жизни через 20 лет (1960, 1980, .. 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ыявить причины сокращения численности  тигр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нести предложения по охране диких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ъект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мест обитания и численности амурского тиг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tiger_30th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Предмет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места обитания и численность тиг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C:\Users\User\Desktop\тигр\тигр по воде.jpg"/>
          <p:cNvPicPr/>
          <p:nvPr/>
        </p:nvPicPr>
        <p:blipFill>
          <a:blip r:embed="rId1"/>
          <a:stretch/>
        </p:blipFill>
        <p:spPr>
          <a:xfrm>
            <a:off x="2971800" y="2362320"/>
            <a:ext cx="28083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Гипотез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если мы выявим причины сокращения амурского тигра, то численность их увеличитс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350484"/>
          <p:cNvPicPr/>
          <p:nvPr/>
        </p:nvPicPr>
        <p:blipFill>
          <a:blip r:embed="rId1"/>
          <a:stretch/>
        </p:blipFill>
        <p:spPr>
          <a:xfrm rot="537000">
            <a:off x="3600000" y="3115800"/>
            <a:ext cx="5077080" cy="357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Амурский тигр занесен в Красную книгу с 1947 года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n20091116_4"/>
          <p:cNvPicPr/>
          <p:nvPr/>
        </p:nvPicPr>
        <p:blipFill>
          <a:blip r:embed="rId1"/>
          <a:stretch/>
        </p:blipFill>
        <p:spPr>
          <a:xfrm rot="20649600">
            <a:off x="347760" y="2036520"/>
            <a:ext cx="4190760" cy="312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278026"/>
          <p:cNvPicPr/>
          <p:nvPr/>
        </p:nvPicPr>
        <p:blipFill>
          <a:blip r:embed="rId2"/>
          <a:stretch/>
        </p:blipFill>
        <p:spPr>
          <a:xfrm>
            <a:off x="487692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Красная книг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мурский тигр живет в снегах, самый северный и самый крупный из тигров. Вес тигра больше 300 кг, он может развить скорость до 50 км в час. Тело очень гибкое, голова округлая, густая шерсть светлого окраса. На брюхе 5-ти сантиметровый  слой жира, который спасает его от леденящего ветра и сильных морозов. У тигра бинокулярное зрение. Он различает цвета, а ночью видит в 5 раз лучше, чем челов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Marina</cp:lastModifiedBy>
  <dcterms:modified xsi:type="dcterms:W3CDTF">2016-04-03T13:52:5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