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751-66F5-4721-B56D-73DFDDE0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D00-2821-4D71-A2F8-F1D873B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651-667A-4CA8-9B36-392F06F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102-1D55-44C8-BAC4-9FA9D7B6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AA6D-5779-4C09-8707-3FA92735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4C9-15AF-40A3-AE34-6C6BE3D1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CB5C-1B26-44E9-A91D-2F40D814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BD59-A98A-4192-AAE8-75C2177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1BFA-1A3E-4E88-ABC2-8A1A330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3A9D-3D4B-4EF0-843F-28CC8BCD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48BE-F6C6-4001-BDEC-6ABA21F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EFC-98BF-4E05-8775-D49A23F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CE38-3B9B-419A-BC87-19983E0D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5D75-EF2F-4B29-8405-EF2743E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038C-AF97-44DB-93E8-420B1D5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C704-A598-4C18-8300-B42F09AD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558-05B1-46B7-85EA-54F24303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8D3-C983-4C57-89D0-E33D258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269-9315-4C27-BF4D-09B65EF4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449-E5CB-415E-B6CD-2694B088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BA2-54EA-4D0F-BB00-BCB1FE82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30D-1118-405C-8F4B-EF92FC3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484-D8D4-4F7B-ABBA-FD9E061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4EC-BDFF-48D7-BEE1-69BE6CD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4416-8375-4A86-863F-290A5C8EE9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B9F-C83D-4921-98D9-CD938A3CE1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Семинар-практикум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«Урок сегодня и моделирование урока в аспекте реализации задач новых образовательных стандартов второго поколения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Привлечение родител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родителей необходимо  для  установления взаимоотношений между детьми и родителями, для налаживания плодотворных связей между семьей и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дети видят, что их родители участвуют в работе учителя, у них возрастает чувство собственной значимости. Детям дают понять, что самые главные взрослые в их жизни заботятся о ни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е, дружеские отношения между семьей и школой идут на пользу всем детям. Когда родители становятся активными помощниками учителя, дети получают положительную мотив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5" descr="ромашка 3"/>
          <p:cNvPicPr/>
          <p:nvPr/>
        </p:nvPicPr>
        <p:blipFill>
          <a:blip r:embed="rId1"/>
          <a:stretch/>
        </p:blipFill>
        <p:spPr>
          <a:xfrm>
            <a:off x="1692360" y="1155600"/>
            <a:ext cx="5316480" cy="5004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3635280" y="3500280"/>
            <a:ext cx="151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987640" y="1916280"/>
            <a:ext cx="1008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908000" y="3284640"/>
            <a:ext cx="194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4797360"/>
            <a:ext cx="144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219640" y="3500280"/>
            <a:ext cx="17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ение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427640" y="184464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с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284720" y="479736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общей 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уч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ия для выбора тем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ое отношение учителя к те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та темы – число возможных направлений сбора сведений по теме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сбора сведений по теме не только из книг, но из экскурсий в музеи, на природу или на работу к кому-то из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– выбранная 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своей индивидуальной 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ся со знакомства с общей темой (уже выбранной учите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тся в школе на одном из уроков или во время классного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предлагает детям заманчивую россыпь направлений знакомства с темой – на любой вк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выбирают направление или по аналогии предлагают своё, или откладывают свой выбор на зав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бранные детьми направления сбора сведений (под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бор сведений (поиск информ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одится в основном дома (возможно, в школе во внеурочное время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одится при активном участии роди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возможности сведения собираются из наблюдений на экскурсиях (на природу, на предприятия, в музеи и т.д.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времени занимает 1-2 неде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: найденные свед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про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чинается с обзора учителем возможных проектов (поделки, мероприятия, исследован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яется в школе на одном из уроков или во время классного ча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ети выбирают проект или по аналогии предлагают свои, или откладывают свой выбор на зав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сли проект групповой, то определяются группы участников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: выбранные детьми проек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ализация про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в основном дома (возможно, в школе во внеурочное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ри активном участии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ремени занимает 2-3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полненные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Этапы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ри активном участии родителей в школе во внеуроч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ятся мероприятия, представляются поделки и экспозиции, защищаются  (представляются) исследовательские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ероприятия, презентации и защиты фотограф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вершённые проекты, творческое оформление ит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Представление результа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718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докла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овая иг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видеофиль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епередач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ая конферен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цениров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атрализ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ы с за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на Ученом Сове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лог исторических или литературных персонаж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ртивная иг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ктак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ла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396160" y="357120"/>
            <a:ext cx="42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Преимущ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785880" y="164304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йся находится в центре внимания, осуществляется помощь развитию его креативных способ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ученик может обучаться в соответствии со своим уровнем развития, поскольку применяется индивидуальный темп работы над проек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отное развитие основных психических и физиологических функ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уровень мотив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глубокое усвоение основ знаний, поскольку учебный предмет строится на основе логик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Garamond"/>
              </a:rPr>
              <a:t>Проектная технология обуч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777760" y="357120"/>
            <a:ext cx="334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Недостатк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643040"/>
            <a:ext cx="77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мотивация школьников к принятию участия в проек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мотивация преподавателей к использованию проектной технолог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ые умения учащихся заниматься исследовательской деятельност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2714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очность определения результат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usadba_talashkino.jpg"/>
          <p:cNvPicPr/>
          <p:nvPr/>
        </p:nvPicPr>
        <p:blipFill>
          <a:blip r:embed="rId1"/>
          <a:stretch/>
        </p:blipFill>
        <p:spPr>
          <a:xfrm>
            <a:off x="-642960" y="0"/>
            <a:ext cx="116823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496440" y="3286080"/>
            <a:ext cx="835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аткосрочный этнографиче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предметный 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Осенние тради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ревни Герчики Смоле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3tradicionnye-plotnickie-instrumentyfoto-esh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781920" y="-142920"/>
            <a:ext cx="86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лотницкая мастер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ruhlyad13.jpg"/>
          <p:cNvPicPr/>
          <p:nvPr/>
        </p:nvPicPr>
        <p:blipFill>
          <a:blip r:embed="rId1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967320" y="1219320"/>
            <a:ext cx="80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Гончарная мастер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2" descr="rukodelie.jpg"/>
          <p:cNvPicPr/>
          <p:nvPr/>
        </p:nvPicPr>
        <p:blipFill>
          <a:blip r:embed="rId1"/>
          <a:stretch/>
        </p:blipFill>
        <p:spPr>
          <a:xfrm>
            <a:off x="-3571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658800" y="-71280"/>
            <a:ext cx="877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Рукодельная мастер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0_7291e_ec8e682a_XL.jpg"/>
          <p:cNvPicPr/>
          <p:nvPr/>
        </p:nvPicPr>
        <p:blipFill>
          <a:blip r:embed="rId1"/>
          <a:stretch/>
        </p:blipFill>
        <p:spPr>
          <a:xfrm>
            <a:off x="-21420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3745800" y="-13824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отешный д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2" descr="dsc0340.jpg"/>
          <p:cNvPicPr/>
          <p:nvPr/>
        </p:nvPicPr>
        <p:blipFill>
          <a:blip r:embed="rId1"/>
          <a:stretch/>
        </p:blipFill>
        <p:spPr>
          <a:xfrm>
            <a:off x="-357120" y="0"/>
            <a:ext cx="10451880" cy="700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-316440" y="214200"/>
            <a:ext cx="101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Горница «Осенние вечор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2" descr="chastushki2.jpg"/>
          <p:cNvPicPr/>
          <p:nvPr/>
        </p:nvPicPr>
        <p:blipFill>
          <a:blip r:embed="rId1"/>
          <a:stretch/>
        </p:blipFill>
        <p:spPr>
          <a:xfrm>
            <a:off x="-642960" y="0"/>
            <a:ext cx="10422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1215720" y="4286160"/>
            <a:ext cx="697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оющая завали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98505419_4809770_i3.jpg"/>
          <p:cNvPicPr/>
          <p:nvPr/>
        </p:nvPicPr>
        <p:blipFill>
          <a:blip r:embed="rId1"/>
          <a:stretch/>
        </p:blipFill>
        <p:spPr>
          <a:xfrm>
            <a:off x="-428760" y="0"/>
            <a:ext cx="1102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2" descr="59426507.jpg"/>
          <p:cNvPicPr/>
          <p:nvPr/>
        </p:nvPicPr>
        <p:blipFill>
          <a:blip r:embed="rId1"/>
          <a:stretch/>
        </p:blipFill>
        <p:spPr>
          <a:xfrm>
            <a:off x="-571680" y="0"/>
            <a:ext cx="1056672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Что такое «проект»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проектом поним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мплекс взаимосвязанных мероприятий,        предназначенных для достижения определенной цели в течение заданного периода времен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0_6fcd8_64a2ae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2289960" y="7128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Что такое «проект»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отличия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ость на достижение конкретных целей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ированное выполнение взаимосвязан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протяженность во времен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пределенным началом и конц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ределенной степени неповторимость и уника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Успешность, альтернативная учеб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х — это состояние человека, качественная характеристика деятельности, чувство уверенности в собственных силах, высокая позитивная оценка себя, вера в то, что можно достичь высоких результат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сокая успеваемость ученика приводит к потере внутреннего ощущения своей успеш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 позволяет обрести ощущение успешности, с одной стороны, независящее от успеваемости и, с другой стороны, не на пути асоциаль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еучебные организационные ум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пособов контроля и оценки деятельности (ответ на вопросы «Такой ли получен результат?», «Правильно ли это делается?»); определение причин возникающих трудностей, путей их устранения; предвидение трудностей (ответ на вопрос «Какие трудности могут возникнуть и почему?»), нахождение ошибок в работе и их испр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е сотрудничество: умение договариваться, распределять работу, оценивать свой вклад и общий результат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еучебные умения поиска све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первоначальными умениями передачи, поиска, преобразования, хранения информации, использования компьютера; поиск (проверка) необходимой информации в словарях, каталоге библиот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объектов окружающего мира; обнаружение изменений, происходящих с объектом (по результатам наблюдений, опытов, работы с информацией); устное описание объекта наблюдения. Соотнесение результатов с целью наблюдения, опыта (ответ на вопрос «Удалось ли достичь поставленной цели?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Творческие общеучебные ум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решать творческие задачи на уровне комбинаций, импровизаций: самостоятельно составлять план действий (замысел), проявлять оригинальность при решении творческой задачи, создавать творческие работы (сообщения, небольшие сочинения, графические работы), разыгрывать воображаемые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Цели проектной деятель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Применение полученных зн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над проектами предполагает постоянное применение как знаний, полученных при работе над темой, так и знаний, полученных на уроках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ные действия при работе над проектами можно рассматривать как аналог деловой деятельности взрослых, как постоянный источник жизненных ситуаций, требующих применения имеющихся у школьника умений для их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User</cp:lastModifiedBy>
  <dcterms:modified xsi:type="dcterms:W3CDTF">2015-12-04T07:18:42Z</dcterms:modified>
  <cp:revision>128</cp:revision>
  <dc:subject/>
  <dc:title>Организация проектной деятельности</dc:title>
</cp:coreProperties>
</file>