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06E-AF76-4F9F-A292-D12FF69A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320-DF4A-4077-B35C-06F34A89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CBD-59EC-4A96-A900-DA80B7FA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4BC-67B4-4446-A1C1-C9D113E6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CA4C-D399-4EAC-9E67-66EDEECF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7148-98F8-4686-96F8-234DC0F2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6A6E-83DD-4AC9-AD67-4B84CE14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60A8-52B3-42D0-9BFE-CCB0690A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F93A-F01B-4F7B-8BC5-C72EB190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D0CF-788E-4AEE-A768-7B570C4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D86E-0C85-4ED3-8AC7-5E6A01A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CDB-C4AF-44DD-A54F-33251424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8D94-1128-4D6A-AECD-0EA13062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6699-749F-44CE-BC8C-5AA2FDFB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46AB-2DC2-48BD-8C85-9A2F502C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5A5B-4691-4D2E-A628-34EF216E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35D6-0A3A-40CE-A687-F8469DED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286-0E2C-4CF2-9592-A6EDB646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5E1-2CCA-49AC-B4D0-DA8194A6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A37-B66A-475E-BAC2-34C8285B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9F9-8647-4850-BA76-C01DE9EF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F6B-18E3-42BE-949E-474219E7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B35-8CBD-4994-8EAB-18009C9C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1B1-8D01-4972-97DB-4DAE5E4D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9A74-D90A-4960-87DB-7A7AC3C101F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A5B6-614E-4232-84EA-9C5D6C352A4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Семинар-практикум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«Урок сегодня и моделирование урока в аспекте реализации задач новых образовательных стандартов второго поколения»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Привлечение родителе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родителей необходимо  для  установления взаимоотношений между детьми и родителями, для налаживания плодотворных связей между семьей и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дети видят, что их родители участвуют в работе учителя, у них возрастает чувство собственной значимости. Детям дают понять, что самые главные взрослые в их жизни заботятся о ни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ие, дружеские отношения между семьей и школой идут на пользу всем детям. Когда родители становятся активными помощниками учителя, дети получают положительную мотив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5" descr="ромашка 3"/>
          <p:cNvPicPr/>
          <p:nvPr/>
        </p:nvPicPr>
        <p:blipFill>
          <a:blip r:embed="rId1"/>
          <a:stretch/>
        </p:blipFill>
        <p:spPr>
          <a:xfrm>
            <a:off x="1692360" y="1155600"/>
            <a:ext cx="5316480" cy="5004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3635280" y="3500280"/>
            <a:ext cx="1513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987640" y="1916280"/>
            <a:ext cx="1008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п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908000" y="3284640"/>
            <a:ext cx="194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действ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843280" y="4797360"/>
            <a:ext cx="1441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219640" y="3500280"/>
            <a:ext cx="17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ение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427640" y="1844640"/>
            <a:ext cx="143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иск с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284720" y="479736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общей 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ся уч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ния для выбора тем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ое отношение учителя к тем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та темы – число возможных направлений сбора сведений по теме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сбора сведений по теме не только из книг, но из экскурсий в музеи, на природу или на работу к кому-то из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– выбранная 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своей индивидуальной 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ется со знакомства с общей темой (уже выбранной учител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тся в школе на одном из уроков или во время классного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предлагает детям заманчивую россыпь направлений знакомства с темой – на любой вк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выбирают направление или по аналогии предлагают своё, или откладывают свой выбор на зав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бранные детьми направления сбора сведений (подт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бор сведений (поиск информа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одится в основном дома (возможно, в школе во внеурочное время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одится при активном участии родит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 возможности сведения собираются из наблюдений на экскурсиях (на природу, на предприятия, в музеи и т.д.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 времени занимает 1-2 неде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: найденные свед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проек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чинается с обзора учителем возможных проектов (поделки, мероприятия, исследован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полняется в школе на одном из уроков или во время классного ча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ети выбирают проект или по аналогии предлагают свои, или откладывают свой выбор на завт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сли проект групповой, то определяются группы участников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: выбранные детьми проек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роек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в основном дома (возможно, в школе во внеурочное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ри активном участии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ремени занимает 2-3 не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полненные 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тавление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ри активном участии родителей в школе во внеурочн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ятся мероприятия, представляются поделки и экспозиции, защищаются  (представляются) исследовательские 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мероприятия, презентации и защиты фотографир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авершённые проекты, творческое оформление ит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Представление результа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71840" y="1500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ный докла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овая иг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онстрация видеофиль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курс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епередач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ная конферен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цениров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атрализа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ы с зал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щита на Ученом Сове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алог исторических или литературных персонаж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ртивная иг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ктак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ешеств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ла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конферен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396160" y="357120"/>
            <a:ext cx="42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Преимущест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785880" y="164304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йся находится в центре внимания, осуществляется помощь развитию его креативных способ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ученик может обучаться в соответствии со своим уровнем развития, поскольку применяется индивидуальный темп работы над проек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мотное развитие основных психических и физиологических функц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уровень мотив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точно глубокое усвоение основ знаний, поскольку учебный предмет строится на основе логик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Garamond"/>
              </a:rPr>
              <a:t>Проектная технология обуч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2777760" y="357120"/>
            <a:ext cx="334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Недостатк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85880" y="1643040"/>
            <a:ext cx="771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58920" indent="-2714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мотивация школьников к принятию участия в проект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58920" indent="-2714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мотивация преподавателей к использованию проектной технолог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58920" indent="-2714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очные умения учащихся заниматься исследовательской деятельность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58920" indent="-2714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очность определения результат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usadba_talashkino.jpg"/>
          <p:cNvPicPr/>
          <p:nvPr/>
        </p:nvPicPr>
        <p:blipFill>
          <a:blip r:embed="rId1"/>
          <a:stretch/>
        </p:blipFill>
        <p:spPr>
          <a:xfrm>
            <a:off x="-642960" y="0"/>
            <a:ext cx="1168236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"/>
          <p:cNvSpPr/>
          <p:nvPr/>
        </p:nvSpPr>
        <p:spPr>
          <a:xfrm>
            <a:off x="496440" y="3286080"/>
            <a:ext cx="835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аткосрочный этнографиче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предметный про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Осенние тради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ревни Герчики Смолен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3tradicionnye-plotnickie-instrumentyfoto-esh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781920" y="-142920"/>
            <a:ext cx="863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Плотницкая мастер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2" descr="ruhlyad13.jpg"/>
          <p:cNvPicPr/>
          <p:nvPr/>
        </p:nvPicPr>
        <p:blipFill>
          <a:blip r:embed="rId1"/>
          <a:stretch/>
        </p:blipFill>
        <p:spPr>
          <a:xfrm>
            <a:off x="0" y="0"/>
            <a:ext cx="9429840" cy="707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967320" y="1219320"/>
            <a:ext cx="804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Гончарная мастер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2" descr="rukodelie.jpg"/>
          <p:cNvPicPr/>
          <p:nvPr/>
        </p:nvPicPr>
        <p:blipFill>
          <a:blip r:embed="rId1"/>
          <a:stretch/>
        </p:blipFill>
        <p:spPr>
          <a:xfrm>
            <a:off x="-35712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658800" y="-71280"/>
            <a:ext cx="877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Рукодельная мастер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2" descr="0_7291e_ec8e682a_XL.jpg"/>
          <p:cNvPicPr/>
          <p:nvPr/>
        </p:nvPicPr>
        <p:blipFill>
          <a:blip r:embed="rId1"/>
          <a:stretch/>
        </p:blipFill>
        <p:spPr>
          <a:xfrm>
            <a:off x="-214200" y="0"/>
            <a:ext cx="102931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3745800" y="-138240"/>
            <a:ext cx="580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Потешный д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2" descr="dsc0340.jpg"/>
          <p:cNvPicPr/>
          <p:nvPr/>
        </p:nvPicPr>
        <p:blipFill>
          <a:blip r:embed="rId1"/>
          <a:stretch/>
        </p:blipFill>
        <p:spPr>
          <a:xfrm>
            <a:off x="-357120" y="0"/>
            <a:ext cx="10451880" cy="7000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-316440" y="214200"/>
            <a:ext cx="101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Горница «Осенние вечор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2" descr="chastushki2.jpg"/>
          <p:cNvPicPr/>
          <p:nvPr/>
        </p:nvPicPr>
        <p:blipFill>
          <a:blip r:embed="rId1"/>
          <a:stretch/>
        </p:blipFill>
        <p:spPr>
          <a:xfrm>
            <a:off x="-642960" y="0"/>
            <a:ext cx="10422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1215720" y="4286160"/>
            <a:ext cx="697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Поющая завали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98505419_4809770_i3.jpg"/>
          <p:cNvPicPr/>
          <p:nvPr/>
        </p:nvPicPr>
        <p:blipFill>
          <a:blip r:embed="rId1"/>
          <a:stretch/>
        </p:blipFill>
        <p:spPr>
          <a:xfrm>
            <a:off x="-428760" y="0"/>
            <a:ext cx="1102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2" descr="59426507.jpg"/>
          <p:cNvPicPr/>
          <p:nvPr/>
        </p:nvPicPr>
        <p:blipFill>
          <a:blip r:embed="rId1"/>
          <a:stretch/>
        </p:blipFill>
        <p:spPr>
          <a:xfrm>
            <a:off x="-571680" y="0"/>
            <a:ext cx="1056672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Что такое «проект»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проектом поним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мплекс взаимосвязанных мероприятий,        предназначенных для достижения определенной цели в течение заданного периода времен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0_6fcd8_64a2ae5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2289960" y="7128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Что такое «проект»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отличия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ность на достижение конкретных целей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ированное выполнение взаимосвязанных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ая протяженность во времен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пределенным началом и конц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пределенной степени неповторимость и уника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Успешность, альтернативная учеб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х — это состояние человека, качественная характеристика деятельности, чувство уверенности в собственных силах, высокая позитивная оценка себя, вера в то, что можно достичь высоких результат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сокая успеваемость ученика приводит к потере внутреннего ощущения своей успеш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ая деятельность позволяет обрести ощущение успешности, с одной стороны, независящее от успеваемости и, с другой стороны, не на пути асоциаль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щеучебные организационные ум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пособов контроля и оценки деятельности (ответ на вопросы «Такой ли получен результат?», «Правильно ли это делается?»); определение причин возникающих трудностей, путей их устранения; предвидение трудностей (ответ на вопрос «Какие трудности могут возникнуть и почему?»), нахождение ошибок в работе и их испр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е сотрудничество: умение договариваться, распределять работу, оценивать свой вклад и общий результат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щеучебные умения поиска све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первоначальными умениями передачи, поиска, преобразования, хранения информации, использования компьютера; поиск (проверка) необходимой информации в словарях, каталоге библиоте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объектов окружающего мира; обнаружение изменений, происходящих с объектом (по результатам наблюдений, опытов, работы с информацией); устное описание объекта наблюдения. Соотнесение результатов с целью наблюдения, опыта (ответ на вопрос «Удалось ли достичь поставленной цели?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Творческие общеучебные ум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решать творческие задачи на уровне комбинаций, импровизаций: самостоятельно составлять план действий (замысел), проявлять оригинальность при решении творческой задачи, создавать творческие работы (сообщения, небольшие сочинения, графические работы), разыгрывать воображаемые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Применение полученных зн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ая работа над проектами предполагает постоянное применение как знаний, полученных при работе над темой, так и знаний, полученных на уроках в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образные действия при работе над проектами можно рассматривать как аналог деловой деятельности взрослых, как постоянный источник жизненных ситуаций, требующих применения имеющихся у школьника умений для их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4:32:14Z</dcterms:created>
  <dc:creator>Александр</dc:creator>
  <dc:description/>
  <dc:language>en-US</dc:language>
  <cp:lastModifiedBy>User</cp:lastModifiedBy>
  <dcterms:modified xsi:type="dcterms:W3CDTF">2015-12-04T07:18:42Z</dcterms:modified>
  <cp:revision>128</cp:revision>
  <dc:subject/>
  <dc:title>Организация проектной деятельности</dc:title>
</cp:coreProperties>
</file>