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%D0%A3%D1%81%D0%B0%D1%82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%D0%A3%D1%81%20%D0%BD%D1%8F%D0%BD%D1%8C.wav" ContentType="audio/x-wav"/>
  <Override PartName="/ppt/media/image18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2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48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77B-8538-4FB2-8CE9-FF78360E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541-CB32-4EB4-8967-5EC4489C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12F-C3A8-42A8-9E76-0D9168FD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4EB-7A58-4D3C-A878-426B53A2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2F4-C842-43BF-BEB7-BA10E15E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87CF-D397-448B-AE63-A7D6CFBF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E5A-104E-4562-BE2F-33823049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C45-26ED-4856-9A48-B7D2BB73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F2C-3B71-414D-ADC4-BFF14604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0BC-35FD-4F98-AF81-98687E8F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718-76AB-4F38-979E-D4FF7252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F78-7AA9-42A6-8471-EF89EAEE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8CA3-E355-4C94-805A-E4FE476130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image" Target="../media/image11.png"/><Relationship Id="rId6" Type="http://schemas.openxmlformats.org/officeDocument/2006/relationships/image" Target="../media/image2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43.png"/><Relationship Id="rId10" Type="http://schemas.openxmlformats.org/officeDocument/2006/relationships/audio" Target="../media/&#1059;&#1089;%20&#1085;&#1103;&#1085;&#1100;.wav"/><Relationship Id="rId11" Type="http://schemas.openxmlformats.org/officeDocument/2006/relationships/audio" Target="../media/&#1059;&#1089;&#1072;&#109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&#1072;&#109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%20&#1085;&#1103;&#1085;&#110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&#1072;&#1090;.wav"/><Relationship Id="rId19" Type="http://schemas.openxmlformats.org/officeDocument/2006/relationships/audio" Target="../media/&#1059;&#1089;&#1072;&#1090;.wav"/><Relationship Id="rId20" Type="http://schemas.openxmlformats.org/officeDocument/2006/relationships/audio" Target="../media/&#1059;&#1089;%20&#1085;&#1103;&#1085;&#1100;.wav"/><Relationship Id="rId21" Type="http://schemas.openxmlformats.org/officeDocument/2006/relationships/audio" Target="../media/&#1059;&#1089;%20&#1085;&#1103;&#1085;&#1100;.wav"/><Relationship Id="rId22" Type="http://schemas.openxmlformats.org/officeDocument/2006/relationships/audio" Target="../media/&#1059;&#1089;&#1072;&#109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%20&#1085;&#1103;&#1085;&#110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44.png"/><Relationship Id="rId6" Type="http://schemas.openxmlformats.org/officeDocument/2006/relationships/image" Target="../media/image24.png"/><Relationship Id="rId7" Type="http://schemas.openxmlformats.org/officeDocument/2006/relationships/image" Target="../media/image31.png"/><Relationship Id="rId8" Type="http://schemas.openxmlformats.org/officeDocument/2006/relationships/image" Target="../media/image13.png"/><Relationship Id="rId9" Type="http://schemas.openxmlformats.org/officeDocument/2006/relationships/image" Target="../media/image45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7.png"/><Relationship Id="rId6" Type="http://schemas.openxmlformats.org/officeDocument/2006/relationships/image" Target="../media/image17.png"/><Relationship Id="rId7" Type="http://schemas.openxmlformats.org/officeDocument/2006/relationships/image" Target="../media/image31.png"/><Relationship Id="rId8" Type="http://schemas.openxmlformats.org/officeDocument/2006/relationships/image" Target="../media/image41.png"/><Relationship Id="rId9" Type="http://schemas.openxmlformats.org/officeDocument/2006/relationships/image" Target="../media/image48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&#1072;&#1090;.wav"/><Relationship Id="rId15" Type="http://schemas.openxmlformats.org/officeDocument/2006/relationships/audio" Target="../media/&#1059;&#1089;%20&#1085;&#1103;&#1085;&#110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&#1072;&#109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&#1072;&#1090;.wav"/><Relationship Id="rId23" Type="http://schemas.openxmlformats.org/officeDocument/2006/relationships/audio" Target="../media/&#1059;&#1089;%20&#1085;&#1103;&#1085;&#1100;.wav"/><Relationship Id="rId24" Type="http://schemas.openxmlformats.org/officeDocument/2006/relationships/audio" Target="../media/&#1059;&#1089;%20&#1085;&#1103;&#1085;&#110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5.png"/><Relationship Id="rId8" Type="http://schemas.openxmlformats.org/officeDocument/2006/relationships/image" Target="../media/image6.png"/><Relationship Id="rId9" Type="http://schemas.openxmlformats.org/officeDocument/2006/relationships/image" Target="../media/image16.jpe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23.png"/><Relationship Id="rId10" Type="http://schemas.openxmlformats.org/officeDocument/2006/relationships/audio" Target="../media/&#1059;&#1089;%20&#1085;&#1103;&#1085;&#1100;.wav"/><Relationship Id="rId11" Type="http://schemas.openxmlformats.org/officeDocument/2006/relationships/audio" Target="../media/&#1059;&#1089;&#1072;&#109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&#1072;&#109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%20&#1085;&#1103;&#1085;&#110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&#1072;&#1090;.wav"/><Relationship Id="rId19" Type="http://schemas.openxmlformats.org/officeDocument/2006/relationships/audio" Target="../media/&#1059;&#1089;&#1072;&#1090;.wav"/><Relationship Id="rId20" Type="http://schemas.openxmlformats.org/officeDocument/2006/relationships/audio" Target="../media/&#1059;&#1089;%20&#1085;&#1103;&#1085;&#1100;.wav"/><Relationship Id="rId21" Type="http://schemas.openxmlformats.org/officeDocument/2006/relationships/audio" Target="../media/&#1059;&#1089;%20&#1085;&#1103;&#1085;&#1100;.wav"/><Relationship Id="rId22" Type="http://schemas.openxmlformats.org/officeDocument/2006/relationships/audio" Target="../media/&#1059;&#1089;&#1072;&#109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%20&#1085;&#1103;&#1085;&#110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1.png"/><Relationship Id="rId6" Type="http://schemas.openxmlformats.org/officeDocument/2006/relationships/image" Target="../media/image2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29.png"/><Relationship Id="rId10" Type="http://schemas.openxmlformats.org/officeDocument/2006/relationships/audio" Target="../media/&#1059;&#1089;%20&#1085;&#1103;&#1085;&#1100;.wav"/><Relationship Id="rId11" Type="http://schemas.openxmlformats.org/officeDocument/2006/relationships/audio" Target="../media/&#1059;&#1089;&#1072;&#109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&#1072;&#109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%20&#1085;&#1103;&#1085;&#110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&#1072;&#1090;.wav"/><Relationship Id="rId19" Type="http://schemas.openxmlformats.org/officeDocument/2006/relationships/audio" Target="../media/&#1059;&#1089;&#1072;&#1090;.wav"/><Relationship Id="rId20" Type="http://schemas.openxmlformats.org/officeDocument/2006/relationships/audio" Target="../media/&#1059;&#1089;%20&#1085;&#1103;&#1085;&#1100;.wav"/><Relationship Id="rId21" Type="http://schemas.openxmlformats.org/officeDocument/2006/relationships/audio" Target="../media/&#1059;&#1089;%20&#1085;&#1103;&#1085;&#1100;.wav"/><Relationship Id="rId22" Type="http://schemas.openxmlformats.org/officeDocument/2006/relationships/audio" Target="../media/&#1059;&#1089;&#1072;&#109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%20&#1085;&#1103;&#1085;&#110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30.png"/><Relationship Id="rId6" Type="http://schemas.openxmlformats.org/officeDocument/2006/relationships/image" Target="../media/image15.png"/><Relationship Id="rId7" Type="http://schemas.openxmlformats.org/officeDocument/2006/relationships/image" Target="../media/image31.png"/><Relationship Id="rId8" Type="http://schemas.openxmlformats.org/officeDocument/2006/relationships/image" Target="../media/image7.png"/><Relationship Id="rId9" Type="http://schemas.openxmlformats.org/officeDocument/2006/relationships/image" Target="../media/image32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png"/><Relationship Id="rId3" Type="http://schemas.openxmlformats.org/officeDocument/2006/relationships/image" Target="../media/image28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1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1.png"/><Relationship Id="rId6" Type="http://schemas.openxmlformats.org/officeDocument/2006/relationships/image" Target="../media/image2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39.png"/><Relationship Id="rId10" Type="http://schemas.openxmlformats.org/officeDocument/2006/relationships/audio" Target="../media/&#1059;&#1089;%20&#1085;&#1103;&#1085;&#1100;.wav"/><Relationship Id="rId11" Type="http://schemas.openxmlformats.org/officeDocument/2006/relationships/audio" Target="../media/&#1059;&#1089;&#1072;&#109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&#1072;&#109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%20&#1085;&#1103;&#1085;&#110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&#1072;&#1090;.wav"/><Relationship Id="rId19" Type="http://schemas.openxmlformats.org/officeDocument/2006/relationships/audio" Target="../media/&#1059;&#1089;&#1072;&#1090;.wav"/><Relationship Id="rId20" Type="http://schemas.openxmlformats.org/officeDocument/2006/relationships/audio" Target="../media/&#1059;&#1089;%20&#1085;&#1103;&#1085;&#1100;.wav"/><Relationship Id="rId21" Type="http://schemas.openxmlformats.org/officeDocument/2006/relationships/audio" Target="../media/&#1059;&#1089;%20&#1085;&#1103;&#1085;&#1100;.wav"/><Relationship Id="rId22" Type="http://schemas.openxmlformats.org/officeDocument/2006/relationships/audio" Target="../media/&#1059;&#1089;&#1072;&#109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%20&#1085;&#1103;&#1085;&#110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1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42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www.retuch.bos.ru/data1/1004.jpg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7027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089000" y="1290600"/>
            <a:ext cx="5349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Начальная шко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X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800440" y="260208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9e"/>
                </a:solidFill>
                <a:latin typeface="Comic Sans MS"/>
              </a:rPr>
              <a:t>Тренаж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2"/>
          <p:cNvSpPr txBox="1"/>
          <p:nvPr/>
        </p:nvSpPr>
        <p:spPr>
          <a:xfrm>
            <a:off x="1089000" y="3090960"/>
            <a:ext cx="564516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ова из "Словарика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…ку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…ту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…вс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…чи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8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…й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9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ел…грам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0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ф…нтаз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1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фед…р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2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WordArt 13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56" name="WordArt 14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57" name="WordArt 15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58" name="WordArt 16"/>
          <p:cNvSpPr txBox="1"/>
          <p:nvPr/>
        </p:nvSpPr>
        <p:spPr>
          <a:xfrm>
            <a:off x="2324160" y="37274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59" name="WordArt 17"/>
          <p:cNvSpPr txBox="1"/>
          <p:nvPr/>
        </p:nvSpPr>
        <p:spPr>
          <a:xfrm>
            <a:off x="65484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0" name="WordArt 18"/>
          <p:cNvSpPr txBox="1"/>
          <p:nvPr/>
        </p:nvSpPr>
        <p:spPr>
          <a:xfrm>
            <a:off x="23256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1" name="WordArt 19"/>
          <p:cNvSpPr txBox="1"/>
          <p:nvPr/>
        </p:nvSpPr>
        <p:spPr>
          <a:xfrm>
            <a:off x="23256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2" name="WordArt 20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3" name="WordArt 21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4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5" name="WordArt 23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6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7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8" name="WordArt 26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9" name="WordArt 27"/>
          <p:cNvSpPr txBox="1"/>
          <p:nvPr/>
        </p:nvSpPr>
        <p:spPr>
          <a:xfrm>
            <a:off x="23256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70" name="WordArt 28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471" name="Овал 35"/>
          <p:cNvGrpSpPr/>
          <p:nvPr/>
        </p:nvGrpSpPr>
        <p:grpSpPr>
          <a:xfrm>
            <a:off x="950760" y="1255680"/>
            <a:ext cx="444600" cy="480960"/>
            <a:chOff x="950760" y="1255680"/>
            <a:chExt cx="444600" cy="480960"/>
          </a:xfrm>
        </p:grpSpPr>
        <p:pic>
          <p:nvPicPr>
            <p:cNvPr id="47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125568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102564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Овал 35"/>
          <p:cNvGrpSpPr/>
          <p:nvPr/>
        </p:nvGrpSpPr>
        <p:grpSpPr>
          <a:xfrm>
            <a:off x="920880" y="3614760"/>
            <a:ext cx="463320" cy="476280"/>
            <a:chOff x="920880" y="3614760"/>
            <a:chExt cx="463320" cy="476280"/>
          </a:xfrm>
        </p:grpSpPr>
        <p:pic>
          <p:nvPicPr>
            <p:cNvPr id="47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361476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017720" y="3711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Овал 35"/>
          <p:cNvGrpSpPr/>
          <p:nvPr/>
        </p:nvGrpSpPr>
        <p:grpSpPr>
          <a:xfrm>
            <a:off x="950760" y="5900760"/>
            <a:ext cx="444600" cy="476280"/>
            <a:chOff x="950760" y="5900760"/>
            <a:chExt cx="444600" cy="476280"/>
          </a:xfrm>
        </p:grpSpPr>
        <p:pic>
          <p:nvPicPr>
            <p:cNvPr id="478" name="Овал 35" descr=""/>
            <p:cNvPicPr/>
            <p:nvPr/>
          </p:nvPicPr>
          <p:blipFill>
            <a:blip r:embed="rId3"/>
            <a:stretch/>
          </p:blipFill>
          <p:spPr>
            <a:xfrm>
              <a:off x="950760" y="590076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025640" y="5997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Овал 35"/>
          <p:cNvGrpSpPr/>
          <p:nvPr/>
        </p:nvGrpSpPr>
        <p:grpSpPr>
          <a:xfrm>
            <a:off x="950760" y="500040"/>
            <a:ext cx="444600" cy="480960"/>
            <a:chOff x="950760" y="500040"/>
            <a:chExt cx="444600" cy="480960"/>
          </a:xfrm>
        </p:grpSpPr>
        <p:pic>
          <p:nvPicPr>
            <p:cNvPr id="481" name="Овал 35" descr=""/>
            <p:cNvPicPr/>
            <p:nvPr/>
          </p:nvPicPr>
          <p:blipFill>
            <a:blip r:embed="rId4"/>
            <a:stretch/>
          </p:blipFill>
          <p:spPr>
            <a:xfrm>
              <a:off x="950760" y="500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Овал 35"/>
          <p:cNvGrpSpPr/>
          <p:nvPr/>
        </p:nvGrpSpPr>
        <p:grpSpPr>
          <a:xfrm>
            <a:off x="920880" y="2030400"/>
            <a:ext cx="463320" cy="480960"/>
            <a:chOff x="920880" y="2030400"/>
            <a:chExt cx="463320" cy="480960"/>
          </a:xfrm>
        </p:grpSpPr>
        <p:pic>
          <p:nvPicPr>
            <p:cNvPr id="484" name="Овал 35" descr=""/>
            <p:cNvPicPr/>
            <p:nvPr/>
          </p:nvPicPr>
          <p:blipFill>
            <a:blip r:embed="rId5"/>
            <a:stretch/>
          </p:blipFill>
          <p:spPr>
            <a:xfrm>
              <a:off x="920880" y="20304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Овал 35"/>
          <p:cNvGrpSpPr/>
          <p:nvPr/>
        </p:nvGrpSpPr>
        <p:grpSpPr>
          <a:xfrm>
            <a:off x="920880" y="2840040"/>
            <a:ext cx="463320" cy="482760"/>
            <a:chOff x="920880" y="2840040"/>
            <a:chExt cx="463320" cy="482760"/>
          </a:xfrm>
        </p:grpSpPr>
        <p:pic>
          <p:nvPicPr>
            <p:cNvPr id="487" name="Овал 35" descr=""/>
            <p:cNvPicPr/>
            <p:nvPr/>
          </p:nvPicPr>
          <p:blipFill>
            <a:blip r:embed="rId6"/>
            <a:stretch/>
          </p:blipFill>
          <p:spPr>
            <a:xfrm>
              <a:off x="920880" y="2840040"/>
              <a:ext cx="46332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017720" y="2940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Овал 35"/>
          <p:cNvGrpSpPr/>
          <p:nvPr/>
        </p:nvGrpSpPr>
        <p:grpSpPr>
          <a:xfrm>
            <a:off x="950760" y="4340160"/>
            <a:ext cx="444600" cy="480960"/>
            <a:chOff x="950760" y="4340160"/>
            <a:chExt cx="444600" cy="480960"/>
          </a:xfrm>
        </p:grpSpPr>
        <p:pic>
          <p:nvPicPr>
            <p:cNvPr id="49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434016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Овал 35"/>
          <p:cNvGrpSpPr/>
          <p:nvPr/>
        </p:nvGrpSpPr>
        <p:grpSpPr>
          <a:xfrm>
            <a:off x="950760" y="5132520"/>
            <a:ext cx="444600" cy="476280"/>
            <a:chOff x="950760" y="5132520"/>
            <a:chExt cx="444600" cy="476280"/>
          </a:xfrm>
        </p:grpSpPr>
        <p:pic>
          <p:nvPicPr>
            <p:cNvPr id="493" name="Овал 35" descr=""/>
            <p:cNvPicPr/>
            <p:nvPr/>
          </p:nvPicPr>
          <p:blipFill>
            <a:blip r:embed="rId8"/>
            <a:stretch/>
          </p:blipFill>
          <p:spPr>
            <a:xfrm>
              <a:off x="950760" y="513252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02564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5" name="Picture 53" descr="http://1.bp.blogspot.com/-JpCMtTO6f7k/TcVI3_diJBI/AAAAAAAABao/LXJsa_FTPKA/s1600/dumbo.gif"/>
          <p:cNvPicPr/>
          <p:nvPr/>
        </p:nvPicPr>
        <p:blipFill>
          <a:blip r:embed="rId9"/>
          <a:stretch/>
        </p:blipFill>
        <p:spPr>
          <a:xfrm>
            <a:off x="7074000" y="2943360"/>
            <a:ext cx="1976400" cy="178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5" dur="indefinite" restart="never" nodeType="tmRoot">
          <p:childTnLst>
            <p:seq>
              <p:cTn id="1866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70" dur="1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871" dur="1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72" dur="1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1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88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85185E-006 L -0.29271 -1.85185E-006 E">
                                      <p:cBhvr>
                                        <p:cTn id="1885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88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9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890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3.33333E-006 L -0.35173 -3.33333E-006 E">
                                      <p:cBhvr>
                                        <p:cTn id="1893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89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7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898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1" dur="1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02" dur="1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03" dur="1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2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913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59259E-006 L -0.29271 2.59259E-006 E">
                                      <p:cBhvr>
                                        <p:cTn id="1916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1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0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921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2.22222E-006 L 0.15555 -2.22222E-006 E">
                                      <p:cBhvr>
                                        <p:cTn id="1924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2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92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32" dur="1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33" dur="1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34" dur="1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3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944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47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48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49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8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959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3.7037E-006 L 0.15555 -3.7037E-006 E">
                                      <p:cBhvr>
                                        <p:cTn id="1962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6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6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967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D0%B0%D1%82.wav"/>
                                        </p:tgtEl>
                                      </p:cMediaNode>
                                    </p:audio>
                                    <p:animMotion origin="layout" path="M -2.5E-006 1.11111E-006 L 0.13785 1.11111E-006 E">
                                      <p:cBhvr>
                                        <p:cTn id="1970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7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4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975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78" dur="1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79" dur="1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80" dur="1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990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93" dur="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94" dur="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95" dur="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2005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4.81481E-006 L -0.27465 4.81481E-006 E">
                                      <p:cBhvr>
                                        <p:cTn id="2008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1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2013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26285 -2.22222E-006 E">
                                      <p:cBhvr>
                                        <p:cTn id="2016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2021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24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25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26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5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2036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39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40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1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0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2051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5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6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2057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6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206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66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8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2069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7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4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2075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7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0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2081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8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6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2087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9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2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2093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9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фин…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х…зя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ш…сс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эк…па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скур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спре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эскалат…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як…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06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07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08" name="WordArt 16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09" name="WordArt 17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0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1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2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3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4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5" name="WordArt 23"/>
          <p:cNvSpPr txBox="1"/>
          <p:nvPr/>
        </p:nvSpPr>
        <p:spPr>
          <a:xfrm>
            <a:off x="2324160" y="217008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6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7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8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19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20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521" name="Овал 35"/>
          <p:cNvGrpSpPr/>
          <p:nvPr/>
        </p:nvGrpSpPr>
        <p:grpSpPr>
          <a:xfrm>
            <a:off x="950760" y="500040"/>
            <a:ext cx="444600" cy="480960"/>
            <a:chOff x="950760" y="500040"/>
            <a:chExt cx="444600" cy="480960"/>
          </a:xfrm>
        </p:grpSpPr>
        <p:pic>
          <p:nvPicPr>
            <p:cNvPr id="52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500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Овал 35"/>
          <p:cNvGrpSpPr/>
          <p:nvPr/>
        </p:nvGrpSpPr>
        <p:grpSpPr>
          <a:xfrm>
            <a:off x="920880" y="2030400"/>
            <a:ext cx="463320" cy="480960"/>
            <a:chOff x="920880" y="2030400"/>
            <a:chExt cx="463320" cy="480960"/>
          </a:xfrm>
        </p:grpSpPr>
        <p:pic>
          <p:nvPicPr>
            <p:cNvPr id="52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20304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Овал 35"/>
          <p:cNvGrpSpPr/>
          <p:nvPr/>
        </p:nvGrpSpPr>
        <p:grpSpPr>
          <a:xfrm>
            <a:off x="920880" y="2803680"/>
            <a:ext cx="463320" cy="475920"/>
            <a:chOff x="920880" y="2803680"/>
            <a:chExt cx="463320" cy="475920"/>
          </a:xfrm>
        </p:grpSpPr>
        <p:pic>
          <p:nvPicPr>
            <p:cNvPr id="528" name="Овал 35" descr=""/>
            <p:cNvPicPr/>
            <p:nvPr/>
          </p:nvPicPr>
          <p:blipFill>
            <a:blip r:embed="rId3"/>
            <a:stretch/>
          </p:blipFill>
          <p:spPr>
            <a:xfrm>
              <a:off x="920880" y="2803680"/>
              <a:ext cx="46332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017720" y="2901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Овал 35"/>
          <p:cNvGrpSpPr/>
          <p:nvPr/>
        </p:nvGrpSpPr>
        <p:grpSpPr>
          <a:xfrm>
            <a:off x="950760" y="4400640"/>
            <a:ext cx="444600" cy="476280"/>
            <a:chOff x="950760" y="4400640"/>
            <a:chExt cx="444600" cy="476280"/>
          </a:xfrm>
        </p:grpSpPr>
        <p:pic>
          <p:nvPicPr>
            <p:cNvPr id="531" name="Овал 35" descr=""/>
            <p:cNvPicPr/>
            <p:nvPr/>
          </p:nvPicPr>
          <p:blipFill>
            <a:blip r:embed="rId4"/>
            <a:stretch/>
          </p:blipFill>
          <p:spPr>
            <a:xfrm>
              <a:off x="950760" y="440064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1025640" y="449748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Овал 35"/>
          <p:cNvGrpSpPr/>
          <p:nvPr/>
        </p:nvGrpSpPr>
        <p:grpSpPr>
          <a:xfrm>
            <a:off x="920880" y="5205240"/>
            <a:ext cx="463320" cy="482760"/>
            <a:chOff x="920880" y="5205240"/>
            <a:chExt cx="463320" cy="482760"/>
          </a:xfrm>
        </p:grpSpPr>
        <p:pic>
          <p:nvPicPr>
            <p:cNvPr id="534" name="Овал 35" descr=""/>
            <p:cNvPicPr/>
            <p:nvPr/>
          </p:nvPicPr>
          <p:blipFill>
            <a:blip r:embed="rId5"/>
            <a:stretch/>
          </p:blipFill>
          <p:spPr>
            <a:xfrm>
              <a:off x="920880" y="5205240"/>
              <a:ext cx="46332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1017720" y="5305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Овал 35"/>
          <p:cNvGrpSpPr/>
          <p:nvPr/>
        </p:nvGrpSpPr>
        <p:grpSpPr>
          <a:xfrm>
            <a:off x="950760" y="1255680"/>
            <a:ext cx="444600" cy="480960"/>
            <a:chOff x="950760" y="1255680"/>
            <a:chExt cx="444600" cy="480960"/>
          </a:xfrm>
        </p:grpSpPr>
        <p:pic>
          <p:nvPicPr>
            <p:cNvPr id="537" name="Овал 35" descr=""/>
            <p:cNvPicPr/>
            <p:nvPr/>
          </p:nvPicPr>
          <p:blipFill>
            <a:blip r:embed="rId6"/>
            <a:stretch/>
          </p:blipFill>
          <p:spPr>
            <a:xfrm>
              <a:off x="950760" y="125568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102564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Овал 35"/>
          <p:cNvGrpSpPr/>
          <p:nvPr/>
        </p:nvGrpSpPr>
        <p:grpSpPr>
          <a:xfrm>
            <a:off x="950760" y="3591000"/>
            <a:ext cx="444600" cy="474480"/>
            <a:chOff x="950760" y="3591000"/>
            <a:chExt cx="444600" cy="474480"/>
          </a:xfrm>
        </p:grpSpPr>
        <p:pic>
          <p:nvPicPr>
            <p:cNvPr id="54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3591000"/>
              <a:ext cx="444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102564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Овал 35"/>
          <p:cNvGrpSpPr/>
          <p:nvPr/>
        </p:nvGrpSpPr>
        <p:grpSpPr>
          <a:xfrm>
            <a:off x="920880" y="5931000"/>
            <a:ext cx="463320" cy="476280"/>
            <a:chOff x="920880" y="5931000"/>
            <a:chExt cx="463320" cy="476280"/>
          </a:xfrm>
        </p:grpSpPr>
        <p:pic>
          <p:nvPicPr>
            <p:cNvPr id="543" name="Овал 35" descr=""/>
            <p:cNvPicPr/>
            <p:nvPr/>
          </p:nvPicPr>
          <p:blipFill>
            <a:blip r:embed="rId8"/>
            <a:stretch/>
          </p:blipFill>
          <p:spPr>
            <a:xfrm>
              <a:off x="920880" y="593100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1017720" y="602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5" name="Picture 53" descr="http://www.playcast.ru/uploads/2015/06/22/14068661.png"/>
          <p:cNvPicPr/>
          <p:nvPr/>
        </p:nvPicPr>
        <p:blipFill>
          <a:blip r:embed="rId9"/>
          <a:stretch/>
        </p:blipFill>
        <p:spPr>
          <a:xfrm>
            <a:off x="6988320" y="3494160"/>
            <a:ext cx="215568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8" dur="indefinite" restart="never" nodeType="tmRoot">
          <p:childTnLst>
            <p:seq>
              <p:cTn id="2099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3.7037E-006 L 0.27395 -3.7037E-006 E">
                                      <p:cBhvr>
                                        <p:cTn id="2103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0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2108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11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12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13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2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2123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5.3654E-007 L -0.28455 5.3654E-007 E">
                                      <p:cBhvr>
                                        <p:cTn id="2126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2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0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2131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34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35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6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5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2146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49" dur="1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50" dur="1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1" dur="1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0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2161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4.81481E-006 L 0.0927 4.81481E-006 E">
                                      <p:cBhvr>
                                        <p:cTn id="2164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6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8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2169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22951 -2.22222E-006 E">
                                      <p:cBhvr>
                                        <p:cTn id="2172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7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2177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80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81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82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1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2192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95" dur="1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96" dur="1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7" dur="1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5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6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2207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10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11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12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1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2222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2.5E-006 2.07216E-006 L 0.204 2.07216E-006 E">
                                      <p:cBhvr>
                                        <p:cTn id="2225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2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9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2230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2.5E-006 4.87512E-006 L 0.23247 4.87512E-006 E">
                                      <p:cBhvr>
                                        <p:cTn id="2233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3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7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2238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41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42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43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2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2253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2.59259E-006 L 0.10747 2.59259E-006 E">
                                      <p:cBhvr>
                                        <p:cTn id="2256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5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2261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12882 -2.22222E-006 E">
                                      <p:cBhvr>
                                        <p:cTn id="2264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6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8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2269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72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73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74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3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2284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8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9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2290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93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2296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9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1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2302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0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7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2308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1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3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2314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1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9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2320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2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5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2326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2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AutoShape 29">
            <a:hlinkClick r:id="" action="ppaction://hlinkshowjump?jump=endshow"/>
          </p:cNvPr>
          <p:cNvSpPr/>
          <p:nvPr/>
        </p:nvSpPr>
        <p:spPr>
          <a:xfrm>
            <a:off x="7866000" y="5896080"/>
            <a:ext cx="990720" cy="555480"/>
          </a:xfrm>
          <a:custGeom>
            <a:avLst/>
            <a:gdLst>
              <a:gd name="textAreaLeft" fmla="*/ 36000 w 990720"/>
              <a:gd name="textAreaRight" fmla="*/ 954720 w 990720"/>
              <a:gd name="textAreaTop" fmla="*/ 36000 h 555480"/>
              <a:gd name="textAreaBottom" fmla="*/ 519480 h 555480"/>
            </a:gdLst>
            <a:ahLst/>
            <a:rect l="textAreaLeft" t="textAreaTop" r="textAreaRight" b="textAreaBottom"/>
            <a:pathLst>
              <a:path w="38513" h="21600">
                <a:moveTo>
                  <a:pt x="0" y="0"/>
                </a:moveTo>
                <a:lnTo>
                  <a:pt x="38513" y="0"/>
                </a:lnTo>
                <a:lnTo>
                  <a:pt x="38513" y="21600"/>
                </a:lnTo>
                <a:lnTo>
                  <a:pt x="0" y="21600"/>
                </a:lnTo>
                <a:close/>
              </a:path>
              <a:path fill="lightenLess" w="38513" h="21600">
                <a:moveTo>
                  <a:pt x="0" y="0"/>
                </a:moveTo>
                <a:lnTo>
                  <a:pt x="38513" y="0"/>
                </a:lnTo>
                <a:lnTo>
                  <a:pt x="37113" y="1400"/>
                </a:lnTo>
                <a:lnTo>
                  <a:pt x="1400" y="1400"/>
                </a:lnTo>
                <a:close/>
              </a:path>
              <a:path fill="darken" w="38513" h="21600">
                <a:moveTo>
                  <a:pt x="38513" y="0"/>
                </a:moveTo>
                <a:lnTo>
                  <a:pt x="38513" y="21600"/>
                </a:lnTo>
                <a:lnTo>
                  <a:pt x="37113" y="20200"/>
                </a:lnTo>
                <a:lnTo>
                  <a:pt x="37113" y="1400"/>
                </a:lnTo>
                <a:close/>
              </a:path>
              <a:path fill="darkenLess" w="38513" h="21600">
                <a:moveTo>
                  <a:pt x="38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13" y="20200"/>
                </a:lnTo>
                <a:close/>
              </a:path>
              <a:path fill="lighten" w="38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13" h="21600">
                <a:moveTo>
                  <a:pt x="22756" y="10800"/>
                </a:moveTo>
                <a:lnTo>
                  <a:pt x="12250" y="17806"/>
                </a:lnTo>
                <a:lnTo>
                  <a:pt x="12250" y="3794"/>
                </a:lnTo>
                <a:close/>
              </a:path>
              <a:path fill="darken" w="38513" h="21600">
                <a:moveTo>
                  <a:pt x="24601" y="3794"/>
                </a:moveTo>
                <a:lnTo>
                  <a:pt x="24601" y="17806"/>
                </a:lnTo>
                <a:lnTo>
                  <a:pt x="26263" y="17806"/>
                </a:lnTo>
                <a:lnTo>
                  <a:pt x="26263" y="37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…леграм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ф…дер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теч…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…ризо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аб…н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пит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…ктор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и…граф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56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57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58" name="WordArt 16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59" name="WordArt 17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0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1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2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3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4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5" name="WordArt 23"/>
          <p:cNvSpPr txBox="1"/>
          <p:nvPr/>
        </p:nvSpPr>
        <p:spPr>
          <a:xfrm>
            <a:off x="2324160" y="217008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6" name="WordArt 24"/>
          <p:cNvSpPr txBox="1"/>
          <p:nvPr/>
        </p:nvSpPr>
        <p:spPr>
          <a:xfrm>
            <a:off x="6548400" y="292104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7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8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9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70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571" name="Овал 35"/>
          <p:cNvGrpSpPr/>
          <p:nvPr/>
        </p:nvGrpSpPr>
        <p:grpSpPr>
          <a:xfrm>
            <a:off x="950760" y="500040"/>
            <a:ext cx="444600" cy="480960"/>
            <a:chOff x="950760" y="500040"/>
            <a:chExt cx="444600" cy="480960"/>
          </a:xfrm>
        </p:grpSpPr>
        <p:pic>
          <p:nvPicPr>
            <p:cNvPr id="57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500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Овал 35"/>
          <p:cNvGrpSpPr/>
          <p:nvPr/>
        </p:nvGrpSpPr>
        <p:grpSpPr>
          <a:xfrm>
            <a:off x="920880" y="2030400"/>
            <a:ext cx="463320" cy="480960"/>
            <a:chOff x="920880" y="2030400"/>
            <a:chExt cx="463320" cy="480960"/>
          </a:xfrm>
        </p:grpSpPr>
        <p:pic>
          <p:nvPicPr>
            <p:cNvPr id="57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20304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Овал 35"/>
          <p:cNvGrpSpPr/>
          <p:nvPr/>
        </p:nvGrpSpPr>
        <p:grpSpPr>
          <a:xfrm>
            <a:off x="920880" y="2779560"/>
            <a:ext cx="463320" cy="481320"/>
            <a:chOff x="920880" y="2779560"/>
            <a:chExt cx="463320" cy="481320"/>
          </a:xfrm>
        </p:grpSpPr>
        <p:pic>
          <p:nvPicPr>
            <p:cNvPr id="578" name="Овал 35" descr=""/>
            <p:cNvPicPr/>
            <p:nvPr/>
          </p:nvPicPr>
          <p:blipFill>
            <a:blip r:embed="rId3"/>
            <a:stretch/>
          </p:blipFill>
          <p:spPr>
            <a:xfrm>
              <a:off x="920880" y="2779560"/>
              <a:ext cx="46332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017720" y="28796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Овал 35"/>
          <p:cNvGrpSpPr/>
          <p:nvPr/>
        </p:nvGrpSpPr>
        <p:grpSpPr>
          <a:xfrm>
            <a:off x="920880" y="4340160"/>
            <a:ext cx="463320" cy="476280"/>
            <a:chOff x="920880" y="4340160"/>
            <a:chExt cx="463320" cy="476280"/>
          </a:xfrm>
        </p:grpSpPr>
        <p:pic>
          <p:nvPicPr>
            <p:cNvPr id="581" name="Овал 35" descr=""/>
            <p:cNvPicPr/>
            <p:nvPr/>
          </p:nvPicPr>
          <p:blipFill>
            <a:blip r:embed="rId4"/>
            <a:stretch/>
          </p:blipFill>
          <p:spPr>
            <a:xfrm>
              <a:off x="920880" y="434016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1017720" y="44370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Овал 35"/>
          <p:cNvGrpSpPr/>
          <p:nvPr/>
        </p:nvGrpSpPr>
        <p:grpSpPr>
          <a:xfrm>
            <a:off x="950760" y="5224320"/>
            <a:ext cx="444600" cy="474840"/>
            <a:chOff x="950760" y="5224320"/>
            <a:chExt cx="444600" cy="474840"/>
          </a:xfrm>
        </p:grpSpPr>
        <p:pic>
          <p:nvPicPr>
            <p:cNvPr id="584" name="Овал 35" descr=""/>
            <p:cNvPicPr/>
            <p:nvPr/>
          </p:nvPicPr>
          <p:blipFill>
            <a:blip r:embed="rId5"/>
            <a:stretch/>
          </p:blipFill>
          <p:spPr>
            <a:xfrm>
              <a:off x="950760" y="5224320"/>
              <a:ext cx="44460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1025640" y="53197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Овал 35"/>
          <p:cNvGrpSpPr/>
          <p:nvPr/>
        </p:nvGrpSpPr>
        <p:grpSpPr>
          <a:xfrm>
            <a:off x="950760" y="1262160"/>
            <a:ext cx="444600" cy="474480"/>
            <a:chOff x="950760" y="1262160"/>
            <a:chExt cx="444600" cy="474480"/>
          </a:xfrm>
        </p:grpSpPr>
        <p:pic>
          <p:nvPicPr>
            <p:cNvPr id="587" name="Овал 35" descr=""/>
            <p:cNvPicPr/>
            <p:nvPr/>
          </p:nvPicPr>
          <p:blipFill>
            <a:blip r:embed="rId6"/>
            <a:stretch/>
          </p:blipFill>
          <p:spPr>
            <a:xfrm>
              <a:off x="950760" y="1262160"/>
              <a:ext cx="444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1025640" y="1357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Овал 35"/>
          <p:cNvGrpSpPr/>
          <p:nvPr/>
        </p:nvGrpSpPr>
        <p:grpSpPr>
          <a:xfrm>
            <a:off x="950760" y="3591000"/>
            <a:ext cx="444600" cy="474480"/>
            <a:chOff x="950760" y="3591000"/>
            <a:chExt cx="444600" cy="474480"/>
          </a:xfrm>
        </p:grpSpPr>
        <p:pic>
          <p:nvPicPr>
            <p:cNvPr id="59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3591000"/>
              <a:ext cx="444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102564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Овал 35"/>
          <p:cNvGrpSpPr/>
          <p:nvPr/>
        </p:nvGrpSpPr>
        <p:grpSpPr>
          <a:xfrm>
            <a:off x="920880" y="5967360"/>
            <a:ext cx="463320" cy="476280"/>
            <a:chOff x="920880" y="5967360"/>
            <a:chExt cx="463320" cy="476280"/>
          </a:xfrm>
        </p:grpSpPr>
        <p:pic>
          <p:nvPicPr>
            <p:cNvPr id="593" name="Овал 35" descr=""/>
            <p:cNvPicPr/>
            <p:nvPr/>
          </p:nvPicPr>
          <p:blipFill>
            <a:blip r:embed="rId8"/>
            <a:stretch/>
          </p:blipFill>
          <p:spPr>
            <a:xfrm>
              <a:off x="920880" y="596736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1017720" y="6064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5" name="Picture 53" descr="http://www.estanbul.com/images/imported/2011/01/rferfg-1.jpg"/>
          <p:cNvPicPr/>
          <p:nvPr/>
        </p:nvPicPr>
        <p:blipFill>
          <a:blip r:embed="rId9"/>
          <a:srcRect l="9200" t="0" r="11997" b="5588"/>
          <a:stretch/>
        </p:blipFill>
        <p:spPr>
          <a:xfrm>
            <a:off x="6978600" y="3228840"/>
            <a:ext cx="2151000" cy="25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1" dur="indefinite" restart="never" nodeType="tmRoot">
          <p:childTnLst>
            <p:seq>
              <p:cTn id="2332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2333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3.7037E-006 L 0.08993 -3.7037E-006 E">
                                      <p:cBhvr>
                                        <p:cTn id="2336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3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0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2341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44" dur="1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45" dur="1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46" dur="1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5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2356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1.11111E-006 L -0.33923 1.11111E-006 E">
                                      <p:cBhvr>
                                        <p:cTn id="2359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6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3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2364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67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68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69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8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2379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82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83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84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3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2394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1.19334E-006 L 0.23368 -1.19334E-006 E">
                                      <p:cBhvr>
                                        <p:cTn id="2397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9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1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2402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30208 -2.22222E-006 E">
                                      <p:cBhvr>
                                        <p:cTn id="2405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0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9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2410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13" dur="1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14" dur="1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15" dur="1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4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2425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28" dur="1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29" dur="1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0" dur="1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9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440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43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44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45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3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4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2455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2.5E-006 -1.85185E-006 L 0.24705 -1.85185E-006 E">
                                      <p:cBhvr>
                                        <p:cTn id="2458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2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463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59259E-006 L -0.32187 -2.59259E-006 E">
                                      <p:cBhvr>
                                        <p:cTn id="2466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6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0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2471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74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75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76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4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5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2486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2.59259E-006 L 0.1599 2.59259E-006 E">
                                      <p:cBhvr>
                                        <p:cTn id="2489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9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2494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33923 -2.22222E-006 E">
                                      <p:cBhvr>
                                        <p:cTn id="2497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9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1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2502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05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506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07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6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2517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20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2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2523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26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8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2529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3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4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535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3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0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2541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4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6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2547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5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2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2553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5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8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2559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6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акв…р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а….урат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а.…е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льб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а….ет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а…лик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ар…м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…ссей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6"/>
          <p:cNvSpPr txBox="1"/>
          <p:nvPr/>
        </p:nvSpPr>
        <p:spPr>
          <a:xfrm>
            <a:off x="2324160" y="1360440"/>
            <a:ext cx="47952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к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7" name="WordArt 17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8" name="WordArt 18"/>
          <p:cNvSpPr txBox="1"/>
          <p:nvPr/>
        </p:nvSpPr>
        <p:spPr>
          <a:xfrm>
            <a:off x="6548400" y="2170080"/>
            <a:ext cx="4176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л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9" name="WordArt 19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0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9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2" name="WordArt 32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3" name="WordArt 33"/>
          <p:cNvSpPr txBox="1"/>
          <p:nvPr/>
        </p:nvSpPr>
        <p:spPr>
          <a:xfrm>
            <a:off x="2163600" y="3727440"/>
            <a:ext cx="459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п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4" name="WordArt 34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5" name="WordArt 35"/>
          <p:cNvSpPr txBox="1"/>
          <p:nvPr/>
        </p:nvSpPr>
        <p:spPr>
          <a:xfrm>
            <a:off x="6548400" y="4479840"/>
            <a:ext cx="4176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п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6" name="WordArt 36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7" name="WordArt 37"/>
          <p:cNvSpPr txBox="1"/>
          <p:nvPr/>
        </p:nvSpPr>
        <p:spPr>
          <a:xfrm>
            <a:off x="23256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8" name="WordArt 38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9" name="WordArt 39"/>
          <p:cNvSpPr txBox="1"/>
          <p:nvPr/>
        </p:nvSpPr>
        <p:spPr>
          <a:xfrm>
            <a:off x="23256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0" name="WordArt 43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71" name="Овал 35"/>
          <p:cNvGrpSpPr/>
          <p:nvPr/>
        </p:nvGrpSpPr>
        <p:grpSpPr>
          <a:xfrm>
            <a:off x="920880" y="573120"/>
            <a:ext cx="463320" cy="480960"/>
            <a:chOff x="920880" y="573120"/>
            <a:chExt cx="463320" cy="480960"/>
          </a:xfrm>
        </p:grpSpPr>
        <p:pic>
          <p:nvPicPr>
            <p:cNvPr id="72" name="Овал 35" descr=""/>
            <p:cNvPicPr/>
            <p:nvPr/>
          </p:nvPicPr>
          <p:blipFill>
            <a:blip r:embed="rId1"/>
            <a:stretch/>
          </p:blipFill>
          <p:spPr>
            <a:xfrm>
              <a:off x="920880" y="57312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017720" y="6732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Овал 35"/>
          <p:cNvGrpSpPr/>
          <p:nvPr/>
        </p:nvGrpSpPr>
        <p:grpSpPr>
          <a:xfrm>
            <a:off x="920880" y="1322280"/>
            <a:ext cx="463320" cy="476280"/>
            <a:chOff x="920880" y="1322280"/>
            <a:chExt cx="463320" cy="476280"/>
          </a:xfrm>
        </p:grpSpPr>
        <p:pic>
          <p:nvPicPr>
            <p:cNvPr id="7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132228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017720" y="14209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Овал 35"/>
          <p:cNvGrpSpPr/>
          <p:nvPr/>
        </p:nvGrpSpPr>
        <p:grpSpPr>
          <a:xfrm>
            <a:off x="920880" y="2097000"/>
            <a:ext cx="463320" cy="480960"/>
            <a:chOff x="920880" y="2097000"/>
            <a:chExt cx="463320" cy="480960"/>
          </a:xfrm>
        </p:grpSpPr>
        <p:pic>
          <p:nvPicPr>
            <p:cNvPr id="78" name="Овал 35" descr=""/>
            <p:cNvPicPr/>
            <p:nvPr/>
          </p:nvPicPr>
          <p:blipFill>
            <a:blip r:embed="rId3"/>
            <a:stretch/>
          </p:blipFill>
          <p:spPr>
            <a:xfrm>
              <a:off x="920880" y="20970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017720" y="219564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Овал 35"/>
          <p:cNvGrpSpPr/>
          <p:nvPr/>
        </p:nvGrpSpPr>
        <p:grpSpPr>
          <a:xfrm>
            <a:off x="920880" y="2803680"/>
            <a:ext cx="463320" cy="475920"/>
            <a:chOff x="920880" y="2803680"/>
            <a:chExt cx="463320" cy="475920"/>
          </a:xfrm>
        </p:grpSpPr>
        <p:pic>
          <p:nvPicPr>
            <p:cNvPr id="81" name="Овал 35" descr=""/>
            <p:cNvPicPr/>
            <p:nvPr/>
          </p:nvPicPr>
          <p:blipFill>
            <a:blip r:embed="rId4"/>
            <a:stretch/>
          </p:blipFill>
          <p:spPr>
            <a:xfrm>
              <a:off x="920880" y="2803680"/>
              <a:ext cx="46332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017720" y="2901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Овал 35"/>
          <p:cNvGrpSpPr/>
          <p:nvPr/>
        </p:nvGrpSpPr>
        <p:grpSpPr>
          <a:xfrm>
            <a:off x="920880" y="3591000"/>
            <a:ext cx="463320" cy="474480"/>
            <a:chOff x="920880" y="3591000"/>
            <a:chExt cx="463320" cy="474480"/>
          </a:xfrm>
        </p:grpSpPr>
        <p:pic>
          <p:nvPicPr>
            <p:cNvPr id="84" name="Овал 35" descr=""/>
            <p:cNvPicPr/>
            <p:nvPr/>
          </p:nvPicPr>
          <p:blipFill>
            <a:blip r:embed="rId5"/>
            <a:stretch/>
          </p:blipFill>
          <p:spPr>
            <a:xfrm>
              <a:off x="920880" y="3591000"/>
              <a:ext cx="4633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1772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Овал 35"/>
          <p:cNvGrpSpPr/>
          <p:nvPr/>
        </p:nvGrpSpPr>
        <p:grpSpPr>
          <a:xfrm>
            <a:off x="950760" y="5900760"/>
            <a:ext cx="444600" cy="476280"/>
            <a:chOff x="950760" y="5900760"/>
            <a:chExt cx="444600" cy="476280"/>
          </a:xfrm>
        </p:grpSpPr>
        <p:pic>
          <p:nvPicPr>
            <p:cNvPr id="87" name="Овал 35" descr=""/>
            <p:cNvPicPr/>
            <p:nvPr/>
          </p:nvPicPr>
          <p:blipFill>
            <a:blip r:embed="rId6"/>
            <a:stretch/>
          </p:blipFill>
          <p:spPr>
            <a:xfrm>
              <a:off x="950760" y="590076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025640" y="5997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Овал 35"/>
          <p:cNvGrpSpPr/>
          <p:nvPr/>
        </p:nvGrpSpPr>
        <p:grpSpPr>
          <a:xfrm>
            <a:off x="950760" y="4340160"/>
            <a:ext cx="444600" cy="480960"/>
            <a:chOff x="950760" y="4340160"/>
            <a:chExt cx="444600" cy="480960"/>
          </a:xfrm>
        </p:grpSpPr>
        <p:pic>
          <p:nvPicPr>
            <p:cNvPr id="9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434016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Овал 35"/>
          <p:cNvGrpSpPr/>
          <p:nvPr/>
        </p:nvGrpSpPr>
        <p:grpSpPr>
          <a:xfrm>
            <a:off x="950760" y="5132520"/>
            <a:ext cx="444600" cy="476280"/>
            <a:chOff x="950760" y="5132520"/>
            <a:chExt cx="444600" cy="476280"/>
          </a:xfrm>
        </p:grpSpPr>
        <p:pic>
          <p:nvPicPr>
            <p:cNvPr id="93" name="Овал 35" descr=""/>
            <p:cNvPicPr/>
            <p:nvPr/>
          </p:nvPicPr>
          <p:blipFill>
            <a:blip r:embed="rId8"/>
            <a:stretch/>
          </p:blipFill>
          <p:spPr>
            <a:xfrm>
              <a:off x="950760" y="513252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02564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54" descr="http://178-ufa.ru/wp-content/uploads/2012/03/SGNQO.png"/>
          <p:cNvPicPr/>
          <p:nvPr/>
        </p:nvPicPr>
        <p:blipFill>
          <a:blip r:embed="rId9"/>
          <a:stretch/>
        </p:blipFill>
        <p:spPr>
          <a:xfrm>
            <a:off x="6978600" y="3625920"/>
            <a:ext cx="2222640" cy="21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6.35838E-007 L 0.20798 6.35838E-007 E">
                                      <p:cBhvr>
                                        <p:cTn id="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94444E-006 -4.44444E-006 L 0.11632 -4.44444E-006 E">
                                      <p:cBhvr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D0%B0%D1%82.wav"/>
                                        </p:tgtEl>
                                      </p:cMediaNode>
                                    </p:audio>
                                    <p:animMotion origin="layout" path="M 1.11111E-006 -1.85185E-006 L -0.26042 -1.85185E-006 E">
                                      <p:cBhvr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6.93642E-007 L -0.31736 -6.93642E-007 E">
                                      <p:cBhvr>
                                        <p:cTn id="7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D0%B0%D1%82.wav"/>
                                        </p:tgtEl>
                                      </p:cMediaNode>
                                    </p:audio>
                                    <p:animMotion origin="layout" path="M -1.94444E-006 4.81481E-006 L 0.19045 4.81481E-006 E">
                                      <p:cBhvr>
                                        <p:cTn id="9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1.11111E-006 2.59259E-006 L -0.35556 2.59259E-006 E">
                                      <p:cBhvr>
                                        <p:cTn id="12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19653E-006 L -0.25382 2.19653E-006 E">
                                      <p:cBhvr>
                                        <p:cTn id="129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D0%B0%D1%82.wav"/>
                                        </p:tgtEl>
                                      </p:cMediaNode>
                                    </p:audio>
                                    <p:animMotion origin="layout" path="M 3.88889E-006 2.25434E-006 L 0.16319 2.25434E-006 E">
                                      <p:cBhvr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6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7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0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2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5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6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…гат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…ограф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ут…рбр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икт…рина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…лшеб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ос…м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ор…зо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…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2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8" name="WordArt 26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9" name="WordArt 27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0" name="WordArt 2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1" name="WordArt 2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2" name="WordArt 3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3" name="WordArt 3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4" name="WordArt 3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5" name="WordArt 33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6" name="WordArt 3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7" name="WordArt 3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8" name="WordArt 3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9" name="WordArt 3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20" name="WordArt 3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21" name="Овал 35"/>
          <p:cNvGrpSpPr/>
          <p:nvPr/>
        </p:nvGrpSpPr>
        <p:grpSpPr>
          <a:xfrm>
            <a:off x="920880" y="573120"/>
            <a:ext cx="463320" cy="480960"/>
            <a:chOff x="920880" y="573120"/>
            <a:chExt cx="463320" cy="480960"/>
          </a:xfrm>
        </p:grpSpPr>
        <p:pic>
          <p:nvPicPr>
            <p:cNvPr id="122" name="Овал 35" descr=""/>
            <p:cNvPicPr/>
            <p:nvPr/>
          </p:nvPicPr>
          <p:blipFill>
            <a:blip r:embed="rId1"/>
            <a:stretch/>
          </p:blipFill>
          <p:spPr>
            <a:xfrm>
              <a:off x="920880" y="57312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017720" y="6732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Овал 35"/>
          <p:cNvGrpSpPr/>
          <p:nvPr/>
        </p:nvGrpSpPr>
        <p:grpSpPr>
          <a:xfrm>
            <a:off x="920880" y="2030400"/>
            <a:ext cx="463320" cy="480960"/>
            <a:chOff x="920880" y="2030400"/>
            <a:chExt cx="463320" cy="480960"/>
          </a:xfrm>
        </p:grpSpPr>
        <p:pic>
          <p:nvPicPr>
            <p:cNvPr id="12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20304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35"/>
          <p:cNvGrpSpPr/>
          <p:nvPr/>
        </p:nvGrpSpPr>
        <p:grpSpPr>
          <a:xfrm>
            <a:off x="950760" y="2803680"/>
            <a:ext cx="444600" cy="475920"/>
            <a:chOff x="950760" y="2803680"/>
            <a:chExt cx="444600" cy="475920"/>
          </a:xfrm>
        </p:grpSpPr>
        <p:pic>
          <p:nvPicPr>
            <p:cNvPr id="128" name="Овал 35" descr=""/>
            <p:cNvPicPr/>
            <p:nvPr/>
          </p:nvPicPr>
          <p:blipFill>
            <a:blip r:embed="rId3"/>
            <a:stretch/>
          </p:blipFill>
          <p:spPr>
            <a:xfrm>
              <a:off x="950760" y="2803680"/>
              <a:ext cx="44460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025640" y="2901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35"/>
          <p:cNvGrpSpPr/>
          <p:nvPr/>
        </p:nvGrpSpPr>
        <p:grpSpPr>
          <a:xfrm>
            <a:off x="920880" y="4406760"/>
            <a:ext cx="463320" cy="476280"/>
            <a:chOff x="920880" y="4406760"/>
            <a:chExt cx="463320" cy="476280"/>
          </a:xfrm>
        </p:grpSpPr>
        <p:pic>
          <p:nvPicPr>
            <p:cNvPr id="131" name="Овал 35" descr=""/>
            <p:cNvPicPr/>
            <p:nvPr/>
          </p:nvPicPr>
          <p:blipFill>
            <a:blip r:embed="rId4"/>
            <a:stretch/>
          </p:blipFill>
          <p:spPr>
            <a:xfrm>
              <a:off x="920880" y="440676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017720" y="45054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Овал 35"/>
          <p:cNvGrpSpPr/>
          <p:nvPr/>
        </p:nvGrpSpPr>
        <p:grpSpPr>
          <a:xfrm>
            <a:off x="950760" y="5205240"/>
            <a:ext cx="444600" cy="482760"/>
            <a:chOff x="950760" y="5205240"/>
            <a:chExt cx="444600" cy="482760"/>
          </a:xfrm>
        </p:grpSpPr>
        <p:pic>
          <p:nvPicPr>
            <p:cNvPr id="134" name="Овал 35" descr=""/>
            <p:cNvPicPr/>
            <p:nvPr/>
          </p:nvPicPr>
          <p:blipFill>
            <a:blip r:embed="rId5"/>
            <a:stretch/>
          </p:blipFill>
          <p:spPr>
            <a:xfrm>
              <a:off x="950760" y="5205240"/>
              <a:ext cx="4446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025640" y="5305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Овал 35"/>
          <p:cNvGrpSpPr/>
          <p:nvPr/>
        </p:nvGrpSpPr>
        <p:grpSpPr>
          <a:xfrm>
            <a:off x="950760" y="5900760"/>
            <a:ext cx="444600" cy="476280"/>
            <a:chOff x="950760" y="5900760"/>
            <a:chExt cx="444600" cy="476280"/>
          </a:xfrm>
        </p:grpSpPr>
        <p:pic>
          <p:nvPicPr>
            <p:cNvPr id="137" name="Овал 35" descr=""/>
            <p:cNvPicPr/>
            <p:nvPr/>
          </p:nvPicPr>
          <p:blipFill>
            <a:blip r:embed="rId6"/>
            <a:stretch/>
          </p:blipFill>
          <p:spPr>
            <a:xfrm>
              <a:off x="950760" y="590076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025640" y="5997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Овал 35"/>
          <p:cNvGrpSpPr/>
          <p:nvPr/>
        </p:nvGrpSpPr>
        <p:grpSpPr>
          <a:xfrm>
            <a:off x="920880" y="1255680"/>
            <a:ext cx="463320" cy="480960"/>
            <a:chOff x="920880" y="1255680"/>
            <a:chExt cx="463320" cy="480960"/>
          </a:xfrm>
        </p:grpSpPr>
        <p:pic>
          <p:nvPicPr>
            <p:cNvPr id="140" name="Овал 35" descr=""/>
            <p:cNvPicPr/>
            <p:nvPr/>
          </p:nvPicPr>
          <p:blipFill>
            <a:blip r:embed="rId7"/>
            <a:stretch/>
          </p:blipFill>
          <p:spPr>
            <a:xfrm>
              <a:off x="920880" y="125568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01772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Овал 35"/>
          <p:cNvGrpSpPr/>
          <p:nvPr/>
        </p:nvGrpSpPr>
        <p:grpSpPr>
          <a:xfrm>
            <a:off x="920880" y="3591000"/>
            <a:ext cx="463320" cy="474480"/>
            <a:chOff x="920880" y="3591000"/>
            <a:chExt cx="463320" cy="474480"/>
          </a:xfrm>
        </p:grpSpPr>
        <p:pic>
          <p:nvPicPr>
            <p:cNvPr id="143" name="Овал 35" descr=""/>
            <p:cNvPicPr/>
            <p:nvPr/>
          </p:nvPicPr>
          <p:blipFill>
            <a:blip r:embed="rId8"/>
            <a:stretch/>
          </p:blipFill>
          <p:spPr>
            <a:xfrm>
              <a:off x="920880" y="3591000"/>
              <a:ext cx="4633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01772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54" descr="http://i176.photobucket.com/albums/w170/Aussiefiregirl/u67u6u7.jpg"/>
          <p:cNvPicPr/>
          <p:nvPr/>
        </p:nvPicPr>
        <p:blipFill>
          <a:blip r:embed="rId9"/>
          <a:stretch/>
        </p:blipFill>
        <p:spPr>
          <a:xfrm>
            <a:off x="7156440" y="3063960"/>
            <a:ext cx="1700280" cy="22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-0.05 -0.00185 L 0.12725 -0.0037 E">
                                      <p:cBhvr>
                                        <p:cTn id="23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7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8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1.11111E-006 L -0.34791 1.11111E-006 E">
                                      <p:cBhvr>
                                        <p:cTn id="26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2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5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86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7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4.81481E-006 L 0.11389 4.81481E-006 E">
                                      <p:cBhvr>
                                        <p:cTn id="30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26771 -2.22222E-006 E">
                                      <p:cBhvr>
                                        <p:cTn id="30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6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17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8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32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3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6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8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85185E-006 L -0.28142 -1.85185E-006 E">
                                      <p:cBhvr>
                                        <p:cTn id="36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2.5E-006 -3.33333E-006 L 0.22344 -3.33333E-006 E">
                                      <p:cBhvr>
                                        <p:cTn id="36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7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8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9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2.59259E-006 L 0.24427 2.59259E-006 E">
                                      <p:cBhvr>
                                        <p:cTn id="39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25208 -2.22222E-006 E">
                                      <p:cBhvr>
                                        <p:cTn id="40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0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3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4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5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5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6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в…надц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и…л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…рект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ещ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ж…л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ж…лез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…бав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изл…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21"/>
          <p:cNvSpPr txBox="1"/>
          <p:nvPr/>
        </p:nvSpPr>
        <p:spPr>
          <a:xfrm>
            <a:off x="23256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56" name="WordArt 22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57" name="WordArt 23"/>
          <p:cNvSpPr txBox="1"/>
          <p:nvPr/>
        </p:nvSpPr>
        <p:spPr>
          <a:xfrm>
            <a:off x="2324160" y="2819520"/>
            <a:ext cx="296640" cy="4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58" name="WordArt 24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59" name="WordArt 25"/>
          <p:cNvSpPr txBox="1"/>
          <p:nvPr/>
        </p:nvSpPr>
        <p:spPr>
          <a:xfrm>
            <a:off x="23256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0" name="WordArt 26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1" name="WordArt 27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2" name="WordArt 28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3" name="WordArt 29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4" name="WordArt 30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5" name="WordArt 31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6" name="WordArt 32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7" name="WordArt 33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8" name="WordArt 34"/>
          <p:cNvSpPr txBox="1"/>
          <p:nvPr/>
        </p:nvSpPr>
        <p:spPr>
          <a:xfrm>
            <a:off x="23256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9" name="WordArt 35"/>
          <p:cNvSpPr txBox="1"/>
          <p:nvPr/>
        </p:nvSpPr>
        <p:spPr>
          <a:xfrm>
            <a:off x="65484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70" name="WordArt 36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71" name="Овал 35"/>
          <p:cNvGrpSpPr/>
          <p:nvPr/>
        </p:nvGrpSpPr>
        <p:grpSpPr>
          <a:xfrm>
            <a:off x="950760" y="1262160"/>
            <a:ext cx="444600" cy="474480"/>
            <a:chOff x="950760" y="1262160"/>
            <a:chExt cx="444600" cy="474480"/>
          </a:xfrm>
        </p:grpSpPr>
        <p:pic>
          <p:nvPicPr>
            <p:cNvPr id="17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1262160"/>
              <a:ext cx="444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025640" y="1357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Овал 35"/>
          <p:cNvGrpSpPr/>
          <p:nvPr/>
        </p:nvGrpSpPr>
        <p:grpSpPr>
          <a:xfrm>
            <a:off x="950760" y="3651120"/>
            <a:ext cx="444600" cy="476280"/>
            <a:chOff x="950760" y="3651120"/>
            <a:chExt cx="444600" cy="476280"/>
          </a:xfrm>
        </p:grpSpPr>
        <p:pic>
          <p:nvPicPr>
            <p:cNvPr id="175" name="Овал 35" descr=""/>
            <p:cNvPicPr/>
            <p:nvPr/>
          </p:nvPicPr>
          <p:blipFill>
            <a:blip r:embed="rId2"/>
            <a:stretch/>
          </p:blipFill>
          <p:spPr>
            <a:xfrm>
              <a:off x="950760" y="365112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025640" y="3747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Овал 35"/>
          <p:cNvGrpSpPr/>
          <p:nvPr/>
        </p:nvGrpSpPr>
        <p:grpSpPr>
          <a:xfrm>
            <a:off x="950760" y="5967360"/>
            <a:ext cx="444600" cy="476280"/>
            <a:chOff x="950760" y="5967360"/>
            <a:chExt cx="444600" cy="476280"/>
          </a:xfrm>
        </p:grpSpPr>
        <p:pic>
          <p:nvPicPr>
            <p:cNvPr id="178" name="Овал 35" descr=""/>
            <p:cNvPicPr/>
            <p:nvPr/>
          </p:nvPicPr>
          <p:blipFill>
            <a:blip r:embed="rId3"/>
            <a:stretch/>
          </p:blipFill>
          <p:spPr>
            <a:xfrm>
              <a:off x="950760" y="596736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025640" y="6064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Овал 35"/>
          <p:cNvGrpSpPr/>
          <p:nvPr/>
        </p:nvGrpSpPr>
        <p:grpSpPr>
          <a:xfrm>
            <a:off x="920880" y="500040"/>
            <a:ext cx="463320" cy="480960"/>
            <a:chOff x="920880" y="500040"/>
            <a:chExt cx="463320" cy="480960"/>
          </a:xfrm>
        </p:grpSpPr>
        <p:pic>
          <p:nvPicPr>
            <p:cNvPr id="181" name="Овал 35" descr=""/>
            <p:cNvPicPr/>
            <p:nvPr/>
          </p:nvPicPr>
          <p:blipFill>
            <a:blip r:embed="rId4"/>
            <a:stretch/>
          </p:blipFill>
          <p:spPr>
            <a:xfrm>
              <a:off x="920880" y="50004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01772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Овал 35"/>
          <p:cNvGrpSpPr/>
          <p:nvPr/>
        </p:nvGrpSpPr>
        <p:grpSpPr>
          <a:xfrm>
            <a:off x="920880" y="2066760"/>
            <a:ext cx="463320" cy="474840"/>
            <a:chOff x="920880" y="2066760"/>
            <a:chExt cx="463320" cy="474840"/>
          </a:xfrm>
        </p:grpSpPr>
        <p:pic>
          <p:nvPicPr>
            <p:cNvPr id="184" name="Овал 35" descr=""/>
            <p:cNvPicPr/>
            <p:nvPr/>
          </p:nvPicPr>
          <p:blipFill>
            <a:blip r:embed="rId5"/>
            <a:stretch/>
          </p:blipFill>
          <p:spPr>
            <a:xfrm>
              <a:off x="920880" y="2066760"/>
              <a:ext cx="4633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017720" y="2163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Овал 35"/>
          <p:cNvGrpSpPr/>
          <p:nvPr/>
        </p:nvGrpSpPr>
        <p:grpSpPr>
          <a:xfrm>
            <a:off x="950760" y="2938320"/>
            <a:ext cx="444600" cy="481320"/>
            <a:chOff x="950760" y="2938320"/>
            <a:chExt cx="444600" cy="481320"/>
          </a:xfrm>
        </p:grpSpPr>
        <p:pic>
          <p:nvPicPr>
            <p:cNvPr id="187" name="Овал 35" descr=""/>
            <p:cNvPicPr/>
            <p:nvPr/>
          </p:nvPicPr>
          <p:blipFill>
            <a:blip r:embed="rId6"/>
            <a:stretch/>
          </p:blipFill>
          <p:spPr>
            <a:xfrm>
              <a:off x="950760" y="2938320"/>
              <a:ext cx="44460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025640" y="30369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Овал 35"/>
          <p:cNvGrpSpPr/>
          <p:nvPr/>
        </p:nvGrpSpPr>
        <p:grpSpPr>
          <a:xfrm>
            <a:off x="950760" y="4340160"/>
            <a:ext cx="444600" cy="480960"/>
            <a:chOff x="950760" y="4340160"/>
            <a:chExt cx="444600" cy="480960"/>
          </a:xfrm>
        </p:grpSpPr>
        <p:pic>
          <p:nvPicPr>
            <p:cNvPr id="19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434016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Овал 35"/>
          <p:cNvGrpSpPr/>
          <p:nvPr/>
        </p:nvGrpSpPr>
        <p:grpSpPr>
          <a:xfrm>
            <a:off x="950760" y="5132520"/>
            <a:ext cx="444600" cy="476280"/>
            <a:chOff x="950760" y="5132520"/>
            <a:chExt cx="444600" cy="476280"/>
          </a:xfrm>
        </p:grpSpPr>
        <p:pic>
          <p:nvPicPr>
            <p:cNvPr id="193" name="Овал 35" descr=""/>
            <p:cNvPicPr/>
            <p:nvPr/>
          </p:nvPicPr>
          <p:blipFill>
            <a:blip r:embed="rId8"/>
            <a:stretch/>
          </p:blipFill>
          <p:spPr>
            <a:xfrm>
              <a:off x="950760" y="513252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02564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Picture 54" descr="http://i1.gorodnet.ru/pics/p/24/44/9401770_4ee51224e6c49"/>
          <p:cNvPicPr/>
          <p:nvPr/>
        </p:nvPicPr>
        <p:blipFill>
          <a:blip r:embed="rId9"/>
          <a:srcRect l="15922" t="395" r="9949" b="3592"/>
          <a:stretch/>
        </p:blipFill>
        <p:spPr>
          <a:xfrm>
            <a:off x="6978600" y="3327480"/>
            <a:ext cx="2165400" cy="21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7" dur="indefinite" restart="never" nodeType="tmRoot">
          <p:childTnLst>
            <p:seq>
              <p:cTn id="46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2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73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4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1.85185E-006 L 0.14184 -1.85185E-006 E">
                                      <p:cBhvr>
                                        <p:cTn id="487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2.5E-006 -3.33333E-006 L 0.27657 -3.33333E-006 E">
                                      <p:cBhvr>
                                        <p:cTn id="49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3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04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5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D0%B0%D1%82.wav"/>
                                        </p:tgtEl>
                                      </p:cMediaNode>
                                    </p:audio>
                                    <p:animMotion origin="layout" path="M 3.88889E-006 2.59259E-006 L 0.18159 2.59259E-006 E">
                                      <p:cBhvr>
                                        <p:cTn id="518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-2.5E-006 -5.18039E-007 L 0.10643 -5.18039E-007 E">
                                      <p:cBhvr>
                                        <p:cTn id="526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34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35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6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9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50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1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3.7037E-006 L -0.31996 -3.7037E-006 E">
                                      <p:cBhvr>
                                        <p:cTn id="56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1.11111E-006 L -0.24791 1.11111E-006 E">
                                      <p:cBhvr>
                                        <p:cTn id="57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8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5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96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7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D0%B0%D1%82.wav"/>
                                        </p:tgtEl>
                                      </p:cMediaNode>
                                    </p:audio>
                                    <p:animMotion origin="layout" path="M 3.88889E-006 4.81481E-006 L 0.18159 4.81481E-006 E">
                                      <p:cBhvr>
                                        <p:cTn id="61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2.22222E-006 L 0.18159 -2.22222E-006 E">
                                      <p:cBhvr>
                                        <p:cTn id="61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26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27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8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1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42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3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5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5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6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6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7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8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8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9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изобр…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ин…г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ску…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ист…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бин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мы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2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ап…т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лограм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21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06" name="WordArt 22"/>
          <p:cNvSpPr txBox="1"/>
          <p:nvPr/>
        </p:nvSpPr>
        <p:spPr>
          <a:xfrm>
            <a:off x="6429240" y="2170080"/>
            <a:ext cx="549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07" name="WordArt 23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08" name="WordArt 24"/>
          <p:cNvSpPr txBox="1"/>
          <p:nvPr/>
        </p:nvSpPr>
        <p:spPr>
          <a:xfrm>
            <a:off x="2324160" y="37274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09" name="WordArt 25"/>
          <p:cNvSpPr txBox="1"/>
          <p:nvPr/>
        </p:nvSpPr>
        <p:spPr>
          <a:xfrm>
            <a:off x="65484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0" name="WordArt 26"/>
          <p:cNvSpPr txBox="1"/>
          <p:nvPr/>
        </p:nvSpPr>
        <p:spPr>
          <a:xfrm>
            <a:off x="23256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1" name="WordArt 27"/>
          <p:cNvSpPr txBox="1"/>
          <p:nvPr/>
        </p:nvSpPr>
        <p:spPr>
          <a:xfrm>
            <a:off x="23256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2" name="WordArt 28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3" name="WordArt 29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4" name="WordArt 30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5" name="WordArt 31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6" name="WordArt 32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7" name="WordArt 33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8" name="WordArt 34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9" name="WordArt 35"/>
          <p:cNvSpPr txBox="1"/>
          <p:nvPr/>
        </p:nvSpPr>
        <p:spPr>
          <a:xfrm>
            <a:off x="23256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20" name="WordArt 36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221" name="Овал 35"/>
          <p:cNvGrpSpPr/>
          <p:nvPr/>
        </p:nvGrpSpPr>
        <p:grpSpPr>
          <a:xfrm>
            <a:off x="950760" y="1255680"/>
            <a:ext cx="444600" cy="480960"/>
            <a:chOff x="950760" y="1255680"/>
            <a:chExt cx="444600" cy="480960"/>
          </a:xfrm>
        </p:grpSpPr>
        <p:pic>
          <p:nvPicPr>
            <p:cNvPr id="22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125568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02564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Овал 35"/>
          <p:cNvGrpSpPr/>
          <p:nvPr/>
        </p:nvGrpSpPr>
        <p:grpSpPr>
          <a:xfrm>
            <a:off x="920880" y="3614760"/>
            <a:ext cx="463320" cy="476280"/>
            <a:chOff x="920880" y="3614760"/>
            <a:chExt cx="463320" cy="476280"/>
          </a:xfrm>
        </p:grpSpPr>
        <p:pic>
          <p:nvPicPr>
            <p:cNvPr id="22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361476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1017720" y="3711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Овал 35"/>
          <p:cNvGrpSpPr/>
          <p:nvPr/>
        </p:nvGrpSpPr>
        <p:grpSpPr>
          <a:xfrm>
            <a:off x="920880" y="5992920"/>
            <a:ext cx="463320" cy="480960"/>
            <a:chOff x="920880" y="5992920"/>
            <a:chExt cx="463320" cy="480960"/>
          </a:xfrm>
        </p:grpSpPr>
        <p:pic>
          <p:nvPicPr>
            <p:cNvPr id="228" name="Овал 35" descr=""/>
            <p:cNvPicPr/>
            <p:nvPr/>
          </p:nvPicPr>
          <p:blipFill>
            <a:blip r:embed="rId3"/>
            <a:stretch/>
          </p:blipFill>
          <p:spPr>
            <a:xfrm>
              <a:off x="920880" y="599292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017720" y="6091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Овал 35"/>
          <p:cNvGrpSpPr/>
          <p:nvPr/>
        </p:nvGrpSpPr>
        <p:grpSpPr>
          <a:xfrm>
            <a:off x="950760" y="500040"/>
            <a:ext cx="444600" cy="480960"/>
            <a:chOff x="950760" y="500040"/>
            <a:chExt cx="444600" cy="480960"/>
          </a:xfrm>
        </p:grpSpPr>
        <p:pic>
          <p:nvPicPr>
            <p:cNvPr id="231" name="Овал 35" descr=""/>
            <p:cNvPicPr/>
            <p:nvPr/>
          </p:nvPicPr>
          <p:blipFill>
            <a:blip r:embed="rId4"/>
            <a:stretch/>
          </p:blipFill>
          <p:spPr>
            <a:xfrm>
              <a:off x="950760" y="500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Овал 35"/>
          <p:cNvGrpSpPr/>
          <p:nvPr/>
        </p:nvGrpSpPr>
        <p:grpSpPr>
          <a:xfrm>
            <a:off x="920880" y="2030400"/>
            <a:ext cx="463320" cy="480960"/>
            <a:chOff x="920880" y="2030400"/>
            <a:chExt cx="463320" cy="480960"/>
          </a:xfrm>
        </p:grpSpPr>
        <p:pic>
          <p:nvPicPr>
            <p:cNvPr id="234" name="Овал 35" descr=""/>
            <p:cNvPicPr/>
            <p:nvPr/>
          </p:nvPicPr>
          <p:blipFill>
            <a:blip r:embed="rId5"/>
            <a:stretch/>
          </p:blipFill>
          <p:spPr>
            <a:xfrm>
              <a:off x="920880" y="20304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Овал 35"/>
          <p:cNvGrpSpPr/>
          <p:nvPr/>
        </p:nvGrpSpPr>
        <p:grpSpPr>
          <a:xfrm>
            <a:off x="920880" y="2840040"/>
            <a:ext cx="463320" cy="482760"/>
            <a:chOff x="920880" y="2840040"/>
            <a:chExt cx="463320" cy="482760"/>
          </a:xfrm>
        </p:grpSpPr>
        <p:pic>
          <p:nvPicPr>
            <p:cNvPr id="237" name="Овал 35" descr=""/>
            <p:cNvPicPr/>
            <p:nvPr/>
          </p:nvPicPr>
          <p:blipFill>
            <a:blip r:embed="rId6"/>
            <a:stretch/>
          </p:blipFill>
          <p:spPr>
            <a:xfrm>
              <a:off x="920880" y="2840040"/>
              <a:ext cx="46332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017720" y="2940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Овал 35"/>
          <p:cNvGrpSpPr/>
          <p:nvPr/>
        </p:nvGrpSpPr>
        <p:grpSpPr>
          <a:xfrm>
            <a:off x="950760" y="4340160"/>
            <a:ext cx="444600" cy="480960"/>
            <a:chOff x="950760" y="4340160"/>
            <a:chExt cx="444600" cy="480960"/>
          </a:xfrm>
        </p:grpSpPr>
        <p:pic>
          <p:nvPicPr>
            <p:cNvPr id="24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434016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Овал 35"/>
          <p:cNvGrpSpPr/>
          <p:nvPr/>
        </p:nvGrpSpPr>
        <p:grpSpPr>
          <a:xfrm>
            <a:off x="950760" y="5132520"/>
            <a:ext cx="444600" cy="476280"/>
            <a:chOff x="950760" y="5132520"/>
            <a:chExt cx="444600" cy="476280"/>
          </a:xfrm>
        </p:grpSpPr>
        <p:pic>
          <p:nvPicPr>
            <p:cNvPr id="243" name="Овал 35" descr=""/>
            <p:cNvPicPr/>
            <p:nvPr/>
          </p:nvPicPr>
          <p:blipFill>
            <a:blip r:embed="rId8"/>
            <a:stretch/>
          </p:blipFill>
          <p:spPr>
            <a:xfrm>
              <a:off x="950760" y="513252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102564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54" descr="http://static.ngs.ru/cache/market/db3c93b325877ba96beecbcc4eb6a97b_1363589062_1000_1000.jpg"/>
          <p:cNvPicPr/>
          <p:nvPr/>
        </p:nvPicPr>
        <p:blipFill>
          <a:blip r:embed="rId9"/>
          <a:stretch/>
        </p:blipFill>
        <p:spPr>
          <a:xfrm>
            <a:off x="6978600" y="3065400"/>
            <a:ext cx="2165400" cy="26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0" dur="indefinite" restart="never" nodeType="tmRoot">
          <p:childTnLst>
            <p:seq>
              <p:cTn id="701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5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07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85185E-006 L -0.22291 -1.85185E-006 E">
                                      <p:cBhvr>
                                        <p:cTn id="720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72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3.33333E-006 L -0.21285 -3.33333E-006 E">
                                      <p:cBhvr>
                                        <p:cTn id="728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36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37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8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59259E-006 L -0.29271 2.59259E-006 E">
                                      <p:cBhvr>
                                        <p:cTn id="751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2.22222E-006 L 0.2309 -2.22222E-006 E">
                                      <p:cBhvr>
                                        <p:cTn id="759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67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68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9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2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83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4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3.7037E-006 L 0.21909 -3.7037E-006 E">
                                      <p:cBhvr>
                                        <p:cTn id="797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D0%B0%D1%82.wav"/>
                                        </p:tgtEl>
                                      </p:cMediaNode>
                                    </p:audio>
                                    <p:animMotion origin="layout" path="M -2.5E-006 1.11111E-006 L 0.21927 1.11111E-006 E">
                                      <p:cBhvr>
                                        <p:cTn id="805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13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14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5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825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28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29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0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4.81481E-006 L -0.30625 4.81481E-006 E">
                                      <p:cBhvr>
                                        <p:cTn id="84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3566 -2.22222E-006 E">
                                      <p:cBhvr>
                                        <p:cTn id="85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856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59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60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1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74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75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76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892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9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0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0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9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910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1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1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922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2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7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928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ломе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манд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м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нве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раб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…рид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р…ссвор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л…лов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56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57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58" name="WordArt 16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59" name="WordArt 17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0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1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2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3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4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5" name="WordArt 23"/>
          <p:cNvSpPr txBox="1"/>
          <p:nvPr/>
        </p:nvSpPr>
        <p:spPr>
          <a:xfrm>
            <a:off x="2324160" y="217008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6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7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8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9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70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271" name="Овал 35"/>
          <p:cNvGrpSpPr/>
          <p:nvPr/>
        </p:nvGrpSpPr>
        <p:grpSpPr>
          <a:xfrm>
            <a:off x="950760" y="500040"/>
            <a:ext cx="444600" cy="480960"/>
            <a:chOff x="950760" y="500040"/>
            <a:chExt cx="444600" cy="480960"/>
          </a:xfrm>
        </p:grpSpPr>
        <p:pic>
          <p:nvPicPr>
            <p:cNvPr id="27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500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Овал 35"/>
          <p:cNvGrpSpPr/>
          <p:nvPr/>
        </p:nvGrpSpPr>
        <p:grpSpPr>
          <a:xfrm>
            <a:off x="920880" y="2030400"/>
            <a:ext cx="463320" cy="480960"/>
            <a:chOff x="920880" y="2030400"/>
            <a:chExt cx="463320" cy="480960"/>
          </a:xfrm>
        </p:grpSpPr>
        <p:pic>
          <p:nvPicPr>
            <p:cNvPr id="27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20304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Овал 35"/>
          <p:cNvGrpSpPr/>
          <p:nvPr/>
        </p:nvGrpSpPr>
        <p:grpSpPr>
          <a:xfrm>
            <a:off x="950760" y="2803680"/>
            <a:ext cx="444600" cy="475920"/>
            <a:chOff x="950760" y="2803680"/>
            <a:chExt cx="444600" cy="475920"/>
          </a:xfrm>
        </p:grpSpPr>
        <p:pic>
          <p:nvPicPr>
            <p:cNvPr id="278" name="Овал 35" descr=""/>
            <p:cNvPicPr/>
            <p:nvPr/>
          </p:nvPicPr>
          <p:blipFill>
            <a:blip r:embed="rId3"/>
            <a:stretch/>
          </p:blipFill>
          <p:spPr>
            <a:xfrm>
              <a:off x="950760" y="2803680"/>
              <a:ext cx="44460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025640" y="2901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Овал 35"/>
          <p:cNvGrpSpPr/>
          <p:nvPr/>
        </p:nvGrpSpPr>
        <p:grpSpPr>
          <a:xfrm>
            <a:off x="950760" y="4340160"/>
            <a:ext cx="444600" cy="480960"/>
            <a:chOff x="950760" y="4340160"/>
            <a:chExt cx="444600" cy="480960"/>
          </a:xfrm>
        </p:grpSpPr>
        <p:pic>
          <p:nvPicPr>
            <p:cNvPr id="281" name="Овал 35" descr=""/>
            <p:cNvPicPr/>
            <p:nvPr/>
          </p:nvPicPr>
          <p:blipFill>
            <a:blip r:embed="rId4"/>
            <a:stretch/>
          </p:blipFill>
          <p:spPr>
            <a:xfrm>
              <a:off x="950760" y="434016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Овал 35"/>
          <p:cNvGrpSpPr/>
          <p:nvPr/>
        </p:nvGrpSpPr>
        <p:grpSpPr>
          <a:xfrm>
            <a:off x="950760" y="5126040"/>
            <a:ext cx="444600" cy="482760"/>
            <a:chOff x="950760" y="5126040"/>
            <a:chExt cx="444600" cy="482760"/>
          </a:xfrm>
        </p:grpSpPr>
        <p:pic>
          <p:nvPicPr>
            <p:cNvPr id="284" name="Овал 35" descr=""/>
            <p:cNvPicPr/>
            <p:nvPr/>
          </p:nvPicPr>
          <p:blipFill>
            <a:blip r:embed="rId5"/>
            <a:stretch/>
          </p:blipFill>
          <p:spPr>
            <a:xfrm>
              <a:off x="950760" y="5126040"/>
              <a:ext cx="4446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025640" y="5226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Овал 35"/>
          <p:cNvGrpSpPr/>
          <p:nvPr/>
        </p:nvGrpSpPr>
        <p:grpSpPr>
          <a:xfrm>
            <a:off x="920880" y="1255680"/>
            <a:ext cx="463320" cy="480960"/>
            <a:chOff x="920880" y="1255680"/>
            <a:chExt cx="463320" cy="480960"/>
          </a:xfrm>
        </p:grpSpPr>
        <p:pic>
          <p:nvPicPr>
            <p:cNvPr id="287" name="Овал 35" descr=""/>
            <p:cNvPicPr/>
            <p:nvPr/>
          </p:nvPicPr>
          <p:blipFill>
            <a:blip r:embed="rId6"/>
            <a:stretch/>
          </p:blipFill>
          <p:spPr>
            <a:xfrm>
              <a:off x="920880" y="125568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01772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Овал 35"/>
          <p:cNvGrpSpPr/>
          <p:nvPr/>
        </p:nvGrpSpPr>
        <p:grpSpPr>
          <a:xfrm>
            <a:off x="950760" y="3591000"/>
            <a:ext cx="444600" cy="474480"/>
            <a:chOff x="950760" y="3591000"/>
            <a:chExt cx="444600" cy="474480"/>
          </a:xfrm>
        </p:grpSpPr>
        <p:pic>
          <p:nvPicPr>
            <p:cNvPr id="29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3591000"/>
              <a:ext cx="444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02564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Овал 35"/>
          <p:cNvGrpSpPr/>
          <p:nvPr/>
        </p:nvGrpSpPr>
        <p:grpSpPr>
          <a:xfrm>
            <a:off x="950760" y="5931000"/>
            <a:ext cx="444600" cy="476280"/>
            <a:chOff x="950760" y="5931000"/>
            <a:chExt cx="444600" cy="476280"/>
          </a:xfrm>
        </p:grpSpPr>
        <p:pic>
          <p:nvPicPr>
            <p:cNvPr id="293" name="Овал 35" descr=""/>
            <p:cNvPicPr/>
            <p:nvPr/>
          </p:nvPicPr>
          <p:blipFill>
            <a:blip r:embed="rId8"/>
            <a:stretch/>
          </p:blipFill>
          <p:spPr>
            <a:xfrm>
              <a:off x="950760" y="593100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025640" y="602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5" name="Picture 53" descr="http://mir-ulybok.ru/custom/uploads/photoalbums/1/full/94.jpg"/>
          <p:cNvPicPr/>
          <p:nvPr/>
        </p:nvPicPr>
        <p:blipFill>
          <a:blip r:embed="rId9"/>
          <a:stretch/>
        </p:blipFill>
        <p:spPr>
          <a:xfrm>
            <a:off x="6978600" y="3044880"/>
            <a:ext cx="2308320" cy="26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935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3.7037E-006 L 0.12448 -3.7037E-006 E">
                                      <p:cBhvr>
                                        <p:cTn id="93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943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46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47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48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1.11111E-006 L -0.33732 1.11111E-006 E">
                                      <p:cBhvr>
                                        <p:cTn id="961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966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69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70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1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4" dur="1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85" dur="1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86" dur="1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996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4.81481E-006 L 0.15694 4.81481E-006 E">
                                      <p:cBhvr>
                                        <p:cTn id="999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31649 -2.22222E-006 E">
                                      <p:cBhvr>
                                        <p:cTn id="1007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012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15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16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7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6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027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0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31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32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1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042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4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46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47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6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057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2.5E-006 2.07216E-006 L 0.17222 2.07216E-006 E">
                                      <p:cBhvr>
                                        <p:cTn id="1060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2.5E-006 -3.33333E-006 L 0.17743 -3.33333E-006 E">
                                      <p:cBhvr>
                                        <p:cTn id="1068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073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76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77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8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088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2.59259E-006 L 0.14549 2.59259E-006 E">
                                      <p:cBhvr>
                                        <p:cTn id="1091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5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096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30486 -2.22222E-006 E">
                                      <p:cBhvr>
                                        <p:cTn id="1099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104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07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08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9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8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119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0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131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4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2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143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4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4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1155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161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6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…тал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…ну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…деж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и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б…р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о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ече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06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07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08" name="WordArt 16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09" name="WordArt 17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0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1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2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3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4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5" name="WordArt 23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6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7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8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19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20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321" name="Овал 35"/>
          <p:cNvGrpSpPr/>
          <p:nvPr/>
        </p:nvGrpSpPr>
        <p:grpSpPr>
          <a:xfrm>
            <a:off x="920880" y="500040"/>
            <a:ext cx="463320" cy="480960"/>
            <a:chOff x="920880" y="500040"/>
            <a:chExt cx="463320" cy="480960"/>
          </a:xfrm>
        </p:grpSpPr>
        <p:pic>
          <p:nvPicPr>
            <p:cNvPr id="322" name="Овал 35" descr=""/>
            <p:cNvPicPr/>
            <p:nvPr/>
          </p:nvPicPr>
          <p:blipFill>
            <a:blip r:embed="rId1"/>
            <a:stretch/>
          </p:blipFill>
          <p:spPr>
            <a:xfrm>
              <a:off x="920880" y="50004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01772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Овал 35"/>
          <p:cNvGrpSpPr/>
          <p:nvPr/>
        </p:nvGrpSpPr>
        <p:grpSpPr>
          <a:xfrm>
            <a:off x="927000" y="2030400"/>
            <a:ext cx="444600" cy="480960"/>
            <a:chOff x="927000" y="2030400"/>
            <a:chExt cx="444600" cy="480960"/>
          </a:xfrm>
        </p:grpSpPr>
        <p:pic>
          <p:nvPicPr>
            <p:cNvPr id="325" name="Овал 35" descr=""/>
            <p:cNvPicPr/>
            <p:nvPr/>
          </p:nvPicPr>
          <p:blipFill>
            <a:blip r:embed="rId2"/>
            <a:stretch/>
          </p:blipFill>
          <p:spPr>
            <a:xfrm>
              <a:off x="927000" y="203040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0033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Овал 35"/>
          <p:cNvGrpSpPr/>
          <p:nvPr/>
        </p:nvGrpSpPr>
        <p:grpSpPr>
          <a:xfrm>
            <a:off x="920880" y="2840040"/>
            <a:ext cx="463320" cy="482760"/>
            <a:chOff x="920880" y="2840040"/>
            <a:chExt cx="463320" cy="482760"/>
          </a:xfrm>
        </p:grpSpPr>
        <p:pic>
          <p:nvPicPr>
            <p:cNvPr id="328" name="Овал 35" descr=""/>
            <p:cNvPicPr/>
            <p:nvPr/>
          </p:nvPicPr>
          <p:blipFill>
            <a:blip r:embed="rId3"/>
            <a:stretch/>
          </p:blipFill>
          <p:spPr>
            <a:xfrm>
              <a:off x="920880" y="2840040"/>
              <a:ext cx="46332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017720" y="2940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Овал 35"/>
          <p:cNvGrpSpPr/>
          <p:nvPr/>
        </p:nvGrpSpPr>
        <p:grpSpPr>
          <a:xfrm>
            <a:off x="927000" y="4340160"/>
            <a:ext cx="444600" cy="480960"/>
            <a:chOff x="927000" y="4340160"/>
            <a:chExt cx="444600" cy="480960"/>
          </a:xfrm>
        </p:grpSpPr>
        <p:pic>
          <p:nvPicPr>
            <p:cNvPr id="331" name="Овал 35" descr=""/>
            <p:cNvPicPr/>
            <p:nvPr/>
          </p:nvPicPr>
          <p:blipFill>
            <a:blip r:embed="rId4"/>
            <a:stretch/>
          </p:blipFill>
          <p:spPr>
            <a:xfrm>
              <a:off x="927000" y="434016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00332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Овал 35"/>
          <p:cNvGrpSpPr/>
          <p:nvPr/>
        </p:nvGrpSpPr>
        <p:grpSpPr>
          <a:xfrm>
            <a:off x="927000" y="5126040"/>
            <a:ext cx="444600" cy="482760"/>
            <a:chOff x="927000" y="5126040"/>
            <a:chExt cx="444600" cy="482760"/>
          </a:xfrm>
        </p:grpSpPr>
        <p:pic>
          <p:nvPicPr>
            <p:cNvPr id="334" name="Овал 35" descr=""/>
            <p:cNvPicPr/>
            <p:nvPr/>
          </p:nvPicPr>
          <p:blipFill>
            <a:blip r:embed="rId5"/>
            <a:stretch/>
          </p:blipFill>
          <p:spPr>
            <a:xfrm>
              <a:off x="927000" y="5126040"/>
              <a:ext cx="4446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003320" y="5226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Овал 35"/>
          <p:cNvGrpSpPr/>
          <p:nvPr/>
        </p:nvGrpSpPr>
        <p:grpSpPr>
          <a:xfrm>
            <a:off x="920880" y="1255680"/>
            <a:ext cx="463320" cy="480960"/>
            <a:chOff x="920880" y="1255680"/>
            <a:chExt cx="463320" cy="480960"/>
          </a:xfrm>
        </p:grpSpPr>
        <p:pic>
          <p:nvPicPr>
            <p:cNvPr id="337" name="Овал 35" descr=""/>
            <p:cNvPicPr/>
            <p:nvPr/>
          </p:nvPicPr>
          <p:blipFill>
            <a:blip r:embed="rId6"/>
            <a:stretch/>
          </p:blipFill>
          <p:spPr>
            <a:xfrm>
              <a:off x="920880" y="125568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01772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Овал 35"/>
          <p:cNvGrpSpPr/>
          <p:nvPr/>
        </p:nvGrpSpPr>
        <p:grpSpPr>
          <a:xfrm>
            <a:off x="927000" y="3591000"/>
            <a:ext cx="444600" cy="474480"/>
            <a:chOff x="927000" y="3591000"/>
            <a:chExt cx="444600" cy="474480"/>
          </a:xfrm>
        </p:grpSpPr>
        <p:pic>
          <p:nvPicPr>
            <p:cNvPr id="340" name="Овал 35" descr=""/>
            <p:cNvPicPr/>
            <p:nvPr/>
          </p:nvPicPr>
          <p:blipFill>
            <a:blip r:embed="rId7"/>
            <a:stretch/>
          </p:blipFill>
          <p:spPr>
            <a:xfrm>
              <a:off x="927000" y="3591000"/>
              <a:ext cx="444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00332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Овал 35"/>
          <p:cNvGrpSpPr/>
          <p:nvPr/>
        </p:nvGrpSpPr>
        <p:grpSpPr>
          <a:xfrm>
            <a:off x="927000" y="5900760"/>
            <a:ext cx="444600" cy="476280"/>
            <a:chOff x="927000" y="5900760"/>
            <a:chExt cx="444600" cy="476280"/>
          </a:xfrm>
        </p:grpSpPr>
        <p:pic>
          <p:nvPicPr>
            <p:cNvPr id="343" name="Овал 35" descr=""/>
            <p:cNvPicPr/>
            <p:nvPr/>
          </p:nvPicPr>
          <p:blipFill>
            <a:blip r:embed="rId8"/>
            <a:stretch/>
          </p:blipFill>
          <p:spPr>
            <a:xfrm>
              <a:off x="927000" y="590076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003320" y="5997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5" name="Picture 53" descr="http://img-fotki.yandex.ru/get/6616/158133068.8/0_9b783_8d37af99_XL.jpg"/>
          <p:cNvPicPr/>
          <p:nvPr/>
        </p:nvPicPr>
        <p:blipFill>
          <a:blip r:embed="rId9"/>
          <a:stretch/>
        </p:blipFill>
        <p:spPr>
          <a:xfrm>
            <a:off x="6978600" y="3429000"/>
            <a:ext cx="2129040" cy="24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6" dur="indefinite" restart="never" nodeType="tmRoot">
          <p:childTnLst>
            <p:seq>
              <p:cTn id="1167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168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3.79278E-006 L 0.20625 -0.00185 E">
                                      <p:cBhvr>
                                        <p:cTn id="1171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5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176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79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80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81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1.11111E-006 L -0.28455 1.11111E-006 E">
                                      <p:cBhvr>
                                        <p:cTn id="1194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2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03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4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3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214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17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18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19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4.81481E-006 L 0.15243 4.81481E-006 E">
                                      <p:cBhvr>
                                        <p:cTn id="1232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6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237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37291 -2.22222E-006 E">
                                      <p:cBhvr>
                                        <p:cTn id="1240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4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48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49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50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9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260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3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64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65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78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79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80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9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290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85185E-006 L -0.28142 -1.85185E-006 E">
                                      <p:cBhvr>
                                        <p:cTn id="129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9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1298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2.5E-006 -3.33333E-006 L 0.15261 -3.33333E-006 E">
                                      <p:cBhvr>
                                        <p:cTn id="1301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306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09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10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11" dur="1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321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2.59259E-006 L 0.19323 2.59259E-006 E">
                                      <p:cBhvr>
                                        <p:cTn id="1324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8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329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30937 -2.22222E-006 E">
                                      <p:cBhvr>
                                        <p:cTn id="1332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3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6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1337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40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42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1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352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7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358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6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3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364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6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9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370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7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5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376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38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7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388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9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39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9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хот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ам…т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ссаж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йза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рр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9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ча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0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ртр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1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хож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2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13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56" name="WordArt 14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57" name="WordArt 15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58" name="WordArt 16"/>
          <p:cNvSpPr txBox="1"/>
          <p:nvPr/>
        </p:nvSpPr>
        <p:spPr>
          <a:xfrm>
            <a:off x="2324160" y="37274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59" name="WordArt 17"/>
          <p:cNvSpPr txBox="1"/>
          <p:nvPr/>
        </p:nvSpPr>
        <p:spPr>
          <a:xfrm>
            <a:off x="65484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0" name="WordArt 18"/>
          <p:cNvSpPr txBox="1"/>
          <p:nvPr/>
        </p:nvSpPr>
        <p:spPr>
          <a:xfrm>
            <a:off x="23256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1" name="WordArt 19"/>
          <p:cNvSpPr txBox="1"/>
          <p:nvPr/>
        </p:nvSpPr>
        <p:spPr>
          <a:xfrm>
            <a:off x="23256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2" name="WordArt 20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4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5" name="WordArt 23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6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7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8" name="WordArt 26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9" name="WordArt 27"/>
          <p:cNvSpPr txBox="1"/>
          <p:nvPr/>
        </p:nvSpPr>
        <p:spPr>
          <a:xfrm>
            <a:off x="2325600" y="44798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70" name="WordArt 28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371" name="Овал 35"/>
          <p:cNvGrpSpPr/>
          <p:nvPr/>
        </p:nvGrpSpPr>
        <p:grpSpPr>
          <a:xfrm>
            <a:off x="950760" y="1255680"/>
            <a:ext cx="444600" cy="480960"/>
            <a:chOff x="950760" y="1255680"/>
            <a:chExt cx="444600" cy="480960"/>
          </a:xfrm>
        </p:grpSpPr>
        <p:pic>
          <p:nvPicPr>
            <p:cNvPr id="37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125568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102564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Овал 35"/>
          <p:cNvGrpSpPr/>
          <p:nvPr/>
        </p:nvGrpSpPr>
        <p:grpSpPr>
          <a:xfrm>
            <a:off x="920880" y="3614760"/>
            <a:ext cx="463320" cy="476280"/>
            <a:chOff x="920880" y="3614760"/>
            <a:chExt cx="463320" cy="476280"/>
          </a:xfrm>
        </p:grpSpPr>
        <p:pic>
          <p:nvPicPr>
            <p:cNvPr id="37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361476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017720" y="3711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Овал 35"/>
          <p:cNvGrpSpPr/>
          <p:nvPr/>
        </p:nvGrpSpPr>
        <p:grpSpPr>
          <a:xfrm>
            <a:off x="920880" y="5992920"/>
            <a:ext cx="463320" cy="480960"/>
            <a:chOff x="920880" y="5992920"/>
            <a:chExt cx="463320" cy="480960"/>
          </a:xfrm>
        </p:grpSpPr>
        <p:pic>
          <p:nvPicPr>
            <p:cNvPr id="378" name="Овал 35" descr=""/>
            <p:cNvPicPr/>
            <p:nvPr/>
          </p:nvPicPr>
          <p:blipFill>
            <a:blip r:embed="rId3"/>
            <a:stretch/>
          </p:blipFill>
          <p:spPr>
            <a:xfrm>
              <a:off x="920880" y="599292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017720" y="6091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Овал 35"/>
          <p:cNvGrpSpPr/>
          <p:nvPr/>
        </p:nvGrpSpPr>
        <p:grpSpPr>
          <a:xfrm>
            <a:off x="950760" y="500040"/>
            <a:ext cx="444600" cy="480960"/>
            <a:chOff x="950760" y="500040"/>
            <a:chExt cx="444600" cy="480960"/>
          </a:xfrm>
        </p:grpSpPr>
        <p:pic>
          <p:nvPicPr>
            <p:cNvPr id="381" name="Овал 35" descr=""/>
            <p:cNvPicPr/>
            <p:nvPr/>
          </p:nvPicPr>
          <p:blipFill>
            <a:blip r:embed="rId4"/>
            <a:stretch/>
          </p:blipFill>
          <p:spPr>
            <a:xfrm>
              <a:off x="950760" y="500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Овал 35"/>
          <p:cNvGrpSpPr/>
          <p:nvPr/>
        </p:nvGrpSpPr>
        <p:grpSpPr>
          <a:xfrm>
            <a:off x="920880" y="2030400"/>
            <a:ext cx="463320" cy="480960"/>
            <a:chOff x="920880" y="2030400"/>
            <a:chExt cx="463320" cy="480960"/>
          </a:xfrm>
        </p:grpSpPr>
        <p:pic>
          <p:nvPicPr>
            <p:cNvPr id="384" name="Овал 35" descr=""/>
            <p:cNvPicPr/>
            <p:nvPr/>
          </p:nvPicPr>
          <p:blipFill>
            <a:blip r:embed="rId5"/>
            <a:stretch/>
          </p:blipFill>
          <p:spPr>
            <a:xfrm>
              <a:off x="920880" y="20304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Овал 35"/>
          <p:cNvGrpSpPr/>
          <p:nvPr/>
        </p:nvGrpSpPr>
        <p:grpSpPr>
          <a:xfrm>
            <a:off x="920880" y="2840040"/>
            <a:ext cx="463320" cy="482760"/>
            <a:chOff x="920880" y="2840040"/>
            <a:chExt cx="463320" cy="482760"/>
          </a:xfrm>
        </p:grpSpPr>
        <p:pic>
          <p:nvPicPr>
            <p:cNvPr id="387" name="Овал 35" descr=""/>
            <p:cNvPicPr/>
            <p:nvPr/>
          </p:nvPicPr>
          <p:blipFill>
            <a:blip r:embed="rId6"/>
            <a:stretch/>
          </p:blipFill>
          <p:spPr>
            <a:xfrm>
              <a:off x="920880" y="2840040"/>
              <a:ext cx="46332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1017720" y="294012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Овал 35"/>
          <p:cNvGrpSpPr/>
          <p:nvPr/>
        </p:nvGrpSpPr>
        <p:grpSpPr>
          <a:xfrm>
            <a:off x="950760" y="4340160"/>
            <a:ext cx="444600" cy="480960"/>
            <a:chOff x="950760" y="4340160"/>
            <a:chExt cx="444600" cy="480960"/>
          </a:xfrm>
        </p:grpSpPr>
        <p:pic>
          <p:nvPicPr>
            <p:cNvPr id="39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434016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102564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Овал 35"/>
          <p:cNvGrpSpPr/>
          <p:nvPr/>
        </p:nvGrpSpPr>
        <p:grpSpPr>
          <a:xfrm>
            <a:off x="950760" y="5132520"/>
            <a:ext cx="444600" cy="476280"/>
            <a:chOff x="950760" y="5132520"/>
            <a:chExt cx="444600" cy="476280"/>
          </a:xfrm>
        </p:grpSpPr>
        <p:pic>
          <p:nvPicPr>
            <p:cNvPr id="393" name="Овал 35" descr=""/>
            <p:cNvPicPr/>
            <p:nvPr/>
          </p:nvPicPr>
          <p:blipFill>
            <a:blip r:embed="rId8"/>
            <a:stretch/>
          </p:blipFill>
          <p:spPr>
            <a:xfrm>
              <a:off x="950760" y="513252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02564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5" name="Picture 53" descr="http://xn----7sbkrgknduaj0b.xn--p1ai/d/281042/d/004m.jpg"/>
          <p:cNvPicPr/>
          <p:nvPr/>
        </p:nvPicPr>
        <p:blipFill>
          <a:blip r:embed="rId9"/>
          <a:stretch/>
        </p:blipFill>
        <p:spPr>
          <a:xfrm>
            <a:off x="6978600" y="2170080"/>
            <a:ext cx="2236680" cy="22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9" dur="indefinite" restart="never" nodeType="tmRoot">
          <p:childTnLst>
            <p:seq>
              <p:cTn id="1400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1401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04" dur="1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05" dur="1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06" dur="1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5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416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85185E-006 L -0.32708 -1.85185E-006 E">
                                      <p:cBhvr>
                                        <p:cTn id="1419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3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424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3.33333E-006 L -0.28142 -3.33333E-006 E">
                                      <p:cBhvr>
                                        <p:cTn id="1427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2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1432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35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36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37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6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447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59259E-006 L -0.28142 2.59259E-006 E">
                                      <p:cBhvr>
                                        <p:cTn id="1450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5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4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455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2.22222E-006 L 0.16076 -2.22222E-006 E">
                                      <p:cBhvr>
                                        <p:cTn id="1458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6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46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66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67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8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7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478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81" dur="1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82" dur="1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83" dur="1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493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3.7037E-006 L 0.11701 -0.00185 E">
                                      <p:cBhvr>
                                        <p:cTn id="1496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9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D0%B0%D1%82.wav"/>
                                        </p:tgtEl>
                                      </p:cMediaNode>
                                    </p:audio>
                                    <p:animMotion origin="layout" path="M -2.5E-006 1.11111E-006 L 0.21407 1.11111E-006 E">
                                      <p:cBhvr>
                                        <p:cTn id="1504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0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8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509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12" dur="1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13" dur="1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14" dur="1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52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27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28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29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539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4.81481E-006 L -0.28142 4.81481E-006 E">
                                      <p:cBhvr>
                                        <p:cTn id="1542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4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547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31389 -2.22222E-006 E">
                                      <p:cBhvr>
                                        <p:cTn id="1550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4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58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59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60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57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73" dur="1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74" dur="1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75" dur="1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4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585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8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0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591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9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6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597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0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0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60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1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615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1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62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2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3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р…ят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…й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…ш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в…рк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верх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вит…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в…б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…кр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0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06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07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08" name="WordArt 16"/>
          <p:cNvSpPr txBox="1"/>
          <p:nvPr/>
        </p:nvSpPr>
        <p:spPr>
          <a:xfrm>
            <a:off x="23256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09" name="WordArt 17"/>
          <p:cNvSpPr txBox="1"/>
          <p:nvPr/>
        </p:nvSpPr>
        <p:spPr>
          <a:xfrm>
            <a:off x="6548400" y="294336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0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1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2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3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4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5" name="WordArt 23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6" name="WordArt 24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7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8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19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20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421" name="Овал 35"/>
          <p:cNvGrpSpPr/>
          <p:nvPr/>
        </p:nvGrpSpPr>
        <p:grpSpPr>
          <a:xfrm>
            <a:off x="950760" y="500040"/>
            <a:ext cx="444600" cy="480960"/>
            <a:chOff x="950760" y="500040"/>
            <a:chExt cx="444600" cy="480960"/>
          </a:xfrm>
        </p:grpSpPr>
        <p:pic>
          <p:nvPicPr>
            <p:cNvPr id="42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500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Овал 35"/>
          <p:cNvGrpSpPr/>
          <p:nvPr/>
        </p:nvGrpSpPr>
        <p:grpSpPr>
          <a:xfrm>
            <a:off x="920880" y="2097000"/>
            <a:ext cx="463320" cy="480960"/>
            <a:chOff x="920880" y="2097000"/>
            <a:chExt cx="463320" cy="480960"/>
          </a:xfrm>
        </p:grpSpPr>
        <p:pic>
          <p:nvPicPr>
            <p:cNvPr id="42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20970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1017720" y="219564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Овал 35"/>
          <p:cNvGrpSpPr/>
          <p:nvPr/>
        </p:nvGrpSpPr>
        <p:grpSpPr>
          <a:xfrm>
            <a:off x="950760" y="2803680"/>
            <a:ext cx="444600" cy="475920"/>
            <a:chOff x="950760" y="2803680"/>
            <a:chExt cx="444600" cy="475920"/>
          </a:xfrm>
        </p:grpSpPr>
        <p:pic>
          <p:nvPicPr>
            <p:cNvPr id="428" name="Овал 35" descr=""/>
            <p:cNvPicPr/>
            <p:nvPr/>
          </p:nvPicPr>
          <p:blipFill>
            <a:blip r:embed="rId3"/>
            <a:stretch/>
          </p:blipFill>
          <p:spPr>
            <a:xfrm>
              <a:off x="950760" y="2803680"/>
              <a:ext cx="44460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1025640" y="2901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Овал 35"/>
          <p:cNvGrpSpPr/>
          <p:nvPr/>
        </p:nvGrpSpPr>
        <p:grpSpPr>
          <a:xfrm>
            <a:off x="920880" y="4340160"/>
            <a:ext cx="463320" cy="480960"/>
            <a:chOff x="920880" y="4340160"/>
            <a:chExt cx="463320" cy="480960"/>
          </a:xfrm>
        </p:grpSpPr>
        <p:pic>
          <p:nvPicPr>
            <p:cNvPr id="431" name="Овал 35" descr=""/>
            <p:cNvPicPr/>
            <p:nvPr/>
          </p:nvPicPr>
          <p:blipFill>
            <a:blip r:embed="rId4"/>
            <a:stretch/>
          </p:blipFill>
          <p:spPr>
            <a:xfrm>
              <a:off x="920880" y="434016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1017720" y="443880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Овал 35"/>
          <p:cNvGrpSpPr/>
          <p:nvPr/>
        </p:nvGrpSpPr>
        <p:grpSpPr>
          <a:xfrm>
            <a:off x="920880" y="5132520"/>
            <a:ext cx="463320" cy="476280"/>
            <a:chOff x="920880" y="5132520"/>
            <a:chExt cx="463320" cy="476280"/>
          </a:xfrm>
        </p:grpSpPr>
        <p:pic>
          <p:nvPicPr>
            <p:cNvPr id="434" name="Овал 35" descr=""/>
            <p:cNvPicPr/>
            <p:nvPr/>
          </p:nvPicPr>
          <p:blipFill>
            <a:blip r:embed="rId5"/>
            <a:stretch/>
          </p:blipFill>
          <p:spPr>
            <a:xfrm>
              <a:off x="920880" y="513252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017720" y="5229360"/>
              <a:ext cx="279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Овал 35"/>
          <p:cNvGrpSpPr/>
          <p:nvPr/>
        </p:nvGrpSpPr>
        <p:grpSpPr>
          <a:xfrm>
            <a:off x="920880" y="1255680"/>
            <a:ext cx="463320" cy="480960"/>
            <a:chOff x="920880" y="1255680"/>
            <a:chExt cx="463320" cy="480960"/>
          </a:xfrm>
        </p:grpSpPr>
        <p:pic>
          <p:nvPicPr>
            <p:cNvPr id="437" name="Овал 35" descr=""/>
            <p:cNvPicPr/>
            <p:nvPr/>
          </p:nvPicPr>
          <p:blipFill>
            <a:blip r:embed="rId6"/>
            <a:stretch/>
          </p:blipFill>
          <p:spPr>
            <a:xfrm>
              <a:off x="920880" y="125568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1017720" y="135396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Овал 35"/>
          <p:cNvGrpSpPr/>
          <p:nvPr/>
        </p:nvGrpSpPr>
        <p:grpSpPr>
          <a:xfrm>
            <a:off x="920880" y="3591000"/>
            <a:ext cx="463320" cy="474480"/>
            <a:chOff x="920880" y="3591000"/>
            <a:chExt cx="463320" cy="474480"/>
          </a:xfrm>
        </p:grpSpPr>
        <p:pic>
          <p:nvPicPr>
            <p:cNvPr id="440" name="Овал 35" descr=""/>
            <p:cNvPicPr/>
            <p:nvPr/>
          </p:nvPicPr>
          <p:blipFill>
            <a:blip r:embed="rId7"/>
            <a:stretch/>
          </p:blipFill>
          <p:spPr>
            <a:xfrm>
              <a:off x="920880" y="3591000"/>
              <a:ext cx="4633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01772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Овал 35"/>
          <p:cNvGrpSpPr/>
          <p:nvPr/>
        </p:nvGrpSpPr>
        <p:grpSpPr>
          <a:xfrm>
            <a:off x="950760" y="5900760"/>
            <a:ext cx="444600" cy="476280"/>
            <a:chOff x="950760" y="5900760"/>
            <a:chExt cx="444600" cy="476280"/>
          </a:xfrm>
        </p:grpSpPr>
        <p:pic>
          <p:nvPicPr>
            <p:cNvPr id="443" name="Овал 35" descr=""/>
            <p:cNvPicPr/>
            <p:nvPr/>
          </p:nvPicPr>
          <p:blipFill>
            <a:blip r:embed="rId8"/>
            <a:stretch/>
          </p:blipFill>
          <p:spPr>
            <a:xfrm>
              <a:off x="950760" y="590076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025640" y="59976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5" name="Picture 53" descr="http://img1.liveinternet.ru/images/attach/c/3/76/119/76119217_5.png"/>
          <p:cNvPicPr/>
          <p:nvPr/>
        </p:nvPicPr>
        <p:blipFill>
          <a:blip r:embed="rId9"/>
          <a:stretch/>
        </p:blipFill>
        <p:spPr>
          <a:xfrm>
            <a:off x="6978600" y="2371680"/>
            <a:ext cx="2200320" cy="22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2" dur="indefinite" restart="never" nodeType="tmRoot">
          <p:childTnLst>
            <p:seq>
              <p:cTn id="1633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634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3.7037E-006 L 0.1993 -0.00185 E">
                                      <p:cBhvr>
                                        <p:cTn id="1637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1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642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45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46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47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65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1.11111E-006 L -0.275 1.11111E-006 E">
                                      <p:cBhvr>
                                        <p:cTn id="1660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665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68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69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70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9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680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3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84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85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695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4.81481E-006 L 0.32187 4.81481E-006 E">
                                      <p:cBhvr>
                                        <p:cTn id="1698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0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2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703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3.55227E-006 L -0.28455 3.55227E-006 E">
                                      <p:cBhvr>
                                        <p:cTn id="1706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0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711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14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15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16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4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726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2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30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31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741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44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45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46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5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756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1.85185E-006 L -0.28455 -1.85185E-006 E">
                                      <p:cBhvr>
                                        <p:cTn id="1759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0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3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764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2.5E-006 -3.33333E-006 L 0.17743 -3.33333E-006 E">
                                      <p:cBhvr>
                                        <p:cTn id="1767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1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772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75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76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77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6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787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2.59259E-006 L 0.28038 2.59259E-006 E">
                                      <p:cBhvr>
                                        <p:cTn id="1790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9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4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1795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2.22222E-006 L -0.275 -2.22222E-006 E">
                                      <p:cBhvr>
                                        <p:cTn id="1798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80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803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06" dur="1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807" dur="1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08" dur="1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818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2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3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824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2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9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830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3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836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3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1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842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4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848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5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3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854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5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860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6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ия</cp:lastModifiedBy>
  <dcterms:modified xsi:type="dcterms:W3CDTF">2015-10-04T18:32:10Z</dcterms:modified>
  <cp:revision>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