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%D0%A3%D1%81%D0%B0%D1%82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%D0%A3%D1%81%20%D0%BD%D1%8F%D0%BD%D1%8C.wav" ContentType="audio/x-wav"/>
  <Override PartName="/ppt/media/image18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AB3-3C43-4C60-ABB1-F8C3CB6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808-5031-412C-9450-66F6DD4F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6F8-9F0D-430B-BEA6-AC8BB335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921-867C-479F-B8E5-D79504C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F9D-1005-4875-B364-295F28E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B74-DF97-4085-82F4-F2956FC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E1C-EEAE-4854-B2A3-7881672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BB7-E674-49F9-9A8D-611E28A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498-8419-4B01-8F16-068C31B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76C-0D09-46C6-9F1E-7AA3DF9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0DD-EE2B-478E-A31E-134EDE42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423-6D10-4EB7-B652-2A80C81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EE89-C9CD-4A51-AC4E-701DCCDD0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3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44.png"/><Relationship Id="rId6" Type="http://schemas.openxmlformats.org/officeDocument/2006/relationships/image" Target="../media/image24.png"/><Relationship Id="rId7" Type="http://schemas.openxmlformats.org/officeDocument/2006/relationships/image" Target="../media/image31.png"/><Relationship Id="rId8" Type="http://schemas.openxmlformats.org/officeDocument/2006/relationships/image" Target="../media/image13.png"/><Relationship Id="rId9" Type="http://schemas.openxmlformats.org/officeDocument/2006/relationships/image" Target="../media/image45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image" Target="../media/image31.png"/><Relationship Id="rId8" Type="http://schemas.openxmlformats.org/officeDocument/2006/relationships/image" Target="../media/image41.png"/><Relationship Id="rId9" Type="http://schemas.openxmlformats.org/officeDocument/2006/relationships/image" Target="../media/image48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%20&#1085;&#1103;&#1085;&#110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%20&#1085;&#1103;&#1085;&#110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5.png"/><Relationship Id="rId8" Type="http://schemas.openxmlformats.org/officeDocument/2006/relationships/image" Target="../media/image6.png"/><Relationship Id="rId9" Type="http://schemas.openxmlformats.org/officeDocument/2006/relationships/image" Target="../media/image16.jpe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3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9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30.png"/><Relationship Id="rId6" Type="http://schemas.openxmlformats.org/officeDocument/2006/relationships/image" Target="../media/image15.png"/><Relationship Id="rId7" Type="http://schemas.openxmlformats.org/officeDocument/2006/relationships/image" Target="../media/image31.png"/><Relationship Id="rId8" Type="http://schemas.openxmlformats.org/officeDocument/2006/relationships/image" Target="../media/image7.png"/><Relationship Id="rId9" Type="http://schemas.openxmlformats.org/officeDocument/2006/relationships/image" Target="../media/image32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28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1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39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42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retuch.bos.ru/data1/1004.jpg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089000" y="1290600"/>
            <a:ext cx="5349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ача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800440" y="26020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9e"/>
                </a:solidFill>
                <a:latin typeface="Comic Sans MS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1089000" y="3090960"/>
            <a:ext cx="56451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 из "Словари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ку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ту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вс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чи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й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л…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…нтаз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ед…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6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7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8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9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0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1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2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3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5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8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9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0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47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4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4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4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4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4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4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4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4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53" descr="http://1.bp.blogspot.com/-JpCMtTO6f7k/TcVI3_diJBI/AAAAAAAABao/LXJsa_FTPKA/s1600/dumbo.gif"/>
          <p:cNvPicPr/>
          <p:nvPr/>
        </p:nvPicPr>
        <p:blipFill>
          <a:blip r:embed="rId9"/>
          <a:stretch/>
        </p:blipFill>
        <p:spPr>
          <a:xfrm>
            <a:off x="7074000" y="2943360"/>
            <a:ext cx="1976400" cy="17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0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71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2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9271 -1.85185E-006 E">
                                      <p:cBhvr>
                                        <p:cTn id="1885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35173 -3.33333E-006 E">
                                      <p:cBhvr>
                                        <p:cTn id="189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1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02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3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91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9271 2.59259E-006 E">
                                      <p:cBhvr>
                                        <p:cTn id="191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0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92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5555 -2.22222E-006 E">
                                      <p:cBhvr>
                                        <p:cTn id="192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2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4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9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5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5555 -3.7037E-006 E">
                                      <p:cBhvr>
                                        <p:cTn id="196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67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13785 1.11111E-006 E">
                                      <p:cBhvr>
                                        <p:cTn id="197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97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78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0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94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95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27465 4.81481E-006 E">
                                      <p:cBhvr>
                                        <p:cTn id="2008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6285 -2.22222E-006 E">
                                      <p:cBhvr>
                                        <p:cTn id="201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02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4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25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26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5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2036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9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1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5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6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2057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06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208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2087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ин…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…зя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…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эк…п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ску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спре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эскала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к…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2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5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5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Овал 35"/>
          <p:cNvGrpSpPr/>
          <p:nvPr/>
        </p:nvGrpSpPr>
        <p:grpSpPr>
          <a:xfrm>
            <a:off x="920880" y="2803680"/>
            <a:ext cx="463320" cy="475920"/>
            <a:chOff x="920880" y="2803680"/>
            <a:chExt cx="463320" cy="475920"/>
          </a:xfrm>
        </p:grpSpPr>
        <p:pic>
          <p:nvPicPr>
            <p:cNvPr id="5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803680"/>
              <a:ext cx="463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Овал 35"/>
          <p:cNvGrpSpPr/>
          <p:nvPr/>
        </p:nvGrpSpPr>
        <p:grpSpPr>
          <a:xfrm>
            <a:off x="950760" y="4400640"/>
            <a:ext cx="444600" cy="476280"/>
            <a:chOff x="950760" y="4400640"/>
            <a:chExt cx="444600" cy="476280"/>
          </a:xfrm>
        </p:grpSpPr>
        <p:pic>
          <p:nvPicPr>
            <p:cNvPr id="53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440064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1025640" y="449748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Овал 35"/>
          <p:cNvGrpSpPr/>
          <p:nvPr/>
        </p:nvGrpSpPr>
        <p:grpSpPr>
          <a:xfrm>
            <a:off x="920880" y="5205240"/>
            <a:ext cx="463320" cy="482760"/>
            <a:chOff x="920880" y="5205240"/>
            <a:chExt cx="463320" cy="482760"/>
          </a:xfrm>
        </p:grpSpPr>
        <p:pic>
          <p:nvPicPr>
            <p:cNvPr id="5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52052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01772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53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54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Овал 35"/>
          <p:cNvGrpSpPr/>
          <p:nvPr/>
        </p:nvGrpSpPr>
        <p:grpSpPr>
          <a:xfrm>
            <a:off x="920880" y="5931000"/>
            <a:ext cx="463320" cy="476280"/>
            <a:chOff x="920880" y="5931000"/>
            <a:chExt cx="463320" cy="476280"/>
          </a:xfrm>
        </p:grpSpPr>
        <p:pic>
          <p:nvPicPr>
            <p:cNvPr id="5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3100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01772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53" descr="http://www.playcast.ru/uploads/2015/06/22/14068661.png"/>
          <p:cNvPicPr/>
          <p:nvPr/>
        </p:nvPicPr>
        <p:blipFill>
          <a:blip r:embed="rId9"/>
          <a:stretch/>
        </p:blipFill>
        <p:spPr>
          <a:xfrm>
            <a:off x="6988320" y="3494160"/>
            <a:ext cx="21556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8" dur="indefinite" restart="never" nodeType="tmRoot">
          <p:childTnLst>
            <p:seq>
              <p:cTn id="209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27395 -3.7037E-006 E">
                                      <p:cBhvr>
                                        <p:cTn id="21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1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12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8455 5.3654E-007 E">
                                      <p:cBhvr>
                                        <p:cTn id="2126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13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4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35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6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14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49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50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1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0927 4.81481E-006 E">
                                      <p:cBhvr>
                                        <p:cTn id="2164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16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2951 -2.22222E-006 E">
                                      <p:cBhvr>
                                        <p:cTn id="217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7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192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95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96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7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20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10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11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2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22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222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2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23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23247 4.87512E-006 E">
                                      <p:cBhvr>
                                        <p:cTn id="2233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238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43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2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253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0747 2.59259E-006 E">
                                      <p:cBhvr>
                                        <p:cTn id="225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26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12882 -2.22222E-006 E">
                                      <p:cBhvr>
                                        <p:cTn id="2264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72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73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4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28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9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290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0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3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231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326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29">
            <a:hlinkClick r:id="" action="ppaction://hlinkshowjump?jump=endshow"/>
          </p:cNvPr>
          <p:cNvSpPr/>
          <p:nvPr/>
        </p:nvSpPr>
        <p:spPr>
          <a:xfrm>
            <a:off x="7866000" y="5896080"/>
            <a:ext cx="990720" cy="555480"/>
          </a:xfrm>
          <a:custGeom>
            <a:avLst/>
            <a:gdLst>
              <a:gd name="textAreaLeft" fmla="*/ 36000 w 990720"/>
              <a:gd name="textAreaRight" fmla="*/ 954720 w 990720"/>
              <a:gd name="textAreaTop" fmla="*/ 36000 h 555480"/>
              <a:gd name="textAreaBottom" fmla="*/ 519480 h 555480"/>
            </a:gdLst>
            <a:ahLst/>
            <a:rect l="textAreaLeft" t="textAreaTop" r="textAreaRight" b="textAreaBottom"/>
            <a:pathLst>
              <a:path w="38513" h="21600">
                <a:moveTo>
                  <a:pt x="0" y="0"/>
                </a:moveTo>
                <a:lnTo>
                  <a:pt x="38513" y="0"/>
                </a:lnTo>
                <a:lnTo>
                  <a:pt x="38513" y="21600"/>
                </a:lnTo>
                <a:lnTo>
                  <a:pt x="0" y="21600"/>
                </a:lnTo>
                <a:close/>
              </a:path>
              <a:path fill="lightenLess" w="38513" h="21600">
                <a:moveTo>
                  <a:pt x="0" y="0"/>
                </a:moveTo>
                <a:lnTo>
                  <a:pt x="38513" y="0"/>
                </a:lnTo>
                <a:lnTo>
                  <a:pt x="37113" y="1400"/>
                </a:lnTo>
                <a:lnTo>
                  <a:pt x="1400" y="1400"/>
                </a:lnTo>
                <a:close/>
              </a:path>
              <a:path fill="darken" w="38513" h="21600">
                <a:moveTo>
                  <a:pt x="38513" y="0"/>
                </a:moveTo>
                <a:lnTo>
                  <a:pt x="38513" y="21600"/>
                </a:lnTo>
                <a:lnTo>
                  <a:pt x="37113" y="20200"/>
                </a:lnTo>
                <a:lnTo>
                  <a:pt x="37113" y="1400"/>
                </a:lnTo>
                <a:close/>
              </a:path>
              <a:path fill="darkenLess" w="38513" h="21600">
                <a:moveTo>
                  <a:pt x="38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13" y="20200"/>
                </a:lnTo>
                <a:close/>
              </a:path>
              <a:path fill="lighten" w="38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13" h="21600">
                <a:moveTo>
                  <a:pt x="22756" y="10800"/>
                </a:moveTo>
                <a:lnTo>
                  <a:pt x="12250" y="17806"/>
                </a:lnTo>
                <a:lnTo>
                  <a:pt x="12250" y="3794"/>
                </a:lnTo>
                <a:close/>
              </a:path>
              <a:path fill="darken" w="38513" h="21600">
                <a:moveTo>
                  <a:pt x="24601" y="3794"/>
                </a:moveTo>
                <a:lnTo>
                  <a:pt x="24601" y="17806"/>
                </a:lnTo>
                <a:lnTo>
                  <a:pt x="26263" y="17806"/>
                </a:lnTo>
                <a:lnTo>
                  <a:pt x="26263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ле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…де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теч…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ризо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б…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пи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кто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и…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9" name="WordArt 17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6" name="WordArt 24"/>
          <p:cNvSpPr txBox="1"/>
          <p:nvPr/>
        </p:nvSpPr>
        <p:spPr>
          <a:xfrm>
            <a:off x="6548400" y="292104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5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5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Овал 35"/>
          <p:cNvGrpSpPr/>
          <p:nvPr/>
        </p:nvGrpSpPr>
        <p:grpSpPr>
          <a:xfrm>
            <a:off x="920880" y="2779560"/>
            <a:ext cx="463320" cy="481320"/>
            <a:chOff x="920880" y="2779560"/>
            <a:chExt cx="463320" cy="481320"/>
          </a:xfrm>
        </p:grpSpPr>
        <p:pic>
          <p:nvPicPr>
            <p:cNvPr id="5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779560"/>
              <a:ext cx="4633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017720" y="28796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Овал 35"/>
          <p:cNvGrpSpPr/>
          <p:nvPr/>
        </p:nvGrpSpPr>
        <p:grpSpPr>
          <a:xfrm>
            <a:off x="920880" y="4340160"/>
            <a:ext cx="463320" cy="476280"/>
            <a:chOff x="920880" y="4340160"/>
            <a:chExt cx="463320" cy="476280"/>
          </a:xfrm>
        </p:grpSpPr>
        <p:pic>
          <p:nvPicPr>
            <p:cNvPr id="5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1017720" y="44370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Овал 35"/>
          <p:cNvGrpSpPr/>
          <p:nvPr/>
        </p:nvGrpSpPr>
        <p:grpSpPr>
          <a:xfrm>
            <a:off x="950760" y="5224320"/>
            <a:ext cx="444600" cy="474840"/>
            <a:chOff x="950760" y="5224320"/>
            <a:chExt cx="444600" cy="474840"/>
          </a:xfrm>
        </p:grpSpPr>
        <p:pic>
          <p:nvPicPr>
            <p:cNvPr id="5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24320"/>
              <a:ext cx="4446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1025640" y="53197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5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5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Овал 35"/>
          <p:cNvGrpSpPr/>
          <p:nvPr/>
        </p:nvGrpSpPr>
        <p:grpSpPr>
          <a:xfrm>
            <a:off x="920880" y="5967360"/>
            <a:ext cx="463320" cy="476280"/>
            <a:chOff x="920880" y="5967360"/>
            <a:chExt cx="463320" cy="476280"/>
          </a:xfrm>
        </p:grpSpPr>
        <p:pic>
          <p:nvPicPr>
            <p:cNvPr id="59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673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01772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53" descr="http://www.estanbul.com/images/imported/2011/01/rferfg-1.jpg"/>
          <p:cNvPicPr/>
          <p:nvPr/>
        </p:nvPicPr>
        <p:blipFill>
          <a:blip r:embed="rId9"/>
          <a:srcRect l="9200" t="0" r="11997" b="5588"/>
          <a:stretch/>
        </p:blipFill>
        <p:spPr>
          <a:xfrm>
            <a:off x="6978600" y="3228840"/>
            <a:ext cx="215100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1" dur="indefinite" restart="never" nodeType="tmRoot">
          <p:childTnLst>
            <p:seq>
              <p:cTn id="233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08993 -3.7037E-006 E">
                                      <p:cBhvr>
                                        <p:cTn id="233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3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34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44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45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6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35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3923 1.11111E-006 E">
                                      <p:cBhvr>
                                        <p:cTn id="2359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6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2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83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4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39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3368 -1.19334E-006 E">
                                      <p:cBhvr>
                                        <p:cTn id="2397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9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1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2402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208 -2.22222E-006 E">
                                      <p:cBhvr>
                                        <p:cTn id="2405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9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2410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3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14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5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42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8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29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0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43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44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5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245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-1.85185E-006 L 0.24705 -1.85185E-006 E">
                                      <p:cBhvr>
                                        <p:cTn id="245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2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463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59259E-006 L -0.32187 -2.59259E-006 E">
                                      <p:cBhvr>
                                        <p:cTn id="2466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0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471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75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76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599 2.59259E-006 E">
                                      <p:cBhvr>
                                        <p:cTn id="248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249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3923 -2.22222E-006 E">
                                      <p:cBhvr>
                                        <p:cTn id="249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50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0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0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7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51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252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53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0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254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4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547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2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2553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8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2559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6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кв…р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.ура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.…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ьб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.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л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р…м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ссей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2324160" y="1360440"/>
            <a:ext cx="4795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WordArt 17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6548400" y="2170080"/>
            <a:ext cx="4176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9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2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WordArt 33"/>
          <p:cNvSpPr txBox="1"/>
          <p:nvPr/>
        </p:nvSpPr>
        <p:spPr>
          <a:xfrm>
            <a:off x="2163600" y="3727440"/>
            <a:ext cx="459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3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35"/>
          <p:cNvSpPr txBox="1"/>
          <p:nvPr/>
        </p:nvSpPr>
        <p:spPr>
          <a:xfrm>
            <a:off x="6548400" y="4479840"/>
            <a:ext cx="4176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6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3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38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39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43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71" name="Овал 35"/>
          <p:cNvGrpSpPr/>
          <p:nvPr/>
        </p:nvGrpSpPr>
        <p:grpSpPr>
          <a:xfrm>
            <a:off x="920880" y="573120"/>
            <a:ext cx="463320" cy="480960"/>
            <a:chOff x="920880" y="573120"/>
            <a:chExt cx="463320" cy="480960"/>
          </a:xfrm>
        </p:grpSpPr>
        <p:pic>
          <p:nvPicPr>
            <p:cNvPr id="7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731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вал 35"/>
          <p:cNvGrpSpPr/>
          <p:nvPr/>
        </p:nvGrpSpPr>
        <p:grpSpPr>
          <a:xfrm>
            <a:off x="920880" y="1322280"/>
            <a:ext cx="463320" cy="476280"/>
            <a:chOff x="920880" y="1322280"/>
            <a:chExt cx="463320" cy="476280"/>
          </a:xfrm>
        </p:grpSpPr>
        <p:pic>
          <p:nvPicPr>
            <p:cNvPr id="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132228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17720" y="14209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вал 35"/>
          <p:cNvGrpSpPr/>
          <p:nvPr/>
        </p:nvGrpSpPr>
        <p:grpSpPr>
          <a:xfrm>
            <a:off x="920880" y="2097000"/>
            <a:ext cx="463320" cy="480960"/>
            <a:chOff x="920880" y="2097000"/>
            <a:chExt cx="463320" cy="480960"/>
          </a:xfrm>
        </p:grpSpPr>
        <p:pic>
          <p:nvPicPr>
            <p:cNvPr id="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0970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Овал 35"/>
          <p:cNvGrpSpPr/>
          <p:nvPr/>
        </p:nvGrpSpPr>
        <p:grpSpPr>
          <a:xfrm>
            <a:off x="920880" y="2803680"/>
            <a:ext cx="463320" cy="475920"/>
            <a:chOff x="920880" y="2803680"/>
            <a:chExt cx="463320" cy="475920"/>
          </a:xfrm>
        </p:grpSpPr>
        <p:pic>
          <p:nvPicPr>
            <p:cNvPr id="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2803680"/>
              <a:ext cx="463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54" descr="http://178-ufa.ru/wp-content/uploads/2012/03/SGNQO.png"/>
          <p:cNvPicPr/>
          <p:nvPr/>
        </p:nvPicPr>
        <p:blipFill>
          <a:blip r:embed="rId9"/>
          <a:stretch/>
        </p:blipFill>
        <p:spPr>
          <a:xfrm>
            <a:off x="6978600" y="3625920"/>
            <a:ext cx="2222640" cy="21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6.35838E-007 L 0.20798 6.35838E-007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94444E-006 -4.44444E-006 L 0.11632 -4.44444E-006 E">
                                      <p:cBhvr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1.11111E-006 -1.85185E-006 L -0.26042 -1.85185E-006 E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6.93642E-007 L -0.31736 -6.93642E-007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-1.94444E-006 4.81481E-006 L 0.19045 4.81481E-006 E">
                                      <p:cBhvr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1.11111E-006 2.59259E-006 L -0.35556 2.59259E-006 E">
                                      <p:cBhvr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19653E-006 L -0.25382 2.19653E-006 E">
                                      <p:cBhvr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2.25434E-006 L 0.16319 2.25434E-006 E">
                                      <p:cBhvr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гат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о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ут…рб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икт…рина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лшеб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ос…м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ор…зо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8" name="WordArt 2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9" name="WordArt 2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0" name="WordArt 2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1" name="WordArt 2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2" name="WordArt 3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3" name="WordArt 3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4" name="WordArt 3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5" name="WordArt 3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6" name="WordArt 3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7" name="WordArt 3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8" name="WordArt 3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WordArt 3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0" name="WordArt 3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21" name="Овал 35"/>
          <p:cNvGrpSpPr/>
          <p:nvPr/>
        </p:nvGrpSpPr>
        <p:grpSpPr>
          <a:xfrm>
            <a:off x="920880" y="573120"/>
            <a:ext cx="463320" cy="480960"/>
            <a:chOff x="920880" y="573120"/>
            <a:chExt cx="463320" cy="480960"/>
          </a:xfrm>
        </p:grpSpPr>
        <p:pic>
          <p:nvPicPr>
            <p:cNvPr id="12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731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1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12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5"/>
          <p:cNvGrpSpPr/>
          <p:nvPr/>
        </p:nvGrpSpPr>
        <p:grpSpPr>
          <a:xfrm>
            <a:off x="920880" y="4406760"/>
            <a:ext cx="463320" cy="476280"/>
            <a:chOff x="920880" y="4406760"/>
            <a:chExt cx="463320" cy="476280"/>
          </a:xfrm>
        </p:grpSpPr>
        <p:pic>
          <p:nvPicPr>
            <p:cNvPr id="1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406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17720" y="45054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5"/>
          <p:cNvGrpSpPr/>
          <p:nvPr/>
        </p:nvGrpSpPr>
        <p:grpSpPr>
          <a:xfrm>
            <a:off x="950760" y="5205240"/>
            <a:ext cx="444600" cy="482760"/>
            <a:chOff x="950760" y="5205240"/>
            <a:chExt cx="444600" cy="482760"/>
          </a:xfrm>
        </p:grpSpPr>
        <p:pic>
          <p:nvPicPr>
            <p:cNvPr id="13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052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02564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13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1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1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54" descr="http://i176.photobucket.com/albums/w170/Aussiefiregirl/u67u6u7.jpg"/>
          <p:cNvPicPr/>
          <p:nvPr/>
        </p:nvPicPr>
        <p:blipFill>
          <a:blip r:embed="rId9"/>
          <a:stretch/>
        </p:blipFill>
        <p:spPr>
          <a:xfrm>
            <a:off x="7156440" y="3063960"/>
            <a:ext cx="170028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-0.05 -0.00185 L 0.12725 -0.0037 E">
                                      <p:cBhvr>
                                        <p:cTn id="2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4791 1.11111E-006 E">
                                      <p:cBhvr>
                                        <p:cTn id="26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1389 4.81481E-006 E">
                                      <p:cBhvr>
                                        <p:cTn id="3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6771 -2.22222E-006 E">
                                      <p:cBhvr>
                                        <p:cTn id="30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142 -1.85185E-006 E">
                                      <p:cBhvr>
                                        <p:cTn id="36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22344 -3.33333E-006 E">
                                      <p:cBhvr>
                                        <p:cTn id="36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24427 2.59259E-006 E">
                                      <p:cBhvr>
                                        <p:cTn id="39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5208 -2.22222E-006 E">
                                      <p:cBhvr>
                                        <p:cTn id="40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в…на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и…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…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щ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…л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…лез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…бав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зл…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21"/>
          <p:cNvSpPr txBox="1"/>
          <p:nvPr/>
        </p:nvSpPr>
        <p:spPr>
          <a:xfrm>
            <a:off x="23256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22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23"/>
          <p:cNvSpPr txBox="1"/>
          <p:nvPr/>
        </p:nvSpPr>
        <p:spPr>
          <a:xfrm>
            <a:off x="2324160" y="2819520"/>
            <a:ext cx="29664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8" name="WordArt 2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2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0" name="WordArt 26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WordArt 27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28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29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31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32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7" name="WordArt 33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8" name="WordArt 34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9" name="WordArt 3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0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71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1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35"/>
          <p:cNvGrpSpPr/>
          <p:nvPr/>
        </p:nvGrpSpPr>
        <p:grpSpPr>
          <a:xfrm>
            <a:off x="950760" y="3651120"/>
            <a:ext cx="444600" cy="476280"/>
            <a:chOff x="950760" y="3651120"/>
            <a:chExt cx="444600" cy="476280"/>
          </a:xfrm>
        </p:grpSpPr>
        <p:pic>
          <p:nvPicPr>
            <p:cNvPr id="175" name="Овал 35" descr=""/>
            <p:cNvPicPr/>
            <p:nvPr/>
          </p:nvPicPr>
          <p:blipFill>
            <a:blip r:embed="rId2"/>
            <a:stretch/>
          </p:blipFill>
          <p:spPr>
            <a:xfrm>
              <a:off x="950760" y="36511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025640" y="3747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35"/>
          <p:cNvGrpSpPr/>
          <p:nvPr/>
        </p:nvGrpSpPr>
        <p:grpSpPr>
          <a:xfrm>
            <a:off x="950760" y="5967360"/>
            <a:ext cx="444600" cy="476280"/>
            <a:chOff x="950760" y="5967360"/>
            <a:chExt cx="444600" cy="476280"/>
          </a:xfrm>
        </p:grpSpPr>
        <p:pic>
          <p:nvPicPr>
            <p:cNvPr id="1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59673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2564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35"/>
          <p:cNvGrpSpPr/>
          <p:nvPr/>
        </p:nvGrpSpPr>
        <p:grpSpPr>
          <a:xfrm>
            <a:off x="920880" y="500040"/>
            <a:ext cx="463320" cy="480960"/>
            <a:chOff x="920880" y="500040"/>
            <a:chExt cx="463320" cy="480960"/>
          </a:xfrm>
        </p:grpSpPr>
        <p:pic>
          <p:nvPicPr>
            <p:cNvPr id="1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50004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35"/>
          <p:cNvGrpSpPr/>
          <p:nvPr/>
        </p:nvGrpSpPr>
        <p:grpSpPr>
          <a:xfrm>
            <a:off x="920880" y="2066760"/>
            <a:ext cx="463320" cy="474840"/>
            <a:chOff x="920880" y="2066760"/>
            <a:chExt cx="463320" cy="474840"/>
          </a:xfrm>
        </p:grpSpPr>
        <p:pic>
          <p:nvPicPr>
            <p:cNvPr id="1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66760"/>
              <a:ext cx="4633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017720" y="2163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35"/>
          <p:cNvGrpSpPr/>
          <p:nvPr/>
        </p:nvGrpSpPr>
        <p:grpSpPr>
          <a:xfrm>
            <a:off x="950760" y="2938320"/>
            <a:ext cx="444600" cy="481320"/>
            <a:chOff x="950760" y="2938320"/>
            <a:chExt cx="444600" cy="481320"/>
          </a:xfrm>
        </p:grpSpPr>
        <p:pic>
          <p:nvPicPr>
            <p:cNvPr id="1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2938320"/>
              <a:ext cx="4446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025640" y="30369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1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1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54" descr="http://i1.gorodnet.ru/pics/p/24/44/9401770_4ee51224e6c49"/>
          <p:cNvPicPr/>
          <p:nvPr/>
        </p:nvPicPr>
        <p:blipFill>
          <a:blip r:embed="rId9"/>
          <a:srcRect l="15922" t="395" r="9949" b="3592"/>
          <a:stretch/>
        </p:blipFill>
        <p:spPr>
          <a:xfrm>
            <a:off x="6978600" y="3327480"/>
            <a:ext cx="21654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2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85185E-006 L 0.14184 -1.85185E-006 E">
                                      <p:cBhvr>
                                        <p:cTn id="48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27657 -3.33333E-006 E">
                                      <p:cBhvr>
                                        <p:cTn id="49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3.88889E-006 2.59259E-006 L 0.18159 2.59259E-006 E">
                                      <p:cBhvr>
                                        <p:cTn id="51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-2.5E-006 -5.18039E-007 L 0.10643 -5.18039E-007 E">
                                      <p:cBhvr>
                                        <p:cTn id="52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5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7037E-006 L -0.31996 -3.7037E-006 E">
                                      <p:cBhvr>
                                        <p:cTn id="56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4791 1.11111E-006 E">
                                      <p:cBhvr>
                                        <p:cTn id="5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8159 4.81481E-006 E">
                                      <p:cBhvr>
                                        <p:cTn id="61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8159 -2.22222E-006 E">
                                      <p:cBhvr>
                                        <p:cTn id="6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зобр…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н…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ку…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ст…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би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ы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п…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логра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21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6429240" y="2170080"/>
            <a:ext cx="549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7" name="WordArt 23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8" name="WordArt 24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9" name="WordArt 2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0" name="WordArt 26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1" name="WordArt 2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2" name="WordArt 28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3" name="WordArt 29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4" name="WordArt 30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5" name="WordArt 31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6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7" name="WordArt 33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8" name="WordArt 34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3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0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2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2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2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Овал 35"/>
          <p:cNvGrpSpPr/>
          <p:nvPr/>
        </p:nvGrpSpPr>
        <p:grpSpPr>
          <a:xfrm>
            <a:off x="920880" y="5992920"/>
            <a:ext cx="463320" cy="480960"/>
            <a:chOff x="920880" y="5992920"/>
            <a:chExt cx="463320" cy="480960"/>
          </a:xfrm>
        </p:grpSpPr>
        <p:pic>
          <p:nvPicPr>
            <p:cNvPr id="2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59929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23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2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2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24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24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54" descr="http://static.ngs.ru/cache/market/db3c93b325877ba96beecbcc4eb6a97b_1363589062_1000_1000.jpg"/>
          <p:cNvPicPr/>
          <p:nvPr/>
        </p:nvPicPr>
        <p:blipFill>
          <a:blip r:embed="rId9"/>
          <a:stretch/>
        </p:blipFill>
        <p:spPr>
          <a:xfrm>
            <a:off x="6978600" y="3065400"/>
            <a:ext cx="2165400" cy="26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2291 -1.85185E-006 E">
                                      <p:cBhvr>
                                        <p:cTn id="72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2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21285 -3.33333E-006 E">
                                      <p:cBhvr>
                                        <p:cTn id="72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37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8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9271 2.59259E-006 E">
                                      <p:cBhvr>
                                        <p:cTn id="75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2309 -2.22222E-006 E">
                                      <p:cBhvr>
                                        <p:cTn id="75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7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68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9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4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21909 -3.7037E-006 E">
                                      <p:cBhvr>
                                        <p:cTn id="79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21927 1.11111E-006 E">
                                      <p:cBhvr>
                                        <p:cTn id="80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3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14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5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2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8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30625 4.81481E-006 E">
                                      <p:cBhvr>
                                        <p:cTn id="84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566 -2.22222E-006 E">
                                      <p:cBhvr>
                                        <p:cTn id="85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5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9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75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6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2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ломе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анд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нве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аб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ид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р…ссвор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…л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2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2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2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2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Овал 35"/>
          <p:cNvGrpSpPr/>
          <p:nvPr/>
        </p:nvGrpSpPr>
        <p:grpSpPr>
          <a:xfrm>
            <a:off x="950760" y="5126040"/>
            <a:ext cx="444600" cy="482760"/>
            <a:chOff x="950760" y="5126040"/>
            <a:chExt cx="444600" cy="482760"/>
          </a:xfrm>
        </p:grpSpPr>
        <p:pic>
          <p:nvPicPr>
            <p:cNvPr id="2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1260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2564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2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2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Овал 35"/>
          <p:cNvGrpSpPr/>
          <p:nvPr/>
        </p:nvGrpSpPr>
        <p:grpSpPr>
          <a:xfrm>
            <a:off x="950760" y="5931000"/>
            <a:ext cx="444600" cy="476280"/>
            <a:chOff x="950760" y="5931000"/>
            <a:chExt cx="444600" cy="476280"/>
          </a:xfrm>
        </p:grpSpPr>
        <p:pic>
          <p:nvPicPr>
            <p:cNvPr id="2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93100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02564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53" descr="http://mir-ulybok.ru/custom/uploads/photoalbums/1/full/94.jpg"/>
          <p:cNvPicPr/>
          <p:nvPr/>
        </p:nvPicPr>
        <p:blipFill>
          <a:blip r:embed="rId9"/>
          <a:stretch/>
        </p:blipFill>
        <p:spPr>
          <a:xfrm>
            <a:off x="6978600" y="3044880"/>
            <a:ext cx="2308320" cy="26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2448 -3.7037E-006 E">
                                      <p:cBhvr>
                                        <p:cTn id="93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6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47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8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3732 1.11111E-006 E">
                                      <p:cBhvr>
                                        <p:cTn id="96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7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1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4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5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6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5694 4.81481E-006 E">
                                      <p:cBhvr>
                                        <p:cTn id="99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1649 -2.22222E-006 E">
                                      <p:cBhvr>
                                        <p:cTn id="1007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5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16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2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0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3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17222 2.07216E-006 E">
                                      <p:cBhvr>
                                        <p:cTn id="1060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7743 -3.33333E-006 E">
                                      <p:cBhvr>
                                        <p:cTn id="106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4549 2.59259E-006 E">
                                      <p:cBhvr>
                                        <p:cTn id="109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486 -2.22222E-006 E">
                                      <p:cBhvr>
                                        <p:cTn id="109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08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9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тал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н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…деж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б…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о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8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5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21" name="Овал 35"/>
          <p:cNvGrpSpPr/>
          <p:nvPr/>
        </p:nvGrpSpPr>
        <p:grpSpPr>
          <a:xfrm>
            <a:off x="920880" y="500040"/>
            <a:ext cx="463320" cy="480960"/>
            <a:chOff x="920880" y="500040"/>
            <a:chExt cx="463320" cy="480960"/>
          </a:xfrm>
        </p:grpSpPr>
        <p:pic>
          <p:nvPicPr>
            <p:cNvPr id="32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0004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Овал 35"/>
          <p:cNvGrpSpPr/>
          <p:nvPr/>
        </p:nvGrpSpPr>
        <p:grpSpPr>
          <a:xfrm>
            <a:off x="927000" y="2030400"/>
            <a:ext cx="444600" cy="480960"/>
            <a:chOff x="927000" y="2030400"/>
            <a:chExt cx="444600" cy="480960"/>
          </a:xfrm>
        </p:grpSpPr>
        <p:pic>
          <p:nvPicPr>
            <p:cNvPr id="3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7000" y="203040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0033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3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Овал 35"/>
          <p:cNvGrpSpPr/>
          <p:nvPr/>
        </p:nvGrpSpPr>
        <p:grpSpPr>
          <a:xfrm>
            <a:off x="927000" y="4340160"/>
            <a:ext cx="444600" cy="480960"/>
            <a:chOff x="927000" y="4340160"/>
            <a:chExt cx="444600" cy="480960"/>
          </a:xfrm>
        </p:grpSpPr>
        <p:pic>
          <p:nvPicPr>
            <p:cNvPr id="3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0033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Овал 35"/>
          <p:cNvGrpSpPr/>
          <p:nvPr/>
        </p:nvGrpSpPr>
        <p:grpSpPr>
          <a:xfrm>
            <a:off x="927000" y="5126040"/>
            <a:ext cx="444600" cy="482760"/>
            <a:chOff x="927000" y="5126040"/>
            <a:chExt cx="444600" cy="482760"/>
          </a:xfrm>
        </p:grpSpPr>
        <p:pic>
          <p:nvPicPr>
            <p:cNvPr id="3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51260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00332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3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Овал 35"/>
          <p:cNvGrpSpPr/>
          <p:nvPr/>
        </p:nvGrpSpPr>
        <p:grpSpPr>
          <a:xfrm>
            <a:off x="927000" y="3591000"/>
            <a:ext cx="444600" cy="474480"/>
            <a:chOff x="927000" y="3591000"/>
            <a:chExt cx="444600" cy="474480"/>
          </a:xfrm>
        </p:grpSpPr>
        <p:pic>
          <p:nvPicPr>
            <p:cNvPr id="3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033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Овал 35"/>
          <p:cNvGrpSpPr/>
          <p:nvPr/>
        </p:nvGrpSpPr>
        <p:grpSpPr>
          <a:xfrm>
            <a:off x="927000" y="5900760"/>
            <a:ext cx="444600" cy="476280"/>
            <a:chOff x="927000" y="5900760"/>
            <a:chExt cx="444600" cy="476280"/>
          </a:xfrm>
        </p:grpSpPr>
        <p:pic>
          <p:nvPicPr>
            <p:cNvPr id="3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700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0332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Picture 53" descr="http://img-fotki.yandex.ru/get/6616/158133068.8/0_9b783_8d37af99_XL.jpg"/>
          <p:cNvPicPr/>
          <p:nvPr/>
        </p:nvPicPr>
        <p:blipFill>
          <a:blip r:embed="rId9"/>
          <a:stretch/>
        </p:blipFill>
        <p:spPr>
          <a:xfrm>
            <a:off x="6978600" y="3429000"/>
            <a:ext cx="2129040" cy="24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6" dur="indefinite" restart="never" nodeType="tmRoot">
          <p:childTnLst>
            <p:seq>
              <p:cTn id="116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20625 -0.00185 E">
                                      <p:cBhvr>
                                        <p:cTn id="1171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80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1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8455 1.11111E-006 E">
                                      <p:cBhvr>
                                        <p:cTn id="1194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2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03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4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1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5243 4.81481E-006 E">
                                      <p:cBhvr>
                                        <p:cTn id="123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7291 -2.22222E-006 E">
                                      <p:cBhvr>
                                        <p:cTn id="1240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49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3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5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9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142 -1.85185E-006 E">
                                      <p:cBhvr>
                                        <p:cTn id="129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5261 -3.33333E-006 E">
                                      <p:cBhvr>
                                        <p:cTn id="1301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10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1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9323 2.59259E-006 E">
                                      <p:cBhvr>
                                        <p:cTn id="132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937 -2.22222E-006 E">
                                      <p:cBhvr>
                                        <p:cTn id="1332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35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36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38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39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о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ам…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ссаж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йз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рр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ча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ртр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хож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6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7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8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9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0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1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2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5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8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9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0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7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3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3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Овал 35"/>
          <p:cNvGrpSpPr/>
          <p:nvPr/>
        </p:nvGrpSpPr>
        <p:grpSpPr>
          <a:xfrm>
            <a:off x="920880" y="5992920"/>
            <a:ext cx="463320" cy="480960"/>
            <a:chOff x="920880" y="5992920"/>
            <a:chExt cx="463320" cy="480960"/>
          </a:xfrm>
        </p:grpSpPr>
        <p:pic>
          <p:nvPicPr>
            <p:cNvPr id="3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59929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3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3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3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3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3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53" descr="http://xn----7sbkrgknduaj0b.xn--p1ai/d/281042/d/004m.jpg"/>
          <p:cNvPicPr/>
          <p:nvPr/>
        </p:nvPicPr>
        <p:blipFill>
          <a:blip r:embed="rId9"/>
          <a:stretch/>
        </p:blipFill>
        <p:spPr>
          <a:xfrm>
            <a:off x="6978600" y="2170080"/>
            <a:ext cx="223668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40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32708 -1.85185E-006 E">
                                      <p:cBhvr>
                                        <p:cTn id="141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28142 -3.33333E-006 E">
                                      <p:cBhvr>
                                        <p:cTn id="142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5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7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44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8142 2.59259E-006 E">
                                      <p:cBhvr>
                                        <p:cTn id="145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6076 -2.22222E-006 E">
                                      <p:cBhvr>
                                        <p:cTn id="145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1701 -0.00185 E">
                                      <p:cBhvr>
                                        <p:cTn id="149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21407 1.11111E-006 E">
                                      <p:cBhvr>
                                        <p:cTn id="150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53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28142 4.81481E-006 E">
                                      <p:cBhvr>
                                        <p:cTn id="154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1389 -2.22222E-006 E">
                                      <p:cBhvr>
                                        <p:cTn id="155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8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59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57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3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74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5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58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59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60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6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я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й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…рк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ер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и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…б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кр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8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5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42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4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Овал 35"/>
          <p:cNvGrpSpPr/>
          <p:nvPr/>
        </p:nvGrpSpPr>
        <p:grpSpPr>
          <a:xfrm>
            <a:off x="920880" y="2097000"/>
            <a:ext cx="463320" cy="480960"/>
            <a:chOff x="920880" y="2097000"/>
            <a:chExt cx="463320" cy="480960"/>
          </a:xfrm>
        </p:grpSpPr>
        <p:pic>
          <p:nvPicPr>
            <p:cNvPr id="4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970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42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Овал 35"/>
          <p:cNvGrpSpPr/>
          <p:nvPr/>
        </p:nvGrpSpPr>
        <p:grpSpPr>
          <a:xfrm>
            <a:off x="920880" y="4340160"/>
            <a:ext cx="463320" cy="480960"/>
            <a:chOff x="920880" y="4340160"/>
            <a:chExt cx="463320" cy="480960"/>
          </a:xfrm>
        </p:grpSpPr>
        <p:pic>
          <p:nvPicPr>
            <p:cNvPr id="4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0177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Овал 35"/>
          <p:cNvGrpSpPr/>
          <p:nvPr/>
        </p:nvGrpSpPr>
        <p:grpSpPr>
          <a:xfrm>
            <a:off x="920880" y="5132520"/>
            <a:ext cx="463320" cy="476280"/>
            <a:chOff x="920880" y="5132520"/>
            <a:chExt cx="463320" cy="476280"/>
          </a:xfrm>
        </p:grpSpPr>
        <p:pic>
          <p:nvPicPr>
            <p:cNvPr id="4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513252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01772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4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4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44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53" descr="http://img1.liveinternet.ru/images/attach/c/3/76/119/76119217_5.png"/>
          <p:cNvPicPr/>
          <p:nvPr/>
        </p:nvPicPr>
        <p:blipFill>
          <a:blip r:embed="rId9"/>
          <a:stretch/>
        </p:blipFill>
        <p:spPr>
          <a:xfrm>
            <a:off x="6978600" y="23716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2" dur="indefinite" restart="never" nodeType="tmRoot">
          <p:childTnLst>
            <p:seq>
              <p:cTn id="163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993 -0.00185 E">
                                      <p:cBhvr>
                                        <p:cTn id="163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642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4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75 1.11111E-006 E">
                                      <p:cBhvr>
                                        <p:cTn id="166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68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3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5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32187 4.81481E-006 E">
                                      <p:cBhvr>
                                        <p:cTn id="169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455 3.55227E-006 E">
                                      <p:cBhvr>
                                        <p:cTn id="170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711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14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15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16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30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756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455 -1.85185E-006 E">
                                      <p:cBhvr>
                                        <p:cTn id="175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764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7743 -3.33333E-006 E">
                                      <p:cBhvr>
                                        <p:cTn id="1767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5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76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7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28038 2.59259E-006 E">
                                      <p:cBhvr>
                                        <p:cTn id="179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795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75 -2.22222E-006 E">
                                      <p:cBhvr>
                                        <p:cTn id="179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818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842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15-10-04T18:32:10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