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44C-F2D5-4303-B2C8-F686D5CE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0A8-6145-416F-A147-9B3DB0D9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49E-096F-41AC-8DD5-D186880F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7B3-DD39-4C08-875A-9DA46FF1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72AD-E69C-4073-8C27-9FF905C3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571D-4F80-414A-8A7B-08250D2E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DDC6-FD63-47D0-913A-EFC9B261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5526-381A-4C35-8080-331DA3FD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B659-D659-4CB3-9794-04ECF2BC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362D-4CAB-4ABE-8050-80DF188E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3D44-C04C-48F3-A99F-258DA526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D1D-3766-45AC-A81E-8B70A72F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C7BA-C97D-4564-8974-3E773834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9132-7519-4366-844E-72576088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9A04-E455-4C22-95BF-55478A05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DF27-DE3B-4F31-999C-2E80CC7A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67CB-4004-46AB-9387-9530B9DF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7AC-A31F-4482-941D-5543481A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5C0-84BC-4A4A-8B06-10F2811D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9C1-8330-4AAA-B71F-58AA3A89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A77-4048-4835-A2FB-DC7310E6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D2D-0E13-4CED-BEAC-9EB02C29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9EC-4DA6-493D-B3B2-C4EA8A8A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552-D38D-423A-A3F5-E932CD78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B1FD-326D-4EAA-9A26-F91EDD5CBF4A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06AE-1071-46ED-B1BA-F63922A89F0C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Tahoma"/>
              </a:rPr>
              <a:t>Полезные советы</a:t>
            </a:r>
            <a:endParaRPr b="0" lang="en-US" sz="5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85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Чему Учат В Школе 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Постарайтесь быть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именно такими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Улыбайтесь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999800" y="2286000"/>
            <a:ext cx="62866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85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Людям приятно встречать улыбающихся людей, о них редко подумают плохо.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Интерес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Проявляйте искренний интерес к людям и их проблемам. Кто живет только для самого себя, тот одинок. Именно из таких людей получаются неудачники.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Имя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Человек будет расположен к вам, если вы обращаетесь к нему по имени. «Имя человека – самый сладостный и самый важный для него звук на любом языке» Дейл Карнеги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Внимание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Ничто так не льстит собеседнику, как внимание. «Будьте хорошим слушателем, поощряйте говорить других о себе, если хотите понравиться людям» Дейл Карнеги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Речь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Не стоит говорить о себе слишком много. За своей речью необходимо следить. Пустословие и сплетни еще ни кем не поощрялись.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Надо давать людям то, что сам желаешь получить от них.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Уважение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Если вы хотите иметь друзей – давайте им возможность быть наравне или превзойти вас. Мудрый не выставляет мудрость напоказ. Уважайте достоинства других.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Понять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Не стоит обвинять окружающих в чём-то, следует попытаться понять их.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Обида – не соответствие ожиданиям самого человека. Не ожидай от других большего, чем они могут, и сам не обещай.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1</cp:lastModifiedBy>
  <dcterms:modified xsi:type="dcterms:W3CDTF">2015-12-03T09:41:47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