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57B-757C-42C7-9171-C7361299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FA8-AE42-4474-9007-D6284B6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F89-640C-4BA8-AE23-52F0ECBB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A66-6CC0-4F4A-807B-CC9289AC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5A0-7207-480A-AFBA-35E0B45D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4492-0D06-4683-84DB-9325022D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209F-941D-41F6-941F-572197E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313-79AE-463A-8245-81044B22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01C6-B9C3-47B2-BC48-A8675B54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F640-0585-460E-833E-6B2BB87E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7C6C-B286-40FB-A92D-A167057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43B-5116-4DEA-BB25-7A029829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E8EB-161B-4475-A10D-DE17D5B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F1C-1085-435D-AF76-88611A1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1A45-9E22-4525-9D1B-F3AEAD7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CE03-04B4-4799-B94E-C7EA3C8A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3C5-D236-4F19-B45E-F04937CE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F16-8EA4-48CE-8866-2E5AC19E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117-665B-49FE-8ED4-258A808A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408-366D-4DE7-A56C-73A72BF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50B-CC95-48A1-925B-077016FC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C33-93AD-4B87-9DBE-A8F218A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2A6-06E4-467E-8D6A-D26CFB16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00E-29AC-444E-B289-1F63234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1F12-7241-4BB5-8984-68C204469E4E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F7F-57B7-4A49-B750-907F3C669D76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ahoma"/>
              </a:rPr>
              <a:t>Полезные советы</a:t>
            </a:r>
            <a:endParaRPr b="0" lang="en-US" sz="5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85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Чему Учат В Школе 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старайтесь быть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именно такими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Улыбайтес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999800" y="2286000"/>
            <a:ext cx="6286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85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Людям приятно встречать улыбающихся людей, о них редко подумают плохо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Интерес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Проявляйте искренний интерес к людям и их проблемам. Кто живет только для самого себя, тот одинок. Именно из таких людей получаются неудачники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Имя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Человек будет расположен к вам, если вы обращаетесь к нему по имени. «Имя человека – самый сладостный и самый важный для него звук на любом языке» Дейл Карнег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Внимание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ичто так не льстит собеседнику, как внимание. «Будьте хорошим слушателем, поощряйте говорить других о себе, если хотите понравиться людям» Дейл Карнег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Реч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е стоит говорить о себе слишком много. За своей речью необходимо следить. Пустословие и сплетни еще ни кем не поощрялись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адо давать людям то, что сам желаешь получить от них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Уважение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Если вы хотите иметь друзей – давайте им возможность быть наравне или превзойти вас. Мудрый не выставляет мудрость напоказ. Уважайте достоинства других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Понят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е стоит обвинять окружающих в чём-то, следует попытаться понять их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Обида – не соответствие ожиданиям самого человека. Не ожидай от других большего, чем они могут, и сам не обещай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1</cp:lastModifiedBy>
  <dcterms:modified xsi:type="dcterms:W3CDTF">2015-12-03T09:41:47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