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53D-9A7C-4D83-ACF3-96340C3F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7DC-7460-4BB1-A3A4-10965610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C47-B991-4CBF-8AC0-1BA19DC9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5E0-5C66-4343-990E-040C143D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53B5-8290-4C28-9271-0DAEE4A1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CA5A-3571-4D11-9A9E-2F9DBAAB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9691-9042-4CC4-B29D-468F7CD4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9404-38F3-48F0-80DA-8B53F4AC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24D1-EA39-4C22-A477-07F6FD86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6327-B226-42AB-9A38-45FDEECF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11BC-4BA1-4635-92F5-DD65F8BB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B67-2140-4AEC-9E44-B99706D5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234A-6B34-4A10-8DE9-4A7FD1AB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863B-1119-4C8E-804A-92E40B6D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95E9-D118-4ECE-BCEF-B9D10701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2F4C-FF3A-49D4-8383-5AD54367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8875-4BDC-4C6E-A4B1-EF0411B8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FEA-AB3A-4F02-8FE0-A1ECDBF7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F47-0637-4D1B-8B2B-DA673015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169-3A42-47BE-AD6E-1956AA38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DD2-74D1-4E60-A13E-0C13A45F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55B-3623-46E2-83C1-139E4403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910-57D8-403D-98D1-A3BFD0C8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C91-71FB-4816-B279-8CD34811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A06F-BE6F-4AEE-B6EC-02F55BC477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9972-8DDF-482B-913F-318B5F494B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076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Технология на основе активизации и интенсификации деятельности учащихся (игровые технологии )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ребования к организации игр в процессе обучен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гра должна быть увлекательна, интересн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зывать только положительные эмо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сновываться на свободном творчестве и самостоятельной подготовк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звивать умения, знания, навыки учащихся в учебной деятель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чебный материал должен быть построен логически и должен постоянно усложнят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игре обязательно должен быть элемент соревнования между командами и отдельными учащими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онкурс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озговой штур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Хронологическая головолом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Личность в истор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рылатые выраж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бъясни учител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верзные вопрос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де были сделаны следующие изобретения и открыт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ес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гре не обязательно отводить весь урок и долго готовиться учителю и детям. Можно использовать игры, которые занимают 5-7 минут, но решают массу воспитательных и развивающих задач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: Международные отношения в 20-30 годы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XX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ве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 каждый стол раздаются карточки с названиями государст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дание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тветить на вопросы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) Что ты знаешь об этом государстве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) Какую роль оно сыграла в предвоенный период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Тема: Страны Востока в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в. Япония и Китай (ролевая игра). 8 класс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сс делится на две группы – «Японцы» и «Китайцы». Они получают предварительное задание - прочитать необходимый параграф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ели этих групп отстаивают преимущество своего варианта развития, исходя из мировоззренческих установо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XIX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ек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В ходе дискуссии на доске и в тетрадях заполняется таблиц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600200"/>
          <a:ext cx="8229600" cy="4530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опросы для срав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осударственный строй в конце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IX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е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коном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рм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ченики, принявшие активное участие в дискуссии, получают оцен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рок в форме ролевой игры активизирует познавательную деятельность, ученики начинают размышлять, увлекаются поисками ответов, развивается культура реч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07:04:59Z</dcterms:created>
  <dc:creator>библиотека</dc:creator>
  <dc:description/>
  <dc:language>en-US</dc:language>
  <cp:lastModifiedBy>библиотека</cp:lastModifiedBy>
  <dcterms:modified xsi:type="dcterms:W3CDTF">2012-01-14T07:28:35Z</dcterms:modified>
  <cp:revision>3</cp:revision>
  <dc:subject/>
  <dc:title>Технология на основе активизации и интенсификации деятельности учащихся (игровые технологии ).</dc:title>
</cp:coreProperties>
</file>