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D1F-DCEB-499F-A46E-A72C1832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C96-82FE-4B41-B145-3CF96273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E6D-AA01-45D0-8018-1823CA0C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B29-59F2-4438-AAE3-189A37EE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01A8-9E4E-4F0C-A11D-00E2ED51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C1E0-B13E-4C6C-829C-3AAD86BC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10A1-4706-43F8-BA08-D64FCD08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BA6E-3650-4F02-9B8C-F94BCF69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F171-BB26-48F2-BA9E-E5650201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9D9E-2A5F-44D8-870E-ECA2945D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19A0-FDAC-403C-AB72-34262133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AA6-75E3-4B20-936C-47D7B96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5A7F-9E22-45D3-8855-EEF83AA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C4E4-1861-431E-B683-F18B169A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657D-2BD1-4376-9421-716C5A95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868D-D4C3-457C-873C-2B5F6BA8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18C2-CC51-4759-8F4B-D71A713E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044-DE2D-4C1F-A89A-06DA0987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949-85F4-4999-A28D-F378ECD8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D83-CD65-48FE-9014-EC483D31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C1C-F26B-4DD3-BBAC-ADD0659B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AC7-7198-4CD0-BA17-29ADD80C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9B9-1E72-4BDD-9244-C49C5A7E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617-0AA6-4823-A804-B2F16565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510C-25FB-46DC-B443-3E70F83B48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97D0-9CBB-4B08-B63E-D405367934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076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Технология на основе активизации и интенсификации деятельности учащихся (игровые технологии )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ребования к организации игр в процессе обучен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гра должна быть увлекательна, интересн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зывать только положительные эмо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сновываться на свободном творчестве и самостоятельной подготовк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звивать умения, знания, навыки учащихся в учебной деятель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чебный материал должен быть построен логически и должен постоянно усложнят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игре обязательно должен быть элемент соревнования между командами и отдельными учащими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нкурс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озговой штур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Хронологическая головолом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ичность в истор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рылатые выра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ъясни учител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верзные вопрос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де были сделаны следующие изобретения и открыт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ес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гре не обязательно отводить весь урок и долго готовиться учителю и детям. Можно использовать игры, которые занимают 5-7 минут, но решают массу воспитательных и развивающих задач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: Международные отношения в 20-30 годы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XX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ве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 каждый стол раздаются карточки с названиями государст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дание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тветить на вопросы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) Что ты знаешь об этом государств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) Какую роль оно сыграла в предвоенный период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Тема: Страны Востока в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в. Япония и Китай (ролевая игра). 8 класс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сс делится на две группы – «Японцы» и «Китайцы». Они получают предварительное задание - прочитать необходимый параграф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ели этих групп отстаивают преимущество своего варианта развития, исходя из мировоззренческих установо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XIX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е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В ходе дискуссии на доске и в тетрадях заполняется таблиц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600200"/>
          <a:ext cx="8229600" cy="453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просы для срав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осударственный строй в конце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IX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е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оном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рм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ченики, принявшие активное участие в дискуссии, получают оцен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рок в форме ролевой игры активизирует познавательную деятельность, ученики начинают размышлять, увлекаются поисками ответов, развивается культура реч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07:04:59Z</dcterms:created>
  <dc:creator>библиотека</dc:creator>
  <dc:description/>
  <dc:language>en-US</dc:language>
  <cp:lastModifiedBy>библиотека</cp:lastModifiedBy>
  <dcterms:modified xsi:type="dcterms:W3CDTF">2012-01-14T07:28:35Z</dcterms:modified>
  <cp:revision>3</cp:revision>
  <dc:subject/>
  <dc:title>Технология на основе активизации и интенсификации деятельности учащихся (игровые технологии ).</dc:title>
</cp:coreProperties>
</file>