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003-8DEA-498A-8025-E98478E8E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830-CC03-4842-943F-13793D1AE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566E-B3E0-4144-A1DC-97C68223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6FCB-BC90-4B2F-AD35-0767015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538A6-8206-4AAF-A161-B94DB1D9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6A13B-3ABF-44EE-A1EE-E04CCD5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D4447-BDA3-441F-9B29-F37D81FA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B0134-3C25-4E12-9C17-529B7E9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CF613-91D9-4DF0-A442-849CF9A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0BCA3E-60E6-4ADA-AD5B-38570124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E8C4F-3F7E-4D37-A83B-77E5FF0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ADA53-8C15-4994-8F8D-644AE930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3C128-310D-497B-B2F3-417CC540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E46038-8D8D-43D8-A250-C9C3947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5D42-F029-4B40-A2DF-34B9D4DE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598B8-534A-462D-9BE2-13D5BED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6202F-8076-46FF-8D55-15182595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D02EA2-B045-4A1D-9EB3-6488F6C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07B6D5-152C-4F9F-AA86-BCAC19F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236E8-1878-45A0-933A-9AF4B8A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4CFC5B-AB98-4B35-8A38-D68C375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E4E6D-E416-4B40-ADBD-522D617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192108-2D7B-423B-B0A7-BBC208B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F10F94-6BCD-4C65-BF36-3295751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C0840B-13BB-480A-9333-05C146B6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B954-46DB-4C9F-AFF8-8DE1BB63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42BBFF-65E3-49A4-A1AB-33BAF83A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497A0C-8833-411B-B86D-6CFC0C81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CAB03D-6DB8-4DB8-8F10-2D83599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775200-DE1E-48CB-8AA7-2D786FAC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70AD7B-9835-475E-AD0C-00363860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E372A-9BA7-4D0F-8972-3D927839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060854-26DA-403C-918E-68DEA37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1971F8-7D1D-4CB0-AF57-EA8D594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83BEE0-BB15-41A2-9133-C1F3204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1AA734-F6C3-4659-9D01-F3417D7F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C93-B13E-4759-9D67-CC9BAC00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571636-E325-49E7-81C8-2447F4F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7FD7A-F183-4BF2-951D-037B33B5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BCF7C7-D114-442E-A1EA-FDF758CF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AD173D-7521-43E9-9478-DF85B937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BF9A9B-D68A-4205-971E-08715125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E4D044-A5F3-45C5-90A9-96395EC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00201D-F8FF-4C07-B508-FA39FC9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6D55B4-9327-40B0-B097-B71D159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BFD4D7-F628-4294-ABA5-702CF4E2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7CDD4-8C77-463F-9438-993A2BE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674D-D9C5-4C2B-A2C4-AF96B0D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8273FF-8737-4FCA-A473-E60BBB4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018B3C-B0A8-48CA-8931-0D84EA9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CAA4A5-A357-4846-93D7-053DC8F2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88774A-D72A-40C6-ADEC-F197A7C7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968327-031A-44FF-B722-F02A415A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B52C38-1328-47EC-B865-288C34CD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19C58F-2A07-4A01-9271-6E38679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4941A-769C-451C-9518-75A9C600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DCB45-6894-4B5A-811D-762E24C2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250177-D0C9-41E6-8113-0EA6090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C19-D0A2-4777-BC19-74234C8B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93ADB0-4B56-42AD-B476-F77D5DC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A845E-C0DB-498E-BDFD-0714FDC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A82936-6B48-4B85-9CCC-ABB53DD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1171DD-D87A-44C2-8711-AB75BD9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C630A-F8C0-433A-90E4-B2DDF9B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BAFF1C-B397-4156-B885-5D8F95F9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3F2DCE-7B43-4B2E-840E-44D2E241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4284E7-D941-4F0D-B1E2-D71A5A12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19A514-49EB-41CB-B9A5-227F78A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7AD512-F6C4-4E4C-8CBB-415F75C2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0AB-F54C-4135-83DF-984FE8C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770406-22F9-4180-B297-556088EA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DEF67F-4BDA-4F69-9819-4E174BD2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52F2ED-DE06-4C5F-9F85-47A2903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53DA54-110B-4551-9C1E-D8DD066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94180B-0843-4819-8CEB-2495B23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5D58A3-5047-48B2-9076-806CBEA3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07B6EF-7DCC-48B3-B554-06359FB0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9AD02E-59A5-425D-8096-D626C258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E52F84-D5B7-4F87-86C8-1CC62EDC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4D07-A060-4801-AA8F-8A07124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7D7D-1ADC-4F85-8F13-D1647050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392-3995-4BF9-A0C1-4D075C8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59B3-E830-4C81-A8B5-58948AC9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C17C-EFBD-4843-A603-6203B99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F45D-21D5-4B3B-ADC9-5AC0523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85D-AA73-4E5F-917B-05D6D26E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8D33-1C02-410A-A3E4-23F7DA8B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A206-6CD4-49EA-A4F9-074EA63C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F1382-152D-4E49-9878-F370788C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FECAE-305F-419D-8CB0-4AE1ED7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F991D-ACCD-4959-92B1-FEBD6A04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98AB0-6EC7-467A-AFF8-BC4C8AD1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7E879-E0EA-438D-9ED3-995DBAF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305F-9E81-462D-8D1E-45967D4F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B4408-CDB0-4CB0-A70F-6FA092F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6941C-6A4B-4E26-A250-56E5D47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0E04B-F6FA-470E-82C7-C91AE4F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95551-67F9-4A95-8505-E5AC3CB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F49A9-87CC-45B3-991A-56B761A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D48EE-48EE-4623-806E-D762D4EF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2ADB2-CCDB-4AE9-9BFB-180B3AE8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4000C-0D38-4BB5-BB9B-2DB88D66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55886-8F9A-43D7-A9D2-8DA35F1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748F7-64C5-465F-81CE-09989C9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2ED0-565E-4160-A6D7-739A30E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09CA6-859A-45EB-98A2-A116A6D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DF28D-03FB-4ED9-8685-634BDD65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E1CF6-7D2E-44BD-9385-F33A6290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AC3AE-109C-40C4-BC62-E2EE520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07311-6ABD-4F2E-B4FC-C6DE932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237AC-AF16-4A35-A498-581D047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DA28C-DA67-4C2E-B86A-A2DDAA73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3477E-C9BA-42BA-ADB8-F4702C91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85969-B2A9-4530-BD20-4560210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102BF-E364-4F0F-B4CE-32F13B4F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B6C4-91C0-4F0C-9F67-F0F26F9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1DE78-E873-45E3-B852-54B7D5C8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13CC5-6CA3-45FE-B7CE-0F36FBE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A0FB9-FFF9-4221-B93C-F54F8AA1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4DBF3-2A7D-4427-B2C4-0D5241A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5F06C-7A4A-4407-94BC-204A61A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C3E42-85B5-4BAE-9769-A0F9160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958F5-011D-44FA-9109-CD89B31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3F513-E185-4DF2-916A-5614CAE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07F4B-89F9-4250-9E73-86E2F09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8DDBB-0CA9-4631-8B9F-B6A6188E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CAC4-BFAA-4F36-8537-A0FF93C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1DF49-BF7C-4CEC-8F42-AE6DBD51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BC63A-8408-4ED0-AC32-0CC4E314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FC5CA-89C8-4227-BF8B-0B27B3B5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8991C-3D84-4F03-B99E-66BE0BC1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5BD15-E52C-4B15-BD1A-65D16C2F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1A418-4C52-4E1C-A9E9-F85A521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9F0C2-8ABC-4BB3-8373-9E838E71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16FA4-40CF-4186-A980-2008E193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2ADE1-0AEF-4E5A-ACEE-75CA988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19D1D-0DB7-4BCA-BAC0-556BE87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9FBF-C2D2-45B7-A126-4C26494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A8BB6-6508-4572-BB40-CE71E91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0A891-6143-4659-8E16-3BE865C5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B63F2-2F0E-45DF-84B6-846D916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41981-4B20-4319-BE55-5CF55E1C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ECA7A-3285-47A9-9977-71E0165E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2AE3C-3DAF-402D-B788-D7F9610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5BA34-173B-40BA-B86C-16321F07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89A5B-37EF-4CF1-B971-657E4B0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9FB74-7175-4F1A-97FB-681CF33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73AA2-945B-4A58-959F-9DC73D2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16D3-8F65-4C4F-A973-FD5A3BD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59514-34E6-4FF3-A95B-98D7953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AD3C0-0811-4254-A00B-83574E1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9F0B6-0AA5-4598-8C96-2BC26BC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0B119-A9F7-4825-9DFE-F86BAEE8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73EE8-3A38-4236-AB13-D43A7F23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C82EE8-E83C-4B16-899F-DCA04365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B62A5-51B2-40E1-8A85-DE0CDC1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6E430-DFA2-4C37-9873-24220F5D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69D089-844B-4073-9633-640F38D2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8304C-52A7-4842-BA68-9BFBF51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5335-8557-4BE0-BBEC-134DF7AD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67D53-9B38-47EE-98B1-DBCD505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3AF50-93F5-437D-8466-5739736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361785-50AF-4831-B2AD-5D37F08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909BD-171D-4EE0-882E-0C6979D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E5836-BE57-4FD8-8C44-33A41C3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818F8-BCC9-4271-A63F-33358A0D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074CEA-159E-4F60-85FA-AA3AB8E8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4AFE4-FE19-454E-82F3-C828B307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EFF8D-9E1B-4B5D-BD1A-3A6472A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B04352-3D78-4E43-A1AC-E7B07EEE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E281-F93A-4DC6-84C6-8AD7885DC2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8FB-51A4-4127-9F35-EF5390205D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489-8BAD-4A4F-B2F2-C98B31A026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9273-D12D-4D75-BEA2-5D27318527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E939-2ADE-4F7B-B951-B5D71F47F6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CFD5-1E0B-4F91-8653-3EBCB7A388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E23F-7224-4159-886F-899B97F77E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8254-ED84-4532-B346-78E5A7C9B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DDA3-1850-4571-9B87-011EC7B84C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56E6-9080-48DD-8073-9CFE458AA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C3A-ECC3-45F3-AF02-A6688FF0CE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B54-037D-4BBC-9E4D-1607DCE7B2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0A5B-C2C7-4D05-99E6-D11C68CE4D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527-B98B-41EE-9BB7-8A5498EA29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347920" y="2060640"/>
            <a:ext cx="67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Терминология в области физической культуры и спо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тандартные размеры п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) составляют для игр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аскетбол: д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–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, ширина – 1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олейбо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длина – 18м, ширина – 9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Гандбо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лина – 40м, ширина – 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бол: длина 100-110м, ширина – 64-7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зал: длина 24-36м, ширина 14-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соответствии с правилами соревнований предусмотрены размер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, сантиметрах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баскетбольного кольца: 30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волейбольной сетки: для мужчин 243см, для женщин 22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гандбольных ворот: 3х2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футбольных ворот: 7,32х 2,44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79280" y="76464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ценка поля как «слабое» или «сильное» использу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шахма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й целью шахматной игры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полей на шахматной доске, образующих линию, параллельную нижнему и верхнему краям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ий приём в шахматах (шашках), цель которого посредством жертв или угроз заставить фигуру (шашку) соперника занять невыгодную для неё позицию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ся ка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леч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яд полей на шахматной доске, образующих линию, параллельную нижнему и верхнему краям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вертик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годы, полученные в шахматной партии ценой уступок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пменс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ожет быть материальной или позиционной, достаточной или недостаточ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шахматах и шашках – печатное или рисованное изображение доски с фигурами или без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диа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тадия шахматной и шашечной партии, во время которой соперники развивают фигуры (шашки) из исходного положения так, чтобы придать желаемый характер дальнейшему течению игры, обозначается,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б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охождение дистанции группой спортсменов, выделенных из общего числа участников путём жере­бьёвки или по предварительным данным и стартующих одновременно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за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ег, гонки на лыжах, велосипедах, мотоциклах, автомобилях, лошадях по пересечённой местности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ро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есколько упражнений, подобранных в определённом порядке для решения конкретной задачи в процессе физического воспитания, обозначаются 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мпл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человеческой деятельности, заключающийся в воспроизведении детьми действий взрослых, а также взрослыми – содержания профессиональной деятельности с её совершенствования и моделирования взаимоотношений между людьми,       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лиц, участвующих в спортивных соревнованиях, объединенных принадлежностью к одному спортивному коллективу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Calibri"/>
              <a:buAutoNum type="arabicPeriod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50560" y="76464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являющиеся основой для присвоения спортивных разрядов содержатся в документе, обозначаемом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портивная классифик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е движение тела относительно оси вращения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ихся на согнутых ногах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се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 на снаряде, при котором его плечи находятся ниже точек хвата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переход из упора в вис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а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виса в упор или из более низкого положения в высокое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ъ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изических упражнений, связанных с выполнением вращений тела в разных плоскостях с опорой и без опоры и сохранением равновесия одним спортсменом, вдвоём или группами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робатик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ог над снарядом в гимнастик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, при котором согнутые в коленях ноги подтянуты руками к груди и кисти захватывают колени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иров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, при котором линия плечевого пояса спортсмена проходит выше точек хвата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жно-координационных видах спорта - последовательное сочетание элементов в композиционно оправданном порядке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а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3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Объект 3" descr=""/>
          <p:cNvPicPr/>
          <p:nvPr/>
        </p:nvPicPr>
        <p:blipFill>
          <a:blip r:embed="rId1"/>
          <a:stretch/>
        </p:blipFill>
        <p:spPr>
          <a:xfrm>
            <a:off x="85680" y="762120"/>
            <a:ext cx="9070920" cy="56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Объект 3" descr=""/>
          <p:cNvPicPr/>
          <p:nvPr/>
        </p:nvPicPr>
        <p:blipFill>
          <a:blip r:embed="rId1"/>
          <a:stretch/>
        </p:blipFill>
        <p:spPr>
          <a:xfrm>
            <a:off x="73080" y="324000"/>
            <a:ext cx="890568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ик 6"/>
          <p:cNvSpPr/>
          <p:nvPr/>
        </p:nvSpPr>
        <p:spPr>
          <a:xfrm>
            <a:off x="190800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Схема 1" descr=""/>
          <p:cNvPicPr/>
          <p:nvPr/>
        </p:nvPicPr>
        <p:blipFill>
          <a:blip r:embed="rId1"/>
          <a:stretch/>
        </p:blipFill>
        <p:spPr>
          <a:xfrm>
            <a:off x="360360" y="749160"/>
            <a:ext cx="8472600" cy="54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Прямоугольник 2"/>
          <p:cNvSpPr/>
          <p:nvPr/>
        </p:nvSpPr>
        <p:spPr>
          <a:xfrm>
            <a:off x="539640" y="1052640"/>
            <a:ext cx="806472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хема 5" descr=""/>
          <p:cNvPicPr/>
          <p:nvPr/>
        </p:nvPicPr>
        <p:blipFill>
          <a:blip r:embed="rId1"/>
          <a:stretch/>
        </p:blipFill>
        <p:spPr>
          <a:xfrm>
            <a:off x="165240" y="907920"/>
            <a:ext cx="89056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Схема 1" descr=""/>
          <p:cNvPicPr/>
          <p:nvPr/>
        </p:nvPicPr>
        <p:blipFill>
          <a:blip r:embed="rId1"/>
          <a:stretch/>
        </p:blipFill>
        <p:spPr>
          <a:xfrm>
            <a:off x="-36360" y="476280"/>
            <a:ext cx="95518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Объект 3" descr=""/>
          <p:cNvPicPr/>
          <p:nvPr/>
        </p:nvPicPr>
        <p:blipFill>
          <a:blip r:embed="rId1"/>
          <a:stretch/>
        </p:blipFill>
        <p:spPr>
          <a:xfrm>
            <a:off x="596880" y="622440"/>
            <a:ext cx="825516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Схема 3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3757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Схема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778960" cy="338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1:02Z</dcterms:modified>
  <cp:revision>62</cp:revision>
  <dc:subject/>
  <dc:title>PowerPoint Presentation</dc:title>
</cp:coreProperties>
</file>