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FCD3-997A-497F-BCEC-1281BD7ED8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71B-42E7-406C-A0A9-418DAD09F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513F-305D-4139-9E4B-8256ECDC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8566-C121-4E00-8DC1-FB27416A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13479-918B-49B5-B4F3-3213A88D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E0734-DBD3-4AF5-A143-C7C102C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91766-5EDC-4278-A0CF-129B335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84F3D-0B5C-40ED-8969-EEBB86D4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FC08C3-411E-4A0F-8D8B-E89BC05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D35C9-B9D9-47D4-9F61-ADBCC27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E307B-4B0A-476F-899E-EE60561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959FD-AB38-426F-9896-8C8919E2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AD9175-B639-4CA1-817B-71F6D5C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909FA9-5216-42EA-BCD2-26E4F0A2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3267-8546-4BE2-A0F5-012F303B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AA0E5C-169A-40E2-8EED-67559FA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ED42F-2300-4C4E-9401-2EE96EE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263DF0-3CAA-4493-A113-01BB19A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8DAEA-13F8-4B9A-9819-3B32B79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5D6003-C282-4910-B1B6-0DEF3614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BD320-541C-4BF5-9C81-484A4A9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D324B2-D721-4E6F-BB23-51CD266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488C01-F630-4C88-B9A3-C62A6B9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9A6C9C-0A25-4D52-87EA-2EEC263B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C60A25-3680-45EF-B27A-00365C5E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BEA0-A495-4277-8CB7-4BD386B3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9A90AD-D784-4195-8CE4-45C601BC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772F47-4BE6-423E-89D8-34D187B3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A55C2-3C22-4271-A9DF-0EF96203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1E33A0-63CC-4B6B-ACFB-B703343F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C84748-6BBA-4B8F-8416-69F1351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741E9-C58B-462D-8F95-4863250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71B496-E148-4B84-B075-567792B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A94A51-36A9-42E6-9234-BB0EACF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6D1484-4568-4196-8A61-CB4A004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B733E-EDE3-44D2-84E6-1642F6D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E26-D103-4DAD-B199-C013CB32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D71B77-0EA6-4483-926A-C9B97BB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F797BE-6582-4ECF-A8B7-5C518416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EAD155-FC78-4064-A1BE-21B82EF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9B9D2D-4F58-4F0E-9DA9-82D5AFA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7CAC16-CD08-4CBE-A72E-680E4ED0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47AE76-B59B-4EC4-AC4C-207C5C6B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D8C97F-8A42-47DD-8DB2-19860DB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177B40-C8FD-4F8A-9FC6-E1A727B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DEC371-D792-4948-90B7-86CD489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B6409-D896-46E8-AF0E-2C9C2B0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B178-E43F-4386-825D-9AAA160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4FA35C-1460-470C-914B-649A65D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846D5F-7003-4081-AAFE-A3E05C4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A195C1-D405-4E38-95FF-6CEFFF5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217E55-5FAD-4B37-9E17-1BECC681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EB4881-990B-4726-A05E-C64A05CE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D0653-B54E-414A-A17D-CF9A2F3C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3A71E-BD1C-44C3-85F2-A9D8695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C4D6AB-CEAC-442B-B507-C39506C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C3027D-01F9-44CC-839E-33AAE39D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E9CFF-73D9-4637-A5DF-7840C8F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0F8-16AB-48CF-84A7-9B038E01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F6A18-80AF-4F50-B423-E743222C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3AE8B2-6986-4DF4-8F56-619DF28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DFB7B7-82ED-4A69-9A6B-FA2DC86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8802D4-C3D3-44A5-BF9C-8B281E1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6A7E6-FB9F-4082-A475-686E1D1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A53952-8DCC-44F3-BC6A-D34CFE05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81B872-7240-4F96-B8C5-E083340D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6B224F-37D7-4C32-9BA4-91E2EA9C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DDA47A-457C-4D43-9382-1545339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75D5E6-27A7-415E-8438-68B19FB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4161-293D-42E7-845A-2AAC66B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8A2B8-03A3-45DB-BB7F-80BBEED8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D668F7-461A-4220-A69B-A417786D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33A56E-637B-4AD1-BCDE-02EF31BC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4C00B2-0733-4E1C-B9A2-ACC456F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8662E8-4B04-40E8-B619-EDC0CDC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FB4591-9D99-4871-A492-DEF5509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0717B1-2257-4F91-A6CF-567F37AE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D83DC9-E4E9-4C3F-8CBD-60C560B6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62FC57-E191-4012-B3F7-48C3E631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2A8-BF3A-4718-8E52-1C31113A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CAF9-51D0-40C1-81F5-345978D8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327-0305-49B5-AC06-0E5AF2C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6D70-0D72-40FF-A539-A3FBC94E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09C-908F-48F9-81D0-BED9330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0C06-34D0-465D-81EE-4EF8962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87A-539F-4C56-9477-7C30E9D7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3DE-F57C-4EF5-A889-9F31C4AA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505-6BDD-4E9C-A6C5-9DB4991C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6EDFB-C421-41F5-BDFC-2B09248B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F4967-A5D2-4E31-834A-1FD7A44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2BF0A-DCF7-4DDD-BFEC-F623ECC3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80947-BFC4-4224-A2F3-213C9F08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E9755-015F-4A0A-AD36-247137E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98E4-54D4-4502-8B85-3C8CBCF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4E544-26AE-48AE-98C4-828E0C6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FE3B7-BB98-470F-A2F8-8CAB6DB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20B7D-8857-4BFC-9554-7B3DBCFF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25883-C82C-49FD-87FB-A8DD314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AE7D1-B781-4C2E-A764-192C4BA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831F6-167A-4DE2-84DB-5D723E65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B0192-F0AD-43E4-B01C-97B88BEB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D6C8E-5A93-4CA6-A180-567F975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B1275-EF39-4BB8-B8E4-41322EA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93BC4-FADB-49D7-BF5E-CBAE15B2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045E-7E29-4703-BC9F-65477589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1EE3B-22CF-41F5-98C6-D2B0D3C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2EA47-DB7D-4AD7-903D-89AE192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18064-C723-4043-A6A3-B884E44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FD866-2528-45A3-ABC2-A7055AD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BBA49-F421-4775-877D-49DD71A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5C324-91C2-448F-9BF4-7325F77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40A38-9B99-405D-9D9C-BAA99AA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130B8-4B3A-46DF-9F82-A000E9CA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4C1F3-D3C2-4166-906A-CC9B294C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97B2B-3547-45D9-8724-DCCED21B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67A8-EF68-4F80-8AA3-79D2B5A3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73E23-9F7F-489E-BE61-FAA3639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AD70F-CC90-45BB-A615-40DF30D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EF215-0927-416E-A502-B3E0A0C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70570-80CC-4120-9F0D-4E7BBDC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BCB61-D1DD-48A2-879D-A97A757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09806-3674-40E1-9C16-7943C9DF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4FE3B-49D0-4187-8FAF-420B73B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60174-2C87-4F3E-9ADB-A28F657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CA528-65EE-4C3A-BA2D-E950A7B2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ECB81-2202-4501-9924-67FC47FC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89CB-33A2-46AC-A86D-5319D7C5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0074C-5755-4F10-822F-49E4617F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0BD9B-4A4D-497B-9EF2-DE6FA545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71AB6-F33C-4268-BD19-B20DB76A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71934-7914-4F86-915D-FAA142C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7EE4A-6F7F-4887-B50A-CB06016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0E705-EA2B-4A41-85F3-FD32BA6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BFA90-D141-4B04-9F7F-5FF2DB3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356E2-B246-4976-B76A-D55393C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4E298-9AB8-4DE5-A35A-0102EA9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62DDA-4CD4-4599-BAFD-06A2524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3CBB-79E3-4ED3-95EA-19C9806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83373-21F6-485B-8562-A0A09BB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65203-D253-4053-BDE0-37D06903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341F1-365B-4142-9F37-7AA8E2A0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F9350-9171-440E-82D9-00299357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3DC84-EA4A-4599-AD8D-69A909BD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C1108-41A6-4955-82DD-7F98B5C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12430-02CD-4214-B54E-AB0FE09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FAD5B-5686-4F2D-B6A8-0D99EF1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A91F4-69BB-4949-9FE2-A069B8A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2BCFB-5A7F-49EC-96BA-99117D1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9488-3E4C-4A5E-85FD-F548F84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3FA26-ED46-4A28-9E48-582CD4E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3A91A-010F-4D37-89BD-F9169C9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1DB8A-7C8E-4823-A1B6-7F584204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D7575-C20F-44CF-9BF7-B092BEEC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4ABCE-FDB1-45AF-ABB3-BA4905B9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6911D-0599-4D59-B529-2DFE1160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EF0ABD-6083-4EDA-B90B-6CB1AB75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584F2-14AB-4E4F-976C-FF2C146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40067-F228-40A6-B699-31748F94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1EF6F-CD51-4CCA-B97B-4DAFB501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3B7E-CD8A-4D53-888E-1327763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B2BED-61C2-4ABA-96CA-DD21D9C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BCAAE-B1C2-4544-A9E2-F0B6DE6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CC94E-A1B9-4437-9A42-A9D0DCE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9BA91-CC06-407F-BA25-0ED0A25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12F00-1FE1-4BCF-9D99-21198EE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40129-E0FE-4532-B2C6-D28C5A24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0A302-335C-40F4-AB56-A67489EC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840FD-34A3-4910-8291-CFA902C7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AA3CC-F02B-4FFA-93A1-8E732AA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DBEA0-0890-4233-9C2E-C129C6B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C82-B8A6-45FD-B0D3-D00EFCBFD8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3FE-7C26-41B0-83A4-59ABF48294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9085-71BE-4AE2-852F-77934CFD2C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03D-9E6C-4C30-B62A-C13F39CA53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E4E-11CC-487B-AA3A-DA496D223A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1CD-7B59-4059-8E17-3675DB20AA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FF7-5336-46B2-A697-8CA095FF48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40D-2B8B-40F4-8A8A-45CDA8ACA3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9E4-EA4C-4A0F-9106-E461915511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FAFF-9A1D-47D6-8277-9E64F70CA8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D83-A2B5-4D0C-ABD1-3949701C0F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904-259C-42C6-B730-5AD3D3B5AA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DDDA-E9AA-4100-91AA-1AAFBF22F8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30F-380B-4CFC-A554-464C6EBE6B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347920" y="2060640"/>
            <a:ext cx="67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Терминология в области физической культуры и спо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тандартные размеры п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) составляют для игр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аскетбол: д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–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, ширина – 1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олейбо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длина – 18м, ширина – 9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Гандбо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лина – 40м, ширина – 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бол: длина 100-110м, ширина – 64-7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зал: длина 24-36м, ширина 14-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соответствии с правилами соревнований предусмотрены размер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, сантиметрах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баскетбольного кольца: 30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волейбольной сетки: для мужчин 243см, для женщин 22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гандбольных ворот: 3х2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футбольных ворот: 7,32х 2,44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79280" y="76464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ценка поля как «слабое» или «сильное» использу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шахма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й целью шахматной игры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полей на шахматной доске, образующих линию, параллельную нижнему и верхнему краям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ий приём в шахматах (шашках), цель которого посредством жертв или угроз заставить фигуру (шашку) соперника занять невыгодную для неё позицию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ся ка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леч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яд полей на шахматной доске, образующих линию, параллельную нижнему и верхнему краям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вертик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годы, полученные в шахматной партии ценой уступок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пменс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ожет быть материальной или позиционной, достаточной или недостаточ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шахматах и шашках – печатное или рисованное изображение доски с фигурами или без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диа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тадия шахматной и шашечной партии, во время которой соперники развивают фигуры (шашки) из исходного положения так, чтобы придать желаемый характер дальнейшему течению игры, обозначается,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б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охождение дистанции группой спортсменов, выделенных из общего числа участников путём жере­бьёвки или по предварительным данным и стартующих одновременно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за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ег, гонки на лыжах, велосипедах, мотоциклах, автомобилях, лошадях по пересечённой местности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ро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есколько упражнений, подобранных в определённом порядке для решения конкретной задачи в процессе физического воспитания, обозначаются 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мпл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человеческой деятельности, заключающийся в воспроизведении детьми действий взрослых, а также взрослыми – содержания профессиональной деятельности с её совершенствования и моделирования взаимоотношений между людьми,       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лиц, участвующих в спортивных соревнованиях, объединенных принадлежностью к одному спортивному коллективу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Calibri"/>
              <a:buAutoNum type="arabicPeriod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50560" y="76464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являющиеся основой для присвоения спортивных разрядов содержатся в документе, обозначаемом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портивная классифик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е движение тела относительно оси вращения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ихся на согнутых ногах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се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 на снаряде, при котором его плечи находятся ниже точек хвата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переход из упора в вис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а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виса в упор или из более низкого положения в высокое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ъ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изических упражнений, связанных с выполнением вращений тела в разных плоскостях с опорой и без опоры и сохранением равновесия одним спортсменом, вдвоём или группами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робатик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ог над снарядом в гимнастик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, при котором согнутые в коленях ноги подтянуты руками к груди и кисти захватывают колени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иров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, при котором линия плечевого пояса спортсмена проходит выше точек хвата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жно-координационных видах спорта - последовательное сочетание элементов в композиционно оправданном порядке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а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3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Объект 3" descr=""/>
          <p:cNvPicPr/>
          <p:nvPr/>
        </p:nvPicPr>
        <p:blipFill>
          <a:blip r:embed="rId1"/>
          <a:stretch/>
        </p:blipFill>
        <p:spPr>
          <a:xfrm>
            <a:off x="85680" y="762120"/>
            <a:ext cx="9070920" cy="56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Объект 3" descr=""/>
          <p:cNvPicPr/>
          <p:nvPr/>
        </p:nvPicPr>
        <p:blipFill>
          <a:blip r:embed="rId1"/>
          <a:stretch/>
        </p:blipFill>
        <p:spPr>
          <a:xfrm>
            <a:off x="73080" y="324000"/>
            <a:ext cx="890568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ик 6"/>
          <p:cNvSpPr/>
          <p:nvPr/>
        </p:nvSpPr>
        <p:spPr>
          <a:xfrm>
            <a:off x="190800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Схема 1" descr=""/>
          <p:cNvPicPr/>
          <p:nvPr/>
        </p:nvPicPr>
        <p:blipFill>
          <a:blip r:embed="rId1"/>
          <a:stretch/>
        </p:blipFill>
        <p:spPr>
          <a:xfrm>
            <a:off x="360360" y="749160"/>
            <a:ext cx="8472600" cy="54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Прямоугольник 2"/>
          <p:cNvSpPr/>
          <p:nvPr/>
        </p:nvSpPr>
        <p:spPr>
          <a:xfrm>
            <a:off x="539640" y="1052640"/>
            <a:ext cx="806472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хема 5" descr=""/>
          <p:cNvPicPr/>
          <p:nvPr/>
        </p:nvPicPr>
        <p:blipFill>
          <a:blip r:embed="rId1"/>
          <a:stretch/>
        </p:blipFill>
        <p:spPr>
          <a:xfrm>
            <a:off x="165240" y="907920"/>
            <a:ext cx="89056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Схема 1" descr=""/>
          <p:cNvPicPr/>
          <p:nvPr/>
        </p:nvPicPr>
        <p:blipFill>
          <a:blip r:embed="rId1"/>
          <a:stretch/>
        </p:blipFill>
        <p:spPr>
          <a:xfrm>
            <a:off x="-36360" y="476280"/>
            <a:ext cx="95518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Объект 3" descr=""/>
          <p:cNvPicPr/>
          <p:nvPr/>
        </p:nvPicPr>
        <p:blipFill>
          <a:blip r:embed="rId1"/>
          <a:stretch/>
        </p:blipFill>
        <p:spPr>
          <a:xfrm>
            <a:off x="596880" y="622440"/>
            <a:ext cx="825516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Схема 3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3757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Схема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778960" cy="338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1:02Z</dcterms:modified>
  <cp:revision>62</cp:revision>
  <dc:subject/>
  <dc:title>PowerPoint Presentation</dc:title>
</cp:coreProperties>
</file>