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ED15-A828-440F-BE4F-98CB2650CE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A34F1-55C3-4148-90DC-4D869603FF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40344-624E-456D-A5F8-8FAD9C1FF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3D4AC-B855-44A7-A4E7-FE5C41E9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6AA110-E1F6-44C5-8C92-DE0EBEA54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4768C42-89F4-40BE-B555-FA1F5D5A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6D3844-8D16-45A9-81CD-8DA03C6A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5A6461-C0B4-44E5-BD0D-1AD269CE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762C36-6B95-44BF-BFA0-99A24732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4E1F609-48B3-4345-A0F3-DD70F2FD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E06D4E4-DB2A-4BAC-A88B-E81CA952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7D1A32-CAAE-4992-91A5-75C907DEF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CFE3950-8CE4-4ED3-92B1-6F29F8D8D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4057734-A58B-455D-BEB0-C24713DE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C498C-6EF2-45F2-AA09-37AB5763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39A702-2C94-4FC6-9930-1961ABE4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C0C84A-697F-4812-8BCE-1154620D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143D79-3A5C-455F-B3DA-17039F15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F652799-AE16-4D7C-A26C-413FF41B4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B7CF262-4C6F-446E-8786-7CC6124AB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C029979-4C35-404A-848E-92156EF9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1DFFE00-1594-4BD3-B6D9-0CC40634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C03ED0C-62D1-4BA4-87AC-AAE0FE2A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AFFD9D-FB5A-41D6-8EC3-327ECAFF8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095E3C-748C-488C-9771-79B71E00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59837-75C8-4300-911F-10FF83F93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A402729-1744-4713-8A35-684A0722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4F3D5CF-35B3-4145-88ED-10BA9C14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12B45E-756F-48D9-9639-B6C882D75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DE5E91A-470B-4C82-9C5F-B2B35C60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F4348B4-E46F-4BA8-89F7-B68A5E20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0A08A30-1FDD-4527-A3FC-1CC1303D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CDDA88-ECDB-43FD-A5C7-8665CC15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27F544-009C-47C5-8EDD-8A946E35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D98C03-2AD5-412E-9BF8-69A3A53D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92F62B-0500-40B2-BD6A-0210C3D3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F3519-9338-4DE5-B82E-D92B1EAD0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57182B2-C0B9-44E8-9FC6-43B3BA35C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FB390C0-A632-4000-ABFB-92F252CB8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CD1167D-93DE-4542-B7E1-0F09CC288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CDD2E93-4C0C-4061-97B6-2F1D87A18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81F9B97-A47B-4091-9EC4-8C6F4FD1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898E48F-BC43-4F1D-BF32-314DDBDE2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9D742DD-1216-46C0-AA57-FED9125C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BA2CE98-C01A-4FA2-93C8-A47F4E24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4B883B-8EDA-4440-9B10-DD19C0C7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9F371C3-7767-4668-97FE-9BFA73E1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B609-7310-468A-B70F-CC5C06D89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658607-676B-43A7-B912-BD8B90336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2A1391-1127-4B0D-9241-9938BED4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42777FC-23A5-435D-99CE-AFB545D50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3FEA93-962D-4634-BD78-A4B31DD4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C54DFD7-2D67-49C3-A064-91105AD73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09DB5AC-2B2B-4ADC-B74C-B22823F04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62F837A-A337-4BAE-9CA7-167D5AFE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85DEE4E-AD59-4BD4-9532-755647A16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9310D50-F8F9-4F81-8CBC-A9EB6674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4D49A7-DC22-4743-BBD9-35113440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C5AA-0B62-4E19-8518-42AC1F7D6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9D1ACC0-D6CC-46A0-97CC-2E1698348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6E85B6D-916F-4B83-98DD-95C6D589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8D7A340-3CF6-4FF1-AE97-7DEAD0C5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AE10E1E-569C-4028-9F84-0DD9C082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1502BF3C-24A9-422A-8A07-39C24ABC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41DDCB4-6E64-4139-8C9D-A43E7237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504F83F-B093-4DE4-89BA-96C00FB4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483AA81-6850-4F6D-BBC9-9922B37A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C1844DD-1DAD-4BF4-B0EC-04F18ACC8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E78609B-1E83-4DD6-A6A0-094668E7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63087-70F0-4B8B-B0FB-7764B71D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5938CC0-FF99-4483-9F20-64AB0D57F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32B9788-3574-45DB-8FD2-4E3E4D640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D5D9541-E331-4529-BFDF-2ADEB8927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D6350CD-494B-48AA-ADF9-00760121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43A0BAB-60BE-4405-AC4B-13981DD4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C417FAA-CD2E-44A2-9386-2984D92D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5DE921-4307-472B-8F7A-95A7D7A47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CDA8E3FE-14F8-401C-AA55-8FCF2632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6B0859-A834-4DFE-9B4A-C442F0F99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77BF-DD4D-4E9A-948D-77125E99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B8F99-E198-4FA8-ABB5-A3354D16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44A5-CFDA-490E-85AA-DE43423F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08F20-D7F1-4188-960F-B93DEB3CC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8289-D85C-452F-B582-9559B9C1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37271-87CB-41D2-A120-DED44F25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F847-ECB4-42B6-9BF8-9BF4BC1D1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96EF-0688-4C01-B90E-D58F6242E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8AA7A-31E7-4622-9D54-2CAB31A8D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83BE3-FEA9-4224-A7FC-7FD33733D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9546A5-E3CE-468C-9936-C5C3F8AF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B454C6-DB2E-4779-A8E1-398A5EBF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7DF03E-FCBE-4419-B4A9-3A6ED2E6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79CCB-1406-49F2-B91A-BA5CFCB08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512CD-2435-4007-9C2F-F1510ED0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4F738-7B60-499F-902A-02F33C797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31D3B2-FAC5-40A7-92CB-7E6C7C46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053AA6-45DB-4CE6-9C2A-942B95EF5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3FC47-4B80-40B5-86CB-E8F4FF7D9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40423C-38A4-45D2-96EA-025DCD48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F651C0-8ACA-4887-8B3A-1F6EAB74C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4C96C7-AF8B-410C-B966-F3C9B36E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5DC37D-9CDF-4F51-85B5-116DFA509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35FFAC4-BB2E-4B84-A81A-A33D2979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3FA05-E576-4ECA-8311-56053162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170C3-3689-4A38-B203-7DA836AF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F1BF61-763B-44E1-BC95-9124DF97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18F1E9-427C-4B57-BD49-A92A152A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DF16DD-26DE-493F-9F4D-C77A0E8A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0A727-B4FF-41F3-BB47-07A5459D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4FF5C4-6904-42E8-8C7F-9DC7D61C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8376D2-9137-4339-92A6-B0BAF13A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A3902B-D91B-4AC1-90CF-70C52343F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312E40-6176-472D-8D01-403C08C4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B39F8A-1118-41A7-8DBA-D0A960FF2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FC01A03-559B-40D3-8762-51109A9F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90F8-7374-41DC-B5EB-ED612ED1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5B2680-B8AA-419E-84A6-BBFBB199B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35BC0A-70AB-4F0F-979F-5000363F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408124-3272-450B-8E0F-1D4A7035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F5F728-178C-4EA4-AB76-820A14F0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C61EC8-CA2A-47A6-ACF6-27A1FABFD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07A38D-ACFC-4C61-91F1-059D0572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56DD80-5A80-495D-92DF-8FBEC1EE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29D564-2FD8-489A-88F1-4E7BD8B6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40B19A-1137-45F2-80D1-582981F9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38663B-08E5-4F17-8A5D-372B376E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D2DC4-0692-44A9-94D7-C7E19B167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9D9570-704E-4556-AA7A-A794BE90B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940341-18E3-49C3-9ED5-A14E0D2E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6ECB8D-BC68-47D5-81C8-89DC98CC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632AEC-5905-4CD8-B89B-1123A13EF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F8BC18-544F-4354-9AAF-F5BF56CBD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CAE0FC-BD5B-4DA1-A83A-691263216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2F8EB8-9173-4308-A043-4BB1E999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B801FFE-0905-4494-B2FF-52595E40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CE2B51-BAE8-4F20-AB92-C089B262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9D3DC52-10F6-4F0C-BA54-B77A912D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23EC3-543D-4CFB-96B3-6FD3F0EF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8E23F5-842F-4451-B240-3EEE0DF2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26CAA6-77FF-4E1D-B3F3-A6EA09285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E320A8-4E9A-4DB8-AA8E-7DABEC907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564C45-1582-4A3E-82FD-1E3324D73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E33021-A566-4B54-8C56-06707FB1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E61613-F41D-4110-84FF-9879160B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95F460-72A5-422C-898A-86C43572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7921EA-6BF4-47CE-B488-455B0D65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F3426F-FAC1-4B0F-BDD0-0443973C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15BDA8-2614-41E2-9F36-86647231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0247F-6B64-4AF6-B531-DD80C7864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DFD08C-3B9E-4E3C-AD10-CCE2228C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5EDFF1-EAB1-41FC-8A39-61CDDC5F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DDFBE1-8685-47E5-8F23-2EACB1EEF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4B1E25-E121-49AA-A100-84A9FFC0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B56D41-18FC-4406-B85D-7477664F0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F41705F-EDD8-468C-9F9C-6F64FEAA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3380EC1-286F-4F58-B590-927F53EC9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EDD8D1-56AB-4AB4-8A78-424496D20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3FA8AB-1BF3-400F-9341-4CC624E9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0DA7DC-10B2-418E-8198-A203A98C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F1ABE-80C4-4713-9333-93D5992D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CF08525-E877-4420-B7D3-C2449C9B7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4EC199-66F1-4679-B214-2A9D8CDA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D3E0785-43A4-4CF1-B2AD-E998C670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1E80EE-2334-45A4-A103-F7C0F238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B52DD95-3C6F-4673-8420-3A3DACDEB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14A891-3B2B-4EAF-AFCA-5553678F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58AB85-300B-4884-855A-2D3D067D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6117E7-E15F-482B-89AC-C09ADD5D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37C7F3-888D-4D68-BEB7-C41ED4272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FD8BFD-BE2A-4472-AA89-B5662B9BB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5F92-A1D1-4199-9CD4-ABAAAA07F7B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3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64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65AA-83E2-4394-8129-1A0671F9BC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4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15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C8AC6-B159-4079-B3E7-9460380E72C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5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66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1FE39-BB35-4B99-9914-A8B6FCE768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1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A0AB-8AB5-404A-A568-B8E683F931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6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0CB2-3E2A-4964-B47C-D2114EE31D4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4DE2-612E-422A-869A-CB8D10DEA5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B599-02DB-4584-8B3F-8214240658F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8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02CD-3876-425B-9102-5AEBA315706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9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7C0B-4E20-4F37-96DD-957AED9FFC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0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6496-FC47-47E8-96D2-B2E058EC65F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11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BD82D-9298-428B-B885-D2752BEC5D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6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AF39-865A-449A-A8EC-61900287424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1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12C9-CF41-43AB-9D7E-C2FEEFCB816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2347920" y="2060640"/>
            <a:ext cx="67960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 CYR"/>
                <a:ea typeface="Times New Roman"/>
              </a:rPr>
              <a:t>Терминология в области физической культуры и спор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358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Стандартные размеры полей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в метрах) составляют для игры 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Баскетбол: дли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– 28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м, ширина – 15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олейбол: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длина – 18м, ширина – 9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Гандбол: </a:t>
            </a: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длина – 40м, ширина – 20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Футбол: длина 100-110м, ширина – 64-75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Футзал: длина 24-36м, ширина 14-20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 соответствии с правилами соревнований предусмотрены размеры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(в метрах, сантиметрах)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ысота баскетбольного кольца: 305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ысота волейбольной сетки: для мужчин 243см, для женщин 224с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Размеры гандбольных ворот: 3х2 для мужчин, для женщ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Размеры футбольных ворот: 7,32х 2,44 для мужчин, для женщ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2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в открытой форме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179280" y="764640"/>
            <a:ext cx="8964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Оценка поля как «слабое» или «сильное» используется </a:t>
            </a:r>
            <a:r>
              <a:rPr b="1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шахмат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й целью шахматной игры явля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т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яд полей на шахматной доске, образующих линию, параллельную нижнему и верхнему краям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агональ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тический приём в шахматах (шашках), цель которого посредством жертв или угроз заставить фигуру (шашку) соперника занять невыгодную для неё позицию,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ается ка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лечение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Ряд полей на шахматной доске, образующих линию, параллельную нижнему и верхнему краям, обозначаю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вертикал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ыгоды, полученные в шахматной партии ценой уступок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копменсац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Может быть материальной или позиционной, достаточной или недостаточ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В шахматах и шашках – печатное или рисованное изображение доски с фигурами или без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диаграм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ьная стадия шахматной и шашечной партии, во время которой соперники развивают фигуры (шашки) из исходного положения так, чтобы придать желаемый характер дальнейшему течению игры, обозначается,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еб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1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spcAft>
                <a:spcPts val="1001"/>
              </a:spcAft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в открытой форме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468360" y="105264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Прохождение дистанции группой спортсменов, выделенных из общего числа участников путём жере­бьёвки или по предварительным данным и стартующих одновременно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забе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Бег, гонки на лыжах, велосипедах, мотоциклах, автомобилях, лошадях по пересечённой местности, обозначаю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крос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Несколько упражнений, подобранных в определённом порядке для решения конкретной задачи в процессе физического воспитания, обозначаются 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 CYR"/>
                <a:ea typeface="Times New Roman"/>
              </a:rPr>
              <a:t>комплек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 человеческой деятельности, заключающийся в воспроизведении детьми действий взрослых, а также взрослыми – содержания профессиональной деятельности с её совершенствования и моделирования взаимоотношений между людьми,       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г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па лиц, участвующих в спортивных соревнованиях, объединенных принадлежностью к одному спортивному коллективу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ан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Calibri"/>
              <a:buAutoNum type="arabicPeriod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387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в открытой форме</a:t>
            </a:r>
            <a:br>
              <a:rPr sz="3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250560" y="764640"/>
            <a:ext cx="8713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тивы являющиеся основой для присвоения спортивных разрядов содержатся в документе, обозначаемом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«спортивная классификац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бодное движение тела относительно оси вращения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занимающихся на согнутых ногах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се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занимающегося на снаряде, при котором его плечи находятся ниже точек хвата, в гимнастике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стрый переход из упора в вис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па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 из виса в упор или из более низкого положения в высокое в гимнастике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ъем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физических упражнений, связанных с выполнением вращений тела в разных плоскостях с опорой и без опоры и сохранением равновесия одним спортсменом, вдвоём или группами,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кробатикой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ение ног над снарядом в гимнастике называется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еремах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 занимающегося, при котором согнутые в коленях ноги подтянуты руками к груди и кисти захватывают колени, в гимнастике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руппиров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ение, при котором линия плечевого пояса спортсмена проходит выше точек хвата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пор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ожно-координационных видах спорта - последовательное сочетание элементов в композиционно оправданном порядке, обозначается ка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мбинация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lnSpc>
                <a:spcPct val="100000"/>
              </a:lnSpc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spcBef>
                <a:spcPts val="45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 algn="just"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3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Объект 3" descr=""/>
          <p:cNvPicPr/>
          <p:nvPr/>
        </p:nvPicPr>
        <p:blipFill>
          <a:blip r:embed="rId1"/>
          <a:stretch/>
        </p:blipFill>
        <p:spPr>
          <a:xfrm>
            <a:off x="85680" y="762120"/>
            <a:ext cx="9070920" cy="569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Объект 3" descr=""/>
          <p:cNvPicPr/>
          <p:nvPr/>
        </p:nvPicPr>
        <p:blipFill>
          <a:blip r:embed="rId1"/>
          <a:stretch/>
        </p:blipFill>
        <p:spPr>
          <a:xfrm>
            <a:off x="73080" y="324000"/>
            <a:ext cx="8905680" cy="63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Прямоугольник 6"/>
          <p:cNvSpPr/>
          <p:nvPr/>
        </p:nvSpPr>
        <p:spPr>
          <a:xfrm>
            <a:off x="1908000" y="5661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Схема 1" descr=""/>
          <p:cNvPicPr/>
          <p:nvPr/>
        </p:nvPicPr>
        <p:blipFill>
          <a:blip r:embed="rId1"/>
          <a:stretch/>
        </p:blipFill>
        <p:spPr>
          <a:xfrm>
            <a:off x="360360" y="749160"/>
            <a:ext cx="8472600" cy="541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Прямоугольник 2"/>
          <p:cNvSpPr/>
          <p:nvPr/>
        </p:nvSpPr>
        <p:spPr>
          <a:xfrm>
            <a:off x="539640" y="1052640"/>
            <a:ext cx="8064720" cy="3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 CYR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Схема 5" descr=""/>
          <p:cNvPicPr/>
          <p:nvPr/>
        </p:nvPicPr>
        <p:blipFill>
          <a:blip r:embed="rId1"/>
          <a:stretch/>
        </p:blipFill>
        <p:spPr>
          <a:xfrm>
            <a:off x="165240" y="907920"/>
            <a:ext cx="8905680" cy="489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Схема 1" descr=""/>
          <p:cNvPicPr/>
          <p:nvPr/>
        </p:nvPicPr>
        <p:blipFill>
          <a:blip r:embed="rId1"/>
          <a:stretch/>
        </p:blipFill>
        <p:spPr>
          <a:xfrm>
            <a:off x="-36360" y="476280"/>
            <a:ext cx="9551880" cy="57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3" name="Объект 3" descr=""/>
          <p:cNvPicPr/>
          <p:nvPr/>
        </p:nvPicPr>
        <p:blipFill>
          <a:blip r:embed="rId1"/>
          <a:stretch/>
        </p:blipFill>
        <p:spPr>
          <a:xfrm>
            <a:off x="596880" y="622440"/>
            <a:ext cx="8255160" cy="50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Схема 3" descr=""/>
          <p:cNvPicPr/>
          <p:nvPr/>
        </p:nvPicPr>
        <p:blipFill>
          <a:blip r:embed="rId1"/>
          <a:stretch/>
        </p:blipFill>
        <p:spPr>
          <a:xfrm>
            <a:off x="457200" y="695160"/>
            <a:ext cx="837576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5" name="Схема 3" descr=""/>
          <p:cNvPicPr/>
          <p:nvPr/>
        </p:nvPicPr>
        <p:blipFill>
          <a:blip r:embed="rId1"/>
          <a:stretch/>
        </p:blipFill>
        <p:spPr>
          <a:xfrm>
            <a:off x="285840" y="695160"/>
            <a:ext cx="8778960" cy="3383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я Ю. Бахилина</cp:lastModifiedBy>
  <dcterms:modified xsi:type="dcterms:W3CDTF">2014-10-13T03:11:02Z</dcterms:modified>
  <cp:revision>62</cp:revision>
  <dc:subject/>
  <dc:title>PowerPoint Presentation</dc:title>
</cp:coreProperties>
</file>