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191-DF25-445F-B00F-9629F0CD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D0C-2650-45D2-B805-97837343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CE3-1D08-4CA5-A499-6369E84E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284-26D4-44EE-ABED-750CF6CD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285-BB7A-490C-9B86-9030BB67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E4D-C677-42DB-9A3F-011D1E3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241-87D7-4C51-A81B-85332532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C9A-878D-4B99-8454-9F4CE336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F84-3AD6-491E-ABEA-A83694D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330-3C12-4E7D-9653-3A55FD6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28C-0CC0-4822-9BA5-3D6F8D0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DFF-3FAD-4D70-B7E5-FBA05B0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905-1865-4427-A21B-C00A06F8BF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image" Target="../media/image1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5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5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2965" t="13093" r="9870" b="0"/>
          <a:stretch/>
        </p:blipFill>
        <p:spPr>
          <a:xfrm>
            <a:off x="0" y="0"/>
            <a:ext cx="4214880" cy="292248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4138560" y="128520"/>
            <a:ext cx="5011920" cy="27972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3"/>
          <a:stretch/>
        </p:blipFill>
        <p:spPr>
          <a:xfrm>
            <a:off x="208080" y="2919240"/>
            <a:ext cx="8820000" cy="37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4200" y="1356840"/>
            <a:ext cx="87868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«Для будущих и уже работающих учителей и всех, кто имеет отношение к образованию, было бы очень полезно определить меру своего понимания других, отличающихся от них самих»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Важно осознавать влияние своего поведения на поведение обучающихс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Агрессивность личности влияет на социальное поведение, способствует проявлению соперничества, конфронтации в отношениях и конфликтов с окружающими людьм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ff"/>
                </a:solidFill>
                <a:latin typeface="Impact"/>
              </a:rPr>
              <a:t>Родители учеников так же должны это понима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2929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9" descr=""/>
          <p:cNvPicPr/>
          <p:nvPr/>
        </p:nvPicPr>
        <p:blipFill>
          <a:blip r:embed="rId2"/>
          <a:stretch/>
        </p:blipFill>
        <p:spPr>
          <a:xfrm>
            <a:off x="2189160" y="384120"/>
            <a:ext cx="696132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14520" y="-360"/>
            <a:ext cx="446076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f"/>
                </a:solidFill>
                <a:latin typeface="Impact"/>
              </a:rPr>
              <a:t>Государственное бюджетное образовательное учреждение средняя общеобразовательная </a:t>
            </a:r>
            <a:br>
              <a:rPr sz="2400"/>
            </a:br>
            <a:r>
              <a:rPr b="0" lang="ru-RU" sz="4400" spc="-1" strike="noStrike">
                <a:solidFill>
                  <a:srgbClr val="00006f"/>
                </a:solidFill>
                <a:latin typeface="Impact"/>
              </a:rPr>
              <a:t>школа № 386 </a:t>
            </a:r>
            <a:br>
              <a:rPr sz="4400"/>
            </a:br>
            <a:r>
              <a:rPr b="0" lang="ru-RU" sz="2400" spc="-1" strike="noStrike">
                <a:solidFill>
                  <a:srgbClr val="00006f"/>
                </a:solidFill>
                <a:latin typeface="Impact"/>
              </a:rPr>
              <a:t>Кировского района </a:t>
            </a:r>
            <a:br>
              <a:rPr sz="2400"/>
            </a:br>
            <a:r>
              <a:rPr b="0" lang="ru-RU" sz="2400" spc="-1" strike="noStrike">
                <a:solidFill>
                  <a:srgbClr val="00006f"/>
                </a:solidFill>
                <a:latin typeface="Impact"/>
              </a:rPr>
              <a:t>Санкт-Петербурга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3428640"/>
            <a:ext cx="8820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Impact"/>
              </a:rPr>
              <a:t>Спасибо за внимание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rcRect l="2965" t="13093" r="9870" b="0"/>
          <a:stretch/>
        </p:blipFill>
        <p:spPr>
          <a:xfrm>
            <a:off x="0" y="0"/>
            <a:ext cx="3851280" cy="26701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Rectangle 9" descr=""/>
          <p:cNvPicPr/>
          <p:nvPr/>
        </p:nvPicPr>
        <p:blipFill>
          <a:blip r:embed="rId3"/>
          <a:stretch/>
        </p:blipFill>
        <p:spPr>
          <a:xfrm>
            <a:off x="2475000" y="212760"/>
            <a:ext cx="5705280" cy="834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71280" y="1285920"/>
            <a:ext cx="907272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В школе – 540 учеников. Из ни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учете ПДН – 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Семьи, состоящие на учете ПДН – 2; в отделе опеки – 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Причисляющих себя к НФМО не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Дети из семей мигрантов – 28 челов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ВШК – 7 чел. и 4 семь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«Группа риска» (требуют внимания соц. педагога) – 42 ч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Требуют внимания психолога – 16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Line 9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Rectangle 10" descr=""/>
          <p:cNvPicPr/>
          <p:nvPr/>
        </p:nvPicPr>
        <p:blipFill>
          <a:blip r:embed="rId2"/>
          <a:stretch/>
        </p:blipFill>
        <p:spPr>
          <a:xfrm>
            <a:off x="2262240" y="-122400"/>
            <a:ext cx="6710400" cy="14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141560" y="1844640"/>
          <a:ext cx="8002440" cy="2016000"/>
        </p:xfrm>
        <a:graphic>
          <a:graphicData uri="http://schemas.openxmlformats.org/drawingml/2006/table">
            <a:tbl>
              <a:tblPr/>
              <a:tblGrid>
                <a:gridCol w="1485720"/>
                <a:gridCol w="65167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6"/>
          <p:cNvSpPr/>
          <p:nvPr/>
        </p:nvSpPr>
        <p:spPr>
          <a:xfrm>
            <a:off x="324000" y="184464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Диагностически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Аналитико – поисков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Деятельност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Impact"/>
              </a:rPr>
              <a:t>Оценоч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Line 9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Rectangle 10" descr=""/>
          <p:cNvPicPr/>
          <p:nvPr/>
        </p:nvPicPr>
        <p:blipFill>
          <a:blip r:embed="rId2"/>
          <a:stretch/>
        </p:blipFill>
        <p:spPr>
          <a:xfrm>
            <a:off x="2481120" y="212760"/>
            <a:ext cx="5699160" cy="83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141560" y="1844640"/>
          <a:ext cx="8002440" cy="2016000"/>
        </p:xfrm>
        <a:graphic>
          <a:graphicData uri="http://schemas.openxmlformats.org/drawingml/2006/table">
            <a:tbl>
              <a:tblPr/>
              <a:tblGrid>
                <a:gridCol w="1485720"/>
                <a:gridCol w="651672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Rectangle 30" descr=""/>
          <p:cNvPicPr/>
          <p:nvPr/>
        </p:nvPicPr>
        <p:blipFill>
          <a:blip r:embed="rId3"/>
          <a:stretch/>
        </p:blipFill>
        <p:spPr>
          <a:xfrm>
            <a:off x="-36360" y="1225440"/>
            <a:ext cx="9259560" cy="1633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08000" y="2786040"/>
            <a:ext cx="903600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Развитие способности личности к осознанному и активному отношению к жиз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Развитие таких качеств как уважение и требовательность к себе, знание своих потребностей и возможностей, ответственность за свое поведение перед коллективом и семьей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Развитие осознания прав каждого человека вне зависимости от его статуса, культуры или религиозной принадлежност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9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Impact"/>
              </a:rPr>
              <a:t>Воспитание устойчивого нравственно-личностного отношения к своей семье, окружающим людям, к обществу, к Родине, к мир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9" descr=""/>
          <p:cNvPicPr/>
          <p:nvPr/>
        </p:nvPicPr>
        <p:blipFill>
          <a:blip r:embed="rId1"/>
          <a:stretch/>
        </p:blipFill>
        <p:spPr>
          <a:xfrm>
            <a:off x="2475000" y="0"/>
            <a:ext cx="5705280" cy="82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rcRect l="2964" t="13106" r="9881" b="0"/>
          <a:stretch/>
        </p:blipFill>
        <p:spPr>
          <a:xfrm>
            <a:off x="324000" y="189000"/>
            <a:ext cx="1079280" cy="698400"/>
          </a:xfrm>
          <a:prstGeom prst="rect">
            <a:avLst/>
          </a:prstGeom>
          <a:ln w="0">
            <a:noFill/>
          </a:ln>
        </p:spPr>
      </p:pic>
      <p:sp>
        <p:nvSpPr>
          <p:cNvPr id="63" name="Line 8"/>
          <p:cNvSpPr/>
          <p:nvPr/>
        </p:nvSpPr>
        <p:spPr>
          <a:xfrm>
            <a:off x="324000" y="90792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2"/>
          <p:cNvSpPr/>
          <p:nvPr/>
        </p:nvSpPr>
        <p:spPr>
          <a:xfrm>
            <a:off x="0" y="907920"/>
            <a:ext cx="903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Разработка и проведение анкетирования, опросников, тестов, методик с целью выявления проблем, направлений работы, подборки материа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Сбор информации по учащимся, их родителям, возникшим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Анализ, обмен информацией и подбор  методов и форм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Индивидуальная и групповая работа, консульт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Проведение и помощь классным руководителям в проведении конкретных мероприят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Разработка программ внеуроч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Рекомендации учащимся, их родителям и педагог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Проведение семинаров и тренингов для педагогов школы, обмен опытом с педагогами райо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Установление доверительных и уважительных отношений с участниками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Rectangle 6" descr=""/>
          <p:cNvPicPr/>
          <p:nvPr/>
        </p:nvPicPr>
        <p:blipFill>
          <a:blip r:embed="rId2"/>
          <a:stretch/>
        </p:blipFill>
        <p:spPr>
          <a:xfrm>
            <a:off x="23760" y="1420920"/>
            <a:ext cx="9302760" cy="540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tangle 9" descr=""/>
          <p:cNvPicPr/>
          <p:nvPr/>
        </p:nvPicPr>
        <p:blipFill>
          <a:blip r:embed="rId4"/>
          <a:stretch/>
        </p:blipFill>
        <p:spPr>
          <a:xfrm>
            <a:off x="2328840" y="212760"/>
            <a:ext cx="6265800" cy="83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6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Rectangle 6" descr=""/>
          <p:cNvPicPr/>
          <p:nvPr/>
        </p:nvPicPr>
        <p:blipFill>
          <a:blip r:embed="rId2"/>
          <a:stretch/>
        </p:blipFill>
        <p:spPr>
          <a:xfrm>
            <a:off x="208080" y="1316160"/>
            <a:ext cx="8832600" cy="527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Rectangle 9" descr=""/>
          <p:cNvPicPr/>
          <p:nvPr/>
        </p:nvPicPr>
        <p:blipFill>
          <a:blip r:embed="rId4"/>
          <a:stretch/>
        </p:blipFill>
        <p:spPr>
          <a:xfrm>
            <a:off x="2408400" y="212760"/>
            <a:ext cx="6437160" cy="8348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16430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профилактику экстремистского поведения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конструктивное решение конфликтных ситуаций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на воспитание толерантности и патриотизм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Темы и содержание мероприятий зависят от субъектов образования (учащиеся, родители, педагоги), от возраста учащихся и выявленных пробле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143080" y="406440"/>
            <a:ext cx="85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Impact"/>
              </a:rPr>
              <a:t>Методы и формы, направлен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1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Line 3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Rectangle 6" descr=""/>
          <p:cNvPicPr/>
          <p:nvPr/>
        </p:nvPicPr>
        <p:blipFill>
          <a:blip r:embed="rId2"/>
          <a:stretch/>
        </p:blipFill>
        <p:spPr>
          <a:xfrm>
            <a:off x="-42840" y="1536840"/>
            <a:ext cx="9442440" cy="4992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rcRect l="2970" t="13103" r="9870" b="0"/>
          <a:stretch/>
        </p:blipFill>
        <p:spPr>
          <a:xfrm>
            <a:off x="324000" y="189000"/>
            <a:ext cx="176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>
            <a:off x="324000" y="1413000"/>
            <a:ext cx="8424720" cy="0"/>
          </a:xfrm>
          <a:prstGeom prst="line">
            <a:avLst/>
          </a:prstGeom>
          <a:ln w="284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9" descr=""/>
          <p:cNvPicPr/>
          <p:nvPr/>
        </p:nvPicPr>
        <p:blipFill>
          <a:blip r:embed="rId4"/>
          <a:stretch/>
        </p:blipFill>
        <p:spPr>
          <a:xfrm>
            <a:off x="2419200" y="384120"/>
            <a:ext cx="5707080" cy="828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7:36:52Z</dcterms:created>
  <dc:creator>Tanya</dc:creator>
  <dc:description/>
  <dc:language>en-US</dc:language>
  <cp:lastModifiedBy>Compaq</cp:lastModifiedBy>
  <dcterms:modified xsi:type="dcterms:W3CDTF">2016-10-20T19:03:49Z</dcterms:modified>
  <cp:revision>149</cp:revision>
  <dc:subject/>
  <dc:title>Слайд 1</dc:title>
</cp:coreProperties>
</file>