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54ED-3B0E-4B0B-A2B1-37D08A00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5DCC-D384-4D7A-A2BD-46D17697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F80D-FD96-4905-92B3-772D0D614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179B-16D8-4A09-A8E1-66D1752A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49BC-A69F-483D-86EF-DFB74260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70E6-608A-40E4-861F-48F8E560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20AF-8378-4B66-A904-6C3525EE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D9F5-321D-421D-BFBC-B96B3E22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6DCB-F933-438B-9746-8FBEB216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0FA8-6562-452F-A330-C8A699FB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6FEE-0382-4E79-86ED-5F42B94A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9D2D-1BA0-4A5A-9EC4-272C5880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9C4E-754D-4B38-9D62-EA7AB42E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CBD3-26DB-447A-9A65-B17F6753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3366-AE07-4CD5-A87A-06B9BB98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881F-8509-49B2-B91D-1C8DA450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320B-236A-4F26-A6E4-4AC252543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C041-8FD0-4562-AE5C-9C693FEE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9F21-2642-49D4-87A0-70AF7D4E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843D-F64F-4A84-9418-BB53448A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B025-828A-4B91-978A-76F46F13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8876-1E57-4B8C-AA93-716D6903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7E7C-ECAD-4425-94BB-CAE1B39A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C2F8-B7D9-4787-B9CE-8A8B1D5F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42AC-15AA-47DE-BCF4-80AF20219237}" type="slidenum"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DBDA-77CA-4462-B189-5D7CC08E6557}" type="slidenum">
              <a:rPr b="0" lang="ru-RU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84c6a"/>
                </a:solidFill>
                <a:latin typeface="Trebuchet MS"/>
              </a:rPr>
              <a:t>Проблемы защиты прав детей в индивидуальном сопровождении учащихся 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71680" y="3500280"/>
            <a:ext cx="807696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84c6a"/>
                </a:solidFill>
                <a:latin typeface="Trebuchet MS"/>
              </a:rPr>
              <a:t>26.02.2014 г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284c6a"/>
                </a:solidFill>
                <a:latin typeface="Trebuchet MS"/>
              </a:rPr>
              <a:t>Соловьёва Наталия Николаевна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4c6a"/>
                </a:solidFill>
                <a:latin typeface="Trebuchet MS"/>
              </a:rPr>
              <a:t>ГБОУ СОШ № 386 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4c6a"/>
                </a:solidFill>
                <a:latin typeface="Trebuchet MS"/>
              </a:rPr>
              <a:t>Кировского района СПб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0773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84c6a"/>
                </a:solidFill>
                <a:latin typeface="Trebuchet MS"/>
              </a:rPr>
              <a:t>Сведения о школе: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94920" y="1125360"/>
            <a:ext cx="807732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Школа общеобразовательная;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35880" indent="-3358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На учете ПДН – 2 человека (одни и те же уже с 2012 года);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35880" indent="-3358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Семей, состоящих на учете ПДН нет; Причисляющих себя к НФМО нет;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35880" indent="-3358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На ВШК – 8 человек и 1 семья;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35880" indent="-3358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«Группа риска» (требуют внимания социального педагога) – 32 человека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35880" indent="-3358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03280" y="907920"/>
            <a:ext cx="835344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algn="just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84c6a"/>
                </a:solidFill>
                <a:latin typeface="Trebuchet MS"/>
              </a:rPr>
              <a:t>Знание своих прав и обязанностей дает более четкое представление о нарушении прав других субъектов взаимодействия в образовательном процессе и может исключать предпочтение какой-либо из сторон (например, я имею право, но игнорирую права других), а знание об ответственности предполагает «сдерживающий» аргумент и возможность задуматься о последствиях своих действий.</a:t>
            </a:r>
            <a:endParaRPr b="0" lang="en-US" sz="3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7" name="Прямоугольник 1"/>
          <p:cNvSpPr/>
          <p:nvPr/>
        </p:nvSpPr>
        <p:spPr>
          <a:xfrm>
            <a:off x="684360" y="18900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6165d"/>
                </a:solidFill>
                <a:latin typeface="Arial"/>
              </a:rPr>
              <a:t>Правовое просвещ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2960" y="476280"/>
            <a:ext cx="9072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84c6a"/>
                </a:solidFill>
                <a:latin typeface="Trebuchet MS"/>
              </a:rPr>
              <a:t>Мотивы отклонения в поведении:</a:t>
            </a:r>
            <a:br>
              <a:rPr sz="4400"/>
            </a:b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179280" y="1125360"/>
            <a:ext cx="87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влечение внима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ласть – важно быть главным, пусть и «плохим» (негативный лидер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сть – реальная или вымышленная обида, как на конкретного человека, так и на весь мир вообщ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бегание неудач – предпочитают ничего не делать, чтобы не ошибиться, мечтают, чтобы их оставили в поко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7640" y="15840"/>
            <a:ext cx="8891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284c6a"/>
                </a:solidFill>
                <a:latin typeface="Trebuchet MS"/>
              </a:rPr>
              <a:t>Алгоритм действий с учащимися:</a:t>
            </a:r>
            <a:endParaRPr b="0" lang="en-US" sz="4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1" name="Прямоугольник 1"/>
          <p:cNvSpPr/>
          <p:nvPr/>
        </p:nvSpPr>
        <p:spPr>
          <a:xfrm>
            <a:off x="246240" y="907920"/>
            <a:ext cx="864072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ается проблема посредством собеседований с учителями, учеником и  его роди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лагается консультация школьного психол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абатываются рекомендации для педагогов и родителей по взаимодействию с ребенком, чтобы скорректировать его поведение и не нарушить его пр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необходимости привлекаются субъекты профил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ственность за поведение ребенка несут, прежде всего, взросл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223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84c6a"/>
                </a:solidFill>
                <a:latin typeface="Trebuchet MS"/>
              </a:rPr>
              <a:t>Работа с педагогами: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3" name="Прямоугольник 1"/>
          <p:cNvSpPr/>
          <p:nvPr/>
        </p:nvSpPr>
        <p:spPr>
          <a:xfrm>
            <a:off x="209520" y="1052640"/>
            <a:ext cx="8640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омендации социально – психолого – педагогической службы шко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ем привлечения администрации школы к рассмотрению методов и форм работы педагога с учащимся с целью снятия риска развития конфликтных отношений (в основном, с молодыми специалист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опыта работы с «проблемными» учащимися, методических рекомендаций по профилактике девиантного поведения и педагогических подходов к учащимся, нарушающим дисципли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ведение информации до педагогов школы на инструктивно-методических совещаниях, педсоветах, МО классных руководителей и в форме раздаточного материала для использования в раб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84c6a"/>
                </a:solidFill>
                <a:latin typeface="Trebuchet MS"/>
              </a:rPr>
              <a:t>Работа с родителями: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5" name="Прямоугольник 1"/>
          <p:cNvSpPr/>
          <p:nvPr/>
        </p:nvSpPr>
        <p:spPr>
          <a:xfrm>
            <a:off x="395280" y="1197000"/>
            <a:ext cx="8569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еды, убеждение, рекоменд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вое просвещ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аимодействие с субъектами профилакт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Ш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о-психолого-педагогическое сопрово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илактические беседы со специалистами субъектов профилак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ДН и З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2"/>
          <p:cNvSpPr/>
          <p:nvPr/>
        </p:nvSpPr>
        <p:spPr>
          <a:xfrm>
            <a:off x="395280" y="549360"/>
            <a:ext cx="80643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еобходимо постоянное наблюдение, регулярное отслеживание текущих ситуаций в школе, чтобы правовая защита детей в ОУ имела положительные результаты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5480" y="1000080"/>
            <a:ext cx="8543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«В подростковом возрасте многие человеческие достоинства проявляются в чудачествах и неподобающих поступках» И.-В. Гёте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12120" indent="0" algn="just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Будьте внимательны к Вашим ученикам и они раскроются как цветы к солнцу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12120" indent="0" algn="ctr">
              <a:lnSpc>
                <a:spcPct val="12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84c6a"/>
                </a:solidFill>
                <a:latin typeface="Trebuchet MS"/>
              </a:rPr>
              <a:t>Спасибо за внимание.</a:t>
            </a:r>
            <a:endParaRPr b="0" lang="en-US" sz="4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0T08:28:49Z</dcterms:created>
  <dc:creator>1</dc:creator>
  <dc:description/>
  <dc:language>en-US</dc:language>
  <cp:lastModifiedBy>Compaq</cp:lastModifiedBy>
  <dcterms:modified xsi:type="dcterms:W3CDTF">2014-02-18T21:59:21Z</dcterms:modified>
  <cp:revision>32</cp:revision>
  <dc:subject/>
  <dc:title>Единый информационный день 20.11.2013 го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2561681049</vt:lpwstr>
  </property>
</Properties>
</file>