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315-246C-4666-BF6C-98205200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2BA-738D-43D4-B21B-9CA7B484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7D1-ABDD-4B76-8945-E0640F20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102-A64C-4CFA-88BF-AC3CB9A2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AD7E-109B-4C4D-9378-8A42DEBB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AEA7-0BD5-4C0B-842B-71ADA2AA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55D9-3C87-4FBD-8C7E-9EB03CA2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C60E-209B-4DDB-8DB3-A2C98DC9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23C7-7316-47B0-8313-8482E70C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1B37-361A-415C-BE05-C9B24A1C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7855-1076-4B74-A0DA-2E349790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2D6-02E9-417D-A14E-8044E701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02BF-23B0-4B8B-A587-17FDFCE8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465F-0BA7-4A88-BCA4-AD4973B2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8A60-3D52-481C-A451-E82064B1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AD3F-06BA-45F3-8BDF-27324818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452E-2036-441D-9CE8-B189FCEB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BA1-D76D-4552-A9E8-1FB88073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8C0-F546-4F8C-871F-1D6DF013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6006-FD05-4018-8BA7-94173684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7A9-7B54-47F6-AA7E-B27C84FF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73A-891C-462C-8AEE-85E219C6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B190-F775-4A70-827C-7BCA481B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95B9-4E3D-4411-8FE2-6A975B70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DDCE-A9BB-45ED-B104-457DF5E28D63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8652-AF6A-4CE8-9EDD-0B76D23FE027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84c6a"/>
                </a:solidFill>
                <a:latin typeface="Trebuchet MS"/>
              </a:rPr>
              <a:t>Проблемы защиты прав детей в индивидуальном сопровождении учащихся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1680" y="3500280"/>
            <a:ext cx="807696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84c6a"/>
                </a:solidFill>
                <a:latin typeface="Trebuchet MS"/>
              </a:rPr>
              <a:t>26.02.2014 г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84c6a"/>
                </a:solidFill>
                <a:latin typeface="Trebuchet MS"/>
              </a:rPr>
              <a:t>Соловьёва Наталия Николаевна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4c6a"/>
                </a:solidFill>
                <a:latin typeface="Trebuchet MS"/>
              </a:rPr>
              <a:t>ГБОУ СОШ № 386 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4c6a"/>
                </a:solidFill>
                <a:latin typeface="Trebuchet MS"/>
              </a:rPr>
              <a:t>Кировского района СПб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773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Сведения о школе: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4920" y="1125360"/>
            <a:ext cx="807732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Школа общеобразовательная;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На учете ПДН – 2 человека (одни и те же уже с 2012 года);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Семей, состоящих на учете ПДН нет; Причисляющих себя к НФМО нет;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На ВШК – 8 человек и 1 семья;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«Группа риска» (требуют внимания социального педагога) – 32 человека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03280" y="907920"/>
            <a:ext cx="8353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84c6a"/>
                </a:solidFill>
                <a:latin typeface="Trebuchet MS"/>
              </a:rPr>
              <a:t>Знание своих прав и обязанностей дает более четкое представление о нарушении прав других субъектов взаимодействия в образовательном процессе и может исключать предпочтение какой-либо из сторон (например, я имею право, но игнорирую права других), а знание об ответственности предполагает «сдерживающий» аргумент и возможность задуматься о последствиях своих действий.</a:t>
            </a:r>
            <a:endParaRPr b="0" lang="en-US" sz="3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684360" y="18900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5d"/>
                </a:solidFill>
                <a:latin typeface="Arial"/>
              </a:rPr>
              <a:t>Правовое просвещ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2960" y="476280"/>
            <a:ext cx="9072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Мотивы отклонения в поведении:</a:t>
            </a:r>
            <a:br>
              <a:rPr sz="4400"/>
            </a:b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179280" y="1125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влечение вним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ласть – важно быть главным, пусть и «плохим» (негативный лидер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сть – реальная или вымышленная обида, как на конкретного человека, так и на весь мир вообщ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бегание неудач – предпочитают ничего не делать, чтобы не ошибиться, мечтают, чтобы их оставили в пок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15840"/>
            <a:ext cx="889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284c6a"/>
                </a:solidFill>
                <a:latin typeface="Trebuchet MS"/>
              </a:rPr>
              <a:t>Алгоритм действий с учащимися:</a:t>
            </a:r>
            <a:endParaRPr b="0" lang="en-US" sz="4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246240" y="907920"/>
            <a:ext cx="864072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ется проблема посредством собеседований с учителями, учеником и  его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агается консультация школьного псих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батываются рекомендации для педагогов и родителей по взаимодействию с ребенком, чтобы скорректировать его поведение и не нарушить его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еобходимости привлекаются субъекты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ственность за поведение ребенка несут, прежде всего, взросл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23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Работа с педагогами: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209520" y="1052640"/>
            <a:ext cx="864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ации социально – психолого – педагогической службы шк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м привлечения администрации школы к рассмотрению методов и форм работы педагога с учащимся с целью снятия риска развития конфликтных отношений (в основном, с молодыми специалист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опыта работы с «проблемными» учащимися, методических рекомендаций по профилактике девиантного поведения и педагогических подходов к учащимся, нарушающим дисципл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ведение информации до педагогов школы на инструктивно-методических совещаниях, педсоветах, МО классных руководителей и в форме раздаточного материала для использования в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Работа с родителями: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395280" y="1197000"/>
            <a:ext cx="856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ы, убеждение, 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вое просвещ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одействие с субъектами профилак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Ш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-психолого-педагогическое сопрово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ческие беседы со специалистами субъектов профилак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ДН и З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2"/>
          <p:cNvSpPr/>
          <p:nvPr/>
        </p:nvSpPr>
        <p:spPr>
          <a:xfrm>
            <a:off x="395280" y="549360"/>
            <a:ext cx="8064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обходимо постоянное наблюдение, регулярное отслеживание текущих ситуаций в школе, чтобы правовая защита детей в ОУ имела положительные результат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480" y="1000080"/>
            <a:ext cx="8543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«В подростковом возрасте многие человеческие достоинства проявляются в чудачествах и неподобающих поступках» И.-В. Гёте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1212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Будьте внимательны к Вашим ученикам и они раскроются как цветы к солнцу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12120"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84c6a"/>
                </a:solidFill>
                <a:latin typeface="Trebuchet MS"/>
              </a:rPr>
              <a:t>Спасибо за внимание.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08:28:49Z</dcterms:created>
  <dc:creator>1</dc:creator>
  <dc:description/>
  <dc:language>en-US</dc:language>
  <cp:lastModifiedBy>Compaq</cp:lastModifiedBy>
  <dcterms:modified xsi:type="dcterms:W3CDTF">2014-02-18T21:59:21Z</dcterms:modified>
  <cp:revision>32</cp:revision>
  <dc:subject/>
  <dc:title>Единый информационный день 20.11.2013 го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49</vt:lpwstr>
  </property>
</Properties>
</file>