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AEF-FD89-4245-B215-FF37A914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F4E-9F29-46A9-BAC7-D17D399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142-BAD2-4821-A71A-1B4F1061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8AF-A747-4F0B-8CBA-5E179BE9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7F5-B061-4C34-8675-8260175E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FE85-6197-4284-A20F-8040CB8E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DBE8-D604-4AB0-9B8F-8B92B32B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07E2-F759-4736-B605-5BBBB817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511-DB15-4FAF-B7D8-19CFBC2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176-E7B9-483A-A752-D38AF06E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0201-870C-4A15-8936-B65974C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102-F836-4F2A-9292-7A6D61C6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24F-EC52-4EE2-939B-727D5A5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AFA-0D11-49DC-BCD2-7E3F897D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00E4-63EC-4C53-BD1E-3C5BBC30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18B7-EDE8-4C31-8F79-7E156912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DDA1-91D1-4481-B892-ECBB8EE0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60D-F6E3-47A4-8CE2-E1C38756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C0D-9F90-49AA-8273-4ECE0E4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D09-B11F-492B-A494-D32828FF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860-55A0-411B-A3AB-8722D325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49B-CBD0-45A0-B46C-55188B7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72B-181B-4B93-80E3-77FBA06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637-E3FA-4130-A25A-620E0C7A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D070-FD58-46E3-A7C8-C799742F26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4198-2FE9-4D28-95BE-50F63069A0C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13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&amp;Acy;&amp;ncy;&amp;scy;&amp;acy;&amp;mcy;&amp;bcy;&amp;lcy;&amp;yacy; &amp;tcy;&amp;acy;&amp;ncy;&amp;tscy;&amp;acy; &amp;Kcy;&amp;acy;&amp;zcy;&amp;acy;&amp;ncy;&amp;softcy; &amp;ocy;&amp;fcy;&amp;icy;&amp;tscy;&amp;icy;&amp;acy;&amp;lcy;&amp;softcy;&amp;ncy;&amp;ycy;&amp;jcy; &amp;scy;&amp;acy;&amp;jcy;&amp;tcy; &amp;acy;&amp;gcy;&amp;iecy;&amp;ncy;&amp;tcy;&amp;acy; - &amp;ocy;&amp;rcy;&amp;gcy;&amp;acy;&amp;ncy;&amp;icy;&amp;zcy;&amp;acy;&amp;tscy;&amp;icy;&amp;yacy; …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2" descr="&amp;Ucy;&amp;ncy;&amp;icy;&amp;vcy;&amp;iecy;&amp;rcy;&amp;scy;&amp;acy;&amp;lcy;, &amp;Ocy;&amp;Ocy;&amp;Ocy; &amp;ncy;&amp;acy; All.biz - &amp;Kcy;&amp;icy;&amp;iecy;&amp;vcy; (&amp;Ucy;&amp;kcy;&amp;rcy;&amp;acy;&amp;icy;&amp;ncy;&amp;acy;) - &amp;Tcy;&amp;ocy;&amp;vcy;&amp;acy;&amp;rcy;&amp;ycy; &amp;icy; &amp;ucy;&amp;scy;&amp;lcy;&amp;ucy;&amp;gcy;&amp;icy; &amp;kcy;&amp;ocy;&amp;mcy;&amp;pcy;&amp;acy;&amp;ncy;&amp;icy;&amp;icy; &amp;Ucy;&amp;ncy;&amp;icy;&amp;vcy;&amp;iecy;&amp;rcy;&amp;scy;&amp;acy;&amp;lcy;, &amp;Ocy;&amp;Ocy;&amp;Ocy;"/>
          <p:cNvPicPr/>
          <p:nvPr/>
        </p:nvPicPr>
        <p:blipFill>
          <a:blip r:embed="rId2"/>
          <a:stretch/>
        </p:blipFill>
        <p:spPr>
          <a:xfrm>
            <a:off x="263520" y="298440"/>
            <a:ext cx="74390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10" descr="Lightning Strikes Wallpaper"/>
          <p:cNvPicPr/>
          <p:nvPr/>
        </p:nvPicPr>
        <p:blipFill>
          <a:blip r:embed="rId3"/>
          <a:stretch/>
        </p:blipFill>
        <p:spPr>
          <a:xfrm>
            <a:off x="131760" y="227160"/>
            <a:ext cx="75880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2" descr="&amp;Icy;&amp;scy;&amp;tcy;&amp;ocy;&amp;rcy;&amp;icy;&amp;yacy; &amp;bcy;&amp;lcy;&amp;acy;&amp;gcy;&amp;ocy;&amp;dcy;&amp;acy;&amp;rcy;&amp;ncy;&amp;ocy;&amp;scy;&amp;tcy;&amp;iecy;&amp;jcy; &amp;ucy;&amp;chcy;&amp;acy;&amp;scy;&amp;tcy;&amp;ncy;&amp;icy;&amp;kcy;&amp;ucy;"/>
          <p:cNvPicPr/>
          <p:nvPr/>
        </p:nvPicPr>
        <p:blipFill>
          <a:blip r:embed="rId2"/>
          <a:stretch/>
        </p:blipFill>
        <p:spPr>
          <a:xfrm>
            <a:off x="90360" y="227160"/>
            <a:ext cx="76042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7477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228" name="Picture 7" descr="узор6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179280" y="67932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0" lang="tt-RU" sz="3600" spc="-1" strike="noStrike">
                <a:solidFill>
                  <a:srgbClr val="2f1311"/>
                </a:solidFill>
                <a:latin typeface="Arial"/>
              </a:rPr>
              <a:t>әреснең темасы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Аваз </a:t>
            </a:r>
            <a:r>
              <a:rPr b="0" lang="tt-RU" sz="4800" spc="-1" strike="noStrike">
                <a:solidFill>
                  <a:srgbClr val="2f1311"/>
                </a:solidFill>
                <a:latin typeface="Arial"/>
              </a:rPr>
              <a:t>ияртемнәре.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08000" y="18900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ксат: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. </a:t>
            </a:r>
            <a:r>
              <a:rPr b="0" lang="tt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ваз ияртемнәрен аера белергә;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. Алар белән җөмләләр төзергә, аларны дөрес язарга өйрәнергә;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24000" y="189000"/>
            <a:ext cx="748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әң – ләң, кыйгак – кыйгак, бак – бак, шыбыр – шыбыр, тып – тып, чепер – чепер, микикики, лап – лоп, чут – чут...чут – чут...чут – чут ..., дөбер – дөбер, чырык – чырык, мыгыр – мыгыр, тырт – мырт, гөлт, ялт – йолт, әлҗе – мөлҗе, кәк – кәк – күк...кәк – күк....кәк – күк...</a:t>
            </a:r>
            <a:r>
              <a:rPr b="0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08000" y="115920"/>
            <a:ext cx="7848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r>
              <a:rPr b="1" lang="tt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зелеше буенча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лгызак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: </a:t>
            </a:r>
            <a:r>
              <a:rPr b="0" lang="tt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икикики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лы: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0" lang="tt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ыйгак - кыйгак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лаулы:</a:t>
            </a: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0" lang="tt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әк – кәк – күк...кәк – күк....кәк – күк..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&amp;Tcy;&amp;Ocy;&amp;Pcy;-10 &amp;scy;&amp;acy;&amp;mcy;&amp;ycy;&amp;khcy; &amp;khcy;&amp;icy;&amp;tcy;&amp;rcy;&amp;ycy;&amp;khcy; &amp;zhcy;&amp;icy;&amp;vcy;&amp;ocy;&amp;tcy;&amp;ncy;&amp;ycy;&amp;khcy; &amp;pcy;&amp;lcy;&amp;acy;&amp;ncy;&amp;iecy;&amp;tcy;&amp;ycy; (&amp;Fcy;&amp;Ocy;&amp;Tcy;&amp;Ocy;) &amp;Mcy;&amp;ucy;&amp;zhcy;&amp;icy;&amp;kcy;&amp;acy;&amp;mcy; - &amp;ncy;&amp;iecy;&amp;tcy;!"/>
          <p:cNvPicPr/>
          <p:nvPr/>
        </p:nvPicPr>
        <p:blipFill>
          <a:blip r:embed="rId1"/>
          <a:stretch/>
        </p:blipFill>
        <p:spPr>
          <a:xfrm>
            <a:off x="250920" y="179280"/>
            <a:ext cx="7489800" cy="5614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1692360" y="579420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әккүк, күк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&amp;Fcy;&amp;ocy;&amp;tcy;&amp;ocy; &amp;pcy;&amp;rcy;&amp;icy;&amp;rcy;&amp;ocy;&amp;dcy;&amp;acy;, &amp;pcy;&amp;tcy;&amp;acy;&amp;khcy;&amp;icy;, &amp;dcy;&amp;yacy;&amp;tcy;&amp;iecy;&amp;lcy;, &amp;pcy;&amp;iecy;&amp;rcy;&amp;ncy;&amp;acy;&amp;tcy;&amp;iukcy;, &amp;scy;&amp;acy;&amp;ncy;&amp;iukcy;&amp;tcy;&amp;acy;&amp;rcy; &amp;lcy;&amp;iukcy;&amp;scy;&amp;ucy;"/>
          <p:cNvPicPr/>
          <p:nvPr/>
        </p:nvPicPr>
        <p:blipFill>
          <a:blip r:embed="rId1"/>
          <a:stretch/>
        </p:blipFill>
        <p:spPr>
          <a:xfrm>
            <a:off x="0" y="174600"/>
            <a:ext cx="7812000" cy="5859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1835280" y="58960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укра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18200" y="765000"/>
            <a:ext cx="673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ылтыра, тыкылда,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ышна, доңгылдый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ыткылда, чыңла,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ялт итү, гөж килү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7812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000" spc="-1" strike="noStrike">
                <a:solidFill>
                  <a:srgbClr val="f7d47d"/>
                </a:solidFill>
                <a:latin typeface="Arial"/>
              </a:rPr>
              <a:t>“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tt-RU" sz="32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tt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-татарлар, телебез-татар теле, мөстәкыйль hәм төзек кагыйдәле камил тел ул ”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2" descr="&amp;Bcy;&amp;icy;&amp;ocy;&amp;gcy;&amp;rcy;&amp;acy;&amp;fcy;&amp;icy;&amp;yacy; &amp;Kcy;&amp;acy;&amp;yucy;&amp;mcy;&amp;acy; &amp;Ncy;&amp;acy;&amp;scy;&amp;ycy;&amp;rcy;&amp;icy; &amp;Ncy;&amp;acy; &amp;Tcy;&amp;acy;&amp;tcy;&amp;acy;&amp;rcy;&amp;scy;&amp;kcy;&amp;ocy;&amp;mcy; &amp;YAcy;&amp;zcy;&amp;ycy;&amp;kcy;&amp;iecy; 6 &amp;Kcy;&amp;lcy;&amp;acy;&amp;scy;&amp;scy;"/>
          <p:cNvPicPr/>
          <p:nvPr/>
        </p:nvPicPr>
        <p:blipFill>
          <a:blip r:embed="rId1"/>
          <a:stretch/>
        </p:blipFill>
        <p:spPr>
          <a:xfrm>
            <a:off x="826920" y="0"/>
            <a:ext cx="4368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5" descr="петух"/>
          <p:cNvPicPr/>
          <p:nvPr/>
        </p:nvPicPr>
        <p:blipFill>
          <a:blip r:embed="rId1"/>
          <a:stretch/>
        </p:blipFill>
        <p:spPr>
          <a:xfrm>
            <a:off x="1619280" y="2565360"/>
            <a:ext cx="1584360" cy="210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баран"/>
          <p:cNvPicPr/>
          <p:nvPr/>
        </p:nvPicPr>
        <p:blipFill>
          <a:blip r:embed="rId2"/>
          <a:stretch/>
        </p:blipFill>
        <p:spPr>
          <a:xfrm>
            <a:off x="4788000" y="2637000"/>
            <a:ext cx="144144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орова"/>
          <p:cNvPicPr/>
          <p:nvPr/>
        </p:nvPicPr>
        <p:blipFill>
          <a:blip r:embed="rId3"/>
          <a:stretch/>
        </p:blipFill>
        <p:spPr>
          <a:xfrm>
            <a:off x="6227640" y="4149720"/>
            <a:ext cx="144000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лошадь"/>
          <p:cNvPicPr/>
          <p:nvPr/>
        </p:nvPicPr>
        <p:blipFill>
          <a:blip r:embed="rId4"/>
          <a:stretch/>
        </p:blipFill>
        <p:spPr>
          <a:xfrm>
            <a:off x="179280" y="4365720"/>
            <a:ext cx="144000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курица"/>
          <p:cNvPicPr/>
          <p:nvPr/>
        </p:nvPicPr>
        <p:blipFill>
          <a:blip r:embed="rId5"/>
          <a:stretch/>
        </p:blipFill>
        <p:spPr>
          <a:xfrm>
            <a:off x="3203640" y="1844640"/>
            <a:ext cx="1584360" cy="22320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5"/>
          <p:cNvSpPr txBox="1"/>
          <p:nvPr/>
        </p:nvSpPr>
        <p:spPr>
          <a:xfrm>
            <a:off x="2124000" y="907920"/>
            <a:ext cx="341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Йорт хайваннар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5" name="Picture 16" descr="каз"/>
          <p:cNvPicPr/>
          <p:nvPr/>
        </p:nvPicPr>
        <p:blipFill>
          <a:blip r:embed="rId8"/>
          <a:stretch/>
        </p:blipFill>
        <p:spPr>
          <a:xfrm>
            <a:off x="3203640" y="4076640"/>
            <a:ext cx="158436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&amp;dcy;&amp;ocy;&amp;mcy;&amp;acy;&amp;shcy;&amp;ncy;&amp;yacy;&amp;yacy; &amp;kcy;&amp;ocy;&amp;shcy;&amp;kcy;&amp;acy;"/>
          <p:cNvPicPr/>
          <p:nvPr/>
        </p:nvPicPr>
        <p:blipFill>
          <a:blip r:embed="rId9"/>
          <a:stretch/>
        </p:blipFill>
        <p:spPr>
          <a:xfrm>
            <a:off x="71280" y="1405080"/>
            <a:ext cx="1656000" cy="185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&amp;Scy;&amp;acy;&amp;mcy;&amp;ycy;&amp;iecy; &amp;lcy;&amp;ucy;&amp;chcy;&amp;shcy;&amp;icy;&amp;iecy; &amp;scy;&amp;ocy;&amp;bcy;&amp;acy;&amp;kcy;&amp;icy; - &amp;Kcy;&amp;acy;&amp;rcy;&amp;tcy;&amp;icy;&amp;ncy;&amp;kcy;&amp;icy; &amp;scy;&amp;ocy;&amp;bcy;&amp;acy;&amp;chcy;&amp;iecy;&amp;kcy; &amp;dcy;&amp;acy;&amp;rcy;&amp;ocy;&amp;mcy; &amp;Kcy;&amp;acy;&amp;rcy;&amp;tcy;&amp;icy;&amp;ncy;&amp;kcy;&amp;icy; &amp;zcy;&amp;acy;&amp;bcy;&amp;acy;&amp;vcy;&amp;ncy;&amp;ycy;&amp;khcy; &amp;scy;&amp;ocy;&amp;bcy;&amp;acy;&amp;kcy;"/>
          <p:cNvPicPr/>
          <p:nvPr/>
        </p:nvPicPr>
        <p:blipFill>
          <a:blip r:embed="rId10"/>
          <a:stretch/>
        </p:blipFill>
        <p:spPr>
          <a:xfrm>
            <a:off x="6035760" y="917640"/>
            <a:ext cx="182412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0" y="333360"/>
            <a:ext cx="79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Җилбер – җилбер 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җилберд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ң – даң 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ңгылды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Өф – өф 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өфелд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ап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лгызак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апылдап (лапылды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ж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лгызак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жлап (выжлы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ут – чут...чут – чут ...чут – чут... – </a:t>
            </a:r>
            <a:r>
              <a:rPr b="1" lang="tt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тлаулы</a:t>
            </a:r>
            <a:r>
              <a:rPr b="1" lang="tt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утылды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260280"/>
            <a:ext cx="76341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ирелгән җөмләгә морфологик анализ ясарга. (сүз төркемнәрен билгеләргә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. Үләргә киткән кызыгыз баеп кайта түгелме, ләң – ләң, ләң – ләң. (татар халык әкият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. Кыйгак – кыйгак каз кычкыра, югалткан ул үзенең бәбкәсен. (татар халык җыр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“Вау!” да “Вау!” да, “һау” да “һау” – бертуктамый этләр өрә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у анасы куркып этләрдән, кирегә йөгерә.  ( Г. Тукай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Шәүкәт Галие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Picture 5" descr="Ш"/>
          <p:cNvPicPr/>
          <p:nvPr/>
        </p:nvPicPr>
        <p:blipFill>
          <a:blip r:embed="rId1"/>
          <a:stretch/>
        </p:blipFill>
        <p:spPr>
          <a:xfrm>
            <a:off x="468360" y="1125360"/>
            <a:ext cx="5510160" cy="554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-10188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15560"/>
            <a:ext cx="7885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</a:t>
            </a:r>
            <a:r>
              <a:rPr b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Калын хәрефләр белән бирелгән фигыльнең төрен билгеләгез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Һәр укучының </a:t>
            </a:r>
            <a:r>
              <a:rPr b="1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лган</a:t>
            </a: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билгеләре андагы махсус электрон журналларда теркәлә, һәм аны әти – әниләр дә күзәтеп тора ала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сыйфат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хәл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исем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инфинити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. </a:t>
            </a: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енар микрофон янына</a:t>
            </a:r>
            <a:r>
              <a:rPr b="1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килеп</a:t>
            </a:r>
            <a:r>
              <a:rPr b="0" i="1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рәхмәт әйтә башлад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шарт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хәл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хикәя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исем фигы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-32868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45720"/>
            <a:ext cx="788508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2 нче җөмләдән санны табып языгыз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атарстаннан Ленар Саматов Иоһанн Себостьян Бах сонаталарын башкарып, беренче урынны алды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22 нче җөмләдән алмашлыкны табып языгыз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әкин аңа ярдәм кирәкми иде инде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14760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226800"/>
            <a:ext cx="738648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2f1311"/>
                </a:solidFill>
                <a:latin typeface="Arial"/>
              </a:rPr>
              <a:t>Алмачуар, тозлы, яктырак, унбишенче берәү, аныкы, менә, кичә, күлмәк, зәңгәр, алтмыш, нәрсә, аюдай, татарча,  мияу, тып – тып, шыбыр – шыбыр, даңгыр – доңгыр, бззз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петух"/>
          <p:cNvPicPr/>
          <p:nvPr/>
        </p:nvPicPr>
        <p:blipFill>
          <a:blip r:embed="rId1"/>
          <a:stretch/>
        </p:blipFill>
        <p:spPr>
          <a:xfrm>
            <a:off x="684360" y="404640"/>
            <a:ext cx="6575400" cy="5545440"/>
          </a:xfrm>
          <a:prstGeom prst="rect">
            <a:avLst/>
          </a:prstGeom>
          <a:ln w="0">
            <a:noFill/>
          </a:ln>
        </p:spPr>
      </p:pic>
      <p:pic>
        <p:nvPicPr>
          <p:cNvPr id="205" name="петух голос.mp3" descr=""/>
          <p:cNvPicPr/>
          <p:nvPr/>
        </p:nvPicPr>
        <p:blipFill>
          <a:blip r:embed="rId2"/>
          <a:stretch/>
        </p:blipFill>
        <p:spPr>
          <a:xfrm>
            <a:off x="971640" y="486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2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пламя"/>
          <p:cNvPicPr/>
          <p:nvPr/>
        </p:nvPicPr>
        <p:blipFill>
          <a:blip r:embed="rId1"/>
          <a:stretch/>
        </p:blipFill>
        <p:spPr>
          <a:xfrm>
            <a:off x="4284720" y="2349360"/>
            <a:ext cx="3382920" cy="4321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еси                        Ялкы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18" descr="кошка"/>
          <p:cNvPicPr/>
          <p:nvPr/>
        </p:nvPicPr>
        <p:blipFill>
          <a:blip r:embed="rId2"/>
          <a:stretch/>
        </p:blipFill>
        <p:spPr>
          <a:xfrm>
            <a:off x="250920" y="2349360"/>
            <a:ext cx="36734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аз                   С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әга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47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8" descr="каз"/>
          <p:cNvPicPr/>
          <p:nvPr/>
        </p:nvPicPr>
        <p:blipFill>
          <a:blip r:embed="rId1"/>
          <a:stretch/>
        </p:blipFill>
        <p:spPr>
          <a:xfrm>
            <a:off x="250920" y="1628640"/>
            <a:ext cx="3600360" cy="446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11" descr="часы2"/>
          <p:cNvPicPr/>
          <p:nvPr/>
        </p:nvPicPr>
        <p:blipFill>
          <a:blip r:embed="rId2"/>
          <a:stretch/>
        </p:blipFill>
        <p:spPr>
          <a:xfrm>
            <a:off x="4067280" y="1628640"/>
            <a:ext cx="360036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2" descr="&amp;Pcy;&amp;ocy;&amp;chcy;&amp;iecy;&amp;mcy;&amp;ucy; &amp;ocy;&amp;tcy; &amp;zhcy;&amp;iecy;&amp;vcy;&amp;acy;&amp;tcy;&amp;iecy;&amp;lcy;&amp;softcy;&amp;ncy;&amp;ocy;&amp;jcy; &amp;rcy;&amp;iecy;&amp;zcy;&amp;icy;&amp;ncy;&amp;kcy;&amp;icy; &amp;tcy;&amp;ocy;&amp;lcy;&amp;scy;&amp;tcy;&amp;iecy;&amp;yucy;&amp;tcy;: &amp;kcy;&amp;acy;&amp;kcy; &amp;pcy;&amp;ocy;&amp;khcy;&amp;ucy;&amp;dcy;&amp;iecy;&amp;tcy;&amp;softcy;, &amp;kcy;&amp;acy;&amp;kcy; &amp;scy;&amp;dcy;&amp;iecy;&amp;lcy;&amp;acy;&amp;tcy;&amp;softcy; &amp;zhcy;&amp;vcy;&amp;acy;&amp;chcy;&amp;kcy;&amp;ucy; &amp;Zcy;&amp;dcy;&amp;ocy;&amp;rcy;&amp;ocy;&amp;vcy;&amp;softcy;&amp;iecy; &amp;Scy;&amp;ocy;&amp;bcy;&amp;iecy;&amp;scy;&amp;iecy;&amp;dcy;&amp;ncy;&amp;icy;&amp;kcy;.&amp;rcy;&amp;ucy;"/>
          <p:cNvPicPr/>
          <p:nvPr/>
        </p:nvPicPr>
        <p:blipFill>
          <a:blip r:embed="rId2"/>
          <a:stretch/>
        </p:blipFill>
        <p:spPr>
          <a:xfrm>
            <a:off x="219240" y="171360"/>
            <a:ext cx="747684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5:54:27Z</dcterms:created>
  <dc:creator>User</dc:creator>
  <dc:description/>
  <dc:language>en-US</dc:language>
  <cp:lastModifiedBy>Home</cp:lastModifiedBy>
  <dcterms:modified xsi:type="dcterms:W3CDTF">2017-06-07T19:36:36Z</dcterms:modified>
  <cp:revision>32</cp:revision>
  <dc:subject/>
  <dc:title>Аваз ияртемнәре</dc:title>
</cp:coreProperties>
</file>