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13.jpeg" ContentType="image/jpeg"/>
  <Override PartName="/ppt/media/image27.jpeg" ContentType="image/jpeg"/>
  <Override PartName="/ppt/media/image10.png" ContentType="image/png"/>
  <Override PartName="/ppt/media/image6.jpeg" ContentType="image/jpeg"/>
  <Override PartName="/ppt/media/image5.png" ContentType="image/png"/>
  <Override PartName="/ppt/media/image29.jpeg" ContentType="image/jpeg"/>
  <Override PartName="/ppt/media/image8.png" ContentType="image/png"/>
  <Override PartName="/ppt/media/image14.jpeg" ContentType="image/jpeg"/>
  <Override PartName="/ppt/media/image11.jpeg" ContentType="image/jpeg"/>
  <Override PartName="/ppt/media/image9.jpeg" ContentType="image/jpeg"/>
  <Override PartName="/ppt/media/image28.jpeg" ContentType="image/jpeg"/>
  <Override PartName="/ppt/media/image30.jpeg" ContentType="image/jpeg"/>
  <Override PartName="/ppt/media/image24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.png" ContentType="image/png"/>
  <Override PartName="/ppt/media/image25.jpeg" ContentType="image/jpeg"/>
  <Override PartName="/ppt/media/image7.jpeg" ContentType="image/jpeg"/>
  <Override PartName="/ppt/media/image1.wmf" ContentType="image/x-wmf"/>
  <Override PartName="/ppt/media/image16.jpeg" ContentType="image/jpeg"/>
  <Override PartName="/ppt/media/image15.png" ContentType="image/png"/>
  <Override PartName="/ppt/media/image18.jpeg" ContentType="image/jpeg"/>
  <Override PartName="/ppt/media/image19.jpeg" ContentType="image/jpeg"/>
  <Override PartName="/ppt/media/image20.jpeg" ContentType="image/jpeg"/>
  <Override PartName="/ppt/media/image21.jpeg" ContentType="image/jpeg"/>
  <Override PartName="/ppt/media/image22.jpeg" ContentType="image/jpeg"/>
  <Override PartName="/ppt/media/image2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ACFDD-C224-4125-94C6-71343DE70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3E8EB-9039-4833-A4B8-C7CC62D8A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DEE4F-9118-461F-B4CF-3E832C296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8862D-9A35-4602-9F4E-5AF69350E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D7570-7D98-4841-86E7-5BCE64D80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8F138-6C2A-4646-8F99-B4F5113E2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38AA3-3397-4EA9-97B1-4E3FE1605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CC668-F4FB-49EA-BE34-FBD11A30E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460E4-6570-4DA7-AB3D-4E5B519EE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D3B6C-D904-47C5-A21F-0147B2F5D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45F5D-A403-49A2-8B75-25FB563CC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0C304-2B5C-4A9B-B360-D8DDB2EFF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789BF-A59E-4F23-A7C6-61713FF4A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B17CE-1704-44CB-BBB8-C50AC0FFF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8B71C-0C76-43FC-AEB9-4C29BD3CD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F2F6D-E937-41C6-955F-9E4E678F4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9A1AC-EF58-4BB5-8D69-184B3FA1C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CC28B-14A1-4915-B392-8A8BA784A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BC2C4-1F66-4F26-8241-97A3486CA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BA21F-3BFE-49A9-845D-B1842143D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DEEC4-BF56-4FA4-A770-B31F7DF90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E47A4-6735-417C-930E-B31090FE6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C0A1E-0C6E-4AF8-816F-23961A4F5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AF3AB-2596-4D9D-A812-155B762E1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080" bIns="100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720" bIns="-97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040" bIns="140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789F9-AA46-4731-921A-858506E6528B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080" bIns="100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720" bIns="-97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040" bIns="140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BB913-81AC-4708-AA1A-2465C38969D5}" type="slidenum">
              <a:rPr b="0" lang="ru-RU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image" Target="../media/image27.jpeg"/><Relationship Id="rId7" Type="http://schemas.openxmlformats.org/officeDocument/2006/relationships/image" Target="../media/image27.jpeg"/><Relationship Id="rId8" Type="http://schemas.openxmlformats.org/officeDocument/2006/relationships/image" Target="../media/image13.jpeg"/><Relationship Id="rId9" Type="http://schemas.openxmlformats.org/officeDocument/2006/relationships/image" Target="../media/image28.jpeg"/><Relationship Id="rId10" Type="http://schemas.openxmlformats.org/officeDocument/2006/relationships/image" Target="../media/image29.jpeg"/><Relationship Id="rId1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4" name="Picture 5" descr="&amp;Acy;&amp;ncy;&amp;scy;&amp;acy;&amp;mcy;&amp;bcy;&amp;lcy;&amp;yacy; &amp;tcy;&amp;acy;&amp;ncy;&amp;tscy;&amp;acy; &amp;Kcy;&amp;acy;&amp;zcy;&amp;acy;&amp;ncy;&amp;softcy; &amp;ocy;&amp;fcy;&amp;icy;&amp;tscy;&amp;icy;&amp;acy;&amp;lcy;&amp;softcy;&amp;ncy;&amp;ycy;&amp;jcy; &amp;scy;&amp;acy;&amp;jcy;&amp;tcy; &amp;acy;&amp;gcy;&amp;iecy;&amp;ncy;&amp;tcy;&amp;acy; - &amp;ocy;&amp;rcy;&amp;gcy;&amp;acy;&amp;ncy;&amp;icy;&amp;zcy;&amp;acy;&amp;tscy;&amp;icy;&amp;yacy; …"/>
          <p:cNvPicPr/>
          <p:nvPr/>
        </p:nvPicPr>
        <p:blipFill>
          <a:blip r:embed="rId1"/>
          <a:stretch/>
        </p:blipFill>
        <p:spPr>
          <a:xfrm>
            <a:off x="108000" y="115920"/>
            <a:ext cx="8856720" cy="66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032000" y="1598760"/>
            <a:ext cx="36176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9" name="Picture 2" descr="&amp;Ucy;&amp;ncy;&amp;icy;&amp;vcy;&amp;iecy;&amp;rcy;&amp;scy;&amp;acy;&amp;lcy;, &amp;Ocy;&amp;Ocy;&amp;Ocy; &amp;ncy;&amp;acy; All.biz - &amp;Kcy;&amp;icy;&amp;iecy;&amp;vcy; (&amp;Ucy;&amp;kcy;&amp;rcy;&amp;acy;&amp;icy;&amp;ncy;&amp;acy;) - &amp;Tcy;&amp;ocy;&amp;vcy;&amp;acy;&amp;rcy;&amp;ycy; &amp;icy; &amp;ucy;&amp;scy;&amp;lcy;&amp;ucy;&amp;gcy;&amp;icy; &amp;kcy;&amp;ocy;&amp;mcy;&amp;pcy;&amp;acy;&amp;ncy;&amp;icy;&amp;icy; &amp;Ucy;&amp;ncy;&amp;icy;&amp;vcy;&amp;iecy;&amp;rcy;&amp;scy;&amp;acy;&amp;lcy;, &amp;Ocy;&amp;Ocy;&amp;Ocy;"/>
          <p:cNvPicPr/>
          <p:nvPr/>
        </p:nvPicPr>
        <p:blipFill>
          <a:blip r:embed="rId2"/>
          <a:stretch/>
        </p:blipFill>
        <p:spPr>
          <a:xfrm>
            <a:off x="263520" y="298440"/>
            <a:ext cx="7439040" cy="557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032000" y="1598760"/>
            <a:ext cx="36176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263160" y="1598760"/>
            <a:ext cx="361620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3" name="Picture 10" descr="Lightning Strikes Wallpaper"/>
          <p:cNvPicPr/>
          <p:nvPr/>
        </p:nvPicPr>
        <p:blipFill>
          <a:blip r:embed="rId3"/>
          <a:stretch/>
        </p:blipFill>
        <p:spPr>
          <a:xfrm>
            <a:off x="131760" y="227160"/>
            <a:ext cx="7588080" cy="637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032000" y="1598760"/>
            <a:ext cx="36176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6" name="Picture 2" descr="&amp;Icy;&amp;scy;&amp;tcy;&amp;ocy;&amp;rcy;&amp;icy;&amp;yacy; &amp;bcy;&amp;lcy;&amp;acy;&amp;gcy;&amp;ocy;&amp;dcy;&amp;acy;&amp;rcy;&amp;ncy;&amp;ocy;&amp;scy;&amp;tcy;&amp;iecy;&amp;jcy; &amp;ucy;&amp;chcy;&amp;acy;&amp;scy;&amp;tcy;&amp;ncy;&amp;icy;&amp;kcy;&amp;ucy;"/>
          <p:cNvPicPr/>
          <p:nvPr/>
        </p:nvPicPr>
        <p:blipFill>
          <a:blip r:embed="rId2"/>
          <a:stretch/>
        </p:blipFill>
        <p:spPr>
          <a:xfrm>
            <a:off x="90360" y="227160"/>
            <a:ext cx="7604280" cy="572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0" y="1773000"/>
            <a:ext cx="74772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800" spc="-1" strike="noStrike">
              <a:solidFill>
                <a:srgbClr val="0066ff"/>
              </a:solidFill>
              <a:latin typeface="Arial"/>
            </a:endParaRPr>
          </a:p>
        </p:txBody>
      </p:sp>
      <p:pic>
        <p:nvPicPr>
          <p:cNvPr id="228" name="Picture 7" descr="узор6"/>
          <p:cNvPicPr/>
          <p:nvPr/>
        </p:nvPicPr>
        <p:blipFill>
          <a:blip r:embed="rId1"/>
          <a:stretch/>
        </p:blipFill>
        <p:spPr>
          <a:xfrm>
            <a:off x="-50760" y="0"/>
            <a:ext cx="9194760" cy="6858000"/>
          </a:xfrm>
          <a:prstGeom prst="rect">
            <a:avLst/>
          </a:prstGeom>
          <a:ln w="0">
            <a:noFill/>
          </a:ln>
        </p:spPr>
      </p:pic>
      <p:sp>
        <p:nvSpPr>
          <p:cNvPr id="229" name="Rectangle 8"/>
          <p:cNvSpPr/>
          <p:nvPr/>
        </p:nvSpPr>
        <p:spPr>
          <a:xfrm>
            <a:off x="179280" y="679320"/>
            <a:ext cx="7488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Arial"/>
              </a:rPr>
              <a:t>Д</a:t>
            </a:r>
            <a:r>
              <a:rPr b="0" lang="tt-RU" sz="3600" spc="-1" strike="noStrike">
                <a:solidFill>
                  <a:srgbClr val="2f1311"/>
                </a:solidFill>
                <a:latin typeface="Arial"/>
              </a:rPr>
              <a:t>әреснең темасы: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f1311"/>
                </a:solidFill>
                <a:latin typeface="Arial"/>
              </a:rPr>
              <a:t>     </a:t>
            </a:r>
            <a:r>
              <a:rPr b="0" lang="ru-RU" sz="4800" spc="-1" strike="noStrike">
                <a:solidFill>
                  <a:srgbClr val="2f1311"/>
                </a:solidFill>
                <a:latin typeface="Arial"/>
              </a:rPr>
              <a:t>Аваз </a:t>
            </a:r>
            <a:r>
              <a:rPr b="0" lang="tt-RU" sz="4800" spc="-1" strike="noStrike">
                <a:solidFill>
                  <a:srgbClr val="2f1311"/>
                </a:solidFill>
                <a:latin typeface="Arial"/>
              </a:rPr>
              <a:t>ияртемнәре.</a:t>
            </a:r>
            <a:r>
              <a:rPr b="0" lang="ru-RU" sz="44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Box 1"/>
          <p:cNvSpPr/>
          <p:nvPr/>
        </p:nvSpPr>
        <p:spPr>
          <a:xfrm>
            <a:off x="108000" y="189000"/>
            <a:ext cx="7632720" cy="57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Максат:</a:t>
            </a: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1. </a:t>
            </a:r>
            <a:r>
              <a:rPr b="0" lang="tt-RU" sz="54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Аваз ияртемнәрен аера белергә;</a:t>
            </a:r>
            <a:endParaRPr b="0" lang="en-US" sz="5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54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2. Алар белән җөмләләр төзергә, аларны дөрес язарга өйрәнергә;</a:t>
            </a:r>
            <a:endParaRPr b="0" lang="en-US" sz="5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 </a:t>
            </a:r>
            <a:endParaRPr b="0" lang="en-US" sz="5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Прямоугольник 1"/>
          <p:cNvSpPr/>
          <p:nvPr/>
        </p:nvSpPr>
        <p:spPr>
          <a:xfrm>
            <a:off x="324000" y="189000"/>
            <a:ext cx="748800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0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Ләң – ләң, кыйгак – кыйгак, бак – бак, шыбыр – шыбыр, тып – тып, чепер – чепер, микикики, лап – лоп, чут – чут...чут – чут...чут – чут ..., дөбер – дөбер, чырык – чырык, мыгыр – мыгыр, тырт – мырт, гөлт, ялт – йолт, әлҗе – мөлҗе, кәк – кәк – күк...кәк – күк....кәк – күк...</a:t>
            </a:r>
            <a:r>
              <a:rPr b="0" lang="tt-RU" sz="40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TextBox 1"/>
          <p:cNvSpPr/>
          <p:nvPr/>
        </p:nvSpPr>
        <p:spPr>
          <a:xfrm>
            <a:off x="108000" y="115920"/>
            <a:ext cx="7848720" cy="606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</a:t>
            </a:r>
            <a:r>
              <a:rPr b="1" lang="tt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өзелеше буенча: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Ялгызак</a:t>
            </a:r>
            <a:r>
              <a:rPr b="0" lang="tt-RU" sz="32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: </a:t>
            </a:r>
            <a:r>
              <a:rPr b="0" lang="tt-RU" sz="44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микикики</a:t>
            </a:r>
            <a:r>
              <a:rPr b="0" lang="tt-RU" sz="32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  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арлы:</a:t>
            </a:r>
            <a:r>
              <a:rPr b="0" lang="tt-RU" sz="32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  </a:t>
            </a:r>
            <a:r>
              <a:rPr b="0" lang="tt-RU" sz="44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кыйгак - кыйгак</a:t>
            </a: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атлаулы:</a:t>
            </a:r>
            <a:r>
              <a:rPr b="0" lang="tt-RU" sz="32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  </a:t>
            </a:r>
            <a:r>
              <a:rPr b="0" lang="tt-RU" sz="44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кәк – кәк – күк...кәк – күк....кәк – күк... </a:t>
            </a: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2" descr="&amp;Tcy;&amp;Ocy;&amp;Pcy;-10 &amp;scy;&amp;acy;&amp;mcy;&amp;ycy;&amp;khcy; &amp;khcy;&amp;icy;&amp;tcy;&amp;rcy;&amp;ycy;&amp;khcy; &amp;zhcy;&amp;icy;&amp;vcy;&amp;ocy;&amp;tcy;&amp;ncy;&amp;ycy;&amp;khcy; &amp;pcy;&amp;lcy;&amp;acy;&amp;ncy;&amp;iecy;&amp;tcy;&amp;ycy; (&amp;Fcy;&amp;Ocy;&amp;Tcy;&amp;Ocy;) &amp;Mcy;&amp;ucy;&amp;zhcy;&amp;icy;&amp;kcy;&amp;acy;&amp;mcy; - &amp;ncy;&amp;iecy;&amp;tcy;!"/>
          <p:cNvPicPr/>
          <p:nvPr/>
        </p:nvPicPr>
        <p:blipFill>
          <a:blip r:embed="rId1"/>
          <a:stretch/>
        </p:blipFill>
        <p:spPr>
          <a:xfrm>
            <a:off x="250920" y="179280"/>
            <a:ext cx="7489800" cy="5614920"/>
          </a:xfrm>
          <a:prstGeom prst="rect">
            <a:avLst/>
          </a:prstGeom>
          <a:ln w="0">
            <a:noFill/>
          </a:ln>
        </p:spPr>
      </p:pic>
      <p:sp>
        <p:nvSpPr>
          <p:cNvPr id="234" name="TextBox 1"/>
          <p:cNvSpPr/>
          <p:nvPr/>
        </p:nvSpPr>
        <p:spPr>
          <a:xfrm>
            <a:off x="1692360" y="5794200"/>
            <a:ext cx="489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Кәккүк, күке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2" descr="&amp;Fcy;&amp;ocy;&amp;tcy;&amp;ocy; &amp;pcy;&amp;rcy;&amp;icy;&amp;rcy;&amp;ocy;&amp;dcy;&amp;acy;, &amp;pcy;&amp;tcy;&amp;acy;&amp;khcy;&amp;icy;, &amp;dcy;&amp;yacy;&amp;tcy;&amp;iecy;&amp;lcy;, &amp;pcy;&amp;iecy;&amp;rcy;&amp;ncy;&amp;acy;&amp;tcy;&amp;iukcy;, &amp;scy;&amp;acy;&amp;ncy;&amp;iukcy;&amp;tcy;&amp;acy;&amp;rcy; &amp;lcy;&amp;iukcy;&amp;scy;&amp;ucy;"/>
          <p:cNvPicPr/>
          <p:nvPr/>
        </p:nvPicPr>
        <p:blipFill>
          <a:blip r:embed="rId1"/>
          <a:stretch/>
        </p:blipFill>
        <p:spPr>
          <a:xfrm>
            <a:off x="0" y="174600"/>
            <a:ext cx="7812000" cy="5859360"/>
          </a:xfrm>
          <a:prstGeom prst="rect">
            <a:avLst/>
          </a:prstGeom>
          <a:ln w="0">
            <a:noFill/>
          </a:ln>
        </p:spPr>
      </p:pic>
      <p:sp>
        <p:nvSpPr>
          <p:cNvPr id="236" name="TextBox 1"/>
          <p:cNvSpPr/>
          <p:nvPr/>
        </p:nvSpPr>
        <p:spPr>
          <a:xfrm>
            <a:off x="1835280" y="5896080"/>
            <a:ext cx="439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0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тукран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extBox 1"/>
          <p:cNvSpPr/>
          <p:nvPr/>
        </p:nvSpPr>
        <p:spPr>
          <a:xfrm>
            <a:off x="718200" y="765000"/>
            <a:ext cx="67309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60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Чылтыра, тыкылда, </a:t>
            </a:r>
            <a:endParaRPr b="0" lang="en-US" sz="6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60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мышна, доңгылдый</a:t>
            </a:r>
            <a:endParaRPr b="0" lang="en-US" sz="6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60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 </a:t>
            </a:r>
            <a:r>
              <a:rPr b="0" lang="tt-RU" sz="60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кыткылда, чыңла, </a:t>
            </a:r>
            <a:endParaRPr b="0" lang="en-US" sz="6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60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ялт итү, гөж килү</a:t>
            </a:r>
            <a:endParaRPr b="0" lang="en-US" sz="6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0" y="3715920"/>
            <a:ext cx="78120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t-RU" sz="1000" spc="-1" strike="noStrike">
                <a:solidFill>
                  <a:srgbClr val="f7d47d"/>
                </a:solidFill>
                <a:latin typeface="Arial"/>
              </a:rPr>
              <a:t>“</a:t>
            </a: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r>
              <a:rPr b="0" i="1" lang="tt-RU" sz="3200" spc="-1" strike="noStrike">
                <a:solidFill>
                  <a:srgbClr val="002060"/>
                </a:solidFill>
                <a:latin typeface="Arial"/>
              </a:rPr>
              <a:t>“</a:t>
            </a:r>
            <a:r>
              <a:rPr b="1" i="1" lang="tt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ез-татарлар, телебез-татар теле, мөстәкыйль hәм төзек кагыйдәле камил тел ул ”</a:t>
            </a:r>
            <a:endParaRPr b="0" lang="en-US" sz="32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7" name="Picture 2" descr="&amp;Bcy;&amp;icy;&amp;ocy;&amp;gcy;&amp;rcy;&amp;acy;&amp;fcy;&amp;icy;&amp;yacy; &amp;Kcy;&amp;acy;&amp;yucy;&amp;mcy;&amp;acy; &amp;Ncy;&amp;acy;&amp;scy;&amp;ycy;&amp;rcy;&amp;icy; &amp;Ncy;&amp;acy; &amp;Tcy;&amp;acy;&amp;tcy;&amp;acy;&amp;rcy;&amp;scy;&amp;kcy;&amp;ocy;&amp;mcy; &amp;YAcy;&amp;zcy;&amp;ycy;&amp;kcy;&amp;iecy; 6 &amp;Kcy;&amp;lcy;&amp;acy;&amp;scy;&amp;scy;"/>
          <p:cNvPicPr/>
          <p:nvPr/>
        </p:nvPicPr>
        <p:blipFill>
          <a:blip r:embed="rId1"/>
          <a:stretch/>
        </p:blipFill>
        <p:spPr>
          <a:xfrm>
            <a:off x="826920" y="0"/>
            <a:ext cx="4368960" cy="50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0" y="22680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        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39" name="Picture 5" descr="петух"/>
          <p:cNvPicPr/>
          <p:nvPr/>
        </p:nvPicPr>
        <p:blipFill>
          <a:blip r:embed="rId1"/>
          <a:stretch/>
        </p:blipFill>
        <p:spPr>
          <a:xfrm>
            <a:off x="1619280" y="2565360"/>
            <a:ext cx="1584360" cy="210672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8" descr="баран"/>
          <p:cNvPicPr/>
          <p:nvPr/>
        </p:nvPicPr>
        <p:blipFill>
          <a:blip r:embed="rId2"/>
          <a:stretch/>
        </p:blipFill>
        <p:spPr>
          <a:xfrm>
            <a:off x="4788000" y="2637000"/>
            <a:ext cx="1441440" cy="201600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9" descr="корова"/>
          <p:cNvPicPr/>
          <p:nvPr/>
        </p:nvPicPr>
        <p:blipFill>
          <a:blip r:embed="rId3"/>
          <a:stretch/>
        </p:blipFill>
        <p:spPr>
          <a:xfrm>
            <a:off x="6227640" y="4149720"/>
            <a:ext cx="1440000" cy="244800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11" descr="лошадь"/>
          <p:cNvPicPr/>
          <p:nvPr/>
        </p:nvPicPr>
        <p:blipFill>
          <a:blip r:embed="rId4"/>
          <a:stretch/>
        </p:blipFill>
        <p:spPr>
          <a:xfrm>
            <a:off x="179280" y="4365720"/>
            <a:ext cx="1440000" cy="223200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12" descr="курица"/>
          <p:cNvPicPr/>
          <p:nvPr/>
        </p:nvPicPr>
        <p:blipFill>
          <a:blip r:embed="rId5"/>
          <a:stretch/>
        </p:blipFill>
        <p:spPr>
          <a:xfrm>
            <a:off x="3203640" y="1844640"/>
            <a:ext cx="1584360" cy="2232000"/>
          </a:xfrm>
          <a:prstGeom prst="rect">
            <a:avLst/>
          </a:prstGeom>
          <a:ln w="0">
            <a:noFill/>
          </a:ln>
        </p:spPr>
      </p:pic>
      <p:sp>
        <p:nvSpPr>
          <p:cNvPr id="244" name="WordArt 15"/>
          <p:cNvSpPr txBox="1"/>
          <p:nvPr/>
        </p:nvSpPr>
        <p:spPr>
          <a:xfrm>
            <a:off x="2124000" y="907920"/>
            <a:ext cx="34196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Йорт хайваннары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245" name="Picture 16" descr="каз"/>
          <p:cNvPicPr/>
          <p:nvPr/>
        </p:nvPicPr>
        <p:blipFill>
          <a:blip r:embed="rId8"/>
          <a:stretch/>
        </p:blipFill>
        <p:spPr>
          <a:xfrm>
            <a:off x="3203640" y="4076640"/>
            <a:ext cx="1584360" cy="252108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11" descr="&amp;dcy;&amp;ocy;&amp;mcy;&amp;acy;&amp;shcy;&amp;ncy;&amp;yacy;&amp;yacy; &amp;kcy;&amp;ocy;&amp;shcy;&amp;kcy;&amp;acy;"/>
          <p:cNvPicPr/>
          <p:nvPr/>
        </p:nvPicPr>
        <p:blipFill>
          <a:blip r:embed="rId9"/>
          <a:stretch/>
        </p:blipFill>
        <p:spPr>
          <a:xfrm>
            <a:off x="71280" y="1405080"/>
            <a:ext cx="1656000" cy="18540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13" descr="&amp;Scy;&amp;acy;&amp;mcy;&amp;ycy;&amp;iecy; &amp;lcy;&amp;ucy;&amp;chcy;&amp;shcy;&amp;icy;&amp;iecy; &amp;scy;&amp;ocy;&amp;bcy;&amp;acy;&amp;kcy;&amp;icy; - &amp;Kcy;&amp;acy;&amp;rcy;&amp;tcy;&amp;icy;&amp;ncy;&amp;kcy;&amp;icy; &amp;scy;&amp;ocy;&amp;bcy;&amp;acy;&amp;chcy;&amp;iecy;&amp;kcy; &amp;dcy;&amp;acy;&amp;rcy;&amp;ocy;&amp;mcy; &amp;Kcy;&amp;acy;&amp;rcy;&amp;tcy;&amp;icy;&amp;ncy;&amp;kcy;&amp;icy; &amp;zcy;&amp;acy;&amp;bcy;&amp;acy;&amp;vcy;&amp;ncy;&amp;ycy;&amp;khcy; &amp;scy;&amp;ocy;&amp;bcy;&amp;acy;&amp;kcy;"/>
          <p:cNvPicPr/>
          <p:nvPr/>
        </p:nvPicPr>
        <p:blipFill>
          <a:blip r:embed="rId10"/>
          <a:stretch/>
        </p:blipFill>
        <p:spPr>
          <a:xfrm>
            <a:off x="6035760" y="917640"/>
            <a:ext cx="1824120" cy="25066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Прямоугольник 1"/>
          <p:cNvSpPr/>
          <p:nvPr/>
        </p:nvSpPr>
        <p:spPr>
          <a:xfrm>
            <a:off x="0" y="333360"/>
            <a:ext cx="7956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Җилбер – җилбер </a:t>
            </a:r>
            <a:r>
              <a:rPr b="1" lang="tt-RU" sz="36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– </a:t>
            </a:r>
            <a:r>
              <a:rPr b="1" lang="tt-RU" sz="36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парлы</a:t>
            </a:r>
            <a:r>
              <a:rPr b="1" lang="tt-RU" sz="36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, </a:t>
            </a:r>
            <a:r>
              <a:rPr b="1" lang="tt-RU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җилберди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даң – даң </a:t>
            </a:r>
            <a:r>
              <a:rPr b="1" lang="tt-RU" sz="36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– </a:t>
            </a:r>
            <a:r>
              <a:rPr b="1" lang="tt-RU" sz="36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парлы</a:t>
            </a:r>
            <a:r>
              <a:rPr b="1" lang="tt-RU" sz="36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, </a:t>
            </a:r>
            <a:r>
              <a:rPr b="1" lang="tt-RU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даңгылдый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Өф – өф </a:t>
            </a:r>
            <a:r>
              <a:rPr b="1" lang="tt-RU" sz="36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– </a:t>
            </a:r>
            <a:r>
              <a:rPr b="1" lang="tt-RU" sz="36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парлы</a:t>
            </a:r>
            <a:r>
              <a:rPr b="1" lang="tt-RU" sz="36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 , </a:t>
            </a:r>
            <a:r>
              <a:rPr b="1" lang="tt-RU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өфелди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Лап</a:t>
            </a:r>
            <a:r>
              <a:rPr b="1" lang="tt-RU" sz="36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 – </a:t>
            </a:r>
            <a:r>
              <a:rPr b="1" lang="tt-RU" sz="36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ялгызак</a:t>
            </a:r>
            <a:r>
              <a:rPr b="1" lang="tt-RU" sz="36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, </a:t>
            </a:r>
            <a:r>
              <a:rPr b="1" lang="tt-RU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лапылдап (лапылдый)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Выж</a:t>
            </a:r>
            <a:r>
              <a:rPr b="1" lang="tt-RU" sz="36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 – </a:t>
            </a:r>
            <a:r>
              <a:rPr b="1" lang="tt-RU" sz="36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ялгызак</a:t>
            </a:r>
            <a:r>
              <a:rPr b="1" lang="tt-RU" sz="36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, </a:t>
            </a:r>
            <a:r>
              <a:rPr b="1" lang="tt-RU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выжлап (выжлый)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Чут – чут...чут – чут ...чут – чут... – </a:t>
            </a:r>
            <a:r>
              <a:rPr b="1" lang="tt-RU" sz="36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катлаулы</a:t>
            </a:r>
            <a:r>
              <a:rPr b="1" lang="tt-RU" sz="36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, </a:t>
            </a:r>
            <a:r>
              <a:rPr b="1" lang="tt-RU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чутылдый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Прямоугольник 1"/>
          <p:cNvSpPr/>
          <p:nvPr/>
        </p:nvSpPr>
        <p:spPr>
          <a:xfrm>
            <a:off x="250920" y="260280"/>
            <a:ext cx="7634160" cy="62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2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Бирелгән җөмләгә морфологик анализ ясарга. (сүз төркемнәрен билгеләргә)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1. Үләргә киткән кызыгыз баеп кайта түгелме, ләң – ләң, ләң – ләң. (татар халык әкияте)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2. Кыйгак – кыйгак каз кычкыра, югалткан ул үзенең бәбкәсен. (татар халык җыры)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3. “Вау!” да “Вау!” да, “һау” да “һау” – бертуктамый этләр өрә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Су анасы куркып этләрдән, кирегә йөгерә.  ( Г. Тукай)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8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0" y="22680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000" spc="-1" strike="noStrike">
                <a:solidFill>
                  <a:srgbClr val="f7d47d"/>
                </a:solidFill>
                <a:latin typeface="Arial"/>
              </a:rPr>
              <a:t>           </a:t>
            </a:r>
            <a:r>
              <a:rPr b="0" lang="tt-RU" sz="4000" spc="-1" strike="noStrike">
                <a:solidFill>
                  <a:srgbClr val="f7d47d"/>
                </a:solidFill>
                <a:latin typeface="Arial"/>
              </a:rPr>
              <a:t>Шәүкәт Галиев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51" name="Picture 5" descr="Ш"/>
          <p:cNvPicPr/>
          <p:nvPr/>
        </p:nvPicPr>
        <p:blipFill>
          <a:blip r:embed="rId1"/>
          <a:stretch/>
        </p:blipFill>
        <p:spPr>
          <a:xfrm>
            <a:off x="468360" y="1125360"/>
            <a:ext cx="5510160" cy="554364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0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18880" y="-101880"/>
            <a:ext cx="74768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-360" y="115560"/>
            <a:ext cx="788508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1</a:t>
            </a:r>
            <a:r>
              <a:rPr b="1" lang="tt-RU" sz="24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. Калын хәрефләр белән бирелгән фигыльнең төрен билгеләгез: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t-RU" sz="24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Һәр укучының </a:t>
            </a:r>
            <a:r>
              <a:rPr b="1" i="1" lang="tt-RU" sz="24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алган</a:t>
            </a:r>
            <a:r>
              <a:rPr b="0" i="1" lang="tt-RU" sz="24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 билгеләре андагы махсус электрон журналларда теркәлә, һәм аны әти – әниләр дә күзәтеп тора ала. 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1) сыйфат фигыль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2) хәл фигыль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3) исем фигыль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4) инфинитив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2. </a:t>
            </a:r>
            <a:r>
              <a:rPr b="0" i="1" lang="tt-RU" sz="24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Ленар микрофон янына</a:t>
            </a:r>
            <a:r>
              <a:rPr b="1" i="1" lang="tt-RU" sz="24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 килеп</a:t>
            </a:r>
            <a:r>
              <a:rPr b="0" i="1" lang="tt-RU" sz="24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 рәхмәт әйтә башлады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1) шарт фигыль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2) хәл фигыль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3) хикәя фигыль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4) исем фигыль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18880" y="-328680"/>
            <a:ext cx="74768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-360" y="45720"/>
            <a:ext cx="7885080" cy="655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1001"/>
              </a:spcBef>
              <a:buSzPct val="1028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0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3. 2 нче җөмләдән санны табып языгыз.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1001"/>
              </a:spcBef>
              <a:buSzPct val="1028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t-RU" sz="40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Татарстаннан Ленар Саматов Иоһанн Себостьян Бах сонаталарын башкарып, беренче урынны алды. 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1001"/>
              </a:spcBef>
              <a:buSzPct val="1028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0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4. 22 нче җөмләдән алмашлыкны табып языгыз.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1001"/>
              </a:spcBef>
              <a:buSzPct val="1028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t-RU" sz="40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Ләкин аңа ярдәм кирәкми иде инде.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1001"/>
              </a:spcBef>
              <a:buSzPct val="10286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18880" y="-147600"/>
            <a:ext cx="74768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263520" y="226800"/>
            <a:ext cx="7386480" cy="62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400" spc="-1" strike="noStrike">
                <a:solidFill>
                  <a:srgbClr val="2f1311"/>
                </a:solidFill>
                <a:latin typeface="Arial"/>
              </a:rPr>
              <a:t>Алмачуар, тозлы, яктырак, унбишенче берәү, аныкы, менә, кичә, күлмәк, зәңгәр, алтмыш, нәрсә, аюдай, татарча,  мияу, тып – тып, шыбыр – шыбыр, даңгыр – доңгыр, бззз.</a:t>
            </a: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4" descr="петух"/>
          <p:cNvPicPr/>
          <p:nvPr/>
        </p:nvPicPr>
        <p:blipFill>
          <a:blip r:embed="rId1"/>
          <a:stretch/>
        </p:blipFill>
        <p:spPr>
          <a:xfrm>
            <a:off x="684360" y="404640"/>
            <a:ext cx="6575400" cy="5545440"/>
          </a:xfrm>
          <a:prstGeom prst="rect">
            <a:avLst/>
          </a:prstGeom>
          <a:ln w="0">
            <a:noFill/>
          </a:ln>
        </p:spPr>
      </p:pic>
      <p:pic>
        <p:nvPicPr>
          <p:cNvPr id="205" name="петух голос.mp3" descr=""/>
          <p:cNvPicPr/>
          <p:nvPr/>
        </p:nvPicPr>
        <p:blipFill>
          <a:blip r:embed="rId2"/>
          <a:stretch/>
        </p:blipFill>
        <p:spPr>
          <a:xfrm>
            <a:off x="971640" y="48690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052" fill="hold"/>
                                        <p:tgtEl>
                                          <p:spTgt spid="2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5" descr="пламя"/>
          <p:cNvPicPr/>
          <p:nvPr/>
        </p:nvPicPr>
        <p:blipFill>
          <a:blip r:embed="rId1"/>
          <a:stretch/>
        </p:blipFill>
        <p:spPr>
          <a:xfrm>
            <a:off x="4284720" y="2349360"/>
            <a:ext cx="3382920" cy="432144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    </a:t>
            </a: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Песи                        Ялкын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08" name="Picture 18" descr="кошка"/>
          <p:cNvPicPr/>
          <p:nvPr/>
        </p:nvPicPr>
        <p:blipFill>
          <a:blip r:embed="rId2"/>
          <a:stretch/>
        </p:blipFill>
        <p:spPr>
          <a:xfrm>
            <a:off x="250920" y="2349360"/>
            <a:ext cx="3673440" cy="431964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       </a:t>
            </a: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Каз                   С</a:t>
            </a:r>
            <a:r>
              <a:rPr b="0" lang="tt-RU" sz="4000" spc="-1" strike="noStrike">
                <a:solidFill>
                  <a:srgbClr val="f7d47d"/>
                </a:solidFill>
                <a:latin typeface="Arial"/>
              </a:rPr>
              <a:t>әгат</a:t>
            </a: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ь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147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1" name="Picture 8" descr="каз"/>
          <p:cNvPicPr/>
          <p:nvPr/>
        </p:nvPicPr>
        <p:blipFill>
          <a:blip r:embed="rId1"/>
          <a:stretch/>
        </p:blipFill>
        <p:spPr>
          <a:xfrm>
            <a:off x="250920" y="1628640"/>
            <a:ext cx="3600360" cy="4464360"/>
          </a:xfrm>
          <a:prstGeom prst="rect">
            <a:avLst/>
          </a:prstGeom>
          <a:ln w="0">
            <a:noFill/>
          </a:ln>
        </p:spPr>
      </p:pic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032000" y="1598760"/>
            <a:ext cx="36176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3" name="Picture 11" descr="часы2"/>
          <p:cNvPicPr/>
          <p:nvPr/>
        </p:nvPicPr>
        <p:blipFill>
          <a:blip r:embed="rId2"/>
          <a:stretch/>
        </p:blipFill>
        <p:spPr>
          <a:xfrm>
            <a:off x="4067280" y="1628640"/>
            <a:ext cx="3600360" cy="446436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032000" y="1598760"/>
            <a:ext cx="36176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6" name="Picture 2" descr="&amp;Pcy;&amp;ocy;&amp;chcy;&amp;iecy;&amp;mcy;&amp;ucy; &amp;ocy;&amp;tcy; &amp;zhcy;&amp;iecy;&amp;vcy;&amp;acy;&amp;tcy;&amp;iecy;&amp;lcy;&amp;softcy;&amp;ncy;&amp;ocy;&amp;jcy; &amp;rcy;&amp;iecy;&amp;zcy;&amp;icy;&amp;ncy;&amp;kcy;&amp;icy; &amp;tcy;&amp;ocy;&amp;lcy;&amp;scy;&amp;tcy;&amp;iecy;&amp;yucy;&amp;tcy;: &amp;kcy;&amp;acy;&amp;kcy; &amp;pcy;&amp;ocy;&amp;khcy;&amp;ucy;&amp;dcy;&amp;iecy;&amp;tcy;&amp;softcy;, &amp;kcy;&amp;acy;&amp;kcy; &amp;scy;&amp;dcy;&amp;iecy;&amp;lcy;&amp;acy;&amp;tcy;&amp;softcy; &amp;zhcy;&amp;vcy;&amp;acy;&amp;chcy;&amp;kcy;&amp;ucy; &amp;Zcy;&amp;dcy;&amp;ocy;&amp;rcy;&amp;ocy;&amp;vcy;&amp;softcy;&amp;iecy; &amp;Scy;&amp;ocy;&amp;bcy;&amp;iecy;&amp;scy;&amp;iecy;&amp;dcy;&amp;ncy;&amp;icy;&amp;kcy;.&amp;rcy;&amp;ucy;"/>
          <p:cNvPicPr/>
          <p:nvPr/>
        </p:nvPicPr>
        <p:blipFill>
          <a:blip r:embed="rId2"/>
          <a:stretch/>
        </p:blipFill>
        <p:spPr>
          <a:xfrm>
            <a:off x="219240" y="171360"/>
            <a:ext cx="7476840" cy="59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7T15:54:27Z</dcterms:created>
  <dc:creator>User</dc:creator>
  <dc:description/>
  <dc:language>en-US</dc:language>
  <cp:lastModifiedBy>Home</cp:lastModifiedBy>
  <dcterms:modified xsi:type="dcterms:W3CDTF">2017-06-07T19:36:36Z</dcterms:modified>
  <cp:revision>32</cp:revision>
  <dc:subject/>
  <dc:title>Аваз ияртемнәре</dc:title>
</cp:coreProperties>
</file>