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bomb.wav" ContentType="audio/x-wav"/>
  <Override PartName="/ppt/media/image20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chimes.wav" ContentType="audio/x-wav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F20-9964-4AE5-B85D-7E858D24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7F4-109D-4128-84FA-BBE00AB1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AD277-D423-4160-A07D-1FD10A4D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A5BB1-0A9F-40EF-A295-B5D6819C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AFFB8-40D0-40DF-AC8B-8C13BE75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722A3-8671-43A0-9428-BFEDBBE3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B45B9-B122-4851-B97C-46A6DCF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DE04D-0164-43F7-8BFE-71A63F4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FBE6C-9E00-481C-B6D7-AAF68621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474B0-AF21-4B11-9CDF-2146C9E7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55B14-35FB-461F-BD6E-42A4A262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1F710-44F7-408D-B21E-7A5B54EE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BF9-469A-4118-8B26-7F242BF7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21438-E476-410C-9920-2C801769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A5BF9-CC0D-40F4-987B-3D7BA222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60D83-D59C-4A99-9508-B6ED48B3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EB87A-12D1-479E-81D7-5D5FD572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439EC-A7A4-4E07-8E4E-2477287A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568E7-B8B2-4973-8AF1-ADED9AD9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517A1-3D8F-4DE5-B144-187E0037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9366C-1B03-4CAB-8002-70562F3C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C0D5D-2A18-4E20-A875-345F85A2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12D93-B362-44B4-B8E0-D7F81D87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E28-FFB6-497F-9A50-C6CC5C7E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397AA-CF5E-4F0E-A31B-F7B1C33E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0BA6B-D2DB-4BC0-AA7F-FF738825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61584-D180-49A1-A394-3A2F426D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4AB55-2946-4E57-9003-11D82534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D2771-10BD-4A76-A7D5-73D4B3A0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99239-4A8D-4020-ACEA-995D1E04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8C85B-20B9-4AC8-A8CC-CEB673CA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27C16-A91E-4AF8-803F-CDBEFA66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E09CF-03D1-44F3-A54D-6807875F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F43F0-3A30-4E72-885C-0AB61EC2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123D-B80F-45AD-8881-3BD3E15C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934C5-77D9-4755-8CA6-E11F7301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0B92B-27E9-44B7-96EC-4A5B7509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360A7-E3DB-458E-8FC4-2E64B293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E94DD-FB5D-4E78-82E1-48043173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409F2-D051-4F9D-828F-B0927FA0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011A7-4EA1-43B5-88FB-0E60DE03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5CBBE-0D66-46EE-A6DE-E6C0C085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0901C-4F48-4B68-ADBD-C092BC95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8D7E4-BE1E-449E-A6E1-C8E6C119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B797B-4A24-4704-8EDF-77CA3E67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C125-2E3A-4AF6-859C-8E09216C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D4695-FB63-46D3-A3E7-8468798C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F57C8-A5E2-46F4-9E9C-CB820307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13F0A-F1BE-4A2D-8F86-8E6059DF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14EB5-F243-4F33-A224-E0118B8A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2926E-E3ED-4701-9C95-C84CC72C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687B9-94B6-41FC-A023-12863D01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73177-632D-4790-AA71-A26321B4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29D3E-CF74-41F4-A0B2-0C107771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ECD3A-BB45-411A-A20D-0AAD4ABE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D056D-66F1-4BD6-A0F7-4CCA4719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751A-1094-42EE-9922-C4F2916D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FCA80-B67D-4FFF-BAFD-3B10FB64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ABF9A-B7F4-4233-8516-E6202004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5563B-B26A-4400-8A02-7D0E9BF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A858C-CC26-4011-A1BB-3746FCDA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AE652-6C3A-4900-B262-1BA2D621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9EF1D-9547-4E82-8B0A-A2B6724C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98AC9-C39F-4510-9968-F81402FB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E213B-03BC-451C-B72F-01853037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ED28A-E304-4366-991A-F632E677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3B856-4F00-4A05-B4BC-54E3F4B0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1595-4E42-46A2-9C8F-D93CBCD2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ABA8F-4CCE-433C-A1AB-45D7C299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21A51-57ED-45DE-B977-538EA567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70F5D-2790-47D5-ADF6-1692CB97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0B588-82D8-4E3B-B25F-54CA4BCD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0F702-4DAF-40A1-B24D-025989A2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1D1A7-1EF5-4725-93C9-36B072A5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87F98-0D8E-42F1-8597-937AFF8C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C7403-CB9E-45B0-911C-5B057C3B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560FC-4B6D-418D-8B1F-977EE176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46FA8-ECB4-4A2F-841C-1AD022AC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B103-9F40-4EBD-A195-B8A2793C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1F3C2-48FA-4413-86D2-5E685B0C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36391-4D7B-4EED-B7D2-33966F4F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45070-904F-409D-9395-0953F9F8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B909F-EDF9-45F8-8A49-CD134666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5EC6E-1B4C-4660-9828-91C28344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6E22E-D188-46E3-A0C1-2A1886BA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7311D-E4F6-4A82-B59A-BDCC063D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6674A-B622-4941-9EC2-664EAC74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F91E0-A8E8-46F6-A098-9E1B97FF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86835-22FA-4169-8188-C2DBABBE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0304-1FF0-4471-B050-FB9BCB2B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C0CE4-CA73-4656-A193-96D6D135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474E8-9F61-4E56-93A3-25026487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79573-7397-4540-8BA8-30B947A8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0745E-0344-4BD8-9CEF-73E476DF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FE749-A953-47A8-B8C6-7A6A8D80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C0863-1B51-4284-ACD1-2D0548A0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A29B9-BC23-4EDD-88FD-251BAC91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2E91A-EE0D-49A0-9E2A-621E9297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CBDC5-14AF-4344-92CC-2F76A378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73A5B-A48B-42B9-A70A-3145446F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013F-B6DA-4FB9-B94D-0567014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0C868-7163-4422-8FB1-D20BB411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632B7-BDFA-4860-9EDB-E539C9E3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16B4D-54E9-4A91-9CF0-0FB8451A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7B3A9-0084-4353-9D72-D467C564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4DAA9-FCE0-43F7-A793-2F459508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6C3EA-CC9D-47E7-8F80-F544B79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3AFBE8-3253-4610-BAFA-AFCB5F66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CA8AD3-B6A8-4DF9-A555-501B453E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90017-2E8B-42D4-9D65-29373718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33421-0617-4397-A011-D7C84FF1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DC4-CF73-4C49-917D-02B42370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937E-A3CB-4470-AC22-246198BF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3DCF1-BDB0-44FF-A611-D0B6862E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F5A29-A6D5-4726-A66C-CAB8F2B5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2E8330-F74D-4A17-B444-FCC990D0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5AF3AA-421D-4077-8399-86837D43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B9532F-E487-4F0B-94B7-25688C1B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DA399-33BA-4E34-A2ED-66F0FD2A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76566-2866-4327-92B1-5B4FCAF4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DF9D5-F0DC-4C6B-8BA3-832921B7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159F1-8491-42B1-B3CD-EC7A2EF7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27EBF6-1D8A-478A-9811-456E0300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CFCA-E5B2-42B6-B154-3239BBBF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265B4-9FF7-435D-91F7-CC92D861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27621-205A-480D-89DB-756BBD4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0B0980-3A75-4F2C-BA92-0D5DA8D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5585F-E280-4111-8460-A8BE9417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3DB50-08DA-4718-B137-03C1D3C6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216E3-8274-4E5A-B908-A3F5FF54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D017AF-D219-479B-A934-F681DA96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032AA-62C6-4965-A2E0-F21B75E2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92173-9D8C-44D8-A6DE-163BC968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8F7E5-03FE-440A-8598-4983BBF5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6676-9C62-4880-8D0C-0410F579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2FDF5-9364-4792-8A01-5FBD621B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0A0F74-548A-4AD2-8876-42DD0235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822E3-E3F0-4237-83E5-143493D4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4DC272-975B-4AA8-B8D5-7648F7B6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04943-5FEA-43B0-9A9D-BBD62B21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32BA8-CB8D-44E0-98E0-3BC7877C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6617C-70DB-4F59-8614-007E60A5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74583-7E9C-4123-BF20-DF80B34C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C994D-663A-435C-B62E-19559413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C545-719E-4016-9108-56AF42BF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CD83-D300-4BF7-80FF-4C33423D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A60B-54B4-4F15-A2F2-C3C33FE0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2A5D-1B9E-4526-8110-3071613F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FE61-E71B-4978-BC28-EE794D06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2797-3CDD-489D-A30E-858064A0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23A5-F1B4-4B7A-9829-ED6786B5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DC3-8186-4724-B82A-95B6D052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FD63-19FC-4E2E-87D9-84784B8A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968F-D91D-4E3B-B330-812E3257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949E-F7C1-4CDF-818C-31894C0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DA92-4191-4E52-9658-9288D994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0BD3-944C-4F08-BE32-B9EC82B7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E85A-51A2-418C-9125-AC615815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694C-AB78-4D5F-AABA-6320283B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C414B-1CAA-489A-8AF6-9FEBD74E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36EC-29EC-4766-8DAC-85345229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D510D-40DF-4C9B-ACE3-C5714FEC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D89-C1E3-405C-A975-A60A5E3A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01FC-FA00-4DD1-B20C-0013742B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395E3-5774-426E-9E12-C9908F74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829F-E8D7-4A8D-B759-B4D8234A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235A4-FA44-4BF5-8070-CF9FFA52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DA784-03F7-4DED-9C64-F59EBDD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888A1-74FE-41E9-B1A6-8837F8F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26D0C-FB7F-4CD1-B60D-E614BD1D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D95A-6BC3-4249-967F-5030A68C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79DA-9F92-4116-925B-E2D88552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C5F9B-D46F-4E3F-A233-90BF4D18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BA3-0320-49A2-A89B-CCC50FB5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F7FB3-3846-4559-A76F-CF66E6F9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9FEF6-631B-4003-9FB6-7AC73277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75920-AF89-429E-B907-509D88C5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6B09D-6EA0-4232-8D37-14F5D7AC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D704B-ED8B-4AFC-8BCD-D920C716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6DA94-7EBE-4E0C-A755-E8D4404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7215-F683-4172-9A78-0BF1DEE1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07347-2F64-4CD0-BA39-0B84A1FD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5D418-1288-40EA-A50F-EB0F8FF0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27A75-58D9-4BDC-98CC-7894D77F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6B1-4BB5-427A-BF85-45D8F72F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D6FC3-2847-4783-A7B7-9FEAE445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FDA81-231D-484B-BEF9-253DD459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C2F14-6F44-4249-9988-149CF09A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D989-D558-4457-BCDD-7BCF93A8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C56F9-C5E0-4413-B193-A48D2C04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5E9D1-E078-4425-80EE-C8B10B5F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53772-B5C0-4118-B0FC-EF6F1885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0BBFB-5181-4BD7-97EF-AF149358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EDB19-1A21-4CE1-9786-A94FBC13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9E91B-068A-482F-B175-AA45AEDD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B3A-D4DB-4D6B-9DC8-F55240AD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9C807-574F-4808-9545-6DDCA99F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32329-336C-40B2-8D8B-A155DD90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7E6C4-2A70-451E-A0D7-66A0B099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28A00-F509-4B7B-A6A2-4D8CC405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AE0E9-DB6D-4B30-A784-6CACFCEE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3B50F-2C03-4DB3-A034-0D7D992A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2743C-F685-41BE-9C84-AC51D571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1F24F-BCFE-4E0F-9181-577DA095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23B76-0BE4-4213-A96A-CB539B1F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A9056-D2F7-442A-91B6-B1790713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667-C11F-4013-86A3-546479F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E570A-D29D-4D72-BE6A-82050CAA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DC593-CA76-478F-8C70-95E4D21B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2C61B-CF56-450A-864E-A92AF69A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DEADB-32BC-453E-B046-2AED2640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30895-C53F-4A14-8ADD-693E6866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A6B5F-EAB6-404B-BB80-B5784E1B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71652-68FC-478F-8F33-5EFB7DB3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3BED23-7808-43AA-9576-9C5C89F0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F78384-2A07-414A-8884-86EB7CF3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75FAD2-B95B-41EF-AB76-29CCBE1E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C01-9A80-4590-B40C-4481614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DEB149-2B0C-43DE-ACEB-DD04A318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FEF49-9988-49D9-A34F-21C5B113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726BEC-88D4-4530-8610-00DD88E6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4D346B-85BC-461F-B89C-94B53090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43D384-258E-44FA-90AE-80BA9AEC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8333FF-AF21-4B60-AD32-99FB833A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3AA62B-3AA7-4F8A-A054-105FE27D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81EA4-6E36-4238-99EB-199108B8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93572-FCB3-4F8F-8769-E9C26ADC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1430C-CB35-4D62-B22E-54423F10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BAF0-2454-4820-87CB-05EDFD8B93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62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62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63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63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63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Oval 10"/>
                  <p:cNvSpPr/>
                  <p:nvPr/>
                </p:nvSpPr>
                <p:spPr>
                  <a:xfrm>
                    <a:off x="5109480" y="2233800"/>
                    <a:ext cx="712440" cy="50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636" name="Group 12"/>
                  <p:cNvGrpSpPr/>
                  <p:nvPr/>
                </p:nvGrpSpPr>
                <p:grpSpPr>
                  <a:xfrm>
                    <a:off x="5760000" y="2322720"/>
                    <a:ext cx="2560680" cy="2740320"/>
                    <a:chOff x="5760000" y="2322720"/>
                    <a:chExt cx="2560680" cy="2740320"/>
                  </a:xfrm>
                </p:grpSpPr>
                <p:sp>
                  <p:nvSpPr>
                    <p:cNvPr id="637" name="Freeform 13"/>
                    <p:cNvSpPr/>
                    <p:nvPr/>
                  </p:nvSpPr>
                  <p:spPr>
                    <a:xfrm rot="2711400">
                      <a:off x="5582160" y="3021120"/>
                      <a:ext cx="21294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Freeform 14"/>
                    <p:cNvSpPr/>
                    <p:nvPr/>
                  </p:nvSpPr>
                  <p:spPr>
                    <a:xfrm rot="2711400">
                      <a:off x="7133400" y="4142880"/>
                      <a:ext cx="1141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15"/>
                  <p:cNvGrpSpPr/>
                  <p:nvPr/>
                </p:nvGrpSpPr>
                <p:grpSpPr>
                  <a:xfrm>
                    <a:off x="5788080" y="2148840"/>
                    <a:ext cx="3038760" cy="2528640"/>
                    <a:chOff x="5788080" y="2148840"/>
                    <a:chExt cx="3038760" cy="2528640"/>
                  </a:xfrm>
                </p:grpSpPr>
                <p:sp>
                  <p:nvSpPr>
                    <p:cNvPr id="640" name="Freeform 16"/>
                    <p:cNvSpPr/>
                    <p:nvPr/>
                  </p:nvSpPr>
                  <p:spPr>
                    <a:xfrm rot="2103600">
                      <a:off x="5707440" y="2752200"/>
                      <a:ext cx="2235600" cy="42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64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64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64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65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Group 30"/>
                  <p:cNvGrpSpPr/>
                  <p:nvPr/>
                </p:nvGrpSpPr>
                <p:grpSpPr>
                  <a:xfrm>
                    <a:off x="5788440" y="1304640"/>
                    <a:ext cx="2364480" cy="785520"/>
                    <a:chOff x="5788440" y="1304640"/>
                    <a:chExt cx="2364480" cy="785520"/>
                  </a:xfrm>
                </p:grpSpPr>
                <p:sp>
                  <p:nvSpPr>
                    <p:cNvPr id="655" name="Freeform 31"/>
                    <p:cNvSpPr/>
                    <p:nvPr/>
                  </p:nvSpPr>
                  <p:spPr>
                    <a:xfrm rot="20797200">
                      <a:off x="5798160" y="16524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65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66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66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66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67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67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67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67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68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68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68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Group 66"/>
                  <p:cNvGrpSpPr/>
                  <p:nvPr/>
                </p:nvGrpSpPr>
                <p:grpSpPr>
                  <a:xfrm>
                    <a:off x="4449240" y="244800"/>
                    <a:ext cx="1122840" cy="1946880"/>
                    <a:chOff x="4449240" y="244800"/>
                    <a:chExt cx="1122840" cy="1946880"/>
                  </a:xfrm>
                </p:grpSpPr>
                <p:sp>
                  <p:nvSpPr>
                    <p:cNvPr id="691" name="Freeform 67"/>
                    <p:cNvSpPr/>
                    <p:nvPr/>
                  </p:nvSpPr>
                  <p:spPr>
                    <a:xfrm flipH="1" rot="4126800">
                      <a:off x="4555800" y="1400040"/>
                      <a:ext cx="131004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Freeform 68"/>
                    <p:cNvSpPr/>
                    <p:nvPr/>
                  </p:nvSpPr>
                  <p:spPr>
                    <a:xfrm flipH="1" rot="4126800">
                      <a:off x="4419360" y="438480"/>
                      <a:ext cx="7009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69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69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70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Group 80"/>
                  <p:cNvGrpSpPr/>
                  <p:nvPr/>
                </p:nvGrpSpPr>
                <p:grpSpPr>
                  <a:xfrm>
                    <a:off x="5351040" y="387360"/>
                    <a:ext cx="1889640" cy="1795320"/>
                    <a:chOff x="5351040" y="387360"/>
                    <a:chExt cx="1889640" cy="1795320"/>
                  </a:xfrm>
                </p:grpSpPr>
                <p:sp>
                  <p:nvSpPr>
                    <p:cNvPr id="70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Freeform 82"/>
                    <p:cNvSpPr/>
                    <p:nvPr/>
                  </p:nvSpPr>
                  <p:spPr>
                    <a:xfrm rot="18822600">
                      <a:off x="6403320" y="584280"/>
                      <a:ext cx="76788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70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71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89"/>
                  <p:cNvGrpSpPr/>
                  <p:nvPr/>
                </p:nvGrpSpPr>
                <p:grpSpPr>
                  <a:xfrm>
                    <a:off x="3791520" y="2649960"/>
                    <a:ext cx="1482120" cy="2999160"/>
                    <a:chOff x="3791520" y="2649960"/>
                    <a:chExt cx="1482120" cy="2999160"/>
                  </a:xfrm>
                </p:grpSpPr>
                <p:sp>
                  <p:nvSpPr>
                    <p:cNvPr id="714" name="Freeform 90"/>
                    <p:cNvSpPr/>
                    <p:nvPr/>
                  </p:nvSpPr>
                  <p:spPr>
                    <a:xfrm flipH="1" rot="17543400">
                      <a:off x="3737880" y="3440520"/>
                      <a:ext cx="1967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91"/>
                    <p:cNvSpPr/>
                    <p:nvPr/>
                  </p:nvSpPr>
                  <p:spPr>
                    <a:xfrm flipH="1" rot="17543400">
                      <a:off x="3744720" y="4743000"/>
                      <a:ext cx="10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" name="Group 92"/>
                  <p:cNvGrpSpPr/>
                  <p:nvPr/>
                </p:nvGrpSpPr>
                <p:grpSpPr>
                  <a:xfrm>
                    <a:off x="4507920" y="2700000"/>
                    <a:ext cx="875880" cy="2927160"/>
                    <a:chOff x="4507920" y="2700000"/>
                    <a:chExt cx="875880" cy="2927160"/>
                  </a:xfrm>
                </p:grpSpPr>
                <p:sp>
                  <p:nvSpPr>
                    <p:cNvPr id="717" name="Freeform 93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Freeform 94"/>
                    <p:cNvSpPr/>
                    <p:nvPr/>
                  </p:nvSpPr>
                  <p:spPr>
                    <a:xfrm flipH="1" rot="16870800">
                      <a:off x="4365720" y="480636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72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72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72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72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Group 107"/>
                  <p:cNvGrpSpPr/>
                  <p:nvPr/>
                </p:nvGrpSpPr>
                <p:grpSpPr>
                  <a:xfrm>
                    <a:off x="4960800" y="2886840"/>
                    <a:ext cx="666000" cy="2717640"/>
                    <a:chOff x="4960800" y="2886840"/>
                    <a:chExt cx="666000" cy="2717640"/>
                  </a:xfrm>
                </p:grpSpPr>
                <p:sp>
                  <p:nvSpPr>
                    <p:cNvPr id="732" name="Freeform 108"/>
                    <p:cNvSpPr/>
                    <p:nvPr/>
                  </p:nvSpPr>
                  <p:spPr>
                    <a:xfrm rot="5755200">
                      <a:off x="4534200" y="3666240"/>
                      <a:ext cx="1773720" cy="22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Freeform 109"/>
                    <p:cNvSpPr/>
                    <p:nvPr/>
                  </p:nvSpPr>
                  <p:spPr>
                    <a:xfrm rot="5755200">
                      <a:off x="4714200" y="4932720"/>
                      <a:ext cx="950040" cy="3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73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73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74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526B-E7EE-4007-B5C2-CF1125F3614E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801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C9C9-E872-4AA2-8CB6-7201C35B6B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84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85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D522-B97C-40B4-B5E8-CB6856FD14CE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90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D8E0-A950-4FAC-872F-0B9F420A99AE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BD71-6034-48CF-B5C5-69C1265BF13E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B068-34F0-4D9B-BC23-86492C4A4E6D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A373-7262-4985-B49E-CAD2F0DD564D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07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3" name="Блок-схема: процесс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Блок-схема: процесс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9343-5EF4-4373-9951-C5D478BAF593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1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3FDB-FCD8-491B-B251-F5E9F11B5A5C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6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08E5-CF18-465D-BB9B-A6A00E2AA2E8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19EE-E5E2-47B0-9A06-C4319BDB34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0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EE55-28FB-4C82-A482-DE63CD400B1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7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8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93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94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7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00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03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06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09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212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215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218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221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22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7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30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33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6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239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42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5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248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251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254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8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259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62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5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268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271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74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7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280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283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86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289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1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E3F7-01E8-449B-ADA1-3D5B5ACB628E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355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C8FF-83BF-46D7-AE3F-6023363ADD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483D-9E8D-4E35-95BB-7615002773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FFF7-25E8-4DAD-B98A-E79D883677F2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9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D281-A7E9-42F3-8452-52684E7F77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C44C-E089-4CE8-AF23-2F2AEC8F56C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" Target="slide12.xml"/><Relationship Id="rId4" Type="http://schemas.openxmlformats.org/officeDocument/2006/relationships/image" Target="../media/image1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9.xml"/><Relationship Id="rId4" Type="http://schemas.openxmlformats.org/officeDocument/2006/relationships/image" Target="../media/image18.gif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116000" y="692280"/>
            <a:ext cx="6818400" cy="399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</a:rPr>
              <a:t>Электроскоп.</a:t>
            </a: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</a:rPr>
              <a:t>Электризация тел. </a:t>
            </a:r>
            <a:br>
              <a:rPr sz="3900"/>
            </a:br>
            <a:br>
              <a:rPr sz="3900"/>
            </a:br>
            <a:br>
              <a:rPr sz="1000"/>
            </a:br>
            <a:r>
              <a:rPr b="0" i="1" lang="ru-RU" sz="3900" spc="-1" strike="noStrike">
                <a:solidFill>
                  <a:srgbClr val="006b8d"/>
                </a:solidFill>
                <a:latin typeface="Corbel"/>
              </a:rPr>
              <a:t>8 класс.</a:t>
            </a:r>
            <a:br>
              <a:rPr sz="3900"/>
            </a:br>
            <a:br>
              <a:rPr sz="1400"/>
            </a:br>
            <a:r>
              <a:rPr b="0" i="1" lang="ru-RU" sz="3900" spc="-1" strike="noStrike">
                <a:solidFill>
                  <a:srgbClr val="006b8d"/>
                </a:solidFill>
                <a:latin typeface="Corbel"/>
              </a:rPr>
              <a:t> Урок-исследование.</a:t>
            </a: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Содержимое 7" descr="sm_pic041127.jpg"/>
          <p:cNvPicPr/>
          <p:nvPr/>
        </p:nvPicPr>
        <p:blipFill>
          <a:blip r:embed="rId1"/>
          <a:stretch/>
        </p:blipFill>
        <p:spPr>
          <a:xfrm>
            <a:off x="1785960" y="177336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1255" name="Прямоугольник 6" descr=""/>
          <p:cNvPicPr/>
          <p:nvPr/>
        </p:nvPicPr>
        <p:blipFill>
          <a:blip r:embed="rId2"/>
          <a:stretch/>
        </p:blipFill>
        <p:spPr>
          <a:xfrm>
            <a:off x="1285920" y="291960"/>
            <a:ext cx="6718320" cy="1719360"/>
          </a:xfrm>
          <a:prstGeom prst="rect">
            <a:avLst/>
          </a:prstGeom>
          <a:ln w="0">
            <a:noFill/>
          </a:ln>
        </p:spPr>
      </p:pic>
      <p:pic>
        <p:nvPicPr>
          <p:cNvPr id="1256" name="Рисунок 8" descr="AG00090_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Содержимое 4" descr="Смайлик.gif"/>
          <p:cNvPicPr/>
          <p:nvPr/>
        </p:nvPicPr>
        <p:blipFill>
          <a:blip r:embed="rId1"/>
          <a:stretch/>
        </p:blipFill>
        <p:spPr>
          <a:xfrm>
            <a:off x="2714760" y="2143080"/>
            <a:ext cx="3857400" cy="3643200"/>
          </a:xfrm>
          <a:prstGeom prst="rect">
            <a:avLst/>
          </a:prstGeom>
          <a:ln w="0">
            <a:noFill/>
          </a:ln>
        </p:spPr>
      </p:pic>
      <p:pic>
        <p:nvPicPr>
          <p:cNvPr id="1258" name="Прямоугольник 3" descr=""/>
          <p:cNvPicPr/>
          <p:nvPr/>
        </p:nvPicPr>
        <p:blipFill>
          <a:blip r:embed="rId2"/>
          <a:stretch/>
        </p:blipFill>
        <p:spPr>
          <a:xfrm>
            <a:off x="360360" y="573120"/>
            <a:ext cx="8624880" cy="2189160"/>
          </a:xfrm>
          <a:prstGeom prst="rect">
            <a:avLst/>
          </a:prstGeom>
          <a:ln w="0">
            <a:noFill/>
          </a:ln>
        </p:spPr>
      </p:pic>
      <p:pic>
        <p:nvPicPr>
          <p:cNvPr id="1259" name="Рисунок 6" descr="AG00090_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</a:rPr>
              <a:t>Какой знак заряда на шариках?</a:t>
            </a: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Прямоугольник 3"/>
          <p:cNvSpPr/>
          <p:nvPr/>
        </p:nvSpPr>
        <p:spPr>
          <a:xfrm>
            <a:off x="1857240" y="2500200"/>
            <a:ext cx="50004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Прямоугольник 6"/>
          <p:cNvSpPr/>
          <p:nvPr/>
        </p:nvSpPr>
        <p:spPr>
          <a:xfrm>
            <a:off x="2857680" y="2500200"/>
            <a:ext cx="500040" cy="46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Прямая соединительная линия 8"/>
          <p:cNvSpPr/>
          <p:nvPr/>
        </p:nvSpPr>
        <p:spPr>
          <a:xfrm flipH="1">
            <a:off x="1714320" y="2500200"/>
            <a:ext cx="392040" cy="8575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Прямая соединительная линия 10"/>
          <p:cNvSpPr/>
          <p:nvPr/>
        </p:nvSpPr>
        <p:spPr>
          <a:xfrm>
            <a:off x="3106080" y="2500200"/>
            <a:ext cx="393480" cy="8575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Овал 13"/>
          <p:cNvSpPr/>
          <p:nvPr/>
        </p:nvSpPr>
        <p:spPr>
          <a:xfrm>
            <a:off x="1500120" y="3357720"/>
            <a:ext cx="285840" cy="2854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Овал 14"/>
          <p:cNvSpPr/>
          <p:nvPr/>
        </p:nvSpPr>
        <p:spPr>
          <a:xfrm>
            <a:off x="3357720" y="3357720"/>
            <a:ext cx="285480" cy="2854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Овал 16"/>
          <p:cNvSpPr/>
          <p:nvPr/>
        </p:nvSpPr>
        <p:spPr>
          <a:xfrm>
            <a:off x="2214720" y="3429000"/>
            <a:ext cx="914400" cy="914400"/>
          </a:xfrm>
          <a:prstGeom prst="ellipse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Прямоугольник 17"/>
          <p:cNvSpPr/>
          <p:nvPr/>
        </p:nvSpPr>
        <p:spPr>
          <a:xfrm>
            <a:off x="2643120" y="4357800"/>
            <a:ext cx="71640" cy="71424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Прямоугольник 18"/>
          <p:cNvSpPr/>
          <p:nvPr/>
        </p:nvSpPr>
        <p:spPr>
          <a:xfrm>
            <a:off x="2214720" y="5072040"/>
            <a:ext cx="857160" cy="7164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1" name="Прямая соединительная линия 20" descr=""/>
          <p:cNvPicPr/>
          <p:nvPr/>
        </p:nvPicPr>
        <p:blipFill>
          <a:blip r:embed="rId1"/>
          <a:stretch/>
        </p:blipFill>
        <p:spPr>
          <a:xfrm>
            <a:off x="2346480" y="3790800"/>
            <a:ext cx="652320" cy="184320"/>
          </a:xfrm>
          <a:prstGeom prst="rect">
            <a:avLst/>
          </a:prstGeom>
          <a:ln w="0">
            <a:noFill/>
          </a:ln>
        </p:spPr>
      </p:pic>
      <p:sp>
        <p:nvSpPr>
          <p:cNvPr id="1272" name="TextBox 22"/>
          <p:cNvSpPr/>
          <p:nvPr/>
        </p:nvSpPr>
        <p:spPr>
          <a:xfrm>
            <a:off x="1288440" y="36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Box 24"/>
          <p:cNvSpPr/>
          <p:nvPr/>
        </p:nvSpPr>
        <p:spPr>
          <a:xfrm>
            <a:off x="3575160" y="36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5276520" y="1523880"/>
            <a:ext cx="291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6fc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А  +, а на Б -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0f6fc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А -, а на Б +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0f6fc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А + и на Б +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0f6fc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А - и на Б -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5" name="Содержимое 7" descr="sm_pic041127.jpg"/>
          <p:cNvPicPr/>
          <p:nvPr/>
        </p:nvPicPr>
        <p:blipFill>
          <a:blip r:embed="rId1"/>
          <a:stretch/>
        </p:blipFill>
        <p:spPr>
          <a:xfrm>
            <a:off x="1785960" y="177336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1276" name="Прямоугольник 6" descr=""/>
          <p:cNvPicPr/>
          <p:nvPr/>
        </p:nvPicPr>
        <p:blipFill>
          <a:blip r:embed="rId2"/>
          <a:stretch/>
        </p:blipFill>
        <p:spPr>
          <a:xfrm>
            <a:off x="1285920" y="291960"/>
            <a:ext cx="6718320" cy="1719360"/>
          </a:xfrm>
          <a:prstGeom prst="rect">
            <a:avLst/>
          </a:prstGeom>
          <a:ln w="0">
            <a:noFill/>
          </a:ln>
        </p:spPr>
      </p:pic>
      <p:pic>
        <p:nvPicPr>
          <p:cNvPr id="1277" name="Рисунок 8" descr="AG00090_.GIF"/>
          <p:cNvPicPr/>
          <p:nvPr/>
        </p:nvPicPr>
        <p:blipFill>
          <a:blip r:embed="rId3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1279" name="Содержимое 4" descr="Смайлик.gif"/>
          <p:cNvPicPr/>
          <p:nvPr/>
        </p:nvPicPr>
        <p:blipFill>
          <a:blip r:embed="rId1"/>
          <a:stretch/>
        </p:blipFill>
        <p:spPr>
          <a:xfrm>
            <a:off x="2714760" y="2143080"/>
            <a:ext cx="3857400" cy="3643200"/>
          </a:xfrm>
          <a:prstGeom prst="rect">
            <a:avLst/>
          </a:prstGeom>
          <a:ln w="0">
            <a:noFill/>
          </a:ln>
        </p:spPr>
      </p:pic>
      <p:pic>
        <p:nvPicPr>
          <p:cNvPr id="1280" name="Прямоугольник 3" descr=""/>
          <p:cNvPicPr/>
          <p:nvPr/>
        </p:nvPicPr>
        <p:blipFill>
          <a:blip r:embed="rId2"/>
          <a:stretch/>
        </p:blipFill>
        <p:spPr>
          <a:xfrm>
            <a:off x="360360" y="573120"/>
            <a:ext cx="8624880" cy="2189160"/>
          </a:xfrm>
          <a:prstGeom prst="rect">
            <a:avLst/>
          </a:prstGeom>
          <a:ln w="0">
            <a:noFill/>
          </a:ln>
        </p:spPr>
      </p:pic>
      <p:pic>
        <p:nvPicPr>
          <p:cNvPr id="1281" name="Рисунок 6" descr="AG00090_.GIF"/>
          <p:cNvPicPr/>
          <p:nvPr/>
        </p:nvPicPr>
        <p:blipFill>
          <a:blip r:embed="rId3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</a:rPr>
              <a:t>Выберите из предложенных материалов проводники электричества.</a:t>
            </a: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1500120" y="18568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ирпич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рев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мо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лове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люми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зи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4" name="Управляющая кнопка: сведения 3"/>
          <p:cNvSpPr/>
          <p:nvPr/>
        </p:nvSpPr>
        <p:spPr>
          <a:xfrm>
            <a:off x="8215200" y="607212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5" name="Содержимое 7" descr="sm_pic041127.jpg"/>
          <p:cNvPicPr/>
          <p:nvPr/>
        </p:nvPicPr>
        <p:blipFill>
          <a:blip r:embed="rId1"/>
          <a:stretch/>
        </p:blipFill>
        <p:spPr>
          <a:xfrm>
            <a:off x="1785960" y="177336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1286" name="Прямоугольник 6" descr=""/>
          <p:cNvPicPr/>
          <p:nvPr/>
        </p:nvPicPr>
        <p:blipFill>
          <a:blip r:embed="rId2"/>
          <a:stretch/>
        </p:blipFill>
        <p:spPr>
          <a:xfrm>
            <a:off x="1285920" y="291960"/>
            <a:ext cx="6718320" cy="1719360"/>
          </a:xfrm>
          <a:prstGeom prst="rect">
            <a:avLst/>
          </a:prstGeom>
          <a:ln w="0">
            <a:noFill/>
          </a:ln>
        </p:spPr>
      </p:pic>
      <p:pic>
        <p:nvPicPr>
          <p:cNvPr id="1287" name="Рисунок 8" descr="AG00090_.GIF"/>
          <p:cNvPicPr/>
          <p:nvPr/>
        </p:nvPicPr>
        <p:blipFill>
          <a:blip r:embed="rId3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Содержимое 4" descr="Смайлик.gif"/>
          <p:cNvPicPr/>
          <p:nvPr/>
        </p:nvPicPr>
        <p:blipFill>
          <a:blip r:embed="rId1"/>
          <a:stretch/>
        </p:blipFill>
        <p:spPr>
          <a:xfrm>
            <a:off x="2714760" y="2143080"/>
            <a:ext cx="3857400" cy="3643200"/>
          </a:xfrm>
          <a:prstGeom prst="rect">
            <a:avLst/>
          </a:prstGeom>
          <a:ln w="0">
            <a:noFill/>
          </a:ln>
        </p:spPr>
      </p:pic>
      <p:pic>
        <p:nvPicPr>
          <p:cNvPr id="1289" name="Прямоугольник 3" descr=""/>
          <p:cNvPicPr/>
          <p:nvPr/>
        </p:nvPicPr>
        <p:blipFill>
          <a:blip r:embed="rId2"/>
          <a:stretch/>
        </p:blipFill>
        <p:spPr>
          <a:xfrm>
            <a:off x="360360" y="573120"/>
            <a:ext cx="8624880" cy="2189160"/>
          </a:xfrm>
          <a:prstGeom prst="rect">
            <a:avLst/>
          </a:prstGeom>
          <a:ln w="0">
            <a:noFill/>
          </a:ln>
        </p:spPr>
      </p:pic>
      <p:pic>
        <p:nvPicPr>
          <p:cNvPr id="1290" name="Рисунок 6" descr="AG00090_.GIF"/>
          <p:cNvPicPr/>
          <p:nvPr/>
        </p:nvPicPr>
        <p:blipFill>
          <a:blip r:embed="rId3"/>
          <a:stretch/>
        </p:blipFill>
        <p:spPr>
          <a:xfrm>
            <a:off x="7858080" y="5637240"/>
            <a:ext cx="54756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Применение электризации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187280" y="2276640"/>
            <a:ext cx="7499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крашивание детал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 принтера при печа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пчение продук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мес теста на крупных заводах и кондитерски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чистка промышленных газов и д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ВОПРОСЫ К ФИЗИЧЕСКОМУ ДИКТАНТУ </a:t>
            </a:r>
            <a:br>
              <a:rPr sz="3900"/>
            </a:br>
            <a:r>
              <a:rPr b="1" i="1" lang="ru-RU" sz="39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в электронной книге</a:t>
            </a:r>
            <a:br>
              <a:rPr sz="32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1187280" y="2276640"/>
            <a:ext cx="7499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 частицу, имеющую самый маленький заряд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, через которые электрические заряды не могут переходить от заряженного тела к незаряженном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ядоченное (направленное) движение заряженных частиц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, не имеющая заряд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, потерявший один или несколько электрон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и, на которых изображены способы соединения электрических приборов в цеп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560" indent="-27756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, который приобретает отрицательный заряд в результате присоединения лишнего электрона к нейтральному атом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Из истории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т слова «янтарь» (по-гречески -электрон) явления притяжения натёртых тел назвали электрически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4873680" y="1599840"/>
            <a:ext cx="3813120" cy="45306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сканирование0050"/>
          <p:cNvPicPr/>
          <p:nvPr/>
        </p:nvPicPr>
        <p:blipFill>
          <a:blip r:embed="rId2"/>
          <a:stretch/>
        </p:blipFill>
        <p:spPr>
          <a:xfrm>
            <a:off x="4857840" y="1030320"/>
            <a:ext cx="3571920" cy="530532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2" descr=""/>
          <p:cNvPicPr/>
          <p:nvPr/>
        </p:nvPicPr>
        <p:blipFill>
          <a:blip r:embed="rId3"/>
          <a:stretch/>
        </p:blipFill>
        <p:spPr>
          <a:xfrm>
            <a:off x="785880" y="1500120"/>
            <a:ext cx="2008080" cy="2500560"/>
          </a:xfrm>
          <a:prstGeom prst="rect">
            <a:avLst/>
          </a:prstGeom>
          <a:ln w="0">
            <a:noFill/>
          </a:ln>
        </p:spPr>
      </p:pic>
      <p:sp>
        <p:nvSpPr>
          <p:cNvPr id="1218" name="TextBox 7"/>
          <p:cNvSpPr/>
          <p:nvPr/>
        </p:nvSpPr>
        <p:spPr>
          <a:xfrm>
            <a:off x="2786040" y="25718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алес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VI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до н. 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b8d"/>
                </a:solidFill>
                <a:latin typeface="Corbel"/>
              </a:rPr>
              <a:t>Работа с кейсами в группах</a:t>
            </a:r>
            <a:br>
              <a:rPr sz="3500"/>
            </a:br>
            <a:endParaRPr b="0" lang="en-US" sz="35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1258560" y="2057040"/>
            <a:ext cx="7499160" cy="25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ключите электронную книгу, откройте папку «КЕЙС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чтите внимательно кейс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судите реальность данного кейс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ьте на вопросы после кейс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ремя на подготовку 4 мину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29680" indent="-177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ин из группы зачитывает текст и отвечает на поставленные вопрос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Кейс 1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астеру прядильного цеха Волохову Степану Ивановичу был объявлен выговор за то, что он не следил за влажностным режимом в цеху. По его вине, нити при электризации друг о друга и о детали станка,  путались и рвались. Степан Иванович с выговором был не согласен. Он считал, что в разрыве нитей виноваты работницы, которые плохо следили за работой стан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просы к кейсу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Почему так важен влажностный режим в цехах текстильной промышленнос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Справедливо ли был наказан мастер Степан Иванович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Могли ли быть последствия при трении нитей и не соблюдении влажностного режима более серьёзными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Кейс 2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571760" y="1071720"/>
            <a:ext cx="73627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миссия, проверяющая работу в типографии была возмущена тем, что несколько раз в день печатные (ротационные) машины отключались, для проведения в цеху влажной уборки. Это, по их мнению, снижало производительность труда, повышало себестоимость печатной продукции. Мастер цеха Петров Иван Иванович объяснил, что это необходимо делать для того, чтобы снять статическое электричество с бумаги и машины, для предотвращения заминания и порыва бумаги и возможности пожа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просы к кейсу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Кто прав?  Иван Иванович или комиссия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Как повысить производительность труда и себестоимость печатной продукции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Кейс 3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еханик автоколонны по перевозке нефти Сидоров Пётр Кузьмич не подписал путёвку в рейс Синицину Дмитрию Викторовичу, так как на его бензовозе цепь утратила несколько звеньев и была недостаточно длинной. Однако Синицин самовольно покинул автогараж и уехал в рейс, так как не хотел, чтобы пропал рабочий день. На посту ДПС бензовоз был остановлен и отправлен на принудительную стоянку за несоблюдение правил перевозки опасных грузов. По решению суда Синицин был лишён водительских прав сроком на 1 год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просы к кейсу: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Зачем к бензовозам прицепляют цепь до земли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Прав ли был механик автоколонны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Не слишком ли суровое наказание понёс Синицин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Кейс 4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ятность в дороге произошла с водителем-любителем Смирновой Ольгой Ивановной. Её автомобиль не доехав немного до автозаправки остановился, т.к. кончился бензин. Ольга Ивановна всегда возила с собой в багажнике, на всякий случай, небольшую, симпатичную, пластиковую канистру с бензином. - Какая я всё-таки молодец! – подумала Ольга Ивановна, долила бензин в бензобак и поехала дальш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к кейсу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ительно ли «молодец» Ольга Ивановна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ую важную ошибку допустила Ольга Ивановна? Что могло случиться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должен делать водитель, что бы такая неприятность с ним не случилась в дороге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Домашнее задание. 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1258560" y="2133360"/>
            <a:ext cx="7499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. 25-27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полнить до конца граф-схем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готовить сообщение «Использование способа заземления в быту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b8d"/>
                </a:solidFill>
                <a:latin typeface="Corbel"/>
              </a:rPr>
              <a:t>Пример синквейна</a:t>
            </a:r>
            <a:br>
              <a:rPr sz="3500"/>
            </a:br>
            <a:endParaRPr b="0" lang="en-US" sz="35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1331640" y="1844640"/>
            <a:ext cx="7499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Электризац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Отрицательный и положительный заряд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Взаимодействуют – отталкиваются и притягиваю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Не шути с электризацией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Осторожно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лючевые слова.</a:t>
            </a:r>
            <a:br>
              <a:rPr sz="2400"/>
            </a:br>
            <a:r>
              <a:rPr b="0" lang="ru-RU" sz="2400" spc="-1" strike="noStrike">
                <a:solidFill>
                  <a:srgbClr val="006b8d"/>
                </a:solidFill>
                <a:latin typeface="Corbel"/>
              </a:rPr>
              <a:t>Электризация, электричество, электрический заряд, положительный и отрицательный заряд, электроскоп, электрометр, проводник, диэлектрик, разряд.</a:t>
            </a:r>
            <a:endParaRPr b="0" lang="en-US" sz="2400" spc="-1" strike="noStrike">
              <a:solidFill>
                <a:srgbClr val="006b8d"/>
              </a:solidFill>
              <a:latin typeface="Corbel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1258920" y="2205000"/>
          <a:ext cx="7215120" cy="4245120"/>
        </p:xfrm>
        <a:graphic>
          <a:graphicData uri="http://schemas.openxmlformats.org/drawingml/2006/table">
            <a:tbl>
              <a:tblPr/>
              <a:tblGrid>
                <a:gridCol w="2405160"/>
                <a:gridCol w="2404800"/>
                <a:gridCol w="2405160"/>
              </a:tblGrid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Хочу узн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1. Эксперимент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В групп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изация руч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тяжение ей мелких кусочков бумаг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изация двух полосок бумаг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Исторически условились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5" name="Picture 4" descr=""/>
          <p:cNvPicPr/>
          <p:nvPr/>
        </p:nvPicPr>
        <p:blipFill>
          <a:blip r:embed="rId1"/>
          <a:stretch/>
        </p:blipFill>
        <p:spPr>
          <a:xfrm>
            <a:off x="4284720" y="4199040"/>
            <a:ext cx="4532400" cy="250668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5" descr=""/>
          <p:cNvPicPr/>
          <p:nvPr/>
        </p:nvPicPr>
        <p:blipFill>
          <a:blip r:embed="rId2"/>
          <a:stretch/>
        </p:blipFill>
        <p:spPr>
          <a:xfrm>
            <a:off x="857160" y="1500120"/>
            <a:ext cx="4824360" cy="2470320"/>
          </a:xfrm>
          <a:prstGeom prst="rect">
            <a:avLst/>
          </a:prstGeom>
          <a:ln w="0">
            <a:noFill/>
          </a:ln>
        </p:spPr>
      </p:pic>
      <p:sp>
        <p:nvSpPr>
          <p:cNvPr id="1227" name="Text Box 6"/>
          <p:cNvSpPr/>
          <p:nvPr/>
        </p:nvSpPr>
        <p:spPr>
          <a:xfrm>
            <a:off x="5796000" y="2276640"/>
            <a:ext cx="2663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ический заряд, полученный на эбонитовой полочке, называть отрицательным 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 Box 9"/>
          <p:cNvSpPr/>
          <p:nvPr/>
        </p:nvSpPr>
        <p:spPr>
          <a:xfrm>
            <a:off x="900000" y="4797360"/>
            <a:ext cx="288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ический заряд полученный на стеклянной палочке, назвал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ым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Запомните!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187280" y="2491920"/>
            <a:ext cx="749952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Corbel"/>
              </a:rPr>
              <a:t>Электризация тел происходит </a:t>
            </a: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9dd9"/>
                </a:solidFill>
                <a:latin typeface="Corbel"/>
              </a:rPr>
              <a:t>при соприкосновении</a:t>
            </a: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Corbel"/>
              </a:rPr>
              <a:t>Трение тел увеличивает площадь соприкосновения тел</a:t>
            </a: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Повторим!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1232" name="Picture 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1085760" cy="239076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4" descr=""/>
          <p:cNvPicPr/>
          <p:nvPr/>
        </p:nvPicPr>
        <p:blipFill>
          <a:blip r:embed="rId2"/>
          <a:stretch/>
        </p:blipFill>
        <p:spPr>
          <a:xfrm>
            <a:off x="6000840" y="1285920"/>
            <a:ext cx="1676160" cy="22478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5" descr=""/>
          <p:cNvPicPr/>
          <p:nvPr/>
        </p:nvPicPr>
        <p:blipFill>
          <a:blip r:embed="rId3"/>
          <a:stretch/>
        </p:blipFill>
        <p:spPr>
          <a:xfrm>
            <a:off x="3071880" y="4143240"/>
            <a:ext cx="1342800" cy="17622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6" descr=""/>
          <p:cNvPicPr/>
          <p:nvPr/>
        </p:nvPicPr>
        <p:blipFill>
          <a:blip r:embed="rId4"/>
          <a:stretch/>
        </p:blipFill>
        <p:spPr>
          <a:xfrm>
            <a:off x="4357800" y="4071960"/>
            <a:ext cx="1385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0.18959 0.00162 E">
                                      <p:cBhvr>
                                        <p:cTn id="6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2342 7.40741E-007 E">
                                      <p:cBhvr>
                                        <p:cTn id="8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-0.00162 L -0.24011 -0.00162 E">
                                      <p:cBhvr>
                                        <p:cTn id="12" dur="2000" fill="hold"/>
                                        <p:tgtEl>
                                          <p:spTgt spid="1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1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2. Эксперимент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В групп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изация электроскопа «-» заряд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земление электроскоп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изация электроскопа «+» заряд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</a:rPr>
              <a:t>Проверь себя!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1357200" y="16426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бковые шарики, подвешенные на нитях, заряжены. Какого знака заряды на шарика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0" name="Прямоугольник 5"/>
          <p:cNvSpPr/>
          <p:nvPr/>
        </p:nvSpPr>
        <p:spPr>
          <a:xfrm>
            <a:off x="2357280" y="3286080"/>
            <a:ext cx="5004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Прямоугольник 6"/>
          <p:cNvSpPr/>
          <p:nvPr/>
        </p:nvSpPr>
        <p:spPr>
          <a:xfrm>
            <a:off x="3571920" y="3286080"/>
            <a:ext cx="50004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Прямая соединительная линия 8"/>
          <p:cNvSpPr/>
          <p:nvPr/>
        </p:nvSpPr>
        <p:spPr>
          <a:xfrm flipH="1">
            <a:off x="2214360" y="3357720"/>
            <a:ext cx="392040" cy="7855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Прямая соединительная линия 10"/>
          <p:cNvSpPr/>
          <p:nvPr/>
        </p:nvSpPr>
        <p:spPr>
          <a:xfrm flipH="1">
            <a:off x="3499920" y="3357720"/>
            <a:ext cx="320760" cy="78552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Овал 16"/>
          <p:cNvSpPr/>
          <p:nvPr/>
        </p:nvSpPr>
        <p:spPr>
          <a:xfrm>
            <a:off x="2071800" y="4071960"/>
            <a:ext cx="357120" cy="3571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Овал 17"/>
          <p:cNvSpPr/>
          <p:nvPr/>
        </p:nvSpPr>
        <p:spPr>
          <a:xfrm>
            <a:off x="3286080" y="4071960"/>
            <a:ext cx="357120" cy="3571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Овал 18"/>
          <p:cNvSpPr/>
          <p:nvPr/>
        </p:nvSpPr>
        <p:spPr>
          <a:xfrm>
            <a:off x="2571840" y="4357800"/>
            <a:ext cx="571320" cy="571320"/>
          </a:xfrm>
          <a:prstGeom prst="ellipse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Прямоугольник 19"/>
          <p:cNvSpPr/>
          <p:nvPr/>
        </p:nvSpPr>
        <p:spPr>
          <a:xfrm>
            <a:off x="2857680" y="4929120"/>
            <a:ext cx="45720" cy="571680"/>
          </a:xfrm>
          <a:prstGeom prst="rect">
            <a:avLst/>
          </a:prstGeom>
          <a:solidFill>
            <a:srgbClr val="10cf9b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Прямоугольник 20"/>
          <p:cNvSpPr/>
          <p:nvPr/>
        </p:nvSpPr>
        <p:spPr>
          <a:xfrm flipV="1">
            <a:off x="2571840" y="5429160"/>
            <a:ext cx="571320" cy="16344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Прямая соединительная линия 23"/>
          <p:cNvSpPr/>
          <p:nvPr/>
        </p:nvSpPr>
        <p:spPr>
          <a:xfrm flipH="1">
            <a:off x="2855520" y="4502160"/>
            <a:ext cx="180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Прямая соединительная линия 25"/>
          <p:cNvSpPr/>
          <p:nvPr/>
        </p:nvSpPr>
        <p:spPr>
          <a:xfrm>
            <a:off x="2714760" y="4643280"/>
            <a:ext cx="285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TextBox 28"/>
          <p:cNvSpPr/>
          <p:nvPr/>
        </p:nvSpPr>
        <p:spPr>
          <a:xfrm>
            <a:off x="1857240" y="442908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Box 29"/>
          <p:cNvSpPr/>
          <p:nvPr/>
        </p:nvSpPr>
        <p:spPr>
          <a:xfrm>
            <a:off x="3571920" y="44290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Box 30"/>
          <p:cNvSpPr/>
          <p:nvPr/>
        </p:nvSpPr>
        <p:spPr>
          <a:xfrm>
            <a:off x="5154840" y="3500280"/>
            <a:ext cx="228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На А  +, а на Б -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На А -, а на Б +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На А + и на Б +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На А - и на Б -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бина</dc:creator>
  <dc:description/>
  <dc:language>en-US</dc:language>
  <cp:lastModifiedBy>Альбина</cp:lastModifiedBy>
  <dcterms:modified xsi:type="dcterms:W3CDTF">2017-02-12T10:13:31Z</dcterms:modified>
  <cp:revision>33</cp:revision>
  <dc:subject/>
  <dc:title>Электризация тел</dc:title>
</cp:coreProperties>
</file>