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bomb.wav" ContentType="audio/x-wav"/>
  <Override PartName="/ppt/media/image20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chimes.wav" ContentType="audio/x-wav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B65-F528-42EA-8EE2-DA6C4EFF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98C-FFAC-4063-B2F9-CE21B1C8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4D3A6-0620-45DC-9729-D9CF4605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3EB15-F680-4B1A-B213-5E2D9B97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30423-D674-44E0-BCEB-EF5D53D8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E8EC6-7B7A-4263-ABEA-B72E20F5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97E14-E356-40B3-B5B9-D116DA80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9BF63-0BB2-4DDE-99B7-48D0A73C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30479-C1EA-439D-9EF8-B887F248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41A19-57E6-4B87-9FC7-C6AFD3EC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36CC9-CBC3-49D3-889B-2B5593F4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35BE2-6F85-495D-BE32-06766785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1B0-AEF9-4FE4-89E4-78AC3791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1667A-A3E0-4481-B6EE-D0093ADC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83D90-0C22-442B-94A5-6B7737BD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AF362-1DC9-4D1A-86FC-743E5134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B4332-A893-4A7E-9C80-A290DB34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7EAF4-10E5-4451-806C-E14B3045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A331E-E7B5-473C-8078-4ADAD61C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8EC15-6945-4B15-97F3-4B614357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33D8C-329E-4139-915A-0BD4D94C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CFAB7-691B-47F0-971D-AEDFEDB7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766A6-293D-445F-A49E-7FC3D25F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8E8-6C0D-4DF6-95FC-5ABD0BFC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F6739-7D39-4FF8-949D-DCD04E84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500F1-789F-4BB2-A3D3-2F2C6032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49248-10DF-4D46-81B8-56F9A0ED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47F79-4045-41C8-8CEA-2B5509BB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1BAD1-1457-46EF-8765-F1D079D6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37D69-010C-4FF9-8039-18B6D137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4112A-ABA6-409E-BF8A-D843C3FE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EA8DE-BFD3-4E9A-8D5D-EFF8796F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FD9A8-B5F1-4EEA-85C6-30C5AC49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5343E-9D8D-4D19-AFFB-8A3674D0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2E53-EA83-447F-8C23-B82165AB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92220-0AB9-42B8-BF20-21B39BC9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FBCCC-EFF5-436D-AABB-9CDA440D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198D2-272E-4892-87D0-F64EE8A4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2F30C-847B-458C-B2ED-2C1BE632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10DEE-8F0D-43E2-A9C9-67AB8C7C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06CC8-1FBA-4D8D-898C-F505F6C5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8C763-F367-4D34-8F1C-F8245266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4730A-8636-43BC-BABB-69A7532B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718C9-A0CB-4118-9F8D-42E25079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57363-6945-41F9-85D9-E3B975AC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CF0E-809F-44EC-B6CB-45394B5C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6441C-85C9-47CD-90BA-47CC6AC0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6D5A6-FB1D-4D41-B951-9A46EAC1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679A4-27B7-4FF5-9013-427716A6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90BA7-110E-4B85-982D-8240A910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41CE8-1E33-4DA7-92E1-1894B351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7ED33-6B4B-4D6B-AE19-39151E2F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0B77A-C192-472E-A7A5-C3F97D70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29489-F208-4BD5-9FCE-F9B8D8C1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29867-62CB-45BD-8D9B-E9AD1F4D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62212-0575-4CCB-830E-26C6B992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E2AF-7BB3-49D6-A2EC-28873BFC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18B9F-F779-41E9-90FB-4F5E3E11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083D1-6FC1-4EEA-8CA4-37A4FC1D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BCC2D-BF1E-4D6C-8CFC-D2D6DAEE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5B459-9E52-4F00-A57A-92C4750C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E884F-E592-47B8-A49E-2CA3E565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3EA08-C209-47A5-9998-816E33F7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E52D0-807F-47FF-9121-A1166E46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AA6AF-C78D-4BCB-87DE-20EDA5EF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EB81D-E4A1-4C5F-A1E3-77861B90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B099C-D5BE-4DF0-A875-142FC69A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A764-1580-4E2C-B26B-5A2CC521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C9CB7-07CB-443B-9734-C203BCEC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5DD77-7FC0-45DD-8090-DE5EDFA4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3702A-B94A-4BB6-ABAB-CB4DBBCD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7F3F9-E4B5-4B62-914F-1E9A09C1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4BAA74-4AC0-4C0C-827B-B1137502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BFF5B-63A0-4ACE-9178-4AB94845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91C8D-FAA4-4D98-ACE4-CF4C992E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DBA43-E9D6-422E-8D9E-D86A7C7E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744BC-7E70-452E-94FE-862D2F64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79E52E-DA93-4E32-87CA-5AB66B87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834A-9557-4091-B0A4-778E95D4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1FEE8-FD9B-4639-A87B-177D4C12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0CE65-385F-4971-B2C8-01A15229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B4E94-9235-491E-82A8-87258A4B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6880C5-EDA6-4116-85EE-F4758D73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45374-5104-45B4-84AA-52FBF878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33CE8-F525-49B2-B727-A352A91F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98CA9-01DC-4829-AF71-04CC109E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F916A-1559-4F4A-8132-D52BACB5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C7E14-14C8-4801-AD30-27225C4F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BED31-A96D-4B31-8C36-820A59B6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DB81-2DB6-41E0-8773-ABB500EC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822F3-10A3-4DEE-B403-7985D975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AE35E-5FDB-44EC-BBFF-6E5ED8C8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6A0089-F155-4C3D-BAE6-C77A6986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7CBA8-4AB6-409B-B54A-52ED9E20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E289A-407F-4863-A44E-3589C981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5693E-D55D-48E9-867B-AC70730B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B79149-F43C-40BA-A8FE-A0BB00C4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E2C524-246F-4E70-8999-63108CAA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812BD5-115D-4ADF-9793-E9B53288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BF6707-1EDD-4096-96D7-6C0CC437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12E1-7FDA-4233-A5DD-EC9E20C1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B8796-C4C1-4415-87AA-561C1BF1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9DDEEB-C293-4F64-8040-10E9078D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F5B56-DCB2-4520-9032-5785CC50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13EB1-1B57-46D1-B097-EE31C12A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E6FD11-BE3D-469E-936C-EDBBAAEE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0C14C-4B97-42EC-90CB-465F31A1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78281-FB59-411D-B9C7-6EA2FD74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DE82B8-6BF8-4B52-AA31-0AF018DB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088CD-68DD-4F07-8654-267F02A3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817B3-FCD9-4CFC-AD47-5A210352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EF4-6641-4C6E-87CF-A4312510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C597-B21E-4DE4-AB86-1635EAB4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46526C-201C-4265-AD87-40FA2311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79A964-19D4-4002-BFFB-0A4F9662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72322-16D4-4D9F-849F-D25E8FFE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4FFDC-3FF4-4E9A-BAB9-5144BDE6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6EC88-213C-4CB2-85A4-711E23C1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1F1535-7A85-492F-AAE7-D292F86D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6CC7FD-2077-4E03-A760-0D72BFF4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8772FD-6C66-4D47-8B20-B461266F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2BF31-8110-4AE5-B360-57E041F1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41916F-A16F-466A-8E5F-1D4629AF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B81D-B6A5-4F5F-A7F6-C4371317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69F772-5777-448F-B4FE-F067CA77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C55CF-C82C-4BD8-BE16-D876C22F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078365-29C6-460D-8030-F196A146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D7384-DF74-4991-AC66-641A1D70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A613A8-D208-4795-8C9B-E633650B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0D1D6-1875-488B-92C2-C8921B86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DB00E-35B2-42BC-9BC8-8A9DDBDD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A199F6-FAB0-4E12-AFF5-F08750D2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43929E-BA9A-4687-B80B-2FC045EA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482EF-4064-4606-BC56-FEB638B0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8033-F84F-4AC3-A28F-CE528547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4DCCB6-0258-43DD-960A-614C3280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09D32F-E53D-42F5-949D-80A7C443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1C7E8A-CC39-4E89-BCA4-4F6D7996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04E37-59BB-4FBD-928F-33FDD928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A971E1-BE24-4BCF-A063-F9629C9D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378F66-5167-4B71-9BDB-E1124833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6771EE-EB75-4AD0-9298-E84663C9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AC2A65-F0B6-4AAD-98DC-EB4C7005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EB7C39-0A9E-4BD9-825A-E1A69B14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BC90-629C-4C8F-8457-648F5093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52FA-2B36-4C1B-836D-FD04D20A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9B383-8128-4213-8C47-15022C7C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FB867-23CB-4F10-A673-E6395322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187F-EB86-4D68-AB94-0CF206B1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BE82-0A4E-4086-A2F5-CC05BF45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A88A-C13D-46FE-A990-927600D6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4DE-286C-4710-85A6-2D58F84B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965B-996E-45EB-BD70-76BC4851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0555C-50EA-43F7-BB4B-F2D318AF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9305A-B04D-4E79-8821-CD7A6AA4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677D-45AA-466A-85F3-E1A33EC2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AB69-A0DF-446E-BEAE-8A2C9042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BF188-BB02-4C33-90AE-2C369E0F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6462-B825-45A1-BE8D-87999271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C7C47-A53C-4012-9857-42CBA840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5ACC-BB4E-47DA-B9BA-26806524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91C4B-6942-47D8-A566-44FBA777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B68-816F-4CE9-8C31-674FDF55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CFC2-8DBC-4A2B-B944-24FE9377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6512-FBC1-42AB-8169-25095162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EDF5A-207C-4593-A089-8FC32695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DB91A-FF44-45BA-A7CA-F97372B7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773A-F6E4-498F-B7D6-0B8CA1CA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3BEC8-798B-434B-BDBE-A8DA9C75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E06B0-3AFB-4FA9-A409-03095FDC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999C6-D3F0-417F-A4B1-42E1B591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131DF-0772-49C3-97F4-3390917B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A01D8-4D08-4E7C-84B4-EF0D6249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4C3-9432-416D-97BF-76DF37F9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9D02C-D91C-4BA9-92FF-5AB27915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FC330-E551-4990-A58D-E7A662BD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817DF-F02B-48D1-8B7A-E558A855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56C4E-3FF3-417B-936E-4CE47C82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C10F0-A6AC-4CD4-969B-19C989F7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A898B-F989-4C72-8FFF-18E3BBCC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DD4C2-3D1F-40C5-8A8B-4C2CB796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DE25-4B98-44D5-86E0-7F81FBDD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A5573-EF72-4216-ABE0-5E9DB817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39079-1E5D-490D-89DA-1BDB95D3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2AA-A847-4C77-A05D-9DF27C12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88473-9015-4ADC-97CE-1084F6A7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5E25E-0D5E-40BE-83ED-4D6A3ECE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27619-D659-4EA2-A607-A5CE4696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28451-893F-43EE-87C1-59933EFF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F14F0-E3AB-41F0-92F5-0E0CE769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62A56-7BE8-4389-823E-FB57B53F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A358E-0A8F-4777-BE4E-2F3BE301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047E9-DB6F-429C-B367-01F895D9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163D7-3EE2-41E0-A8A9-BF95ACE4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B44BE-9B5C-47DD-BF44-BF411301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1B9-84E1-4773-B49F-6DAAFF70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852E4-518C-49D4-BC63-DC6E75AA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78497-52F7-471F-9DAF-9B3AC4BB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CF5C5-B5E8-4944-921C-13D91AD5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2E038-679A-42F0-B7F9-7D5163BC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12D55-2770-477B-8118-B8309939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66AE1-EE5F-45BC-85F1-56162D36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4DD01-0C6A-4C04-AECF-68084256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BF725-D8DD-4745-B3AF-319FD026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6AA08-7B3F-4B0D-BADA-6BEE8109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E1C5-92BD-4797-8471-B63C7D1E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F56-0205-4C64-BA20-FECE2ED6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53477-5625-4641-9F9A-5311584E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BDEEA-E4E1-4BD9-B958-223283A9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FCF75-0657-4876-80DB-BD30503E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56751-E626-4A7C-B640-4B7713FB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AEE31-96E9-4F3D-8137-8E386760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270AE9-3A83-4E53-9A0F-1B862054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9C19FA-656A-4FE1-9303-5DEB641E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F7AE5D-B02E-46EA-90C9-702AA2CC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FE2E5A-18B5-4CAB-BBBC-CFCF2009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A45839-2362-4EE3-9808-30EC4192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05F-AFA9-4BF4-9604-EF9DCF66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D68434-63C0-4379-87C4-2F32035C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CAE2F9-97F9-4380-8864-837446F7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0E9A39-752C-4E75-A2A0-80C71195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BDD76E-50EC-4089-926C-3E0C385F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AF13FF-BE8D-449A-BF04-994F989E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34BD63-292D-4E06-956D-9862CEE1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3DF514-9109-4883-82E3-0E2F3797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4D4B6-BAD9-4A6B-AB57-4DE588CE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89B26-5D9E-4C25-B52C-89B2F00C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6DD29-F805-4098-B091-F2DE5ACA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BA9D-7903-481A-AF9F-04824C2933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62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62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63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63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63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Oval 10"/>
                  <p:cNvSpPr/>
                  <p:nvPr/>
                </p:nvSpPr>
                <p:spPr>
                  <a:xfrm>
                    <a:off x="5109480" y="2233800"/>
                    <a:ext cx="712440" cy="50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636" name="Group 12"/>
                  <p:cNvGrpSpPr/>
                  <p:nvPr/>
                </p:nvGrpSpPr>
                <p:grpSpPr>
                  <a:xfrm>
                    <a:off x="5760000" y="2322720"/>
                    <a:ext cx="2560680" cy="2740320"/>
                    <a:chOff x="5760000" y="2322720"/>
                    <a:chExt cx="2560680" cy="2740320"/>
                  </a:xfrm>
                </p:grpSpPr>
                <p:sp>
                  <p:nvSpPr>
                    <p:cNvPr id="637" name="Freeform 13"/>
                    <p:cNvSpPr/>
                    <p:nvPr/>
                  </p:nvSpPr>
                  <p:spPr>
                    <a:xfrm rot="2711400">
                      <a:off x="5582160" y="3021120"/>
                      <a:ext cx="21294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Freeform 14"/>
                    <p:cNvSpPr/>
                    <p:nvPr/>
                  </p:nvSpPr>
                  <p:spPr>
                    <a:xfrm rot="2711400">
                      <a:off x="7133400" y="4142880"/>
                      <a:ext cx="1141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15"/>
                  <p:cNvGrpSpPr/>
                  <p:nvPr/>
                </p:nvGrpSpPr>
                <p:grpSpPr>
                  <a:xfrm>
                    <a:off x="5788080" y="2148840"/>
                    <a:ext cx="3038760" cy="2528640"/>
                    <a:chOff x="5788080" y="2148840"/>
                    <a:chExt cx="3038760" cy="2528640"/>
                  </a:xfrm>
                </p:grpSpPr>
                <p:sp>
                  <p:nvSpPr>
                    <p:cNvPr id="640" name="Freeform 16"/>
                    <p:cNvSpPr/>
                    <p:nvPr/>
                  </p:nvSpPr>
                  <p:spPr>
                    <a:xfrm rot="2103600">
                      <a:off x="5707440" y="2752200"/>
                      <a:ext cx="2235600" cy="42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64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64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64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65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Group 30"/>
                  <p:cNvGrpSpPr/>
                  <p:nvPr/>
                </p:nvGrpSpPr>
                <p:grpSpPr>
                  <a:xfrm>
                    <a:off x="5788440" y="1304640"/>
                    <a:ext cx="2364480" cy="785520"/>
                    <a:chOff x="5788440" y="1304640"/>
                    <a:chExt cx="2364480" cy="785520"/>
                  </a:xfrm>
                </p:grpSpPr>
                <p:sp>
                  <p:nvSpPr>
                    <p:cNvPr id="655" name="Freeform 31"/>
                    <p:cNvSpPr/>
                    <p:nvPr/>
                  </p:nvSpPr>
                  <p:spPr>
                    <a:xfrm rot="20797200">
                      <a:off x="5798160" y="16524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65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66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66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66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67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67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67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67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68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68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68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Group 66"/>
                  <p:cNvGrpSpPr/>
                  <p:nvPr/>
                </p:nvGrpSpPr>
                <p:grpSpPr>
                  <a:xfrm>
                    <a:off x="4449240" y="244800"/>
                    <a:ext cx="1122840" cy="1946880"/>
                    <a:chOff x="4449240" y="244800"/>
                    <a:chExt cx="1122840" cy="1946880"/>
                  </a:xfrm>
                </p:grpSpPr>
                <p:sp>
                  <p:nvSpPr>
                    <p:cNvPr id="691" name="Freeform 67"/>
                    <p:cNvSpPr/>
                    <p:nvPr/>
                  </p:nvSpPr>
                  <p:spPr>
                    <a:xfrm flipH="1" rot="4126800">
                      <a:off x="4555800" y="1400040"/>
                      <a:ext cx="131004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Freeform 68"/>
                    <p:cNvSpPr/>
                    <p:nvPr/>
                  </p:nvSpPr>
                  <p:spPr>
                    <a:xfrm flipH="1" rot="4126800">
                      <a:off x="4419360" y="438480"/>
                      <a:ext cx="7009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69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69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70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Group 80"/>
                  <p:cNvGrpSpPr/>
                  <p:nvPr/>
                </p:nvGrpSpPr>
                <p:grpSpPr>
                  <a:xfrm>
                    <a:off x="5351040" y="387360"/>
                    <a:ext cx="1889640" cy="1795320"/>
                    <a:chOff x="5351040" y="387360"/>
                    <a:chExt cx="1889640" cy="1795320"/>
                  </a:xfrm>
                </p:grpSpPr>
                <p:sp>
                  <p:nvSpPr>
                    <p:cNvPr id="70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Freeform 82"/>
                    <p:cNvSpPr/>
                    <p:nvPr/>
                  </p:nvSpPr>
                  <p:spPr>
                    <a:xfrm rot="18822600">
                      <a:off x="6403320" y="584280"/>
                      <a:ext cx="76788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70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71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89"/>
                  <p:cNvGrpSpPr/>
                  <p:nvPr/>
                </p:nvGrpSpPr>
                <p:grpSpPr>
                  <a:xfrm>
                    <a:off x="3791520" y="2649960"/>
                    <a:ext cx="1482120" cy="2999160"/>
                    <a:chOff x="3791520" y="2649960"/>
                    <a:chExt cx="1482120" cy="2999160"/>
                  </a:xfrm>
                </p:grpSpPr>
                <p:sp>
                  <p:nvSpPr>
                    <p:cNvPr id="714" name="Freeform 90"/>
                    <p:cNvSpPr/>
                    <p:nvPr/>
                  </p:nvSpPr>
                  <p:spPr>
                    <a:xfrm flipH="1" rot="17543400">
                      <a:off x="3737880" y="3440520"/>
                      <a:ext cx="1967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91"/>
                    <p:cNvSpPr/>
                    <p:nvPr/>
                  </p:nvSpPr>
                  <p:spPr>
                    <a:xfrm flipH="1" rot="17543400">
                      <a:off x="3744720" y="4743000"/>
                      <a:ext cx="10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6" name="Group 92"/>
                  <p:cNvGrpSpPr/>
                  <p:nvPr/>
                </p:nvGrpSpPr>
                <p:grpSpPr>
                  <a:xfrm>
                    <a:off x="4507920" y="2700000"/>
                    <a:ext cx="875880" cy="2927160"/>
                    <a:chOff x="4507920" y="2700000"/>
                    <a:chExt cx="875880" cy="2927160"/>
                  </a:xfrm>
                </p:grpSpPr>
                <p:sp>
                  <p:nvSpPr>
                    <p:cNvPr id="717" name="Freeform 93"/>
                    <p:cNvSpPr/>
                    <p:nvPr/>
                  </p:nvSpPr>
                  <p:spPr>
                    <a:xfrm flipH="1" rot="16870800">
                      <a:off x="4086360" y="3486240"/>
                      <a:ext cx="188820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Freeform 94"/>
                    <p:cNvSpPr/>
                    <p:nvPr/>
                  </p:nvSpPr>
                  <p:spPr>
                    <a:xfrm flipH="1" rot="16870800">
                      <a:off x="4365720" y="480636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72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72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72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72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Group 107"/>
                  <p:cNvGrpSpPr/>
                  <p:nvPr/>
                </p:nvGrpSpPr>
                <p:grpSpPr>
                  <a:xfrm>
                    <a:off x="4960800" y="2886840"/>
                    <a:ext cx="666000" cy="2717640"/>
                    <a:chOff x="4960800" y="2886840"/>
                    <a:chExt cx="666000" cy="2717640"/>
                  </a:xfrm>
                </p:grpSpPr>
                <p:sp>
                  <p:nvSpPr>
                    <p:cNvPr id="732" name="Freeform 108"/>
                    <p:cNvSpPr/>
                    <p:nvPr/>
                  </p:nvSpPr>
                  <p:spPr>
                    <a:xfrm rot="5755200">
                      <a:off x="4534200" y="3666240"/>
                      <a:ext cx="1773720" cy="22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Freeform 109"/>
                    <p:cNvSpPr/>
                    <p:nvPr/>
                  </p:nvSpPr>
                  <p:spPr>
                    <a:xfrm rot="5755200">
                      <a:off x="4714200" y="4932720"/>
                      <a:ext cx="95004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73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73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74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AF2A-CB87-4AB6-99B8-EDA4CA50AA30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801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21A6-4BD3-4E94-8D5F-487C0BD6DC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84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85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5B08-2AD9-4F48-8534-D099C45B1243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90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C182-7323-49B7-A16D-77A66DC1DD91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D9D9-A653-4120-89B7-15415B986E8C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DF09-4A89-4210-9358-0CE30AFD55F9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78A3-7B04-4728-ABB5-27034240DFC5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07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3" name="Блок-схема: процесс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Блок-схема: процесс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8DC3-BFA2-4EF4-A7CB-AFBB0204064A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1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0CAF-9CF3-40BA-A410-187E81ACA287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6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84B0-A9EA-406A-8A5A-CCDF2D340C42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57B1-09BD-49DC-8317-3C3A61B241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0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0F8C-3729-4712-AA3B-74BBF4672A7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7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8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93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94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7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00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03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06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209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212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215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218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221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22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7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230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33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36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239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42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45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248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251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254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8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259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62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65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268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271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74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77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280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283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86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289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1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51C7-D69B-4D9E-91F7-82A4752F99B3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355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7151-F255-44ED-A8B1-DB73961275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3EF7-6028-4D6E-A3CD-9980E138A5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5975-9AE4-4E18-BEA7-4FC5769229FC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9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CA15-8F28-401C-A1FC-7B8721C540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41CA-54AF-4B06-ACD3-80EFD5B103A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" Target="slide12.xml"/><Relationship Id="rId4" Type="http://schemas.openxmlformats.org/officeDocument/2006/relationships/image" Target="../media/image1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9.xml"/><Relationship Id="rId4" Type="http://schemas.openxmlformats.org/officeDocument/2006/relationships/image" Target="../media/image18.gif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gif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gif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0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116000" y="692280"/>
            <a:ext cx="6818400" cy="399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</a:rPr>
              <a:t>Электроскоп.</a:t>
            </a: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</a:rPr>
              <a:t>Электризация тел. </a:t>
            </a:r>
            <a:br>
              <a:rPr sz="3900"/>
            </a:br>
            <a:br>
              <a:rPr sz="3900"/>
            </a:br>
            <a:br>
              <a:rPr sz="1000"/>
            </a:br>
            <a:r>
              <a:rPr b="0" i="1" lang="ru-RU" sz="3900" spc="-1" strike="noStrike">
                <a:solidFill>
                  <a:srgbClr val="006b8d"/>
                </a:solidFill>
                <a:latin typeface="Corbel"/>
              </a:rPr>
              <a:t>8 класс.</a:t>
            </a:r>
            <a:br>
              <a:rPr sz="3900"/>
            </a:br>
            <a:br>
              <a:rPr sz="1400"/>
            </a:br>
            <a:r>
              <a:rPr b="0" i="1" lang="ru-RU" sz="3900" spc="-1" strike="noStrike">
                <a:solidFill>
                  <a:srgbClr val="006b8d"/>
                </a:solidFill>
                <a:latin typeface="Corbel"/>
              </a:rPr>
              <a:t> Урок-исследование.</a:t>
            </a: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Содержимое 7" descr="sm_pic041127.jpg"/>
          <p:cNvPicPr/>
          <p:nvPr/>
        </p:nvPicPr>
        <p:blipFill>
          <a:blip r:embed="rId1"/>
          <a:stretch/>
        </p:blipFill>
        <p:spPr>
          <a:xfrm>
            <a:off x="1785960" y="177336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1255" name="Прямоугольник 6" descr=""/>
          <p:cNvPicPr/>
          <p:nvPr/>
        </p:nvPicPr>
        <p:blipFill>
          <a:blip r:embed="rId2"/>
          <a:stretch/>
        </p:blipFill>
        <p:spPr>
          <a:xfrm>
            <a:off x="1285920" y="291960"/>
            <a:ext cx="6718320" cy="1719360"/>
          </a:xfrm>
          <a:prstGeom prst="rect">
            <a:avLst/>
          </a:prstGeom>
          <a:ln w="0">
            <a:noFill/>
          </a:ln>
        </p:spPr>
      </p:pic>
      <p:pic>
        <p:nvPicPr>
          <p:cNvPr id="1256" name="Рисунок 8" descr="AG00090_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58080" y="5637240"/>
            <a:ext cx="54756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7" name="Содержимое 4" descr="Смайлик.gif"/>
          <p:cNvPicPr/>
          <p:nvPr/>
        </p:nvPicPr>
        <p:blipFill>
          <a:blip r:embed="rId1"/>
          <a:stretch/>
        </p:blipFill>
        <p:spPr>
          <a:xfrm>
            <a:off x="2714760" y="2143080"/>
            <a:ext cx="3857400" cy="3643200"/>
          </a:xfrm>
          <a:prstGeom prst="rect">
            <a:avLst/>
          </a:prstGeom>
          <a:ln w="0">
            <a:noFill/>
          </a:ln>
        </p:spPr>
      </p:pic>
      <p:pic>
        <p:nvPicPr>
          <p:cNvPr id="1258" name="Прямоугольник 3" descr=""/>
          <p:cNvPicPr/>
          <p:nvPr/>
        </p:nvPicPr>
        <p:blipFill>
          <a:blip r:embed="rId2"/>
          <a:stretch/>
        </p:blipFill>
        <p:spPr>
          <a:xfrm>
            <a:off x="360360" y="573120"/>
            <a:ext cx="8624880" cy="2189160"/>
          </a:xfrm>
          <a:prstGeom prst="rect">
            <a:avLst/>
          </a:prstGeom>
          <a:ln w="0">
            <a:noFill/>
          </a:ln>
        </p:spPr>
      </p:pic>
      <p:pic>
        <p:nvPicPr>
          <p:cNvPr id="1259" name="Рисунок 6" descr="AG00090_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58080" y="5637240"/>
            <a:ext cx="54756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</a:rPr>
              <a:t>Какой знак заряда на шариках?</a:t>
            </a: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2" name="Прямоугольник 3"/>
          <p:cNvSpPr/>
          <p:nvPr/>
        </p:nvSpPr>
        <p:spPr>
          <a:xfrm>
            <a:off x="1857240" y="2500200"/>
            <a:ext cx="50004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Прямоугольник 6"/>
          <p:cNvSpPr/>
          <p:nvPr/>
        </p:nvSpPr>
        <p:spPr>
          <a:xfrm>
            <a:off x="2857680" y="2500200"/>
            <a:ext cx="50004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Прямая соединительная линия 8"/>
          <p:cNvSpPr/>
          <p:nvPr/>
        </p:nvSpPr>
        <p:spPr>
          <a:xfrm flipH="1">
            <a:off x="1714320" y="2500200"/>
            <a:ext cx="392040" cy="8575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Прямая соединительная линия 10"/>
          <p:cNvSpPr/>
          <p:nvPr/>
        </p:nvSpPr>
        <p:spPr>
          <a:xfrm>
            <a:off x="3106080" y="2500200"/>
            <a:ext cx="393480" cy="8575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Овал 13"/>
          <p:cNvSpPr/>
          <p:nvPr/>
        </p:nvSpPr>
        <p:spPr>
          <a:xfrm>
            <a:off x="1500120" y="3357720"/>
            <a:ext cx="285840" cy="2854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Овал 14"/>
          <p:cNvSpPr/>
          <p:nvPr/>
        </p:nvSpPr>
        <p:spPr>
          <a:xfrm>
            <a:off x="3357720" y="3357720"/>
            <a:ext cx="285480" cy="2854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Овал 16"/>
          <p:cNvSpPr/>
          <p:nvPr/>
        </p:nvSpPr>
        <p:spPr>
          <a:xfrm>
            <a:off x="2214720" y="3429000"/>
            <a:ext cx="914400" cy="914400"/>
          </a:xfrm>
          <a:prstGeom prst="ellipse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Прямоугольник 17"/>
          <p:cNvSpPr/>
          <p:nvPr/>
        </p:nvSpPr>
        <p:spPr>
          <a:xfrm>
            <a:off x="2643120" y="4357800"/>
            <a:ext cx="71640" cy="71424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Прямоугольник 18"/>
          <p:cNvSpPr/>
          <p:nvPr/>
        </p:nvSpPr>
        <p:spPr>
          <a:xfrm>
            <a:off x="2214720" y="5072040"/>
            <a:ext cx="857160" cy="7164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1" name="Прямая соединительная линия 20" descr=""/>
          <p:cNvPicPr/>
          <p:nvPr/>
        </p:nvPicPr>
        <p:blipFill>
          <a:blip r:embed="rId1"/>
          <a:stretch/>
        </p:blipFill>
        <p:spPr>
          <a:xfrm>
            <a:off x="2346480" y="3790800"/>
            <a:ext cx="652320" cy="184320"/>
          </a:xfrm>
          <a:prstGeom prst="rect">
            <a:avLst/>
          </a:prstGeom>
          <a:ln w="0">
            <a:noFill/>
          </a:ln>
        </p:spPr>
      </p:pic>
      <p:sp>
        <p:nvSpPr>
          <p:cNvPr id="1272" name="TextBox 22"/>
          <p:cNvSpPr/>
          <p:nvPr/>
        </p:nvSpPr>
        <p:spPr>
          <a:xfrm>
            <a:off x="1288440" y="36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Box 24"/>
          <p:cNvSpPr/>
          <p:nvPr/>
        </p:nvSpPr>
        <p:spPr>
          <a:xfrm>
            <a:off x="3575160" y="36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5276520" y="1523880"/>
            <a:ext cx="291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6fc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А  +, а на Б -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0f6fc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А -, а на Б +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0f6fc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А + и на Б +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0f6fc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А - и на Б -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5" name="Содержимое 7" descr="sm_pic041127.jpg"/>
          <p:cNvPicPr/>
          <p:nvPr/>
        </p:nvPicPr>
        <p:blipFill>
          <a:blip r:embed="rId1"/>
          <a:stretch/>
        </p:blipFill>
        <p:spPr>
          <a:xfrm>
            <a:off x="1785960" y="177336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1276" name="Прямоугольник 6" descr=""/>
          <p:cNvPicPr/>
          <p:nvPr/>
        </p:nvPicPr>
        <p:blipFill>
          <a:blip r:embed="rId2"/>
          <a:stretch/>
        </p:blipFill>
        <p:spPr>
          <a:xfrm>
            <a:off x="1285920" y="291960"/>
            <a:ext cx="6718320" cy="1719360"/>
          </a:xfrm>
          <a:prstGeom prst="rect">
            <a:avLst/>
          </a:prstGeom>
          <a:ln w="0">
            <a:noFill/>
          </a:ln>
        </p:spPr>
      </p:pic>
      <p:pic>
        <p:nvPicPr>
          <p:cNvPr id="1277" name="Рисунок 8" descr="AG00090_.GIF"/>
          <p:cNvPicPr/>
          <p:nvPr/>
        </p:nvPicPr>
        <p:blipFill>
          <a:blip r:embed="rId3"/>
          <a:stretch/>
        </p:blipFill>
        <p:spPr>
          <a:xfrm>
            <a:off x="7858080" y="5637240"/>
            <a:ext cx="54756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1279" name="Содержимое 4" descr="Смайлик.gif"/>
          <p:cNvPicPr/>
          <p:nvPr/>
        </p:nvPicPr>
        <p:blipFill>
          <a:blip r:embed="rId1"/>
          <a:stretch/>
        </p:blipFill>
        <p:spPr>
          <a:xfrm>
            <a:off x="2714760" y="2143080"/>
            <a:ext cx="3857400" cy="3643200"/>
          </a:xfrm>
          <a:prstGeom prst="rect">
            <a:avLst/>
          </a:prstGeom>
          <a:ln w="0">
            <a:noFill/>
          </a:ln>
        </p:spPr>
      </p:pic>
      <p:pic>
        <p:nvPicPr>
          <p:cNvPr id="1280" name="Прямоугольник 3" descr=""/>
          <p:cNvPicPr/>
          <p:nvPr/>
        </p:nvPicPr>
        <p:blipFill>
          <a:blip r:embed="rId2"/>
          <a:stretch/>
        </p:blipFill>
        <p:spPr>
          <a:xfrm>
            <a:off x="360360" y="573120"/>
            <a:ext cx="8624880" cy="2189160"/>
          </a:xfrm>
          <a:prstGeom prst="rect">
            <a:avLst/>
          </a:prstGeom>
          <a:ln w="0">
            <a:noFill/>
          </a:ln>
        </p:spPr>
      </p:pic>
      <p:pic>
        <p:nvPicPr>
          <p:cNvPr id="1281" name="Рисунок 6" descr="AG00090_.GIF"/>
          <p:cNvPicPr/>
          <p:nvPr/>
        </p:nvPicPr>
        <p:blipFill>
          <a:blip r:embed="rId3"/>
          <a:stretch/>
        </p:blipFill>
        <p:spPr>
          <a:xfrm>
            <a:off x="7858080" y="5637240"/>
            <a:ext cx="54756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</a:rPr>
              <a:t>Выберите из предложенных материалов проводники электричества.</a:t>
            </a: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1500120" y="18568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д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ирпич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рев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мо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лове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люми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зин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4" name="Управляющая кнопка: сведения 3"/>
          <p:cNvSpPr/>
          <p:nvPr/>
        </p:nvSpPr>
        <p:spPr>
          <a:xfrm>
            <a:off x="8215200" y="607212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5" name="Содержимое 7" descr="sm_pic041127.jpg"/>
          <p:cNvPicPr/>
          <p:nvPr/>
        </p:nvPicPr>
        <p:blipFill>
          <a:blip r:embed="rId1"/>
          <a:stretch/>
        </p:blipFill>
        <p:spPr>
          <a:xfrm>
            <a:off x="1785960" y="177336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1286" name="Прямоугольник 6" descr=""/>
          <p:cNvPicPr/>
          <p:nvPr/>
        </p:nvPicPr>
        <p:blipFill>
          <a:blip r:embed="rId2"/>
          <a:stretch/>
        </p:blipFill>
        <p:spPr>
          <a:xfrm>
            <a:off x="1285920" y="291960"/>
            <a:ext cx="6718320" cy="1719360"/>
          </a:xfrm>
          <a:prstGeom prst="rect">
            <a:avLst/>
          </a:prstGeom>
          <a:ln w="0">
            <a:noFill/>
          </a:ln>
        </p:spPr>
      </p:pic>
      <p:pic>
        <p:nvPicPr>
          <p:cNvPr id="1287" name="Рисунок 8" descr="AG00090_.GIF"/>
          <p:cNvPicPr/>
          <p:nvPr/>
        </p:nvPicPr>
        <p:blipFill>
          <a:blip r:embed="rId3"/>
          <a:stretch/>
        </p:blipFill>
        <p:spPr>
          <a:xfrm>
            <a:off x="7858080" y="5637240"/>
            <a:ext cx="54756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Содержимое 4" descr="Смайлик.gif"/>
          <p:cNvPicPr/>
          <p:nvPr/>
        </p:nvPicPr>
        <p:blipFill>
          <a:blip r:embed="rId1"/>
          <a:stretch/>
        </p:blipFill>
        <p:spPr>
          <a:xfrm>
            <a:off x="2714760" y="2143080"/>
            <a:ext cx="3857400" cy="3643200"/>
          </a:xfrm>
          <a:prstGeom prst="rect">
            <a:avLst/>
          </a:prstGeom>
          <a:ln w="0">
            <a:noFill/>
          </a:ln>
        </p:spPr>
      </p:pic>
      <p:pic>
        <p:nvPicPr>
          <p:cNvPr id="1289" name="Прямоугольник 3" descr=""/>
          <p:cNvPicPr/>
          <p:nvPr/>
        </p:nvPicPr>
        <p:blipFill>
          <a:blip r:embed="rId2"/>
          <a:stretch/>
        </p:blipFill>
        <p:spPr>
          <a:xfrm>
            <a:off x="360360" y="573120"/>
            <a:ext cx="8624880" cy="2189160"/>
          </a:xfrm>
          <a:prstGeom prst="rect">
            <a:avLst/>
          </a:prstGeom>
          <a:ln w="0">
            <a:noFill/>
          </a:ln>
        </p:spPr>
      </p:pic>
      <p:pic>
        <p:nvPicPr>
          <p:cNvPr id="1290" name="Рисунок 6" descr="AG00090_.GIF"/>
          <p:cNvPicPr/>
          <p:nvPr/>
        </p:nvPicPr>
        <p:blipFill>
          <a:blip r:embed="rId3"/>
          <a:stretch/>
        </p:blipFill>
        <p:spPr>
          <a:xfrm>
            <a:off x="7858080" y="5637240"/>
            <a:ext cx="54756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Применение электризации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187280" y="2276640"/>
            <a:ext cx="7499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крашивание детал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 принтера при печа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пчение продук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мес теста на крупных заводах и кондитерски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чистка промышленных газов и д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03280" y="691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ВОПРОСЫ К ФИЗИЧЕСКОМУ ДИКТАНТУ </a:t>
            </a:r>
            <a:br>
              <a:rPr sz="3900"/>
            </a:br>
            <a:r>
              <a:rPr b="1" i="1" lang="ru-RU" sz="39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в электронной книге</a:t>
            </a:r>
            <a:br>
              <a:rPr sz="32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1187280" y="2276640"/>
            <a:ext cx="7499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 частицу, имеющую самый маленький заряд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, через которые электрические заряды не могут переходить от заряженного тела к незаряженном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ядоченное (направленное) движение заряженных частиц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, не имеющая заряд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, потерявший один или несколько электрон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ежи, на которых изображены способы соединения электрических приборов в цеп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, который приобретает отрицательный заряд в результате присоединения лишнего электрона к нейтральному атом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Из истории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т слова «янтарь» (по-гречески -электрон) явления притяжения натёртых тел назвали электрически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1"/>
          <a:stretch/>
        </p:blipFill>
        <p:spPr>
          <a:xfrm>
            <a:off x="4873680" y="1599840"/>
            <a:ext cx="3813120" cy="45306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сканирование0050"/>
          <p:cNvPicPr/>
          <p:nvPr/>
        </p:nvPicPr>
        <p:blipFill>
          <a:blip r:embed="rId2"/>
          <a:stretch/>
        </p:blipFill>
        <p:spPr>
          <a:xfrm>
            <a:off x="4857840" y="1030320"/>
            <a:ext cx="3571920" cy="530532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2" descr=""/>
          <p:cNvPicPr/>
          <p:nvPr/>
        </p:nvPicPr>
        <p:blipFill>
          <a:blip r:embed="rId3"/>
          <a:stretch/>
        </p:blipFill>
        <p:spPr>
          <a:xfrm>
            <a:off x="785880" y="1500120"/>
            <a:ext cx="2008080" cy="2500560"/>
          </a:xfrm>
          <a:prstGeom prst="rect">
            <a:avLst/>
          </a:prstGeom>
          <a:ln w="0">
            <a:noFill/>
          </a:ln>
        </p:spPr>
      </p:pic>
      <p:sp>
        <p:nvSpPr>
          <p:cNvPr id="1218" name="TextBox 7"/>
          <p:cNvSpPr/>
          <p:nvPr/>
        </p:nvSpPr>
        <p:spPr>
          <a:xfrm>
            <a:off x="2786040" y="257184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алес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VI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до н. 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b8d"/>
                </a:solidFill>
                <a:latin typeface="Corbel"/>
              </a:rPr>
              <a:t>Работа с кейсами в группах</a:t>
            </a:r>
            <a:br>
              <a:rPr sz="3500"/>
            </a:br>
            <a:endParaRPr b="0" lang="en-US" sz="35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1258560" y="2057040"/>
            <a:ext cx="7499160" cy="25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29680" indent="-177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ключите электронную книгу, откройте папку «КЕЙС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9680" indent="-177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чтите внимательно кейс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9680" indent="-177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судите реальность данного кейс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9680" indent="-177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ьте на вопросы после кейс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9680" indent="-177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ремя на подготовку 4 мину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9680" indent="-177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ин из группы зачитывает текст и отвечает на поставленные вопрос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Кейс 1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астеру прядильного цеха Волохову Степану Ивановичу был объявлен выговор за то, что он не следил за влажностным режимом в цеху. По его вине, нити при электризации друг о друга и о детали станка,  путались и рвались. Степан Иванович с выговором был не согласен. Он считал, что в разрыве нитей виноваты работницы, которые плохо следили за работой стан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просы к кейсу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Почему так важен влажностный режим в цехах текстильной промышленнос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Справедливо ли был наказан мастер Степан Иванович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Могли ли быть последствия при трении нитей и не соблюдении влажностного режима более серьёзными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Кейс 2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1571760" y="1071720"/>
            <a:ext cx="73627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миссия, проверяющая работу в типографии была возмущена тем, что несколько раз в день печатные (ротационные) машины отключались, для проведения в цеху влажной уборки. Это, по их мнению, снижало производительность труда, повышало себестоимость печатной продукции. Мастер цеха Петров Иван Иванович объяснил, что это необходимо делать для того, чтобы снять статическое электричество с бумаги и машины, для предотвращения заминания и порыва бумаги и возможности пожа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просы к кейсу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Кто прав?  Иван Иванович или комиссия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Как повысить производительность труда и себестоимость печатной продукции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Кейс 3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еханик автоколонны по перевозке нефти Сидоров Пётр Кузьмич не подписал путёвку в рейс Синицину Дмитрию Викторовичу, так как на его бензовозе цепь утратила несколько звеньев и была недостаточно длинной. Однако Синицин самовольно покинул автогараж и уехал в рейс, так как не хотел, чтобы пропал рабочий день. На посту ДПС бензовоз был остановлен и отправлен на принудительную стоянку за несоблюдение правил перевозки опасных грузов. По решению суда Синицин был лишён водительских прав сроком на 1 год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просы к кейсу: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Зачем к бензовозам прицепляют цепь до земли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Прав ли был механик автоколонны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Не слишком ли суровое наказание понёс Синицин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Кейс 4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ятность в дороге произошла с водителем-любителем Смирновой Ольгой Ивановной. Её автомобиль не доехав немного до автозаправки остановился, т.к. кончился бензин. Ольга Ивановна всегда возила с собой в багажнике, на всякий случай, небольшую, симпатичную, пластиковую канистру с бензином. - Какая я всё-таки молодец! – подумала Ольга Ивановна, долила бензин в бензобак и поехала дальш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к кейсу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йствительно ли «молодец» Ольга Ивановна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ую важную ошибку допустила Ольга Ивановна? Что могло случиться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должен делать водитель, что бы такая неприятность с ним не случилась в дороге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Домашнее задание. 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1258560" y="2133360"/>
            <a:ext cx="7499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. 25-27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полнить до конца граф-схем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готовить сообщение «Использование способа заземления в быту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b8d"/>
                </a:solidFill>
                <a:latin typeface="Corbel"/>
              </a:rPr>
              <a:t>Пример синквейна</a:t>
            </a:r>
            <a:br>
              <a:rPr sz="3500"/>
            </a:br>
            <a:endParaRPr b="0" lang="en-US" sz="35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1331640" y="1844640"/>
            <a:ext cx="7499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Электризац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Отрицательный и положительный заря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Взаимодействуют – отталкиваются и притягиваю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Не шути с электризацией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Осторожно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лючевые слова.</a:t>
            </a:r>
            <a:br>
              <a:rPr sz="2400"/>
            </a:br>
            <a:r>
              <a:rPr b="0" lang="ru-RU" sz="2400" spc="-1" strike="noStrike">
                <a:solidFill>
                  <a:srgbClr val="006b8d"/>
                </a:solidFill>
                <a:latin typeface="Corbel"/>
              </a:rPr>
              <a:t>Электризация, электричество, электрический заряд, положительный и отрицательный заряд, электроскоп, электрометр, проводник, диэлектрик, разряд.</a:t>
            </a:r>
            <a:endParaRPr b="0" lang="en-US" sz="2400" spc="-1" strike="noStrike">
              <a:solidFill>
                <a:srgbClr val="006b8d"/>
              </a:solidFill>
              <a:latin typeface="Corbel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1258920" y="2205000"/>
          <a:ext cx="7215120" cy="4245120"/>
        </p:xfrm>
        <a:graphic>
          <a:graphicData uri="http://schemas.openxmlformats.org/drawingml/2006/table">
            <a:tbl>
              <a:tblPr/>
              <a:tblGrid>
                <a:gridCol w="2405160"/>
                <a:gridCol w="2404800"/>
                <a:gridCol w="2405160"/>
              </a:tblGrid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Хочу узн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1. Эксперимент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В групп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ризация ручк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тяжение ей мелких кусочков бумаг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ризация двух полосок бумаг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Исторически условились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25" name="Picture 4" descr=""/>
          <p:cNvPicPr/>
          <p:nvPr/>
        </p:nvPicPr>
        <p:blipFill>
          <a:blip r:embed="rId1"/>
          <a:stretch/>
        </p:blipFill>
        <p:spPr>
          <a:xfrm>
            <a:off x="4284720" y="4199040"/>
            <a:ext cx="4532400" cy="250668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5" descr=""/>
          <p:cNvPicPr/>
          <p:nvPr/>
        </p:nvPicPr>
        <p:blipFill>
          <a:blip r:embed="rId2"/>
          <a:stretch/>
        </p:blipFill>
        <p:spPr>
          <a:xfrm>
            <a:off x="857160" y="1500120"/>
            <a:ext cx="4824360" cy="2470320"/>
          </a:xfrm>
          <a:prstGeom prst="rect">
            <a:avLst/>
          </a:prstGeom>
          <a:ln w="0">
            <a:noFill/>
          </a:ln>
        </p:spPr>
      </p:pic>
      <p:sp>
        <p:nvSpPr>
          <p:cNvPr id="1227" name="Text Box 6"/>
          <p:cNvSpPr/>
          <p:nvPr/>
        </p:nvSpPr>
        <p:spPr>
          <a:xfrm>
            <a:off x="5796000" y="2276640"/>
            <a:ext cx="2663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ический заряд, полученный на эбонитовой полочке, называть отрицательным 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 Box 9"/>
          <p:cNvSpPr/>
          <p:nvPr/>
        </p:nvSpPr>
        <p:spPr>
          <a:xfrm>
            <a:off x="900000" y="4797360"/>
            <a:ext cx="2880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ический заряд полученный на стеклянной палочке, назвал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ым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Запомните!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187280" y="2491920"/>
            <a:ext cx="749952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dd9"/>
                </a:solidFill>
                <a:latin typeface="Corbel"/>
              </a:rPr>
              <a:t>Электризация тел происходит </a:t>
            </a:r>
            <a:r>
              <a:rPr b="0" lang="ru-RU" sz="3200" spc="-1" strike="noStrike">
                <a:solidFill>
                  <a:srgbClr val="009dd9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9dd9"/>
                </a:solidFill>
                <a:latin typeface="Corbel"/>
              </a:rPr>
              <a:t>при соприкосновении</a:t>
            </a:r>
            <a:r>
              <a:rPr b="0" lang="ru-RU" sz="3200" spc="-1" strike="noStrike">
                <a:solidFill>
                  <a:srgbClr val="009dd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dd9"/>
                </a:solidFill>
                <a:latin typeface="Corbel"/>
              </a:rPr>
              <a:t>Трение тел увеличивает площадь соприкосновения тел</a:t>
            </a:r>
            <a:r>
              <a:rPr b="0" lang="ru-RU" sz="3200" spc="-1" strike="noStrike">
                <a:solidFill>
                  <a:srgbClr val="009dd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Повторим!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1232" name="Picture 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1085760" cy="239076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4" descr=""/>
          <p:cNvPicPr/>
          <p:nvPr/>
        </p:nvPicPr>
        <p:blipFill>
          <a:blip r:embed="rId2"/>
          <a:stretch/>
        </p:blipFill>
        <p:spPr>
          <a:xfrm>
            <a:off x="6000840" y="1285920"/>
            <a:ext cx="1676160" cy="22478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5" descr=""/>
          <p:cNvPicPr/>
          <p:nvPr/>
        </p:nvPicPr>
        <p:blipFill>
          <a:blip r:embed="rId3"/>
          <a:stretch/>
        </p:blipFill>
        <p:spPr>
          <a:xfrm>
            <a:off x="3071880" y="4143240"/>
            <a:ext cx="1342800" cy="17622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6" descr=""/>
          <p:cNvPicPr/>
          <p:nvPr/>
        </p:nvPicPr>
        <p:blipFill>
          <a:blip r:embed="rId4"/>
          <a:stretch/>
        </p:blipFill>
        <p:spPr>
          <a:xfrm>
            <a:off x="4357800" y="4071960"/>
            <a:ext cx="1385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0.18959 0.00162 E">
                                      <p:cBhvr>
                                        <p:cTn id="6" dur="2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2342 7.40741E-007 E">
                                      <p:cBhvr>
                                        <p:cTn id="8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9 -0.00162 L -0.24011 -0.00162 E">
                                      <p:cBhvr>
                                        <p:cTn id="12" dur="2000" fill="hold"/>
                                        <p:tgtEl>
                                          <p:spTgt spid="1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2000" fill="hold"/>
                                        <p:tgtEl>
                                          <p:spTgt spid="1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2. Эксперимент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В групп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ризация электроскопа «-» заряд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земление электроскоп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ризация электроскопа «+» заряд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Проверь себя!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1357200" y="16426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бковые шарики, подвешенные на нитях, заряжены. Какого знака заряды на шариках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0" name="Прямоугольник 5"/>
          <p:cNvSpPr/>
          <p:nvPr/>
        </p:nvSpPr>
        <p:spPr>
          <a:xfrm>
            <a:off x="2357280" y="3286080"/>
            <a:ext cx="5004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Прямоугольник 6"/>
          <p:cNvSpPr/>
          <p:nvPr/>
        </p:nvSpPr>
        <p:spPr>
          <a:xfrm>
            <a:off x="3571920" y="3286080"/>
            <a:ext cx="50004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Прямая соединительная линия 8"/>
          <p:cNvSpPr/>
          <p:nvPr/>
        </p:nvSpPr>
        <p:spPr>
          <a:xfrm flipH="1">
            <a:off x="2214360" y="3357720"/>
            <a:ext cx="392040" cy="7855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Прямая соединительная линия 10"/>
          <p:cNvSpPr/>
          <p:nvPr/>
        </p:nvSpPr>
        <p:spPr>
          <a:xfrm flipH="1">
            <a:off x="3499920" y="3357720"/>
            <a:ext cx="320760" cy="7855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Овал 16"/>
          <p:cNvSpPr/>
          <p:nvPr/>
        </p:nvSpPr>
        <p:spPr>
          <a:xfrm>
            <a:off x="2071800" y="4071960"/>
            <a:ext cx="357120" cy="3571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Овал 17"/>
          <p:cNvSpPr/>
          <p:nvPr/>
        </p:nvSpPr>
        <p:spPr>
          <a:xfrm>
            <a:off x="3286080" y="4071960"/>
            <a:ext cx="357120" cy="3571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Овал 18"/>
          <p:cNvSpPr/>
          <p:nvPr/>
        </p:nvSpPr>
        <p:spPr>
          <a:xfrm>
            <a:off x="2571840" y="4357800"/>
            <a:ext cx="571320" cy="571320"/>
          </a:xfrm>
          <a:prstGeom prst="ellipse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Прямоугольник 19"/>
          <p:cNvSpPr/>
          <p:nvPr/>
        </p:nvSpPr>
        <p:spPr>
          <a:xfrm>
            <a:off x="2857680" y="4929120"/>
            <a:ext cx="45720" cy="571680"/>
          </a:xfrm>
          <a:prstGeom prst="rect">
            <a:avLst/>
          </a:prstGeom>
          <a:solidFill>
            <a:srgbClr val="10cf9b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Прямоугольник 20"/>
          <p:cNvSpPr/>
          <p:nvPr/>
        </p:nvSpPr>
        <p:spPr>
          <a:xfrm flipV="1">
            <a:off x="2571840" y="5429160"/>
            <a:ext cx="571320" cy="16344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Прямая соединительная линия 23"/>
          <p:cNvSpPr/>
          <p:nvPr/>
        </p:nvSpPr>
        <p:spPr>
          <a:xfrm flipH="1">
            <a:off x="2855520" y="4502160"/>
            <a:ext cx="180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Прямая соединительная линия 25"/>
          <p:cNvSpPr/>
          <p:nvPr/>
        </p:nvSpPr>
        <p:spPr>
          <a:xfrm>
            <a:off x="2714760" y="4643280"/>
            <a:ext cx="285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TextBox 28"/>
          <p:cNvSpPr/>
          <p:nvPr/>
        </p:nvSpPr>
        <p:spPr>
          <a:xfrm>
            <a:off x="1857240" y="442908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Box 29"/>
          <p:cNvSpPr/>
          <p:nvPr/>
        </p:nvSpPr>
        <p:spPr>
          <a:xfrm>
            <a:off x="3571920" y="44290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Box 30"/>
          <p:cNvSpPr/>
          <p:nvPr/>
        </p:nvSpPr>
        <p:spPr>
          <a:xfrm>
            <a:off x="5154840" y="3500280"/>
            <a:ext cx="228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На А  +, а на Б -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На А -, а на Б +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На А + и на Б +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На А - и на Б -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бина</dc:creator>
  <dc:description/>
  <dc:language>en-US</dc:language>
  <cp:lastModifiedBy>Альбина</cp:lastModifiedBy>
  <dcterms:modified xsi:type="dcterms:W3CDTF">2017-02-12T10:13:31Z</dcterms:modified>
  <cp:revision>33</cp:revision>
  <dc:subject/>
  <dc:title>Электризация тел</dc:title>
</cp:coreProperties>
</file>