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7D6AC-1604-4455-8A2C-FFE3C238A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D1EF-4B56-40CF-8430-85F5CA48B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3C0CC4-FDED-4ED2-9BB1-BDDCE7ABABF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B9F3D-EC44-486D-95FD-23554A1D48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89415-4960-4B71-952A-C7F5263E0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F9317-59BA-4085-BE9C-62A5015CC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AAB9-BFE4-4B3E-837E-540863592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00A814-925C-47C3-A94F-4D62160DF42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5DF3-3170-4E02-8AA6-3C00180C6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31D1-DA1D-4459-BBEB-AD7B646AE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35EA-1C11-4AFC-BC33-5E0E672D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710F-E157-4071-8CD0-BF69096D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94FF-DCD6-4C6F-997E-857E0CF0A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9B10E-3C89-458E-897A-0EBB80E7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1E66-3DAF-442E-A909-8AB9C44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D263D-703E-4B10-BE82-83D58DC2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9BCC-B033-43EA-A8D0-0105BBB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4229-B96C-4DDF-8B2C-BFF30F58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06631-46EC-4C63-8251-BF576BF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0BCBC-E96F-4B1A-A9C3-8353A29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ABAC-F8AA-4C00-A706-D8B759F0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AA4EF-F44A-4077-824E-B66ED28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7B9B5-E0D5-4142-9DD2-68DF6FD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4B0A-12F1-4A84-A078-EB88DC91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1DB5-E758-45EB-90E6-7F689A9E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9E8C-9E8C-4717-B414-FE576689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E2C54-8768-4DD8-B508-8877F988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65D61-0D1D-47D2-BEC9-87BEED38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8F1A7-9A30-4D32-ACEA-289E2A36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0A742-F053-4B0A-9E8B-3FF27B8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FAF68-54DF-4E0C-82C8-11ADC8D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DB37-539A-40D4-87F0-49965DD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F4E57-9F57-4064-B8EE-9000144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4360B-272A-416B-A9F9-C11D0F5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32BA5-F4FA-4157-B5A5-DF6E43B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EDD0-237C-4886-8111-12075C5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7ACD6-41AE-4820-90C7-DD14BA1A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7444A-34DA-49CE-8F66-E1A9923D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127CE-E0C4-46FC-A126-85EDB250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3614-07EC-4E9C-B33C-BA7B534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8BF0-3D30-4037-8530-88993A9B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80DE-8F36-4063-B374-57CF901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2D6A-55B1-46F3-B014-9D983B61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4A39-4241-4C9E-BFD3-258969C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2690-1BE5-41E7-A9B6-3B664CD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16051B-94D9-474D-A9A7-EB84401FE3F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BF2E40-230D-4908-9A9E-CD56868CF0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DB7CE6-E208-4739-9F91-74D528F9A3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890960" cy="5451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Готовность к школе – это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214880" y="2571840"/>
            <a:ext cx="42796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928960" cy="3116160"/>
          </a:xfrm>
          <a:prstGeom prst="rect">
            <a:avLst/>
          </a:prstGeom>
          <a:ln w="12600">
            <a:solidFill>
              <a:srgbClr val="77933c"/>
            </a:solidFill>
            <a:round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757080" y="700200"/>
            <a:ext cx="2183040" cy="18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Picture 2" descr="D:\Мои документы\Картинки и открытки\В школу3d967bf173bf.jpg"/>
          <p:cNvPicPr/>
          <p:nvPr/>
        </p:nvPicPr>
        <p:blipFill>
          <a:blip r:embed="rId3"/>
          <a:stretch/>
        </p:blipFill>
        <p:spPr>
          <a:xfrm>
            <a:off x="5219640" y="3273480"/>
            <a:ext cx="331308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26920" y="260280"/>
            <a:ext cx="777744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аша любовь и терп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будут служить гарантом уверенного про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 учёбе для вашего малыш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030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571840" y="2286000"/>
            <a:ext cx="36432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4898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og (x-2)=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720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AG00317_"/>
          <p:cNvPicPr/>
          <p:nvPr/>
        </p:nvPicPr>
        <p:blipFill>
          <a:blip r:embed="rId1"/>
          <a:stretch/>
        </p:blipFill>
        <p:spPr>
          <a:xfrm>
            <a:off x="6156360" y="393372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09800" y="2400120"/>
            <a:ext cx="3771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ебования к выпускнику Д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468360" y="1052640"/>
            <a:ext cx="853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ь в собственных си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зна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волевым усил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овность отвечать за свои поступ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жела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ительное отношение к семье и соци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39640" y="260280"/>
            <a:ext cx="8229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"/>
          <p:cNvSpPr/>
          <p:nvPr/>
        </p:nvSpPr>
        <p:spPr>
          <a:xfrm>
            <a:off x="395280" y="2205000"/>
            <a:ext cx="273672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 rot="20580000">
            <a:off x="3284640" y="156996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3419640" y="292428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rot="1020000">
            <a:off x="3203640" y="4221000"/>
            <a:ext cx="2500200" cy="357480"/>
          </a:xfrm>
          <a:prstGeom prst="rightArrow">
            <a:avLst>
              <a:gd name="adj1" fmla="val 50000"/>
              <a:gd name="adj2" fmla="val 174849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286680" y="8571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286680" y="27147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286680" y="457200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:\Мои документы\Картинки и открытки\Готовы ли к школе 7.jpg"/>
          <p:cNvPicPr/>
          <p:nvPr/>
        </p:nvPicPr>
        <p:blipFill>
          <a:blip r:embed="rId1"/>
          <a:stretch/>
        </p:blipFill>
        <p:spPr>
          <a:xfrm>
            <a:off x="324000" y="4581360"/>
            <a:ext cx="3024000" cy="19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Готовность</a:t>
            </a: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 школ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сихол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из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циаль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680" cy="9288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Физическая</a:t>
            </a:r>
            <a:r>
              <a:rPr b="0" lang="ru-RU" sz="2800" spc="-1" strike="noStrike">
                <a:solidFill>
                  <a:srgbClr val="6593d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отов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4284720" y="1773360"/>
            <a:ext cx="4286160" cy="442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анализаторны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мелких групп мыш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ординация движений в соответствии с возрастной нор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организма ребенка к  учебным нагруз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38289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937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сихологическа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83936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971640" y="2492280"/>
            <a:ext cx="79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речи и кругоз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Найди отличия"/>
          <p:cNvPicPr/>
          <p:nvPr/>
        </p:nvPicPr>
        <p:blipFill>
          <a:blip r:embed="rId1"/>
          <a:stretch/>
        </p:blipFill>
        <p:spPr>
          <a:xfrm>
            <a:off x="2268360" y="333360"/>
            <a:ext cx="4721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056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1T12:16:07Z</dcterms:modified>
  <cp:revision>39</cp:revision>
  <dc:subject/>
  <dc:title>Готовность к школе – это…</dc:title>
</cp:coreProperties>
</file>