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00D51-25D9-4C30-B3DA-956DC2C983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38311-CFDE-4727-A1B1-8D30969398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72D093-A0D6-4BBF-AD83-71775AE81C0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46737-BEBC-49A4-AC58-7A2F011565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33162-7CCC-43F5-AF65-E1B8693A5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58A79-5CCC-4F1C-ABE3-EE76B04CA2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A7A5A-A093-42AF-9C32-351243928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C3F6C6-D08A-4F24-B9F4-8388E5627CB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FC9DA-EE53-4A45-9FA0-FB7B92FB38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9555-41F7-4FCC-9F30-EB44D68C9A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7EA3-3C16-4C35-A25C-4157EDB5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A421-2BFA-4368-8136-F4EA36A8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6264-5334-403C-93CB-9AE84D011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38D0D-52A2-4F68-BB89-5AA68043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A7991-C30B-4B97-8C1F-0B06ACC2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10587-8890-4CC7-87E2-6FB657C5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EF4B4-A7B7-410F-885F-F24F1F52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54A1A-1831-4003-AEBA-32EBEA1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CAF46-AA48-4ECD-8B85-E50D18D6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FD0A7-30EC-4224-8499-BBF2DF71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B612-FFA5-4C9D-A866-B7E61D05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40ED2-2834-4E4D-935F-7C79CE5B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785ED-76C5-48D7-8D99-FE23F2C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70DFB-926F-4EB6-85A4-02DF8C47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4BDCE-EAF0-4105-A352-1693C2DF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F3F46-CFD4-4D2F-B76A-004BA40E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D6E79-4477-4C31-B965-9349259A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2B362-1437-4EE9-A3D5-4EAEEB43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1363A-1635-4CEA-90C2-4F9D9226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5A4B6-9AF1-478B-BFFB-CD1C37F2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7C77D-1E25-4F7E-BEAC-FA53F6EC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E484-72C9-4E40-94AB-E7D41B25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7B28A-13B8-4294-A431-59A51690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72B38-E16A-4631-AF73-DF5B4604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1D469-39B4-4F29-ADEC-96AB6022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E7F2F-6921-453F-94F7-BE98BA85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A5209-6FF3-4305-B22C-82C1CA2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9B507-CB58-4ABA-9AAD-5915BBD5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587F7-AF39-4675-BDCC-A9541EE0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5A44-F0F8-4AB6-AE57-C3296307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C946-F973-45B3-A4B9-CB81953F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EF71-1324-4F70-B453-DBA1355F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4C80-6688-4093-863A-B5DB9541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CE32-579E-4EE9-96C3-58A8253A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48FC-46EA-454A-A78E-CA7D4831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2EE367-5C34-4864-9FC6-5B27D287883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796870-B5D5-4B92-82F4-AC9DAE313B6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742C24-A614-40C6-8D60-AA19C489153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57760" y="785520"/>
            <a:ext cx="4890960" cy="5451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Готовность к школе – это…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214880" y="2571840"/>
            <a:ext cx="42796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2928960" cy="3116160"/>
          </a:xfrm>
          <a:prstGeom prst="rect">
            <a:avLst/>
          </a:prstGeom>
          <a:ln w="12600">
            <a:solidFill>
              <a:srgbClr val="77933c"/>
            </a:solidFill>
            <a:round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757080" y="700200"/>
            <a:ext cx="2183040" cy="180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3" name="Picture 2" descr="D:\Мои документы\Картинки и открытки\В школу3d967bf173bf.jpg"/>
          <p:cNvPicPr/>
          <p:nvPr/>
        </p:nvPicPr>
        <p:blipFill>
          <a:blip r:embed="rId3"/>
          <a:stretch/>
        </p:blipFill>
        <p:spPr>
          <a:xfrm>
            <a:off x="5219640" y="3273480"/>
            <a:ext cx="331308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826920" y="260280"/>
            <a:ext cx="7777440" cy="54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Ваша любовь и терп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будут служить гарантом уверенного продви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в учёбе для вашего малыш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0305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358040" cy="121464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2571840" y="2286000"/>
            <a:ext cx="36432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48980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Log (x-2)=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00000" y="2852640"/>
            <a:ext cx="37720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AG00317_"/>
          <p:cNvPicPr/>
          <p:nvPr/>
        </p:nvPicPr>
        <p:blipFill>
          <a:blip r:embed="rId1"/>
          <a:stretch/>
        </p:blipFill>
        <p:spPr>
          <a:xfrm>
            <a:off x="6156360" y="3933720"/>
            <a:ext cx="1905120" cy="2095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09800" y="2400120"/>
            <a:ext cx="3771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2286000" cy="4572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ребования к выпускнику Д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468360" y="1052640"/>
            <a:ext cx="8532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ренность в собственных сил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зна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к волевым усил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ициа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товность отвечать за свои поступ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рожела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ительное отношение к семье и соци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539640" y="260280"/>
            <a:ext cx="82296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"/>
          <p:cNvSpPr/>
          <p:nvPr/>
        </p:nvSpPr>
        <p:spPr>
          <a:xfrm>
            <a:off x="395280" y="2205000"/>
            <a:ext cx="2736720" cy="180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Т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 rot="20580000">
            <a:off x="3284640" y="1569960"/>
            <a:ext cx="2500200" cy="357120"/>
          </a:xfrm>
          <a:prstGeom prst="rightArrow">
            <a:avLst>
              <a:gd name="adj1" fmla="val 50000"/>
              <a:gd name="adj2" fmla="val 175025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3419640" y="2924280"/>
            <a:ext cx="2500200" cy="357120"/>
          </a:xfrm>
          <a:prstGeom prst="rightArrow">
            <a:avLst>
              <a:gd name="adj1" fmla="val 50000"/>
              <a:gd name="adj2" fmla="val 175025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 rot="1020000">
            <a:off x="3203640" y="4221000"/>
            <a:ext cx="2500200" cy="357480"/>
          </a:xfrm>
          <a:prstGeom prst="rightArrow">
            <a:avLst>
              <a:gd name="adj1" fmla="val 50000"/>
              <a:gd name="adj2" fmla="val 174849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286680" y="85716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286680" y="271476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286680" y="457200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D:\Мои документы\Картинки и открытки\Готовы ли к школе 7.jpg"/>
          <p:cNvPicPr/>
          <p:nvPr/>
        </p:nvPicPr>
        <p:blipFill>
          <a:blip r:embed="rId1"/>
          <a:stretch/>
        </p:blipFill>
        <p:spPr>
          <a:xfrm>
            <a:off x="324000" y="4581360"/>
            <a:ext cx="3024000" cy="19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9288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Готовность</a:t>
            </a: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к школ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714480" y="1785960"/>
            <a:ext cx="5072040" cy="4572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сихологическ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Физическ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циальная гото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286080" cy="4286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42960"/>
            <a:ext cx="7429680" cy="9288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Физическая</a:t>
            </a:r>
            <a:r>
              <a:rPr b="0" lang="ru-RU" sz="2800" spc="-1" strike="noStrike">
                <a:solidFill>
                  <a:srgbClr val="6593d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готов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4284720" y="1773360"/>
            <a:ext cx="4286160" cy="4429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яние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анализаторны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мелких групп мыш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ординация движений в соответствии с возрастной нор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 организма ребенка к  учебным нагруз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38289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937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психологическая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гото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83936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908000" y="285264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971640" y="2492280"/>
            <a:ext cx="79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тие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тие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тие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тие речи и кругоз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риентировка во времени и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Найди отличия"/>
          <p:cNvPicPr/>
          <p:nvPr/>
        </p:nvPicPr>
        <p:blipFill>
          <a:blip r:embed="rId1"/>
          <a:stretch/>
        </p:blipFill>
        <p:spPr>
          <a:xfrm>
            <a:off x="2268360" y="333360"/>
            <a:ext cx="4721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5.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056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01T12:16:07Z</dcterms:modified>
  <cp:revision>39</cp:revision>
  <dc:subject/>
  <dc:title>Готовность к школе – это…</dc:title>
</cp:coreProperties>
</file>