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87B5B-429B-40C0-955A-0B0C155131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7C478-6134-4D93-B18C-200AD42BE3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3187B-A42A-4E2E-85A2-3755C37166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AC7C4-B763-4017-A473-822656F420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4BB3B-E65F-46F2-AC0D-2053B4D7AF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75310-B047-437C-B0B1-89748B4E2A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1C2B1-7E21-4FA1-848C-D906118534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C685C-3CB7-44C8-B78E-817688A246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B74F1-B4D8-42EF-8794-0871C1F5E7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FCACD-2F1C-4F11-8076-A9AE7EE043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7A441-2470-49ED-AA93-B17861B87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766CA-93D2-4E6A-B75A-C560F6CABE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754F-880C-4C79-A304-C1A29A768B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EE6A3-FF0B-4813-9DE8-0489C75A1C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CB83C-A510-435A-B227-B085C3D4BF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35C87-8B80-4E5C-8BFE-9C07AC9897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49B1F-0B94-4CC2-941F-5FD271232C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89055-5C5B-437F-8E56-525069A712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3A733-7947-4402-85B7-DE9D0B1A80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4E942-B6E7-4D73-81C9-21722F5D69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ADF3C-42B4-46C4-9196-464A77670C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185B-95C8-4139-A830-A708B0C7C4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20F51-21F2-43A6-8DBD-99D8BE9FFC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A4F6-00C8-49F5-9B57-3F103EFF8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8BCF-3B9E-4D07-AA67-4A3CBFCB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F49B-E34E-4C54-A6B9-D31A248C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18F0-91C7-4BD6-B0CD-A57A7F56C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A9EE-6008-4474-87FA-454D227B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A50B-A2C0-4E0E-A551-A5C6AE74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BAE1-E528-4720-B17C-EF6334C2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7492-443A-4F98-B723-3CC89869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644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CE19-60AD-4868-9D83-E8E718F0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0939-7EF5-45AD-A66E-E6B844EE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2B3E-8CD9-4F10-B52B-73184F6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5C23-2A87-4E49-A631-2B27C026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2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32E51-27BC-4DF5-BFBA-55DA0670DF2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079640" y="1079640"/>
            <a:ext cx="467964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Литературно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чт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1 клас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6300720" y="720720"/>
            <a:ext cx="1979640" cy="27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5219640" y="4140360"/>
            <a:ext cx="3114720" cy="186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2438280" y="4157640"/>
            <a:ext cx="1882800" cy="19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720720" y="4140360"/>
            <a:ext cx="1619280" cy="19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1440000" y="1346040"/>
            <a:ext cx="6365880" cy="4773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851200" y="453960"/>
            <a:ext cx="3948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Мойдодыр</a:t>
            </a:r>
            <a:r>
              <a:rPr b="0" lang="ru-RU" sz="5400" spc="-1" strike="noStrike">
                <a:solidFill>
                  <a:srgbClr val="280099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4240080" y="2879640"/>
            <a:ext cx="4140360" cy="3240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0360" y="1331640"/>
            <a:ext cx="648036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Приходили к Мухе блошки,</a:t>
            </a:r>
            <a:br>
              <a:rPr sz="3600"/>
            </a:b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Приносили ей сапожки,</a:t>
            </a:r>
            <a:br>
              <a:rPr sz="3600"/>
            </a:b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А сапожки не простые -</a:t>
            </a:r>
            <a:br>
              <a:rPr sz="3600"/>
            </a:br>
            <a:r>
              <a:rPr b="0" lang="en-US" sz="3600" spc="-1" strike="noStrike">
                <a:solidFill>
                  <a:srgbClr val="2300dc"/>
                </a:solidFill>
                <a:latin typeface="Calibri"/>
              </a:rPr>
              <a:t>В них застежки                                                 золот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333520" y="539640"/>
            <a:ext cx="4686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Муха-цокотуха</a:t>
            </a:r>
            <a:r>
              <a:rPr b="0" lang="ru-RU" sz="5400" spc="-1" strike="noStrike">
                <a:solidFill>
                  <a:srgbClr val="280099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9040" y="1440000"/>
            <a:ext cx="50702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"Кому велено чирикать -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мурлыкайте!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ому велено мурлыкать -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чирикайте!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бывать вороне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оровою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летать лягушатам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под облаком!"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859280" y="3060720"/>
            <a:ext cx="3600360" cy="3060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060720" y="539640"/>
            <a:ext cx="29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Путаниц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4738680" y="2771640"/>
            <a:ext cx="3600360" cy="341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360" y="1288800"/>
            <a:ext cx="4319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А потом позвонил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рокодил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со слезами просил: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- Мой милый, хороший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Пришли мне калоши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мне, и жене,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                  и Тото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227400" y="539640"/>
            <a:ext cx="3252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Телеф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1374840"/>
            <a:ext cx="50734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"Эй вы, глупые тарелки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Что вы скачете, как белки?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ам ли бегать за воротами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С воробьями желторотыми?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ы в канаву упадёте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ы утонете в болоте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ходите, погодите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Воротитеся домой!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160720" y="53964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Федорино гор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99080" y="2995560"/>
            <a:ext cx="35812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1760400" y="2340000"/>
            <a:ext cx="5619960" cy="3686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1079640" y="720720"/>
            <a:ext cx="70196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00dc"/>
                </a:solidFill>
                <a:latin typeface="Calibri"/>
              </a:rPr>
              <a:t>Корней Иванович Чуковский сочинял ещё и загадки для де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77709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Был белый дом, Чудесный дом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что-то застучало в нём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он разбился, и оттуда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Живое выбежало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чудо —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Такое тёплое,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такое пушистое 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золот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720720" y="270036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4140360" y="2514600"/>
            <a:ext cx="4224240" cy="3606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720" y="887040"/>
            <a:ext cx="777096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Два коня у меня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Два коня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По воде они возят меня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А вода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Тверда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Словно каменна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80000" y="1260000"/>
            <a:ext cx="399384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Ах, не трогайте меня: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Обожгу и без огн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79640" y="2519280"/>
            <a:ext cx="4679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0" y="4041360"/>
            <a:ext cx="485928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Растёт она вниз головою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е летом растёт, а зимою.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Но солнце её припечёт —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Заплачет она и умр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45007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690480" y="539640"/>
            <a:ext cx="774072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620280"/>
            <a:ext cx="45338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Я одноухая старуха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Я прыгаю по полотну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И нитку длинную из уха,</a:t>
            </a:r>
            <a:br>
              <a:rPr sz="3200"/>
            </a:br>
            <a:r>
              <a:rPr b="0" lang="en-US" sz="3200" spc="-1" strike="noStrike">
                <a:solidFill>
                  <a:srgbClr val="2300dc"/>
                </a:solidFill>
                <a:latin typeface="Calibri"/>
              </a:rPr>
              <a:t>Как паутинку, я тя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349800" y="2765520"/>
            <a:ext cx="4930560" cy="33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76240" y="900000"/>
            <a:ext cx="5064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p-net.ru/book/OurAutors/chukovski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93880" y="1260360"/>
            <a:ext cx="7207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yumen-toys.ru/katalog_tovarov/dlya_samyh_malen_kih/knizhki-malyshki/ck_mini_fedorino_gore_belay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66880" y="1979640"/>
            <a:ext cx="543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rana-detctva.narod.ru/chukovskii_skazki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92080" y="2354400"/>
            <a:ext cx="432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logopsi.ucoz.com/photo/25-0-184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05040" y="2879640"/>
            <a:ext cx="4135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ookin.org.ru/book/10958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00000" y="3247920"/>
            <a:ext cx="684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udioskazki.info/skazki_s_kartinkami/2243-skazka-onlajn-putani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00000" y="3959280"/>
            <a:ext cx="4545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ta.ru/wallpapers/view/id/30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0000" y="4334040"/>
            <a:ext cx="5270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rs-sport.ru/index.php?productID=17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00000" y="4873680"/>
            <a:ext cx="4911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toapteka.org/herbs-k/2642--urtica-dio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00000" y="5219640"/>
            <a:ext cx="7380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lobalwalls.ru/gdefon/download/site/globalwalls/id/2237/name/led_sosulki_zima_vod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020600" y="5773680"/>
            <a:ext cx="473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goodfon.ru/wallpaper/3174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038240" y="6134040"/>
            <a:ext cx="634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eredelkino-land.ru/HTML/mus_peredelkin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00000" y="539640"/>
            <a:ext cx="5467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id-book-museum.livejournal.com/15918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014480" y="195120"/>
            <a:ext cx="546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dintsovo.info/news/?div_id=1&amp;id=307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00720" y="5580000"/>
            <a:ext cx="395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alibri"/>
              </a:rPr>
              <a:t>Автор презентации: О.А.Айдинья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1238400" y="1162080"/>
            <a:ext cx="6681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300dc"/>
                </a:solidFill>
                <a:latin typeface="Calibri"/>
              </a:rPr>
              <a:t>«Талант у Чуковского неиссякаемый, умный, блистательный, весёлый, праздничный.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300dc"/>
                </a:solidFill>
                <a:latin typeface="Calibri"/>
              </a:rPr>
              <a:t>                         </a:t>
            </a:r>
            <a:r>
              <a:rPr b="0" lang="ru-RU" sz="4000" spc="-1" strike="noStrike">
                <a:solidFill>
                  <a:srgbClr val="2300dc"/>
                </a:solidFill>
                <a:latin typeface="Calibri"/>
              </a:rPr>
              <a:t>И. Андрон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260360" y="1143000"/>
            <a:ext cx="65613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Корней Иванович Чуков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(1882-1969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0360" y="1298520"/>
            <a:ext cx="68407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Нам жалко дедушку Корнея.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В сравненье с нами он отстал,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Поскольку в детстве «Бармалея»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И «Мойдодыра» не читал.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Не восхищался «Телефоном»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И в «Тараканище» не вник.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Как вырос он таким ученым,</a:t>
            </a:r>
            <a:br>
              <a:rPr sz="3200"/>
            </a:b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Не зная самых главных кни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398840" y="5580000"/>
            <a:ext cx="406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Calibri"/>
              </a:rPr>
              <a:t>Валентин Бере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1320" y="539640"/>
            <a:ext cx="491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Calibri"/>
              </a:rPr>
              <a:t>КОРНЕЮ  ЧУКОВСК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1619280" y="1898640"/>
            <a:ext cx="6119640" cy="404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720720" y="492120"/>
            <a:ext cx="7740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Дом-музей Корнея Чуковского в Переделк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4500720" cy="377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539640"/>
            <a:ext cx="7770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В послевоенные годы Чуковский часто встречался с детьми в Переделкино, где построил загородный дом. Там он собирал вокруг себя 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детей 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и устраивал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 им праздники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 «Здравствуй, лето!», </a:t>
            </a:r>
            <a:br>
              <a:rPr sz="3200"/>
            </a:br>
            <a:r>
              <a:rPr b="0" lang="ru-RU" sz="3200" spc="-1" strike="noStrike">
                <a:solidFill>
                  <a:srgbClr val="2300dc"/>
                </a:solidFill>
                <a:latin typeface="Calibri"/>
              </a:rPr>
              <a:t>«Прощай, лето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720" y="1531800"/>
            <a:ext cx="777096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300dc"/>
                </a:solidFill>
                <a:latin typeface="Calibri"/>
              </a:rPr>
              <a:t>Давайте вспомним сказки Корнея Ивановича Чуковског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9760" y="878040"/>
            <a:ext cx="615168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"Ах ты, гадкий, ах ты, грязный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Неумытый поросёнок!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Ты чернее трубочиста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Полюбуйся на себя: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 тебя на шее вакса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 тебя под носом клякса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 тебя такие руки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Что сбежали даже брюки,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Даже брюки, даже брюки</a:t>
            </a:r>
            <a:br>
              <a:rPr sz="3200"/>
            </a:br>
            <a:r>
              <a:rPr b="0" lang="en-US" sz="3200" spc="-1" strike="noStrike">
                <a:solidFill>
                  <a:srgbClr val="280099"/>
                </a:solidFill>
                <a:latin typeface="Calibri"/>
              </a:rPr>
              <a:t>Убежали от тебя..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enia.Shokina</cp:lastModifiedBy>
  <dcterms:modified xsi:type="dcterms:W3CDTF">2017-02-20T05:41:13Z</dcterms:modified>
  <cp:revision>1</cp:revision>
  <dc:subject/>
  <dc:title>Слайд 1</dc:title>
</cp:coreProperties>
</file>