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D92A4-034F-4FBE-9AA8-446F9AD255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90265-AE1F-4802-AB8A-8E1271901D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CCFC6-D9AC-4611-AF2F-2265DE3C27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0EEE3-E177-46D4-9902-8EF2A9E85A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BF5FE-2406-4F9F-A3B7-1AF5A38D41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F3F6D-8AAF-44FA-A7DC-9C5793FA02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061B6-73E1-4631-9890-3D48AEAF33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9D0A0-8BC3-408A-B8DC-FD6E3DB960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A4903-9A4F-4799-B345-46DB093DE8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4A051-D9B8-43D2-B56D-1890DF8E04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DE182-AB4C-4237-A9D1-B96C1A6F2F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2D054-8D90-47CA-9ABF-1C8E862763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BEFF2-4617-42E5-A0D9-1E66027AB0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D62C3-8BDA-479C-902C-D196073CEB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56B9C-99FD-42BE-8E3A-E11A6F5FE1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4B3D1-1DAD-47A3-BB44-E3C52F6FEF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70BC0-598A-4D9C-88D9-614E6CB150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F5C60-7805-4F31-8CE0-7FB074E7BE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A24A6-F94D-466E-AEB0-FDB9B3EB4F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F2A5B-DEDF-4BAB-8B05-798037B2AD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2AF28-0684-4014-AEB4-1888748DA5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A0BD6-7B24-4C65-9497-3D114C10AE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95769-FF41-4F03-88DB-C2911E18C9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E8AF3-64BC-4D6E-A01B-17E11F8561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A49C6-72CB-4567-AFDF-4A61F6B1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CDED-F815-4130-86E4-A1635275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D4089-4B20-4E6E-94B2-A19BD08576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EFFB2-CFA7-4607-BCA6-C79FD8EF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41653-CAF8-4E55-86B8-AEE30326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77E7-38AB-4D07-8ECA-72FDBBBA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8F0B-B4B1-4048-82F6-41766F3F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6448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AAA42-1DD1-4E29-A7AA-C5EE12C3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0380-70A5-4EC9-A243-845585FF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CD75F-2521-4898-8510-89DA22C3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AB5E8-789B-4C45-AC22-74BED56F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.2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45B62E-0A7D-4C61-BFF3-25BAF9E1A9F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079640" y="1079640"/>
            <a:ext cx="467964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Литературно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чте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1 клас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6300720" y="720720"/>
            <a:ext cx="1979640" cy="27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5219640" y="4140360"/>
            <a:ext cx="3114720" cy="186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2438280" y="4157640"/>
            <a:ext cx="1882800" cy="196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5"/>
          <a:stretch/>
        </p:blipFill>
        <p:spPr>
          <a:xfrm>
            <a:off x="720720" y="4140360"/>
            <a:ext cx="1619280" cy="19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1440000" y="1346040"/>
            <a:ext cx="6365880" cy="4773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2851200" y="453960"/>
            <a:ext cx="39481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Мойдодыр</a:t>
            </a:r>
            <a:r>
              <a:rPr b="0" lang="ru-RU" sz="5400" spc="-1" strike="noStrike">
                <a:solidFill>
                  <a:srgbClr val="280099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4240080" y="2879640"/>
            <a:ext cx="4140360" cy="3240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0360" y="1331640"/>
            <a:ext cx="6480360" cy="28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300dc"/>
                </a:solidFill>
                <a:latin typeface="Calibri"/>
              </a:rPr>
              <a:t>Приходили к Мухе блошки,</a:t>
            </a:r>
            <a:br>
              <a:rPr sz="3600"/>
            </a:br>
            <a:r>
              <a:rPr b="0" lang="en-US" sz="3600" spc="-1" strike="noStrike">
                <a:solidFill>
                  <a:srgbClr val="2300dc"/>
                </a:solidFill>
                <a:latin typeface="Calibri"/>
              </a:rPr>
              <a:t>Приносили ей сапожки,</a:t>
            </a:r>
            <a:br>
              <a:rPr sz="3600"/>
            </a:br>
            <a:r>
              <a:rPr b="0" lang="en-US" sz="3600" spc="-1" strike="noStrike">
                <a:solidFill>
                  <a:srgbClr val="2300dc"/>
                </a:solidFill>
                <a:latin typeface="Calibri"/>
              </a:rPr>
              <a:t>А сапожки не простые -</a:t>
            </a:r>
            <a:br>
              <a:rPr sz="3600"/>
            </a:br>
            <a:r>
              <a:rPr b="0" lang="en-US" sz="3600" spc="-1" strike="noStrike">
                <a:solidFill>
                  <a:srgbClr val="2300dc"/>
                </a:solidFill>
                <a:latin typeface="Calibri"/>
              </a:rPr>
              <a:t>В них застежки                                                 золот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333520" y="539640"/>
            <a:ext cx="4686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Муха-цокотуха</a:t>
            </a:r>
            <a:r>
              <a:rPr b="0" lang="ru-RU" sz="5400" spc="-1" strike="noStrike">
                <a:solidFill>
                  <a:srgbClr val="280099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9040" y="1440000"/>
            <a:ext cx="50702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"Кому велено чирикать -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Не мурлыкайте!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Кому велено мурлыкать -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Не чирикайте!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Не бывать вороне 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коровою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Не летать лягушатам 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под облаком!"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4859280" y="3060720"/>
            <a:ext cx="3600360" cy="3060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060720" y="539640"/>
            <a:ext cx="295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Путаниц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4738680" y="2771640"/>
            <a:ext cx="3600360" cy="3419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0360" y="1288800"/>
            <a:ext cx="43196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А потом позвонил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Крокодил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И со слезами просил: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- Мой милый, хороший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Пришли мне калоши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И мне, и жене, 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                  и Тото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227400" y="539640"/>
            <a:ext cx="3252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Телеф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360" y="1374840"/>
            <a:ext cx="507348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"Эй вы, глупые тарелки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Что вы скачете, как белки?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Вам ли бегать за воротами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С воробьями желторотыми?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Вы в канаву упадёте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Вы утонете в болоте.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Не ходите, погодите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Воротитеся домой!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160720" y="539640"/>
            <a:ext cx="4859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Федорино гор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699080" y="2995560"/>
            <a:ext cx="35812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1760400" y="2340000"/>
            <a:ext cx="5619960" cy="3686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1079640" y="720720"/>
            <a:ext cx="70196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300dc"/>
                </a:solidFill>
                <a:latin typeface="Calibri"/>
              </a:rPr>
              <a:t>Корней Иванович Чуковский сочинял ещё и загадки для дет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777096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Был белый дом, Чудесный дом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И что-то застучало в нём.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И он разбился, и оттуда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Живое выбежало 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чудо —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Такое тёплое, 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такое пушистое 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и золот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720720" y="2700360"/>
            <a:ext cx="46800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2"/>
          <a:stretch/>
        </p:blipFill>
        <p:spPr>
          <a:xfrm>
            <a:off x="4140360" y="2514600"/>
            <a:ext cx="4224240" cy="3606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720" y="887040"/>
            <a:ext cx="777096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Два коня у меня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Два коня.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По воде они возят меня.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А вода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Тверда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Словно каменна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80000" y="1260000"/>
            <a:ext cx="399384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Ах, не трогайте меня: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Обожгу и без огн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079640" y="2519280"/>
            <a:ext cx="46796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0" y="4041360"/>
            <a:ext cx="485928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Растёт она вниз головою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Не летом растёт, а зимою.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Но солнце её припечёт —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Заплачет она и умрё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900000" y="720720"/>
            <a:ext cx="45007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690480" y="539640"/>
            <a:ext cx="774072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9640" y="620280"/>
            <a:ext cx="453384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Я одноухая старуха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Я прыгаю по полотну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И нитку длинную из уха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Как паутинку, я тя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3349800" y="2765520"/>
            <a:ext cx="4930560" cy="335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876240" y="900000"/>
            <a:ext cx="50641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rp-net.ru/book/OurAutors/chukovski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893880" y="1260360"/>
            <a:ext cx="72072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tyumen-toys.ru/katalog_tovarov/dlya_samyh_malen_kih/knizhki-malyshki/ck_mini_fedorino_gore_belaya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66880" y="1979640"/>
            <a:ext cx="5433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trana-detctva.narod.ru/chukovskii_skazki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92080" y="2354400"/>
            <a:ext cx="432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logopsi.ucoz.com/photo/25-0-184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05040" y="2879640"/>
            <a:ext cx="4135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ookin.org.ru/book/10958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00000" y="3247920"/>
            <a:ext cx="6840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udioskazki.info/skazki_s_kartinkami/2243-skazka-onlajn-putanic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00000" y="3959280"/>
            <a:ext cx="4545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mota.ru/wallpapers/view/id/306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00000" y="4334040"/>
            <a:ext cx="5270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rs-sport.ru/index.php?productID=17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00000" y="4873680"/>
            <a:ext cx="4911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toapteka.org/herbs-k/2642--urtica-dio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900000" y="5219640"/>
            <a:ext cx="7380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globalwalls.ru/gdefon/download/site/globalwalls/id/2237/name/led_sosulki_zima_voda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020600" y="5773680"/>
            <a:ext cx="4738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goodfon.ru/wallpaper/31746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038240" y="6134040"/>
            <a:ext cx="634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eredelkino-land.ru/HTML/mus_peredelkina.s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900000" y="539640"/>
            <a:ext cx="5467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kid-book-museum.livejournal.com/15918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1014480" y="195120"/>
            <a:ext cx="5465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odintsovo.info/news/?div_id=1&amp;id=3073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00720" y="5580000"/>
            <a:ext cx="3957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alibri"/>
              </a:rPr>
              <a:t>Автор презентации: О.А.Айдинья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1238400" y="1162080"/>
            <a:ext cx="6681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300dc"/>
                </a:solidFill>
                <a:latin typeface="Calibri"/>
              </a:rPr>
              <a:t>«Талант у Чуковского неиссякаемый, умный, блистательный, весёлый, праздничный.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300dc"/>
                </a:solidFill>
                <a:latin typeface="Calibri"/>
              </a:rPr>
              <a:t>                         </a:t>
            </a:r>
            <a:r>
              <a:rPr b="0" lang="ru-RU" sz="4000" spc="-1" strike="noStrike">
                <a:solidFill>
                  <a:srgbClr val="2300dc"/>
                </a:solidFill>
                <a:latin typeface="Calibri"/>
              </a:rPr>
              <a:t>И. Андронн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1260360" y="1143000"/>
            <a:ext cx="656136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Корней Иванович Чуковски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(1882-1969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0360" y="1298520"/>
            <a:ext cx="68407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Нам жалко дедушку Корнея.</a:t>
            </a:r>
            <a:br>
              <a:rPr sz="3200"/>
            </a:b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В сравненье с нами он отстал,</a:t>
            </a:r>
            <a:br>
              <a:rPr sz="3200"/>
            </a:b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Поскольку в детстве «Бармалея»</a:t>
            </a:r>
            <a:br>
              <a:rPr sz="3200"/>
            </a:b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И «Мойдодыра» не читал.</a:t>
            </a:r>
            <a:br>
              <a:rPr sz="3200"/>
            </a:b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Не восхищался «Телефоном»</a:t>
            </a:r>
            <a:br>
              <a:rPr sz="3200"/>
            </a:b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И в «Тараканище» не вник.</a:t>
            </a:r>
            <a:br>
              <a:rPr sz="3200"/>
            </a:b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Как вырос он таким ученым,</a:t>
            </a:r>
            <a:br>
              <a:rPr sz="3200"/>
            </a:b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Не зная самых главных кни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398840" y="5580000"/>
            <a:ext cx="406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Валентин Берес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1320" y="539640"/>
            <a:ext cx="49179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Calibri"/>
              </a:rPr>
              <a:t>КОРНЕЮ  ЧУКОВСК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2"/>
          <a:stretch/>
        </p:blipFill>
        <p:spPr>
          <a:xfrm>
            <a:off x="1619280" y="1898640"/>
            <a:ext cx="6119640" cy="4041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720720" y="492120"/>
            <a:ext cx="7740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Calibri"/>
              </a:rPr>
              <a:t>Дом-музей Корнея Чуковского в Переделки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900000" y="2160720"/>
            <a:ext cx="4500720" cy="377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539640"/>
            <a:ext cx="7770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Calibri"/>
              </a:rPr>
              <a:t>В послевоенные годы Чуковский часто встречался с детьми в Переделкино, где построил загородный дом. Там он собирал вокруг себя </a:t>
            </a:r>
            <a:br>
              <a:rPr sz="3200"/>
            </a:br>
            <a:r>
              <a:rPr b="0" lang="ru-RU" sz="3200" spc="-1" strike="noStrike">
                <a:solidFill>
                  <a:srgbClr val="2300dc"/>
                </a:solidFill>
                <a:latin typeface="Calibri"/>
              </a:rPr>
              <a:t>детей </a:t>
            </a:r>
            <a:br>
              <a:rPr sz="3200"/>
            </a:br>
            <a:r>
              <a:rPr b="0" lang="ru-RU" sz="3200" spc="-1" strike="noStrike">
                <a:solidFill>
                  <a:srgbClr val="2300dc"/>
                </a:solidFill>
                <a:latin typeface="Calibri"/>
              </a:rPr>
              <a:t>и устраивал</a:t>
            </a:r>
            <a:br>
              <a:rPr sz="3200"/>
            </a:br>
            <a:r>
              <a:rPr b="0" lang="ru-RU" sz="3200" spc="-1" strike="noStrike">
                <a:solidFill>
                  <a:srgbClr val="2300dc"/>
                </a:solidFill>
                <a:latin typeface="Calibri"/>
              </a:rPr>
              <a:t> им праздники</a:t>
            </a:r>
            <a:br>
              <a:rPr sz="3200"/>
            </a:br>
            <a:r>
              <a:rPr b="0" lang="ru-RU" sz="3200" spc="-1" strike="noStrike">
                <a:solidFill>
                  <a:srgbClr val="2300dc"/>
                </a:solidFill>
                <a:latin typeface="Calibri"/>
              </a:rPr>
              <a:t> «Здравствуй, лето!», </a:t>
            </a:r>
            <a:br>
              <a:rPr sz="3200"/>
            </a:br>
            <a:r>
              <a:rPr b="0" lang="ru-RU" sz="3200" spc="-1" strike="noStrike">
                <a:solidFill>
                  <a:srgbClr val="2300dc"/>
                </a:solidFill>
                <a:latin typeface="Calibri"/>
              </a:rPr>
              <a:t>«Прощай, лето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0720" y="1531800"/>
            <a:ext cx="777096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Давайте вспомним сказки Корнея Ивановича Чуковског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9760" y="878040"/>
            <a:ext cx="615168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"Ах ты, гадкий, ах ты, грязный,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Неумытый поросёнок!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Ты чернее трубочиста,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Полюбуйся на себя: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У тебя на шее вакса,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У тебя под носом клякса,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У тебя такие руки,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Что сбежали даже брюки,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Даже брюки, даже брюки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Убежали от тебя..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enia.Shokina</cp:lastModifiedBy>
  <dcterms:modified xsi:type="dcterms:W3CDTF">2017-02-20T05:41:13Z</dcterms:modified>
  <cp:revision>1</cp:revision>
  <dc:subject/>
  <dc:title>Слайд 1</dc:title>
</cp:coreProperties>
</file>