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22B7-74FB-4CE0-83B3-5B3AC9EF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2C2-6251-4A90-93C0-D4B08FAA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B2A-0B0C-4A8C-B27A-C067C097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272-37BB-458E-AE5A-31F894BA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5696-0A67-4E1C-8B1E-0C6DAFE8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E7E-E7A9-443B-96E0-123B2498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38ED-A321-4433-9332-06B3BDC7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DFA-5130-4F6E-AB9C-7D9A4E29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A43D-D5D8-4F4F-994F-A800FB43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EE3-6D63-400C-8256-4A5FAA4D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98A0-08C9-4FBB-B0AF-F6D4B4F6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448-C717-43B0-9AFF-3008CFB3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8799-D4FD-44BF-BC91-EA248F7C95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javascript:%20window.close();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hyperlink" Target="javascript:%20window.close();" TargetMode="External"/><Relationship Id="rId11" Type="http://schemas.openxmlformats.org/officeDocument/2006/relationships/image" Target="../media/image3.jpeg"/><Relationship Id="rId12" Type="http://schemas.openxmlformats.org/officeDocument/2006/relationships/slide" Target="slide26.xml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hyperlink" Target="javascript:%20window.close();" TargetMode="External"/><Relationship Id="rId11" Type="http://schemas.openxmlformats.org/officeDocument/2006/relationships/image" Target="../media/image2.jpeg"/><Relationship Id="rId12" Type="http://schemas.openxmlformats.org/officeDocument/2006/relationships/slide" Target="slide14.xml"/><Relationship Id="rId1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итературная викторина 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Умники и умницы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«Капитанская дочка». Глава 5. «Любовь». Письмо от батюшки. Художник С. Герасимов">
            <a:hlinkClick r:id="rId1"/>
          </p:cNvPr>
          <p:cNvPicPr/>
          <p:nvPr/>
        </p:nvPicPr>
        <p:blipFill>
          <a:blip r:embed="rId2"/>
          <a:srcRect l="0" t="0" r="0" b="2370"/>
          <a:stretch/>
        </p:blipFill>
        <p:spPr>
          <a:xfrm>
            <a:off x="324000" y="1557360"/>
            <a:ext cx="3543120" cy="50403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4500720" y="4722480"/>
            <a:ext cx="4473360" cy="17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Ларионова Ольга Анатолье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автоном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образовательного учреж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общеобразовательная школа №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ённым изучением математик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а Старая Русса Новгородской обла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4284720" y="1700280"/>
            <a:ext cx="41749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 повести А.С. Пушкина “Капитанская дочка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40" y="271476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уже пятый год, как к нам переведён за смертоубийство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571320"/>
            <a:ext cx="8229600" cy="14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авно и почему Швабрин оказался в Белогорской креп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Управляющая кнопка: назад 3">
            <a:hlinkClick r:id="rId1" action="ppaction://hlinksldjump"/>
          </p:cNvPr>
          <p:cNvSpPr/>
          <p:nvPr/>
        </p:nvSpPr>
        <p:spPr>
          <a:xfrm>
            <a:off x="7358040" y="5929200"/>
            <a:ext cx="928800" cy="428760"/>
          </a:xfrm>
          <a:custGeom>
            <a:avLst/>
            <a:gdLst>
              <a:gd name="textAreaLeft" fmla="*/ 27720 w 928800"/>
              <a:gd name="textAreaRight" fmla="*/ 901080 w 9288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70" h="21600">
                <a:moveTo>
                  <a:pt x="16378" y="10800"/>
                </a:moveTo>
                <a:lnTo>
                  <a:pt x="30391" y="3794"/>
                </a:lnTo>
                <a:lnTo>
                  <a:pt x="3039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астый гребень, да веник, да алтын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3 копейки) денег, с чем в баню сходить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7120" y="7855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приданое было у Марии Ивановны , по словам Василисы Егоров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Управляющая кнопка: назад 3">
            <a:hlinkClick r:id="rId1" action="ppaction://hlinksldjump"/>
          </p:cNvPr>
          <p:cNvSpPr/>
          <p:nvPr/>
        </p:nvSpPr>
        <p:spPr>
          <a:xfrm>
            <a:off x="7358040" y="5929200"/>
            <a:ext cx="857160" cy="428760"/>
          </a:xfrm>
          <a:custGeom>
            <a:avLst/>
            <a:gdLst>
              <a:gd name="textAreaLeft" fmla="*/ 27720 w 857160"/>
              <a:gd name="textAreaRight" fmla="*/ 829440 w 8571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5" y="10800"/>
                </a:moveTo>
                <a:lnTo>
                  <a:pt x="28588" y="3794"/>
                </a:lnTo>
                <a:lnTo>
                  <a:pt x="2858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30002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ни люди беспутные и пьяницы. Дело службе противное и ни к чему доброму не доводяще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6426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му Иван Кузьмич советовал Гринёву оставить стихотвор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Управляющая кнопка: назад 3">
            <a:hlinkClick r:id="rId1" action="ppaction://hlinksldjump"/>
          </p:cNvPr>
          <p:cNvSpPr/>
          <p:nvPr/>
        </p:nvSpPr>
        <p:spPr>
          <a:xfrm>
            <a:off x="7358040" y="6143760"/>
            <a:ext cx="785880" cy="214200"/>
          </a:xfrm>
          <a:custGeom>
            <a:avLst/>
            <a:gdLst>
              <a:gd name="textAreaLeft" fmla="*/ 13680 w 785880"/>
              <a:gd name="textAreaRight" fmla="*/ 772200 w 7858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79152" h="21600">
                <a:moveTo>
                  <a:pt x="0" y="0"/>
                </a:moveTo>
                <a:lnTo>
                  <a:pt x="79152" y="0"/>
                </a:lnTo>
                <a:lnTo>
                  <a:pt x="79152" y="21600"/>
                </a:lnTo>
                <a:lnTo>
                  <a:pt x="0" y="21600"/>
                </a:lnTo>
                <a:close/>
              </a:path>
              <a:path fill="lightenLess" w="79152" h="21600">
                <a:moveTo>
                  <a:pt x="0" y="0"/>
                </a:moveTo>
                <a:lnTo>
                  <a:pt x="79152" y="0"/>
                </a:lnTo>
                <a:lnTo>
                  <a:pt x="77752" y="1400"/>
                </a:lnTo>
                <a:lnTo>
                  <a:pt x="1400" y="1400"/>
                </a:lnTo>
                <a:close/>
              </a:path>
              <a:path fill="darken" w="79152" h="21600">
                <a:moveTo>
                  <a:pt x="79152" y="0"/>
                </a:moveTo>
                <a:lnTo>
                  <a:pt x="79152" y="21600"/>
                </a:lnTo>
                <a:lnTo>
                  <a:pt x="77752" y="20200"/>
                </a:lnTo>
                <a:lnTo>
                  <a:pt x="77752" y="1400"/>
                </a:lnTo>
                <a:close/>
              </a:path>
              <a:path fill="darkenLess" w="79152" h="21600">
                <a:moveTo>
                  <a:pt x="79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52" y="20200"/>
                </a:lnTo>
                <a:close/>
              </a:path>
              <a:path fill="lighten" w="79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52" h="21600">
                <a:moveTo>
                  <a:pt x="32569" y="10800"/>
                </a:moveTo>
                <a:lnTo>
                  <a:pt x="46582" y="3794"/>
                </a:lnTo>
                <a:lnTo>
                  <a:pt x="46582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680" y="2857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резвое поведе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760" y="28584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кие достоинства стремянной Савельич получил повышение, став дядькой маленького бар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Управляющая кнопка: назад 3">
            <a:hlinkClick r:id="rId1" action="ppaction://hlinksldjump"/>
          </p:cNvPr>
          <p:cNvSpPr/>
          <p:nvPr/>
        </p:nvSpPr>
        <p:spPr>
          <a:xfrm>
            <a:off x="7358040" y="5929200"/>
            <a:ext cx="714240" cy="42876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70" h="21600">
                <a:moveTo>
                  <a:pt x="0" y="0"/>
                </a:moveTo>
                <a:lnTo>
                  <a:pt x="35970" y="0"/>
                </a:lnTo>
                <a:lnTo>
                  <a:pt x="35970" y="21600"/>
                </a:lnTo>
                <a:lnTo>
                  <a:pt x="0" y="21600"/>
                </a:lnTo>
                <a:close/>
              </a:path>
              <a:path fill="lightenLess" w="35970" h="21600">
                <a:moveTo>
                  <a:pt x="0" y="0"/>
                </a:moveTo>
                <a:lnTo>
                  <a:pt x="35970" y="0"/>
                </a:lnTo>
                <a:lnTo>
                  <a:pt x="34570" y="1400"/>
                </a:lnTo>
                <a:lnTo>
                  <a:pt x="1400" y="1400"/>
                </a:lnTo>
                <a:close/>
              </a:path>
              <a:path fill="darken" w="35970" h="21600">
                <a:moveTo>
                  <a:pt x="35970" y="0"/>
                </a:moveTo>
                <a:lnTo>
                  <a:pt x="35970" y="21600"/>
                </a:lnTo>
                <a:lnTo>
                  <a:pt x="34570" y="20200"/>
                </a:lnTo>
                <a:lnTo>
                  <a:pt x="34570" y="1400"/>
                </a:lnTo>
                <a:close/>
              </a:path>
              <a:path fill="darkenLess" w="35970" h="21600">
                <a:moveTo>
                  <a:pt x="35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0" y="20200"/>
                </a:lnTo>
                <a:close/>
              </a:path>
              <a:path fill="lighten" w="35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0" h="21600">
                <a:moveTo>
                  <a:pt x="10978" y="10800"/>
                </a:moveTo>
                <a:lnTo>
                  <a:pt x="24991" y="3794"/>
                </a:lnTo>
                <a:lnTo>
                  <a:pt x="2499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пролог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ъясните значение устаревши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357200"/>
            <a:ext cx="9501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«Разбойник приглашал казаков в свою шайку, а  командиров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вещева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противляться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Мало-помалу приучился я сидеть один у себя до-ма. Василиса Егоровна сначала за то мне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еня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«Что же он до сегодняшнего дня сидел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енбурге с твоими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постата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«Не пугай же дворян, казня их по перв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говор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«С пятилетнего возраста отдан я был на руки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тремянном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вельичу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вещева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беж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еня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ор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постата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раг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говор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ле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тремян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уга, ухаживающий за верховой лошадью хозя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2 аг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38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Андрей Петрович Гринё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Ге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Фехт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Савель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Вожат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Лека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Защитники креп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«Новобранные изменн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Напутст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«Капитанская дочка». Глава 3. «Поединок». «…Я упал и лишился чувств». Художник А. Иткин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024520" y="941400"/>
            <a:ext cx="3762360" cy="518472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84" name="Управляющая кнопка: далее 4">
            <a:hlinkClick r:id="rId12" action="ppaction://hlinksldjump"/>
          </p:cNvPr>
          <p:cNvSpPr/>
          <p:nvPr/>
        </p:nvSpPr>
        <p:spPr>
          <a:xfrm>
            <a:off x="3786120" y="6072120"/>
            <a:ext cx="500040" cy="5428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42880"/>
              <a:gd name="textAreaBottom" fmla="*/ 510480 h 542880"/>
            </a:gdLst>
            <a:ahLst/>
            <a:rect l="textAreaLeft" t="textAreaTop" r="textAreaRight" b="textAreaBottom"/>
            <a:pathLst>
              <a:path w="21600" h="23449">
                <a:moveTo>
                  <a:pt x="0" y="0"/>
                </a:moveTo>
                <a:lnTo>
                  <a:pt x="21600" y="0"/>
                </a:lnTo>
                <a:lnTo>
                  <a:pt x="21600" y="23449"/>
                </a:lnTo>
                <a:lnTo>
                  <a:pt x="0" y="23449"/>
                </a:lnTo>
                <a:close/>
              </a:path>
              <a:path fill="lightenLess" w="21600" h="234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9">
                <a:moveTo>
                  <a:pt x="21600" y="0"/>
                </a:moveTo>
                <a:lnTo>
                  <a:pt x="21600" y="23449"/>
                </a:lnTo>
                <a:lnTo>
                  <a:pt x="20200" y="22049"/>
                </a:lnTo>
                <a:lnTo>
                  <a:pt x="20200" y="1400"/>
                </a:lnTo>
                <a:close/>
              </a:path>
              <a:path fill="darkenLess" w="21600" h="23449">
                <a:moveTo>
                  <a:pt x="21600" y="23449"/>
                </a:moveTo>
                <a:lnTo>
                  <a:pt x="0" y="23449"/>
                </a:lnTo>
                <a:lnTo>
                  <a:pt x="1400" y="22049"/>
                </a:lnTo>
                <a:lnTo>
                  <a:pt x="20200" y="22049"/>
                </a:lnTo>
                <a:close/>
              </a:path>
              <a:path fill="lighten" w="21600" h="23449">
                <a:moveTo>
                  <a:pt x="0" y="234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9"/>
                </a:lnTo>
                <a:close/>
              </a:path>
              <a:path fill="darken" w="21600" h="23449">
                <a:moveTo>
                  <a:pt x="3794" y="4718"/>
                </a:moveTo>
                <a:lnTo>
                  <a:pt x="17806" y="11725"/>
                </a:lnTo>
                <a:lnTo>
                  <a:pt x="3794" y="1873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ьер-майор( помощник командира полка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120" y="42876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 каком чине вышел в отставку А.П.Гринё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Управляющая кнопка: назад 3">
            <a:hlinkClick r:id="rId1" action="ppaction://hlinksldjump"/>
          </p:cNvPr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7120" y="292860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делал из географической карты зме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28760" y="42840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Увидя мои упражнения в географии, батюшка дёрнул меня за ухо».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правляющая кнопка: назад 3">
            <a:hlinkClick r:id="rId1" action="ppaction://hlinksldjump"/>
          </p:cNvPr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584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пре, бывший некогда солдатом, дал мне несколько уроков в фехтовани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071360"/>
            <a:ext cx="86868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то дал Гринёву уроки фехт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Управляющая кнопка: назад 3">
            <a:hlinkClick r:id="rId1" action="ppaction://hlinksldjump"/>
          </p:cNvPr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35676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проло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ъясните значение устаревших слов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«Хорошо, коли отсидимся или дождёмся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икурса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Приближаясь к Оренбургу, увидели мы толпы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лодник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ритыми    головами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«И денег, и белья, и дел моих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рачитель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«Старый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нвали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шивал синюю заплату на локоть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. «Отец Герасим с женою Акулиной Памфиловной, первою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стовщицею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004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п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зовите имя героя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правляющая кнопка: назад 3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29998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тер оттоле потянул, и я слышу: дымом пахнуло, знать, деревня близко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ожатый определил, что «жило недалече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Управляющая кнопка: назад 3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8573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ня лечил полковой цирюльни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парикмахер),ибо в крепости другого лекаря не было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7120" y="100008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лечил Гринёва, когда он был ранен на дуэл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правляющая кнопка: назад 3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30 человек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7120" y="64296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человек, «не считая казаков, на которых плоха надежда», входило в войско комендан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Управляющая кнопка: назад 3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7120" y="22856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абрина  и других, присягнувших Пугачёву и изменивших присяге государын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7120" y="50004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о Гринёв называл «Новобранными изменниками» и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правляющая кнопка: назад 3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8576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ужи верно, кому присягнёшь, слушайся начальников, за их лаской не гоняйся, на службу не напрашивайся, от службы не отговаривайся, и помни пословицу: береги платье снову, а честь смолоду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120" y="78588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казал на прощание Петруше его оте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Управляющая кнопка: назад 4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«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ходился в стороне, в степи, далече от всякого селения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Его благородие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жалу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е шубу со своего плеч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«Это тебе так не пройдёт. Вы мне дадите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атисфакц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«Но никто, кроме меня , не понял грубых его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иняк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«Я не мог несколько раз не улыбнуться, читая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рамот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го старика»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 пролог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ясните значение устаревших сл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оялый д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Жалу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граждает, да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атисфакц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довлетворение, вызов на дуэ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иняк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мё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рамот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ись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3 аг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38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я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в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пи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Подкупательные движен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енда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«Капитанская дочка». Глава 7. «Приступ». Суд Пугачева. Художник А. Иткин"/>
          <p:cNvPicPr/>
          <p:nvPr/>
        </p:nvPicPr>
        <p:blipFill>
          <a:blip r:embed="rId1"/>
          <a:stretch/>
        </p:blipFill>
        <p:spPr>
          <a:xfrm>
            <a:off x="4284720" y="1590840"/>
            <a:ext cx="4402080" cy="4198680"/>
          </a:xfrm>
          <a:prstGeom prst="rect">
            <a:avLst/>
          </a:prstGeom>
          <a:ln w="9360">
            <a:solidFill>
              <a:srgbClr val="224b50"/>
            </a:solidFill>
            <a:miter/>
          </a:ln>
        </p:spPr>
      </p:pic>
      <p:sp>
        <p:nvSpPr>
          <p:cNvPr id="118" name="Управляющая кнопка: далее 4"/>
          <p:cNvSpPr/>
          <p:nvPr/>
        </p:nvSpPr>
        <p:spPr>
          <a:xfrm>
            <a:off x="3714840" y="607212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7120" y="3499920"/>
            <a:ext cx="822960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 батюшки триста душ крестьян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760" y="285840"/>
            <a:ext cx="8229600" cy="29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вестно  состояние дворян 18 века измерялось количеством душ крепостных крестьян. У Мироновых была только девка Палашка. А сколько душ было у батюшки Петра Гринё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Управляющая кнопка: назад 3"/>
          <p:cNvSpPr/>
          <p:nvPr/>
        </p:nvSpPr>
        <p:spPr>
          <a:xfrm>
            <a:off x="7215120" y="51436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икурса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м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Колодник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с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чит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еловек, заботящийся о чём-ли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нвали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еннослужащий, состарившийся на служ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стовщице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бительницею рассказывать но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тный портной, вооружённый тупыми ножницами, резал у них косы. Они, отряхиваясь, подходили к руке Пугачёва, который объявлял им прощение и принимал в свою шайку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85840" y="35676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исягали Пугачёву ротные солда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Управляющая кнопка: назад 3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2960" y="321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ельдмарша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7120" y="49968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оинское звание дал  Пугачёв  своему приближённому Белобородо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Управляющая кнопка: назад 4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321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ёл и Ворон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были герои сказки, поведанной Пугачёву  старой калмыч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Управляющая кнопка: назад 4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680" y="32144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ослать в отдалённый край Сибири на вечное посел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00040" y="42840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осударыня из уважения к заслугам  и преклонным летам отца, решилась помиловать  преступного сына и, избавляя его от позорной казни, повелел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Управляющая кнопка: назад 4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314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к Гринёв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78588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ередал рукопись Гринёва издател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Управляющая кнопка: назад 4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0040" y="314280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октябр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35712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произведением издатель поставил дату. 1836 год. Назовите число и месяц? ( так называется одно из стихотворений А.С.Пушк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Управляющая кнопка: назад 4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5840" y="27856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ещать за голову бездельника рублей семьдесят или даже сто из секретной суммы. И тогда воры сами выдадут нам своего атаман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7120" y="71424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каком «подкупательном движении» говорили на совете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Управляющая кнопка: назад 5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43578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в колпаке и китайчатом халате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428760"/>
            <a:ext cx="8229600" cy="29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дходя к комендантскому дому, мы увидели человек двадцать стареньких инвалидов с длинными косами и в треугольных шляпах. Они выстроены были во фрунт. Впереди стоял комендант». В чём он был од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Управляющая кнопка: назад 4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лог финал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пиграфам определите название главы – 1 минута</a:t>
            </a: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928440"/>
            <a:ext cx="3971880" cy="578628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езваный гость хуже татарин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лов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Не гневайтесь, сударь: по долгу мо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должен сей же час отправить вас в тюрь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вольте, я готов; но я в такой надежд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о объяснить дозволите мне преж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яжин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ладко было спозна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, прекрасная, с тоб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но, грустно расстава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но, будто бы с ду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ерасков 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999720"/>
            <a:ext cx="4038480" cy="571500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Мы в фортеции жив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 едим и воду пьё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к лютые вр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т к нам на пиро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дим гостям пируш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ядим картечью пушку.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датская песня)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Как у нашей у яблонь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верхушки нет, ни отросточ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 нашей у княгиню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отца нету, ни мат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рядить-то её неко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словить-то её нек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вадебная песн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2000160" y="857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57168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Незваный г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Арес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Разлу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Креп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Сиро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28400" y="1499760"/>
            <a:ext cx="4429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«Сержант гвард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Кни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Сл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 Поговор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А.И.Швабр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Прида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Со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Дядь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«Капитанская дочка». Глава 3. «Крепость». Гринев и Швабрин у Мироновых. Художник С. Герасимов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643720" y="1500120"/>
            <a:ext cx="3117600" cy="452592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1аг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Управляющая кнопка: далее 4">
            <a:hlinkClick r:id="rId12" action="ppaction://hlinksldjump"/>
          </p:cNvPr>
          <p:cNvSpPr/>
          <p:nvPr/>
        </p:nvSpPr>
        <p:spPr>
          <a:xfrm>
            <a:off x="3286080" y="6215040"/>
            <a:ext cx="714600" cy="357120"/>
          </a:xfrm>
          <a:custGeom>
            <a:avLst/>
            <a:gdLst>
              <a:gd name="textAreaLeft" fmla="*/ 23040 w 714600"/>
              <a:gd name="textAreaRight" fmla="*/ 691560 w 7146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44956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пи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инский артику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движн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руках правосуд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«Капитанская дочка». Глава 9. «Разлука». «Реестр барскому добру, разграбленному злодеями». Художник А. Иткин"/>
          <p:cNvPicPr/>
          <p:nvPr/>
        </p:nvPicPr>
        <p:blipFill>
          <a:blip r:embed="rId1"/>
          <a:stretch/>
        </p:blipFill>
        <p:spPr>
          <a:xfrm>
            <a:off x="4930920" y="1600200"/>
            <a:ext cx="3471840" cy="4525920"/>
          </a:xfrm>
          <a:prstGeom prst="rect">
            <a:avLst/>
          </a:prstGeom>
          <a:ln w="0">
            <a:noFill/>
          </a:ln>
        </p:spPr>
      </p:pic>
      <p:sp>
        <p:nvSpPr>
          <p:cNvPr id="154" name="Управляющая кнопка: далее 4"/>
          <p:cNvSpPr/>
          <p:nvPr/>
        </p:nvSpPr>
        <p:spPr>
          <a:xfrm>
            <a:off x="371484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53680" y="10800"/>
                </a:lnTo>
                <a:lnTo>
                  <a:pt x="3966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1680" y="385776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тория Пугачёвского бунт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760" y="28584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пись П.А.Гринёва была доставлена издателю одним из     внуков , когда тот узнал, что издатель занимается трудом, относящимся ко временам, описанным его дедом. А как назывался  этот тру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7500960" y="607212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7500960" y="607212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35692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ь ,прочитав рукопись, внёс 23 поправки и изменил назва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7120" y="285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вестно, первоначально повесть называлась «История Пугачёва». Кто изменил назв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Управляющая кнопка: назад 5"/>
          <p:cNvSpPr/>
          <p:nvPr/>
        </p:nvSpPr>
        <p:spPr>
          <a:xfrm>
            <a:off x="7500960" y="607212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0040" y="357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а 3 Фёдорович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какого покойного императора принял Емельян Пугачё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Управляющая кнопка: назад 3"/>
          <p:cNvSpPr/>
          <p:nvPr/>
        </p:nvSpPr>
        <p:spPr>
          <a:xfrm>
            <a:off x="7358040" y="5857920"/>
            <a:ext cx="714240" cy="571320"/>
          </a:xfrm>
          <a:custGeom>
            <a:avLst/>
            <a:gdLst>
              <a:gd name="textAreaLeft" fmla="*/ 36720 w 714240"/>
              <a:gd name="textAreaRight" fmla="*/ 677520 w 7142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335772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гачёв выдавал своих приближённых за царских вельмож. Голубую ленту через плечо носили  награждённые высшим орденом- Андрея Первозванног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7120" y="35676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щедушный старичок с седою бородкою, не имел в себе ничего замечательного, кроме голубой ленты, надетой через плечо по серому армяку».Что это означ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Управляющая кнопка: назад 3"/>
          <p:cNvSpPr/>
          <p:nvPr/>
        </p:nvSpPr>
        <p:spPr>
          <a:xfrm>
            <a:off x="7500960" y="607212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400" y="3000240"/>
            <a:ext cx="8715240" cy="31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Яик. Яицкий казак- живущий на реке Яик ( После Пугачёвского восстания Яик был переименован Екатериной 2 в Урал, чтобы само название реки не напоминало о Пугачёве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7120" y="49968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лась река, давшая   именование казакам, участвовавшим в  Крестьянской войне Пугачёва? Как она называется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Управляющая кнопка: назад 3"/>
          <p:cNvSpPr/>
          <p:nvPr/>
        </p:nvSpPr>
        <p:spPr>
          <a:xfrm>
            <a:off x="7500960" y="607212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7120" y="43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Петрович Сумарок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7120" y="357120"/>
            <a:ext cx="8229600" cy="36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уже сказал, что я занимался литературо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вестно, Швабрин не одобрил песенку, которую написал Гринёв. Однако опыты Гринёва несколько лет после заслужили похвалы известного поэта и драматурга 18 века. Назовите фамил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Управляющая кнопка: назад 3"/>
          <p:cNvSpPr/>
          <p:nvPr/>
        </p:nvSpPr>
        <p:spPr>
          <a:xfrm>
            <a:off x="7500960" y="607212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инский артикул- сборник законов о воинских обязанностях , преступлениях и наказаниях, действовавший в 18- нач.19 ве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7120" y="4284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динки формально запрещены в воинском артикуле. А что такое воинский артику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Управляющая кнопка: назад 3"/>
          <p:cNvSpPr/>
          <p:nvPr/>
        </p:nvSpPr>
        <p:spPr>
          <a:xfrm>
            <a:off x="7500960" y="607212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85840" y="356760"/>
            <a:ext cx="885816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тель говорит, что он дозволил себе переменить некоторые собственные имена. Однако имена  приближённых Пугачёва он не изменил. Как их звали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4"/>
          <p:cNvSpPr/>
          <p:nvPr/>
        </p:nvSpPr>
        <p:spPr>
          <a:xfrm>
            <a:off x="714240" y="3776760"/>
            <a:ext cx="66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бородов и Хлоп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Управляющая кнопка: назад 3"/>
          <p:cNvSpPr/>
          <p:nvPr/>
        </p:nvSpPr>
        <p:spPr>
          <a:xfrm>
            <a:off x="7500960" y="607212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3500280"/>
            <a:ext cx="822960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го сообщники, с одной стороны видя неминуемую гибель, а с другой- надежду на прощение, стали сговариваться и решили выдать его правительству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8760" y="57168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рин получил известие о поимке самозванца. А как на самом деле Пугачёв оказался в руках правосуд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Управляющая кнопка: назад 3"/>
          <p:cNvSpPr/>
          <p:nvPr/>
        </p:nvSpPr>
        <p:spPr>
          <a:xfrm>
            <a:off x="7500960" y="607212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85840" y="28584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 веке дворянские дети с малых лет приписывались к какому-либо полку. Пока они росли, их повышали в чи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ушка была ещё мною брюхата, как я уже был записан в Семёновский полк сержанто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 поступали родители, если рождалась д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4500720"/>
            <a:ext cx="8986680" cy="20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б паче всякого чаяния матушка родила дочь, то батюшка объявил бы куда следовало о смерти неявившегося сержанта,  и дело тем бы и кончилос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7215120" y="6357960"/>
            <a:ext cx="785880" cy="285840"/>
          </a:xfrm>
          <a:custGeom>
            <a:avLst/>
            <a:gdLst>
              <a:gd name="textAreaLeft" fmla="*/ 18360 w 785880"/>
              <a:gd name="textAreaRight" fmla="*/ 767520 w 7858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59339" h="21600">
                <a:moveTo>
                  <a:pt x="0" y="0"/>
                </a:moveTo>
                <a:lnTo>
                  <a:pt x="59339" y="0"/>
                </a:lnTo>
                <a:lnTo>
                  <a:pt x="59339" y="21600"/>
                </a:lnTo>
                <a:lnTo>
                  <a:pt x="0" y="21600"/>
                </a:lnTo>
                <a:close/>
              </a:path>
              <a:path fill="lightenLess" w="59339" h="21600">
                <a:moveTo>
                  <a:pt x="0" y="0"/>
                </a:moveTo>
                <a:lnTo>
                  <a:pt x="59339" y="0"/>
                </a:lnTo>
                <a:lnTo>
                  <a:pt x="57939" y="1400"/>
                </a:lnTo>
                <a:lnTo>
                  <a:pt x="1400" y="1400"/>
                </a:lnTo>
                <a:close/>
              </a:path>
              <a:path fill="darken" w="59339" h="21600">
                <a:moveTo>
                  <a:pt x="59339" y="0"/>
                </a:moveTo>
                <a:lnTo>
                  <a:pt x="59339" y="21600"/>
                </a:lnTo>
                <a:lnTo>
                  <a:pt x="57939" y="20200"/>
                </a:lnTo>
                <a:lnTo>
                  <a:pt x="57939" y="1400"/>
                </a:lnTo>
                <a:close/>
              </a:path>
              <a:path fill="darkenLess" w="59339" h="21600">
                <a:moveTo>
                  <a:pt x="5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39" y="20200"/>
                </a:lnTo>
                <a:close/>
              </a:path>
              <a:path fill="lighten" w="5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39" h="21600">
                <a:moveTo>
                  <a:pt x="22663" y="10800"/>
                </a:moveTo>
                <a:lnTo>
                  <a:pt x="36676" y="3794"/>
                </a:lnTo>
                <a:lnTo>
                  <a:pt x="36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пользуемая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 русского языка. С.И.Ожегов. Москва « Русский язык» 198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Капитанская дочка» А.С.Пушкин. Москва «Детская литература» 197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и С.Герасим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9680" y="3142800"/>
            <a:ext cx="835812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ечестве своём был парикмахером, потом в Пруссии солдато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428760"/>
            <a:ext cx="8229600" cy="26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пре приехал в Россию, чтобы стать учителем, не очень понимая значение эт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 был Бопре до приезда в Росс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Управляющая кнопка: назад 3">
            <a:hlinkClick r:id="rId1" action="ppaction://hlinksldjump"/>
          </p:cNvPr>
          <p:cNvSpPr/>
          <p:nvPr/>
        </p:nvSpPr>
        <p:spPr>
          <a:xfrm>
            <a:off x="7358040" y="5715000"/>
            <a:ext cx="857160" cy="542880"/>
          </a:xfrm>
          <a:custGeom>
            <a:avLst/>
            <a:gdLst>
              <a:gd name="textAreaLeft" fmla="*/ 34920 w 857160"/>
              <a:gd name="textAreaRight" fmla="*/ 822240 w 85716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34096" h="21600">
                <a:moveTo>
                  <a:pt x="0" y="0"/>
                </a:moveTo>
                <a:lnTo>
                  <a:pt x="34096" y="0"/>
                </a:lnTo>
                <a:lnTo>
                  <a:pt x="34096" y="21600"/>
                </a:lnTo>
                <a:lnTo>
                  <a:pt x="0" y="21600"/>
                </a:lnTo>
                <a:close/>
              </a:path>
              <a:path fill="lightenLess" w="34096" h="21600">
                <a:moveTo>
                  <a:pt x="0" y="0"/>
                </a:moveTo>
                <a:lnTo>
                  <a:pt x="34096" y="0"/>
                </a:lnTo>
                <a:lnTo>
                  <a:pt x="32696" y="1400"/>
                </a:lnTo>
                <a:lnTo>
                  <a:pt x="1400" y="1400"/>
                </a:lnTo>
                <a:close/>
              </a:path>
              <a:path fill="darken" w="34096" h="21600">
                <a:moveTo>
                  <a:pt x="34096" y="0"/>
                </a:moveTo>
                <a:lnTo>
                  <a:pt x="34096" y="21600"/>
                </a:lnTo>
                <a:lnTo>
                  <a:pt x="32696" y="20200"/>
                </a:lnTo>
                <a:lnTo>
                  <a:pt x="32696" y="1400"/>
                </a:lnTo>
                <a:close/>
              </a:path>
              <a:path fill="darkenLess" w="34096" h="21600">
                <a:moveTo>
                  <a:pt x="34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96" y="20200"/>
                </a:lnTo>
                <a:close/>
              </a:path>
              <a:path fill="lighten" w="34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96" h="21600">
                <a:moveTo>
                  <a:pt x="10042" y="10800"/>
                </a:moveTo>
                <a:lnTo>
                  <a:pt x="24055" y="3794"/>
                </a:lnTo>
                <a:lnTo>
                  <a:pt x="2405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371448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дворный календарь», помимо календарных сведений, содержал списки высших военных и гражданских чинов, роспись дворцовых приём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-36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та книга имела всегда сильное влияние на батюшку: никогда не перечитывал он её без особенного участия, и чтение это производило в нём всегда удивительное волнение желч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ка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лась эта книга и о чём в ней рассказыв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Управляющая кнопка: назад 3">
            <a:hlinkClick r:id="rId1" action="ppaction://hlinksldjump"/>
          </p:cNvPr>
          <p:cNvSpPr/>
          <p:nvPr/>
        </p:nvSpPr>
        <p:spPr>
          <a:xfrm>
            <a:off x="7358040" y="6000840"/>
            <a:ext cx="857160" cy="357120"/>
          </a:xfrm>
          <a:custGeom>
            <a:avLst/>
            <a:gdLst>
              <a:gd name="textAreaLeft" fmla="*/ 23040 w 857160"/>
              <a:gd name="textAreaRight" fmla="*/ 834120 w 8571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1814" h="21600">
                <a:moveTo>
                  <a:pt x="0" y="0"/>
                </a:moveTo>
                <a:lnTo>
                  <a:pt x="51814" y="0"/>
                </a:lnTo>
                <a:lnTo>
                  <a:pt x="51814" y="21600"/>
                </a:lnTo>
                <a:lnTo>
                  <a:pt x="0" y="21600"/>
                </a:lnTo>
                <a:close/>
              </a:path>
              <a:path fill="lightenLess" w="51814" h="21600">
                <a:moveTo>
                  <a:pt x="0" y="0"/>
                </a:moveTo>
                <a:lnTo>
                  <a:pt x="51814" y="0"/>
                </a:lnTo>
                <a:lnTo>
                  <a:pt x="50414" y="1400"/>
                </a:lnTo>
                <a:lnTo>
                  <a:pt x="1400" y="1400"/>
                </a:lnTo>
                <a:close/>
              </a:path>
              <a:path fill="darken" w="51814" h="21600">
                <a:moveTo>
                  <a:pt x="51814" y="0"/>
                </a:moveTo>
                <a:lnTo>
                  <a:pt x="51814" y="21600"/>
                </a:lnTo>
                <a:lnTo>
                  <a:pt x="50414" y="20200"/>
                </a:lnTo>
                <a:lnTo>
                  <a:pt x="50414" y="1400"/>
                </a:lnTo>
                <a:close/>
              </a:path>
              <a:path fill="darkenLess" w="51814" h="21600">
                <a:moveTo>
                  <a:pt x="51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4" y="20200"/>
                </a:lnTo>
                <a:close/>
              </a:path>
              <a:path fill="lighten" w="51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4" h="21600">
                <a:moveTo>
                  <a:pt x="18900" y="10800"/>
                </a:moveTo>
                <a:lnTo>
                  <a:pt x="32913" y="3794"/>
                </a:lnTo>
                <a:lnTo>
                  <a:pt x="3291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7120" y="3500280"/>
            <a:ext cx="878688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 Белогорской крепости, в сорока верстах от Оренбурга, так захотел его отец:«Петруша в Петербург не поедет. Чему научится он, служа в Петербурге? Мотать да повесничать ? Нет, пускай послужит он в армии, да потянет лямку, да понюхает пороху, да будет солдат, не шаматон».(бездельник)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сль о службе сливалась во мне с мыслями о свободе, об удовольствиях  петербургской жизни. Я воображал себя офицером гвардии, что , по мнению моему, было верхом благополучия человеческ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пришлось служить Петру Гринёву и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Управляющая кнопка: назад 4">
            <a:hlinkClick r:id="rId1" action="ppaction://hlinksldjump"/>
          </p:cNvPr>
          <p:cNvSpPr/>
          <p:nvPr/>
        </p:nvSpPr>
        <p:spPr>
          <a:xfrm>
            <a:off x="7500960" y="6357960"/>
            <a:ext cx="785880" cy="214200"/>
          </a:xfrm>
          <a:custGeom>
            <a:avLst/>
            <a:gdLst>
              <a:gd name="textAreaLeft" fmla="*/ 13680 w 785880"/>
              <a:gd name="textAreaRight" fmla="*/ 772200 w 7858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79152" h="21600">
                <a:moveTo>
                  <a:pt x="0" y="0"/>
                </a:moveTo>
                <a:lnTo>
                  <a:pt x="79152" y="0"/>
                </a:lnTo>
                <a:lnTo>
                  <a:pt x="79152" y="21600"/>
                </a:lnTo>
                <a:lnTo>
                  <a:pt x="0" y="21600"/>
                </a:lnTo>
                <a:close/>
              </a:path>
              <a:path fill="lightenLess" w="79152" h="21600">
                <a:moveTo>
                  <a:pt x="0" y="0"/>
                </a:moveTo>
                <a:lnTo>
                  <a:pt x="79152" y="0"/>
                </a:lnTo>
                <a:lnTo>
                  <a:pt x="77752" y="1400"/>
                </a:lnTo>
                <a:lnTo>
                  <a:pt x="1400" y="1400"/>
                </a:lnTo>
                <a:close/>
              </a:path>
              <a:path fill="darken" w="79152" h="21600">
                <a:moveTo>
                  <a:pt x="79152" y="0"/>
                </a:moveTo>
                <a:lnTo>
                  <a:pt x="79152" y="21600"/>
                </a:lnTo>
                <a:lnTo>
                  <a:pt x="77752" y="20200"/>
                </a:lnTo>
                <a:lnTo>
                  <a:pt x="77752" y="1400"/>
                </a:lnTo>
                <a:close/>
              </a:path>
              <a:path fill="darkenLess" w="79152" h="21600">
                <a:moveTo>
                  <a:pt x="79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52" y="20200"/>
                </a:lnTo>
                <a:close/>
              </a:path>
              <a:path fill="lighten" w="79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52" h="21600">
                <a:moveTo>
                  <a:pt x="32569" y="10800"/>
                </a:moveTo>
                <a:lnTo>
                  <a:pt x="46582" y="3794"/>
                </a:lnTo>
                <a:lnTo>
                  <a:pt x="46582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428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бходиться ласково, не слишком строго, давать побольше вол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держать в ежовых рукавицах? Как объяснил Гринёв Андрею Карловичу значение поговор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Управляющая кнопка: назад 3">
            <a:hlinkClick r:id="rId1" action="ppaction://hlinksldjump"/>
          </p:cNvPr>
          <p:cNvSpPr/>
          <p:nvPr/>
        </p:nvSpPr>
        <p:spPr>
          <a:xfrm>
            <a:off x="7358040" y="6143760"/>
            <a:ext cx="785880" cy="214200"/>
          </a:xfrm>
          <a:custGeom>
            <a:avLst/>
            <a:gdLst>
              <a:gd name="textAreaLeft" fmla="*/ 13680 w 785880"/>
              <a:gd name="textAreaRight" fmla="*/ 772200 w 7858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79152" h="21600">
                <a:moveTo>
                  <a:pt x="0" y="0"/>
                </a:moveTo>
                <a:lnTo>
                  <a:pt x="79152" y="0"/>
                </a:lnTo>
                <a:lnTo>
                  <a:pt x="79152" y="21600"/>
                </a:lnTo>
                <a:lnTo>
                  <a:pt x="0" y="21600"/>
                </a:lnTo>
                <a:close/>
              </a:path>
              <a:path fill="lightenLess" w="79152" h="21600">
                <a:moveTo>
                  <a:pt x="0" y="0"/>
                </a:moveTo>
                <a:lnTo>
                  <a:pt x="79152" y="0"/>
                </a:lnTo>
                <a:lnTo>
                  <a:pt x="77752" y="1400"/>
                </a:lnTo>
                <a:lnTo>
                  <a:pt x="1400" y="1400"/>
                </a:lnTo>
                <a:close/>
              </a:path>
              <a:path fill="darken" w="79152" h="21600">
                <a:moveTo>
                  <a:pt x="79152" y="0"/>
                </a:moveTo>
                <a:lnTo>
                  <a:pt x="79152" y="21600"/>
                </a:lnTo>
                <a:lnTo>
                  <a:pt x="77752" y="20200"/>
                </a:lnTo>
                <a:lnTo>
                  <a:pt x="77752" y="1400"/>
                </a:lnTo>
                <a:close/>
              </a:path>
              <a:path fill="darkenLess" w="79152" h="21600">
                <a:moveTo>
                  <a:pt x="79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52" y="20200"/>
                </a:lnTo>
                <a:close/>
              </a:path>
              <a:path fill="lighten" w="79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52" h="21600">
                <a:moveTo>
                  <a:pt x="32569" y="10800"/>
                </a:moveTo>
                <a:lnTo>
                  <a:pt x="46582" y="3794"/>
                </a:lnTo>
                <a:lnTo>
                  <a:pt x="46582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3:43:04Z</dcterms:created>
  <dc:creator>андрей</dc:creator>
  <dc:description/>
  <dc:language>en-US</dc:language>
  <cp:lastModifiedBy>Vera</cp:lastModifiedBy>
  <dcterms:modified xsi:type="dcterms:W3CDTF">2017-06-06T21:03:57Z</dcterms:modified>
  <cp:revision>59</cp:revision>
  <dc:subject/>
  <dc:title>Литературная викторина «Умники и умницы» по повести А.С. Пушкина “Капитанская дочка” </dc:title>
</cp:coreProperties>
</file>