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39B-3192-4BB1-8810-24999255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A69-5A9A-4B12-B459-3C87C96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5A6-62DA-402D-8958-D3FE377D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C66-5B0C-40BE-9253-2B067C1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0CD-3830-4D17-B1D6-412C75A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AEE-5096-4425-A174-A34E86C7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016-5DBE-48BF-AAF0-33FB60E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4E8-C238-4B0F-8FAF-AF6486C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7D9-ECB7-4A48-A630-628DCB0E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3E2-2975-45F6-AE6F-22B3754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F93-9FE1-425C-9E75-56BB02C6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62F-FA2D-4719-A634-7558C85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369-0751-4FCF-8B6D-3421F283FF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Мое хобб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480" y="2786040"/>
            <a:ext cx="4071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е верь тому, кто говорит красиво,                                                        в его словах всегда игра.                                                           Поверь тому, кто молчаливо,                                                        творит красивые де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Омар Хайя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Рисунок 13" descr="1456227641618.jpg"/>
          <p:cNvPicPr/>
          <p:nvPr/>
        </p:nvPicPr>
        <p:blipFill>
          <a:blip r:embed="rId1"/>
          <a:stretch/>
        </p:blipFill>
        <p:spPr>
          <a:xfrm>
            <a:off x="4286160" y="1500120"/>
            <a:ext cx="435780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250920" y="28584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85880" y="2286000"/>
            <a:ext cx="214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екупаж - это искусство украшения предметов путем наклеивания элементов из цветной бумаг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Рисунок 4" descr="1455436127483.jpg"/>
          <p:cNvPicPr/>
          <p:nvPr/>
        </p:nvPicPr>
        <p:blipFill>
          <a:blip r:embed="rId1"/>
          <a:stretch/>
        </p:blipFill>
        <p:spPr>
          <a:xfrm>
            <a:off x="6072120" y="785880"/>
            <a:ext cx="2786040" cy="4172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1455450576437.jpg"/>
          <p:cNvPicPr/>
          <p:nvPr/>
        </p:nvPicPr>
        <p:blipFill>
          <a:blip r:embed="rId2"/>
          <a:stretch/>
        </p:blipFill>
        <p:spPr>
          <a:xfrm>
            <a:off x="3000240" y="2357280"/>
            <a:ext cx="2857680" cy="431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755640" y="4941720"/>
            <a:ext cx="756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ки для декупажа можно найти во множестве источников: газетах, журналах, книгах. Используются также специальные салфетки для декупажа, обычные бумажные салфетки, отпечатанные картинки, оберточная бумага, открытки, ткань и круж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c671b6d89d9b"/>
          <p:cNvPicPr/>
          <p:nvPr/>
        </p:nvPicPr>
        <p:blipFill>
          <a:blip r:embed="rId1"/>
          <a:stretch/>
        </p:blipFill>
        <p:spPr>
          <a:xfrm>
            <a:off x="785880" y="260280"/>
            <a:ext cx="7215120" cy="481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иды декупаж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рат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ям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объем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художествен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екопат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0_130f0_2e99e424_L"/>
          <p:cNvPicPr/>
          <p:nvPr/>
        </p:nvPicPr>
        <p:blipFill>
          <a:blip r:embed="rId1"/>
          <a:stretch/>
        </p:blipFill>
        <p:spPr>
          <a:xfrm>
            <a:off x="4143240" y="1785960"/>
            <a:ext cx="4786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454771952144.jpg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454866777488.jpg"/>
          <p:cNvPicPr/>
          <p:nvPr/>
        </p:nvPicPr>
        <p:blipFill>
          <a:blip r:embed="rId2"/>
          <a:stretch/>
        </p:blipFill>
        <p:spPr>
          <a:xfrm>
            <a:off x="4786200" y="285840"/>
            <a:ext cx="4000680" cy="3071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1455450578394.jpg"/>
          <p:cNvPicPr/>
          <p:nvPr/>
        </p:nvPicPr>
        <p:blipFill>
          <a:blip r:embed="rId3"/>
          <a:stretch/>
        </p:blipFill>
        <p:spPr>
          <a:xfrm>
            <a:off x="4714920" y="371484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1454771915211.jpg"/>
          <p:cNvPicPr/>
          <p:nvPr/>
        </p:nvPicPr>
        <p:blipFill>
          <a:blip r:embed="rId4"/>
          <a:stretch/>
        </p:blipFill>
        <p:spPr>
          <a:xfrm>
            <a:off x="285840" y="3643200"/>
            <a:ext cx="3929040" cy="28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Я за работой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Содержимое 3" descr="1454771733238.jpg"/>
          <p:cNvPicPr/>
          <p:nvPr/>
        </p:nvPicPr>
        <p:blipFill>
          <a:blip r:embed="rId1"/>
          <a:stretch/>
        </p:blipFill>
        <p:spPr>
          <a:xfrm>
            <a:off x="571680" y="1500120"/>
            <a:ext cx="3429000" cy="4786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454772149284.jpg"/>
          <p:cNvPicPr/>
          <p:nvPr/>
        </p:nvPicPr>
        <p:blipFill>
          <a:blip r:embed="rId2"/>
          <a:stretch/>
        </p:blipFill>
        <p:spPr>
          <a:xfrm>
            <a:off x="4929120" y="157176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Наши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Содержимое 4" descr="1456227692582.jpg"/>
          <p:cNvPicPr/>
          <p:nvPr/>
        </p:nvPicPr>
        <p:blipFill>
          <a:blip r:embed="rId1"/>
          <a:stretch/>
        </p:blipFill>
        <p:spPr>
          <a:xfrm>
            <a:off x="5072040" y="1571760"/>
            <a:ext cx="3571920" cy="4643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1456228313979.jpg"/>
          <p:cNvPicPr/>
          <p:nvPr/>
        </p:nvPicPr>
        <p:blipFill>
          <a:blip r:embed="rId2"/>
          <a:stretch/>
        </p:blipFill>
        <p:spPr>
          <a:xfrm>
            <a:off x="571680" y="1571760"/>
            <a:ext cx="3357360" cy="46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Наши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Содержимое 3" descr="1456228616294.jpg"/>
          <p:cNvPicPr/>
          <p:nvPr/>
        </p:nvPicPr>
        <p:blipFill>
          <a:blip r:embed="rId1"/>
          <a:stretch/>
        </p:blipFill>
        <p:spPr>
          <a:xfrm>
            <a:off x="214200" y="15717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1456228696277.jpg"/>
          <p:cNvPicPr/>
          <p:nvPr/>
        </p:nvPicPr>
        <p:blipFill>
          <a:blip r:embed="rId2"/>
          <a:stretch/>
        </p:blipFill>
        <p:spPr>
          <a:xfrm>
            <a:off x="4357800" y="3571920"/>
            <a:ext cx="4524120" cy="30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85920" y="1999800"/>
            <a:ext cx="74008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Franklin Gothic Medium Cond"/>
              </a:rPr>
              <a:t>Спасибо за   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7:11Z</dcterms:created>
  <dc:creator>Папа</dc:creator>
  <dc:description/>
  <dc:language>en-US</dc:language>
  <cp:lastModifiedBy>User</cp:lastModifiedBy>
  <dcterms:modified xsi:type="dcterms:W3CDTF">2016-02-28T15:14:43Z</dcterms:modified>
  <cp:revision>25</cp:revision>
  <dc:subject/>
  <dc:title>Слайд 1</dc:title>
</cp:coreProperties>
</file>