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1E7-DCA3-488E-A35C-8BBA167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D15-08B2-412C-81C8-46D084E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E7E-B03E-4A8F-A7ED-B71F2AE4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B07-84CD-4CB5-A1A6-0CF0501F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5E0-ED34-436B-854C-2778793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C2B-42B2-4BC5-A112-16AA92C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A10-574D-42B9-9233-846D5C8B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F6B-E05E-4B5D-8F43-F603A301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D57-1B2C-464C-87E3-31F56DE5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8B7-D80B-46AF-AE29-E80AA25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056-D19C-42BA-B923-6F20D9A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0C8-EF97-4386-B34C-5816047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6D8-7EAF-4C3A-97AD-5C97A3C8D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1913040" y="1600200"/>
            <a:ext cx="53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835280" y="1600200"/>
            <a:ext cx="499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photojournal.jpl.nasa.gov/jpegMod/PIA06890_modest.jpg"/>
          <p:cNvPicPr/>
          <p:nvPr/>
        </p:nvPicPr>
        <p:blipFill>
          <a:blip r:embed="rId1"/>
          <a:stretch/>
        </p:blipFill>
        <p:spPr>
          <a:xfrm>
            <a:off x="61128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dotdotdot.ru/img/Solar_System.jpg"/>
          <p:cNvPicPr/>
          <p:nvPr/>
        </p:nvPicPr>
        <p:blipFill>
          <a:blip r:embed="rId1"/>
          <a:stretch/>
        </p:blipFill>
        <p:spPr>
          <a:xfrm>
            <a:off x="395280" y="1600200"/>
            <a:ext cx="8424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iki.iteach.ru/images/7/7f/%D0%9A%D0%BE%D1%81%D0%BC%D0%BE%D1%81_%D0%9F._%D0%98..png"/>
          <p:cNvPicPr/>
          <p:nvPr/>
        </p:nvPicPr>
        <p:blipFill>
          <a:blip r:embed="rId1"/>
          <a:stretch/>
        </p:blipFill>
        <p:spPr>
          <a:xfrm>
            <a:off x="68436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://img-fotki.yandex.ru/get/3006/ivan-suroegin.2/0_1e67e_6880fc9_XL"/>
          <p:cNvPicPr/>
          <p:nvPr/>
        </p:nvPicPr>
        <p:blipFill>
          <a:blip r:embed="rId1"/>
          <a:stretch/>
        </p:blipFill>
        <p:spPr>
          <a:xfrm>
            <a:off x="4788000" y="134136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ywidescreenwallpapers.com/wallpapers/various_10/earth_and_the_moon_widescreen_wallpaper_44432.jpg"/>
          <p:cNvPicPr/>
          <p:nvPr/>
        </p:nvPicPr>
        <p:blipFill>
          <a:blip r:embed="rId2"/>
          <a:stretch/>
        </p:blipFill>
        <p:spPr>
          <a:xfrm>
            <a:off x="250920" y="1700280"/>
            <a:ext cx="5165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user</cp:lastModifiedBy>
  <dcterms:modified xsi:type="dcterms:W3CDTF">2016-08-06T09:18:11Z</dcterms:modified>
  <cp:revision>25</cp:revision>
  <dc:subject/>
  <dc:title>Слайд 1</dc:title>
</cp:coreProperties>
</file>