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5.jpeg" ContentType="image/jpeg"/>
  <Override PartName="/ppt/media/image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4BB-17FA-4718-9441-0650FF7F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BC7-7328-494E-82E7-D082CBA7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4079-46DE-4AA1-878D-714BC4E1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2BE-1FFD-4FB5-8D99-4C781F80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6B8-6CFD-4293-AE46-6D612574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2FD-7604-4C09-9287-B91BBC2A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C29D-8127-4CF3-AC27-547834E2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69A-C0E4-4D6B-AE7D-0CC4EE0B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331-AFDE-4FDD-96C9-47A3F4AC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928-A5A9-4329-88EA-BCBC836D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EA8E-150B-4BAC-91E2-3242B568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BB6E-89E1-4079-996F-8A999515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DBFD-89A6-43D3-B43A-A4B5A13C0A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684360" y="1413000"/>
            <a:ext cx="82072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на из космоса тоже видна как шар. Луна намного меньше нашей планеты Зем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http://middleschool.gardencity.k12.ny.us/UserFiles/Servers/Server_881145/Image/pane/Earth-moon.jpg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т как выглядит Луна если к ней подлететь поближ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yapfiles.ru/files/392806/moonnew.jpg"/>
          <p:cNvPicPr/>
          <p:nvPr/>
        </p:nvPicPr>
        <p:blipFill>
          <a:blip r:embed="rId1"/>
          <a:stretch/>
        </p:blipFill>
        <p:spPr>
          <a:xfrm>
            <a:off x="1913040" y="1600200"/>
            <a:ext cx="531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 – ведь Солнце очень и очень горячее. Если приблизиться к нему слишком близко – то можно вообще сгоре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http://h6.img.mediacache.rugion.ru/_i/forum/files/88/85/80/8885809_2s308_1308241732.gif"/>
          <p:cNvPicPr/>
          <p:nvPr/>
        </p:nvPicPr>
        <p:blipFill>
          <a:blip r:embed="rId1"/>
          <a:stretch/>
        </p:blipFill>
        <p:spPr>
          <a:xfrm>
            <a:off x="1835280" y="1600200"/>
            <a:ext cx="4998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ие звезды, которые мы видим с Земли - это тоже солнца. Просто они находятся так далеко от нас, что кажутся всего лишь маленькими точеч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http://www.spacetelescope.org/static/archives/images/wallpaper2/heic0603c.jpg"/>
          <p:cNvPicPr/>
          <p:nvPr/>
        </p:nvPicPr>
        <p:blipFill>
          <a:blip r:embed="rId1"/>
          <a:stretch/>
        </p:blipFill>
        <p:spPr>
          <a:xfrm>
            <a:off x="539640" y="1268280"/>
            <a:ext cx="80647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еще космонавты увидели в космосе планеты, которые вращались вокруг Солн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http://www.kaliteliresimler.com/data/media/152/rili_ufakl_gezegenler.jpg"/>
          <p:cNvPicPr/>
          <p:nvPr/>
        </p:nvPicPr>
        <p:blipFill>
          <a:blip r:embed="rId1"/>
          <a:stretch/>
        </p:blipFill>
        <p:spPr>
          <a:xfrm>
            <a:off x="324000" y="1197000"/>
            <a:ext cx="8496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мотри, на этой картинке изображены все планеты, которые вращаются вокруг Солнца. Обрати внимание, какое огромное наше Солнышко! Оно больше всех остальных планет вместе взятых! А наша планета Земля – вот она – третья от Солнца – совсем небольшая по сравнению с другими плане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photojournal.jpl.nasa.gov/jpegMod/PIA06890_modest.jpg"/>
          <p:cNvPicPr/>
          <p:nvPr/>
        </p:nvPicPr>
        <p:blipFill>
          <a:blip r:embed="rId1"/>
          <a:stretch/>
        </p:blipFill>
        <p:spPr>
          <a:xfrm>
            <a:off x="611280" y="1600200"/>
            <a:ext cx="7848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этой картинке ты можешь увидеть какие разные по размеру бывают планеты и какое большое оказывается наше Солнце. С Земли Солнце нам кажется не таким большим, потому что оно очень далеко от нас. На самом деле – вот какое оно огромное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www.dotdotdot.ru/img/Solar_System.jpg"/>
          <p:cNvPicPr/>
          <p:nvPr/>
        </p:nvPicPr>
        <p:blipFill>
          <a:blip r:embed="rId1"/>
          <a:stretch/>
        </p:blipFill>
        <p:spPr>
          <a:xfrm>
            <a:off x="395280" y="1600200"/>
            <a:ext cx="8424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планеты солнечной системы вращаются вокруг Солнца по своей орбите.  На тех планетах, которые очень близко к Солнцу – очень жарко – горячей, чем на горячей сковородке! Мы не смогли бы пробыть там и секунды! А на самых дальних планетах – которые далеко от Солнца – наоборот очень холодно, потому что солнечные лучи туда плохо долетаю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wiki.iteach.ru/images/7/7f/%D0%9A%D0%BE%D1%81%D0%BC%D0%BE%D1%81_%D0%9F._%D0%98..png"/>
          <p:cNvPicPr/>
          <p:nvPr/>
        </p:nvPicPr>
        <p:blipFill>
          <a:blip r:embed="rId1"/>
          <a:stretch/>
        </p:blipFill>
        <p:spPr>
          <a:xfrm>
            <a:off x="684360" y="1600200"/>
            <a:ext cx="7848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т сколько интересного космонавты могут увидеть в космосе! Теперь обо всем этом знаешь и т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http://img-fotki.yandex.ru/get/3006/ivan-suroegin.2/0_1e67e_6880fc9_XL"/>
          <p:cNvPicPr/>
          <p:nvPr/>
        </p:nvPicPr>
        <p:blipFill>
          <a:blip r:embed="rId1"/>
          <a:stretch/>
        </p:blipFill>
        <p:spPr>
          <a:xfrm>
            <a:off x="4788000" y="1341360"/>
            <a:ext cx="43560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mywidescreenwallpapers.com/wallpapers/various_10/earth_and_the_moon_widescreen_wallpaper_44432.jpg"/>
          <p:cNvPicPr/>
          <p:nvPr/>
        </p:nvPicPr>
        <p:blipFill>
          <a:blip r:embed="rId2"/>
          <a:stretch/>
        </p:blipFill>
        <p:spPr>
          <a:xfrm>
            <a:off x="250920" y="1700280"/>
            <a:ext cx="5165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395280" y="1268280"/>
            <a:ext cx="3943440" cy="525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www.gameru.net/forum/uploads/1302632274/gallery_13942_499_51531.png"/>
          <p:cNvPicPr/>
          <p:nvPr/>
        </p:nvPicPr>
        <p:blipFill>
          <a:blip r:embed="rId2"/>
          <a:stretch/>
        </p:blipFill>
        <p:spPr>
          <a:xfrm>
            <a:off x="4427640" y="2637000"/>
            <a:ext cx="413064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upload.wikimedia.org/wikipedia/commons/5/58/Russian_space_suit_3.jpg"/>
          <p:cNvPicPr/>
          <p:nvPr/>
        </p:nvPicPr>
        <p:blipFill>
          <a:blip r:embed="rId1"/>
          <a:stretch/>
        </p:blipFill>
        <p:spPr>
          <a:xfrm>
            <a:off x="324000" y="1751040"/>
            <a:ext cx="3844800" cy="510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yeniresim.com/data/media/353/www.yeniresim.com_-_Uzay_Resimleri_-_Astronot.jpg"/>
          <p:cNvPicPr/>
          <p:nvPr/>
        </p:nvPicPr>
        <p:blipFill>
          <a:blip r:embed="rId2"/>
          <a:stretch/>
        </p:blipFill>
        <p:spPr>
          <a:xfrm>
            <a:off x="4140360" y="249228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0" y="1773360"/>
            <a:ext cx="5238720" cy="42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img15.nnm.ru/d/1/3/d/7/8ea0d6170de703f736c4aabff39_prev.jpg"/>
          <p:cNvPicPr/>
          <p:nvPr/>
        </p:nvPicPr>
        <p:blipFill>
          <a:blip r:embed="rId3"/>
          <a:stretch/>
        </p:blipFill>
        <p:spPr>
          <a:xfrm>
            <a:off x="5219640" y="1413000"/>
            <a:ext cx="34196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468360" y="1557360"/>
            <a:ext cx="3166920" cy="461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img-fotki.yandex.ru/get/6/vibpxhgglzd.5dd/0_1678e_fc028aef_XL"/>
          <p:cNvPicPr/>
          <p:nvPr/>
        </p:nvPicPr>
        <p:blipFill>
          <a:blip r:embed="rId2"/>
          <a:stretch/>
        </p:blipFill>
        <p:spPr>
          <a:xfrm>
            <a:off x="4140360" y="1341360"/>
            <a:ext cx="41767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однималась  все выше и выше! Посмотри! Она уже выше обла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0" y="1268280"/>
            <a:ext cx="8690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ракета оказалась в открытом космосе! Вот что космонавты увидели в космос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http://shiryaevpavel.ru/wp-content/uploads/2012/03/qrgax.jpg"/>
          <p:cNvPicPr/>
          <p:nvPr/>
        </p:nvPicPr>
        <p:blipFill>
          <a:blip r:embed="rId1"/>
          <a:stretch/>
        </p:blipFill>
        <p:spPr>
          <a:xfrm>
            <a:off x="324000" y="1268280"/>
            <a:ext cx="85262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http://www.oboiruneta.ru/images/stories/dg_originals/4317AE587EE3-17.jpg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user</cp:lastModifiedBy>
  <dcterms:modified xsi:type="dcterms:W3CDTF">2016-08-06T09:18:11Z</dcterms:modified>
  <cp:revision>25</cp:revision>
  <dc:subject/>
  <dc:title>Слайд 1</dc:title>
</cp:coreProperties>
</file>