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BF4-FC4B-49DB-B75E-E4B39445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573-7DC9-42E8-A32A-5F710E22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258-837B-46F5-ADA6-C807CC89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A99-B004-464A-81C6-9BEB3002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DD7-530A-434A-AC44-650BFFA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763-3A8B-4233-B75B-4B08837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6E1-21DD-4804-A806-2D430B5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8D6-862B-4985-A0F0-15B03828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EA2-D586-48EF-B53B-65E582F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973-D3BD-4FCC-B3A5-BCBEC59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E08-4801-4BCF-ABFE-AC3D914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4EF-A093-4C3F-8139-88C6D61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B30-779B-4633-8FA8-54FB38312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114640" y="73080"/>
            <a:ext cx="4511520" cy="1603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71680" y="121428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 Сравн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0,483            0,479                                95,3          95,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,781            4,79                                  0,045       0,00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 найти числ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. между какими натуральными числами находится десятичная дроб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&lt;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43&lt;                                            &lt;12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54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&lt;1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25&lt;                                           &lt; 9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4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C:\Documents and Settings\Ира\Local Settings\Temporary Internet Files\Content.Word\сканирование0001.gif"/>
          <p:cNvPicPr/>
          <p:nvPr/>
        </p:nvPicPr>
        <p:blipFill>
          <a:blip r:embed="rId2"/>
          <a:srcRect l="7376" t="33594" r="58472" b="52736"/>
          <a:stretch/>
        </p:blipFill>
        <p:spPr>
          <a:xfrm>
            <a:off x="395280" y="3213000"/>
            <a:ext cx="75722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24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24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            нет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-195120"/>
            <a:ext cx="7407000" cy="1566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357120" y="178596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Если в разряде десятых стоит цифра </a:t>
            </a:r>
            <a:r>
              <a:rPr b="1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0,1,2,3,4,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 то </a:t>
            </a:r>
            <a:r>
              <a:rPr b="1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целое не изменяется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, а дробное отбрасываетс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2. Если в разряде десятых стоит цифра </a:t>
            </a:r>
            <a:r>
              <a:rPr b="1" lang="ru-RU" sz="3200" spc="-1" strike="noStrike" u="sng">
                <a:solidFill>
                  <a:srgbClr val="403152"/>
                </a:solidFill>
                <a:uFillTx/>
                <a:latin typeface="Calibri"/>
              </a:rPr>
              <a:t>5,6,7,8,9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то </a:t>
            </a:r>
            <a:r>
              <a:rPr b="1" lang="ru-RU" sz="3200" spc="-1" strike="noStrike" u="sng">
                <a:solidFill>
                  <a:srgbClr val="403152"/>
                </a:solidFill>
                <a:uFillTx/>
                <a:latin typeface="Calibri"/>
              </a:rPr>
              <a:t>целое увеличивается на единицу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, а дробное отбрас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500040" y="461880"/>
            <a:ext cx="850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гление чис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математическая операция, позволяющая уменьшить количество знаков в числе за счет замены числа его приближённым значением с определённой точ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142884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,2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1,6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00,4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,51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5042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000080" y="107172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круглить до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428840" y="2928960"/>
            <a:ext cx="3720960" cy="1000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428840" y="2928960"/>
            <a:ext cx="3643200" cy="979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1428840" y="2928960"/>
            <a:ext cx="3720960" cy="1000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1428840" y="2928960"/>
            <a:ext cx="6643440" cy="965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5"/>
          <a:stretch/>
        </p:blipFill>
        <p:spPr>
          <a:xfrm>
            <a:off x="1428840" y="2928960"/>
            <a:ext cx="5429160" cy="979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0" y="18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24.0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928800" y="22147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ближенные значения чис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круглени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428760" y="1214280"/>
            <a:ext cx="8358120" cy="5218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2960" y="14288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нужн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0040" y="25002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еличить выделенную цифру на единицу (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                                  первая отбрасываемая цифра равна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,6,7,8,9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писать выделенную цифру без изменений (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отбрасываемая цифра рав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0,1,2,3,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500120" y="27144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1571760" y="328608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28760" y="4643280"/>
            <a:ext cx="813744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бросить все цифры, имеющиеся после вы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енить все цифры, имеющиеся после вы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лями до конца цел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1357200" y="4714920"/>
            <a:ext cx="86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357200" y="514368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71680" y="19288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ереписать все цифры, стоящие до 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3" descr=""/>
          <p:cNvPicPr/>
          <p:nvPr/>
        </p:nvPicPr>
        <p:blipFill>
          <a:blip r:embed="rId1"/>
          <a:stretch/>
        </p:blipFill>
        <p:spPr>
          <a:xfrm>
            <a:off x="2749680" y="73080"/>
            <a:ext cx="356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857160" y="500040"/>
            <a:ext cx="3000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круглит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) до десяты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,7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,14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025,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80,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) до сот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0,072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,455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0,0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85,5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,3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786200" y="1071720"/>
            <a:ext cx="32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) до деся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78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085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33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00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050920" y="1773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3,4 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4284720" y="1844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Text Box 9"/>
          <p:cNvSpPr/>
          <p:nvPr/>
        </p:nvSpPr>
        <p:spPr>
          <a:xfrm>
            <a:off x="4859280" y="177336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3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3071880" y="1928880"/>
            <a:ext cx="457200" cy="520560"/>
          </a:xfrm>
          <a:custGeom>
            <a:avLst/>
            <a:gdLst>
              <a:gd name="textAreaLeft" fmla="*/ 0 w 457200"/>
              <a:gd name="textAreaRight" fmla="*/ 457560 w 457200"/>
              <a:gd name="textAreaTop" fmla="*/ 0 h 520560"/>
              <a:gd name="textAreaBottom" fmla="*/ 520560 h 52056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05092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0 9,7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4284720" y="33559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Text Box 17"/>
          <p:cNvSpPr/>
          <p:nvPr/>
        </p:nvSpPr>
        <p:spPr>
          <a:xfrm>
            <a:off x="4859280" y="328464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2357280" y="3357720"/>
            <a:ext cx="505080" cy="792000"/>
          </a:xfrm>
          <a:custGeom>
            <a:avLst/>
            <a:gdLst>
              <a:gd name="textAreaLeft" fmla="*/ 0 w 505080"/>
              <a:gd name="textAreaRight" fmla="*/ 505440 w 505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050920" y="48988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43,8 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4284720" y="49705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Text Box 22"/>
          <p:cNvSpPr/>
          <p:nvPr/>
        </p:nvSpPr>
        <p:spPr>
          <a:xfrm>
            <a:off x="4859280" y="489888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43,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3071880" y="492912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627280" y="33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становите за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1297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130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916360" y="549360"/>
            <a:ext cx="321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&lt;3</a:t>
            </a: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87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826920" y="184464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alibri"/>
              </a:rPr>
              <a:t>С недостат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219640" y="17733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 избы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826920" y="263700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 &lt;  x  &lt;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ближённое знач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недоста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ближённое знач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избы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о округл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– 5,6,7,8,9, то ↑ на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– 0,1,2,3,4, то не изменя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15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≈ 15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18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7 ≈18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0,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 ≈0,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10,8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5 ≈1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,54 ≈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; 2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,34 ≈2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;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12 ≈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1:07:42Z</dcterms:created>
  <dc:creator>BLACKEDITION</dc:creator>
  <dc:description/>
  <dc:language>en-US</dc:language>
  <cp:lastModifiedBy>Лариса Георгиевна Чехонина</cp:lastModifiedBy>
  <dcterms:modified xsi:type="dcterms:W3CDTF">2017-06-07T08:47:00Z</dcterms:modified>
  <cp:revision>36</cp:revision>
  <dc:subject/>
  <dc:title>Слайд 1</dc:title>
</cp:coreProperties>
</file>