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A32-D58E-441C-81FF-94E7BCD8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A2B-FF01-4645-819C-1FE392DE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4EA-30DD-4F0E-8E44-3F454E7A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D8F-648F-4001-AFB3-23C57F32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819-A7D9-4E2C-87D2-F1C00790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B21-550C-465B-9833-BE6A5E4B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202-2732-421D-9E01-CC9DBA61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441-7359-4D79-90E5-69236222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0E0-CACA-4DE5-9DA0-7FBAE8BF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EEF-005F-4611-9D35-7FB5F814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B14-874E-4912-807C-D29CD5C5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D95-4480-46F8-9133-381C72A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B487-0878-476E-8342-FF6A1FA1B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2114640" y="73080"/>
            <a:ext cx="4511520" cy="1603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71680" y="1214280"/>
            <a:ext cx="7715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. Сравн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0,483            0,479                                95,3          95,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4,781            4,79                                  0,045       0,00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.  найти число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. между какими натуральными числами находится десятичная дроб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&lt;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,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43&lt;                                            &lt;12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354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&lt;1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25&lt;                                           &lt; 9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34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8" descr="C:\Documents and Settings\Ира\Local Settings\Temporary Internet Files\Content.Word\сканирование0001.gif"/>
          <p:cNvPicPr/>
          <p:nvPr/>
        </p:nvPicPr>
        <p:blipFill>
          <a:blip r:embed="rId2"/>
          <a:srcRect l="7376" t="33594" r="58472" b="52736"/>
          <a:stretch/>
        </p:blipFill>
        <p:spPr>
          <a:xfrm>
            <a:off x="395280" y="3213000"/>
            <a:ext cx="75722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нет  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нет  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779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нет  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779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нет  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779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,24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нет    3,64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779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,24 ≈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             нет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1"/>
          <a:stretch/>
        </p:blipFill>
        <p:spPr>
          <a:xfrm>
            <a:off x="719280" y="-195120"/>
            <a:ext cx="7407000" cy="1566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357120" y="1785960"/>
            <a:ext cx="8786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Если в разряде десятых стоит цифра </a:t>
            </a:r>
            <a:r>
              <a:rPr b="1" lang="ru-RU" sz="3200" spc="-1" strike="noStrike" u="sng">
                <a:solidFill>
                  <a:srgbClr val="00b0f0"/>
                </a:solidFill>
                <a:uFillTx/>
                <a:latin typeface="Calibri"/>
              </a:rPr>
              <a:t>0,1,2,3,4,</a:t>
            </a: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 то </a:t>
            </a:r>
            <a:r>
              <a:rPr b="1" lang="ru-RU" sz="3200" spc="-1" strike="noStrike" u="sng">
                <a:solidFill>
                  <a:srgbClr val="00b0f0"/>
                </a:solidFill>
                <a:uFillTx/>
                <a:latin typeface="Calibri"/>
              </a:rPr>
              <a:t>целое не изменяется</a:t>
            </a: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, а дробное отбрасывается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2. Если в разряде десятых стоит цифра </a:t>
            </a:r>
            <a:r>
              <a:rPr b="1" lang="ru-RU" sz="3200" spc="-1" strike="noStrike" u="sng">
                <a:solidFill>
                  <a:srgbClr val="403152"/>
                </a:solidFill>
                <a:uFillTx/>
                <a:latin typeface="Calibri"/>
              </a:rPr>
              <a:t>5,6,7,8,9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 то </a:t>
            </a:r>
            <a:r>
              <a:rPr b="1" lang="ru-RU" sz="3200" spc="-1" strike="noStrike" u="sng">
                <a:solidFill>
                  <a:srgbClr val="403152"/>
                </a:solidFill>
                <a:uFillTx/>
                <a:latin typeface="Calibri"/>
              </a:rPr>
              <a:t>целое увеличивается на единицу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, а дробное отбрас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315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500040" y="461880"/>
            <a:ext cx="850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ругление чис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математическая операция, позволяющая уменьшить количество знаков в числе за счет замены числа его приближённым значением с определённой точ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642960" y="142884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,2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1,6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00,4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,518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2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50428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1000080" y="107172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Округлить до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1428840" y="2928960"/>
            <a:ext cx="3720960" cy="1000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1428840" y="2928960"/>
            <a:ext cx="3643200" cy="979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"/>
          <p:cNvPicPr/>
          <p:nvPr/>
        </p:nvPicPr>
        <p:blipFill>
          <a:blip r:embed="rId3"/>
          <a:stretch/>
        </p:blipFill>
        <p:spPr>
          <a:xfrm>
            <a:off x="1428840" y="2928960"/>
            <a:ext cx="3720960" cy="1000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1428840" y="2928960"/>
            <a:ext cx="6643440" cy="965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"/>
          <p:cNvPicPr/>
          <p:nvPr/>
        </p:nvPicPr>
        <p:blipFill>
          <a:blip r:embed="rId5"/>
          <a:stretch/>
        </p:blipFill>
        <p:spPr>
          <a:xfrm>
            <a:off x="1428840" y="2928960"/>
            <a:ext cx="5429160" cy="979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0" y="189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24.02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Calibri"/>
              </a:rPr>
              <a:t>Класс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928800" y="221472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ближенные значения чисе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кругление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428760" y="1214280"/>
            <a:ext cx="8358120" cy="5218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42960" y="142884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нужный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0040" y="2500200"/>
            <a:ext cx="8137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еличить выделенную цифру на единицу (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                                  первая отбрасываемая цифра равна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,6,7,8,9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писать выделенную цифру без изменений (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ая отбрасываемая цифра рав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0,1,2,3,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1500120" y="27144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1571760" y="328608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28760" y="4643280"/>
            <a:ext cx="813744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бросить все цифры, имеющиеся после вы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менить все цифры, имеющиеся после вы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лями до конца цело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1357200" y="4714920"/>
            <a:ext cx="865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357200" y="5143680"/>
            <a:ext cx="79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71680" y="19288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ереписать все цифры, стоящие до 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Прямоугольник 13" descr=""/>
          <p:cNvPicPr/>
          <p:nvPr/>
        </p:nvPicPr>
        <p:blipFill>
          <a:blip r:embed="rId1"/>
          <a:stretch/>
        </p:blipFill>
        <p:spPr>
          <a:xfrm>
            <a:off x="2749680" y="73080"/>
            <a:ext cx="3565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857160" y="500040"/>
            <a:ext cx="30006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круглит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) до десятых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,7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3,14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025,9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80,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) до сот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0,072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,455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0,0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85,5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3,3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4786200" y="1071720"/>
            <a:ext cx="328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) до деся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78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085,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333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300,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050920" y="1773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3,4 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4284720" y="1844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Text Box 9"/>
          <p:cNvSpPr/>
          <p:nvPr/>
        </p:nvSpPr>
        <p:spPr>
          <a:xfrm>
            <a:off x="4859280" y="1773360"/>
            <a:ext cx="19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3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2"/>
          <p:cNvSpPr/>
          <p:nvPr/>
        </p:nvSpPr>
        <p:spPr>
          <a:xfrm>
            <a:off x="3071880" y="1928880"/>
            <a:ext cx="457200" cy="520560"/>
          </a:xfrm>
          <a:custGeom>
            <a:avLst/>
            <a:gdLst>
              <a:gd name="textAreaLeft" fmla="*/ 0 w 457200"/>
              <a:gd name="textAreaRight" fmla="*/ 457560 w 457200"/>
              <a:gd name="textAreaTop" fmla="*/ 0 h 520560"/>
              <a:gd name="textAreaBottom" fmla="*/ 520560 h 520560"/>
            </a:gdLst>
            <a:ahLst/>
            <a:rect l="textAreaLeft" t="textAreaTop" r="textAreaRight" b="textAreaBottom"/>
            <a:pathLst>
              <a:path w="288" h="328">
                <a:moveTo>
                  <a:pt x="144" y="4"/>
                </a:moveTo>
                <a:cubicBezTo>
                  <a:pt x="46" y="16"/>
                  <a:pt x="40" y="5"/>
                  <a:pt x="12" y="88"/>
                </a:cubicBezTo>
                <a:cubicBezTo>
                  <a:pt x="24" y="159"/>
                  <a:pt x="23" y="211"/>
                  <a:pt x="0" y="280"/>
                </a:cubicBezTo>
                <a:cubicBezTo>
                  <a:pt x="57" y="294"/>
                  <a:pt x="111" y="314"/>
                  <a:pt x="168" y="328"/>
                </a:cubicBezTo>
                <a:cubicBezTo>
                  <a:pt x="188" y="324"/>
                  <a:pt x="211" y="327"/>
                  <a:pt x="228" y="316"/>
                </a:cubicBezTo>
                <a:cubicBezTo>
                  <a:pt x="239" y="309"/>
                  <a:pt x="238" y="292"/>
                  <a:pt x="240" y="280"/>
                </a:cubicBezTo>
                <a:cubicBezTo>
                  <a:pt x="254" y="201"/>
                  <a:pt x="247" y="174"/>
                  <a:pt x="288" y="112"/>
                </a:cubicBezTo>
                <a:cubicBezTo>
                  <a:pt x="284" y="88"/>
                  <a:pt x="287" y="62"/>
                  <a:pt x="276" y="40"/>
                </a:cubicBezTo>
                <a:cubicBezTo>
                  <a:pt x="256" y="0"/>
                  <a:pt x="178" y="4"/>
                  <a:pt x="144" y="4"/>
                </a:cubicBez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2050920" y="3284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0 9,7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4284720" y="335592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Text Box 17"/>
          <p:cNvSpPr/>
          <p:nvPr/>
        </p:nvSpPr>
        <p:spPr>
          <a:xfrm>
            <a:off x="4859280" y="3284640"/>
            <a:ext cx="19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8"/>
          <p:cNvSpPr/>
          <p:nvPr/>
        </p:nvSpPr>
        <p:spPr>
          <a:xfrm>
            <a:off x="2357280" y="3357720"/>
            <a:ext cx="505080" cy="792000"/>
          </a:xfrm>
          <a:custGeom>
            <a:avLst/>
            <a:gdLst>
              <a:gd name="textAreaLeft" fmla="*/ 0 w 505080"/>
              <a:gd name="textAreaRight" fmla="*/ 505440 w 505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88" h="328">
                <a:moveTo>
                  <a:pt x="144" y="4"/>
                </a:moveTo>
                <a:cubicBezTo>
                  <a:pt x="46" y="16"/>
                  <a:pt x="40" y="5"/>
                  <a:pt x="12" y="88"/>
                </a:cubicBezTo>
                <a:cubicBezTo>
                  <a:pt x="24" y="159"/>
                  <a:pt x="23" y="211"/>
                  <a:pt x="0" y="280"/>
                </a:cubicBezTo>
                <a:cubicBezTo>
                  <a:pt x="57" y="294"/>
                  <a:pt x="111" y="314"/>
                  <a:pt x="168" y="328"/>
                </a:cubicBezTo>
                <a:cubicBezTo>
                  <a:pt x="188" y="324"/>
                  <a:pt x="211" y="327"/>
                  <a:pt x="228" y="316"/>
                </a:cubicBezTo>
                <a:cubicBezTo>
                  <a:pt x="239" y="309"/>
                  <a:pt x="238" y="292"/>
                  <a:pt x="240" y="280"/>
                </a:cubicBezTo>
                <a:cubicBezTo>
                  <a:pt x="254" y="201"/>
                  <a:pt x="247" y="174"/>
                  <a:pt x="288" y="112"/>
                </a:cubicBezTo>
                <a:cubicBezTo>
                  <a:pt x="284" y="88"/>
                  <a:pt x="287" y="62"/>
                  <a:pt x="276" y="40"/>
                </a:cubicBezTo>
                <a:cubicBezTo>
                  <a:pt x="256" y="0"/>
                  <a:pt x="178" y="4"/>
                  <a:pt x="144" y="4"/>
                </a:cubicBez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2050920" y="48988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43,8 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4284720" y="497052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Text Box 22"/>
          <p:cNvSpPr/>
          <p:nvPr/>
        </p:nvSpPr>
        <p:spPr>
          <a:xfrm>
            <a:off x="4859280" y="4898880"/>
            <a:ext cx="19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43,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3"/>
          <p:cNvSpPr/>
          <p:nvPr/>
        </p:nvSpPr>
        <p:spPr>
          <a:xfrm>
            <a:off x="3071880" y="4929120"/>
            <a:ext cx="431640" cy="5763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88" h="328">
                <a:moveTo>
                  <a:pt x="144" y="4"/>
                </a:moveTo>
                <a:cubicBezTo>
                  <a:pt x="46" y="16"/>
                  <a:pt x="40" y="5"/>
                  <a:pt x="12" y="88"/>
                </a:cubicBezTo>
                <a:cubicBezTo>
                  <a:pt x="24" y="159"/>
                  <a:pt x="23" y="211"/>
                  <a:pt x="0" y="280"/>
                </a:cubicBezTo>
                <a:cubicBezTo>
                  <a:pt x="57" y="294"/>
                  <a:pt x="111" y="314"/>
                  <a:pt x="168" y="328"/>
                </a:cubicBezTo>
                <a:cubicBezTo>
                  <a:pt x="188" y="324"/>
                  <a:pt x="211" y="327"/>
                  <a:pt x="228" y="316"/>
                </a:cubicBezTo>
                <a:cubicBezTo>
                  <a:pt x="239" y="309"/>
                  <a:pt x="238" y="292"/>
                  <a:pt x="240" y="280"/>
                </a:cubicBezTo>
                <a:cubicBezTo>
                  <a:pt x="254" y="201"/>
                  <a:pt x="247" y="174"/>
                  <a:pt x="288" y="112"/>
                </a:cubicBezTo>
                <a:cubicBezTo>
                  <a:pt x="284" y="88"/>
                  <a:pt x="287" y="62"/>
                  <a:pt x="276" y="40"/>
                </a:cubicBezTo>
                <a:cubicBezTo>
                  <a:pt x="256" y="0"/>
                  <a:pt x="178" y="4"/>
                  <a:pt x="144" y="4"/>
                </a:cubicBez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627280" y="333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становите за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.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1297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130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2916360" y="549360"/>
            <a:ext cx="321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Calibri"/>
              </a:rPr>
              <a:t>&lt;3</a:t>
            </a: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6600" spc="-1" strike="noStrike">
                <a:solidFill>
                  <a:srgbClr val="002060"/>
                </a:solidFill>
                <a:latin typeface="Calibri"/>
              </a:rPr>
              <a:t>87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826920" y="184464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Calibri"/>
              </a:rPr>
              <a:t>С недостат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219640" y="177336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 избыт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826920" y="263700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 &lt;  x  &lt;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ближённое значе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недостат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ближённое значе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 избыт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о округл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– 5,6,7,8,9, то ↑ на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– 0,1,2,3,4, то не изменя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15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2≈ 15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 18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7 ≈18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0,0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6 ≈0,0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 10,8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5 ≈1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,54 ≈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; 2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,34 ≈2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; 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,12 ≈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 ли выполнено округление чисе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7 ≈ 26,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1 ≈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нет    0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≈ 4,9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1:07:42Z</dcterms:created>
  <dc:creator>BLACKEDITION</dc:creator>
  <dc:description/>
  <dc:language>en-US</dc:language>
  <cp:lastModifiedBy>Лариса Георгиевна Чехонина</cp:lastModifiedBy>
  <dcterms:modified xsi:type="dcterms:W3CDTF">2017-06-07T08:47:00Z</dcterms:modified>
  <cp:revision>36</cp:revision>
  <dc:subject/>
  <dc:title>Слайд 1</dc:title>
</cp:coreProperties>
</file>