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7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35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31.jpeg" ContentType="image/jpeg"/>
  <Override PartName="/ppt/media/image38.gif" ContentType="image/gif"/>
  <Override PartName="/ppt/media/image15.jpeg" ContentType="image/jpeg"/>
  <Override PartName="/ppt/media/image32.jpeg" ContentType="image/jpeg"/>
  <Override PartName="/ppt/media/image39.wmf" ContentType="image/x-wmf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788-517E-4F1C-AF96-CE4EA017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999-66EB-4C86-ACA8-60EEFB32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449-3906-4AD9-90F4-71F88644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A21-F200-4513-81DC-762F7700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37CF-2F28-44D2-A023-68388B44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6B03-6148-4F3B-9CB5-11D9F7E3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9D99-0087-4AC6-891D-8762C01A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ECC0-E4CC-472F-8154-484288C2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28D8-D26D-493B-896A-913E2451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2107-7BDA-4BC7-95D3-013CF972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2933-A093-4BB0-89C3-11C19015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FB0-8399-4E36-9A69-7ECEFE5B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3CC2-8548-4348-BE31-BC49FE70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D580-18FC-4FDE-9CE5-4CF23B8D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C3CC-4D8E-4458-9BE0-CF54CF46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2EB-F6DC-44B5-BF72-982A8D27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B782-0A68-4A9D-8B0E-4059686B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E64-EEF0-4166-A49D-809B7315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F9E-4099-472F-8C21-502D7183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CF9-8FA9-4443-A3D3-C59B0CBB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14F-DABD-4790-8793-DA4761D5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934-553B-45C0-8456-5924E2AB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4F7-199E-4D10-8DC9-3875C191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327-D218-412A-BB9B-DD233894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DB03-773F-46B4-B535-FCB4222F12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BDB1-D270-4048-A013-B98BB462EA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omic Sans MS"/>
              </a:rPr>
              <a:t>НЕ ЗАБЫВАЙ ТЫ НИКОГ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omic Sans MS"/>
              </a:rPr>
              <a:t>КАК ЗА СТОЛОМ ВЕСТИ СЕБЯ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1042920" y="476280"/>
            <a:ext cx="71247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елый этикет за столом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2952720" cy="195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76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5"/>
          <p:cNvSpPr txBox="1"/>
          <p:nvPr/>
        </p:nvSpPr>
        <p:spPr>
          <a:xfrm>
            <a:off x="3708360" y="404640"/>
            <a:ext cx="401976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 истории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809720" cy="2664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1941480" cy="2511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356000" y="1916280"/>
            <a:ext cx="4184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Издавна на Руси сто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читался почетны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местом. На него нельзя было вставать ногами, класть посторонние вещи. Вести себя за столом надо было, как в церкви. Считалось, сколько за столом посидишь, столько и на этом свете проживеш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12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207000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Давно известен такой обычай. Если гость окажется в кавказском селении, в доме горца и похвалит какую-то вещь, то как бы ни была она дорога хозяину, его честь не позволит не подарить ее гостю. Он даже обидится, если тот окажется от подарк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У японцев не принято принимать гостей дома. Но если все-таки доведется это сделать, они долго будут извиняться за скромность стола, хотя на нем и будет изобилие всяких угощени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В среднеазиатских республиках гостей нередко принимают во дворе, который является как бы частью дома. А в турецких семьях гостей могут пригласить даже в баню, которая кроме основного своего назначения, выполняет роль своеобразного клуба, там беседуют, слушают певцов и рассказчиков, играют на различных инструментах и в шахма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Англичане не станут заботиться об обилии угощения, ограничатся только самым малым: они считают, что в гости ходят не для того, чтобы много и вкусно есть и пить, но чтобы приятно провести время за беседой с людьми, к которым чувствуют особое расположение</a:t>
            </a:r>
            <a:r>
              <a:rPr b="0" lang="ru-RU" sz="1600" spc="-1" strike="noStrike">
                <a:solidFill>
                  <a:srgbClr val="cc0099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258920" y="260280"/>
            <a:ext cx="58482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f66"/>
                    </a:gs>
                    <a:gs pos="100000">
                      <a:srgbClr val="cc0099"/>
                    </a:gs>
                  </a:gsLst>
                  <a:lin ang="5400000"/>
                </a:gradFill>
                <a:latin typeface="Times New Roman"/>
              </a:rPr>
              <a:t>А в разных странах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f66"/>
                  </a:gs>
                  <a:gs pos="100000">
                    <a:srgbClr val="cc00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6443640" y="4927680"/>
            <a:ext cx="2112840" cy="1693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3"/>
          <a:stretch/>
        </p:blipFill>
        <p:spPr>
          <a:xfrm>
            <a:off x="3132000" y="4869000"/>
            <a:ext cx="23767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3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3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3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Столовые прибо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95280" y="5373720"/>
            <a:ext cx="1871640" cy="1128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1835280" y="4076640"/>
            <a:ext cx="2016000" cy="1546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3"/>
          <a:stretch/>
        </p:blipFill>
        <p:spPr>
          <a:xfrm>
            <a:off x="7667640" y="3284640"/>
            <a:ext cx="1168560" cy="143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"/>
          <p:cNvPicPr/>
          <p:nvPr/>
        </p:nvPicPr>
        <p:blipFill>
          <a:blip r:embed="rId4"/>
          <a:stretch/>
        </p:blipFill>
        <p:spPr>
          <a:xfrm>
            <a:off x="611280" y="1989000"/>
            <a:ext cx="2087640" cy="165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"/>
          <p:cNvPicPr/>
          <p:nvPr/>
        </p:nvPicPr>
        <p:blipFill>
          <a:blip r:embed="rId5"/>
          <a:stretch/>
        </p:blipFill>
        <p:spPr>
          <a:xfrm>
            <a:off x="6084720" y="2060640"/>
            <a:ext cx="2232360" cy="1068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6"/>
          <a:stretch/>
        </p:blipFill>
        <p:spPr>
          <a:xfrm>
            <a:off x="3419640" y="2924280"/>
            <a:ext cx="2178000" cy="1498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0" descr=""/>
          <p:cNvPicPr/>
          <p:nvPr/>
        </p:nvPicPr>
        <p:blipFill>
          <a:blip r:embed="rId7"/>
          <a:stretch/>
        </p:blipFill>
        <p:spPr>
          <a:xfrm>
            <a:off x="5076720" y="4005360"/>
            <a:ext cx="2089080" cy="1382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3" descr=""/>
          <p:cNvPicPr/>
          <p:nvPr/>
        </p:nvPicPr>
        <p:blipFill>
          <a:blip r:embed="rId8"/>
          <a:stretch/>
        </p:blipFill>
        <p:spPr>
          <a:xfrm>
            <a:off x="6588000" y="4869000"/>
            <a:ext cx="2303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3517920" cy="3294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5"/>
          <p:cNvSpPr txBox="1"/>
          <p:nvPr/>
        </p:nvSpPr>
        <p:spPr>
          <a:xfrm>
            <a:off x="2484360" y="549360"/>
            <a:ext cx="3672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1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 - САМ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702000" y="2276640"/>
            <a:ext cx="3084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Попробуй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краси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сложи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салфетк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850"/>
                            </p:stCondLst>
                            <p:childTnLst>
                              <p:par>
                                <p:cTn id="4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650"/>
                            </p:stCondLst>
                            <p:childTnLst>
                              <p:par>
                                <p:cTn id="4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450"/>
                            </p:stCondLst>
                            <p:childTnLst>
                              <p:par>
                                <p:cTn id="4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300"/>
                            </p:stCondLst>
                            <p:childTnLst>
                              <p:par>
                                <p:cTn id="4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4360" y="1484280"/>
            <a:ext cx="4103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Сегодня день рожденья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Не чей-нибудь, а мой.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 я бегу скорее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Домой, домой, дом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Там ждут меня подарки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От всех моих друзей: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Машины, книги, марки –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Не комната – музей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Я всем скажу спасибо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 позову за сто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Пусть без подарка даже –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Улыбки хватит мне.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Я стал сегодня старше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, может быть, умней.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, кажется, сильней!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, кажется, длинней!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Comic Sans MS"/>
              </a:rPr>
              <a:t>И, кажется, взрослей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195640" y="692280"/>
            <a:ext cx="42861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НЬ РОЖДЕНИ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584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7950"/>
                            </p:stCondLst>
                            <p:childTnLst>
                              <p:par>
                                <p:cTn id="4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2050"/>
                            </p:stCondLst>
                            <p:childTnLst>
                              <p:par>
                                <p:cTn id="4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410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1116000" y="620640"/>
            <a:ext cx="52005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подарить?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068200" cy="266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2562120" cy="1862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image025"/>
          <p:cNvPicPr/>
          <p:nvPr/>
        </p:nvPicPr>
        <p:blipFill>
          <a:blip r:embed="rId3"/>
          <a:stretch/>
        </p:blipFill>
        <p:spPr>
          <a:xfrm>
            <a:off x="4211640" y="4724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transpcarro7"/>
          <p:cNvPicPr/>
          <p:nvPr/>
        </p:nvPicPr>
        <p:blipFill>
          <a:blip r:embed="rId4"/>
          <a:stretch/>
        </p:blipFill>
        <p:spPr>
          <a:xfrm>
            <a:off x="6084720" y="2997360"/>
            <a:ext cx="2689560" cy="3011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image690"/>
          <p:cNvPicPr/>
          <p:nvPr/>
        </p:nvPicPr>
        <p:blipFill>
          <a:blip r:embed="rId5"/>
          <a:stretch/>
        </p:blipFill>
        <p:spPr>
          <a:xfrm>
            <a:off x="2195640" y="3573360"/>
            <a:ext cx="2160360" cy="1871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rabbit"/>
          <p:cNvPicPr/>
          <p:nvPr/>
        </p:nvPicPr>
        <p:blipFill>
          <a:blip r:embed="rId6"/>
          <a:stretch/>
        </p:blipFill>
        <p:spPr>
          <a:xfrm>
            <a:off x="395280" y="4724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4"/>
          <p:cNvSpPr txBox="1"/>
          <p:nvPr/>
        </p:nvSpPr>
        <p:spPr>
          <a:xfrm>
            <a:off x="1476360" y="404640"/>
            <a:ext cx="426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гадай кроссвор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22" name="Object 13"/>
          <p:cNvGraphicFramePr/>
          <p:nvPr/>
        </p:nvGraphicFramePr>
        <p:xfrm>
          <a:off x="755640" y="1844640"/>
          <a:ext cx="7345440" cy="441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7345440" cy="44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3016080" cy="29289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4176360" y="2637000"/>
            <a:ext cx="39938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Какие ты знаешь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правила поведен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за столом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раз жизни (50–55%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ояние окружающей среды (20–25%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следственность (20%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дравоохранение (10%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971640" y="404640"/>
            <a:ext cx="6162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влияет на наше здоровье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44800" y="5614920"/>
            <a:ext cx="59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? Что такое правильный образ жизн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35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400"/>
                            </p:stCondLst>
                            <p:childTnLst>
                              <p:par>
                                <p:cTn id="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900"/>
                            </p:stCondLst>
                            <p:childTnLst>
                              <p:par>
                                <p:cTn id="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35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448000" y="1341000"/>
            <a:ext cx="6696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Человеку нужно есть,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Чтобы встать и чтобы сесть,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Чтоб расти и кувыркаться,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Песни петь, дружить, смеяться.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Чтоб расти и развиваться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И при этом не болеть,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Нужно правильно питаться</a:t>
            </a:r>
            <a:br>
              <a:rPr sz="3200"/>
            </a:br>
            <a:r>
              <a:rPr b="1" i="1" lang="ru-RU" sz="3200" spc="-1" strike="noStrike">
                <a:solidFill>
                  <a:srgbClr val="d60093"/>
                </a:solidFill>
                <a:latin typeface="Comic Sans MS"/>
              </a:rPr>
              <a:t>С самых юных лет уме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366560" y="260280"/>
            <a:ext cx="58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Comic Sans MS"/>
              </a:rPr>
              <a:t>Правильное пит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258920" y="836640"/>
            <a:ext cx="62578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равильно питаться?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5280" y="1341360"/>
            <a:ext cx="8137440" cy="439272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Ешь разнообразную пищ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Меньше булочек и сладостей, а больше витамин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Не ешь много жареного, копченого, соленого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острого. Это вредно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Пища не должна быть очень горячей и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очень холодной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Ешь в одно и то же время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Обязательно позавтракай перед школой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mic Sans MS"/>
              </a:rPr>
              <a:t>Нельзя есть прямо перед сном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БЕЛ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тельные веще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5" name="Picture 4" descr="14"/>
          <p:cNvPicPr/>
          <p:nvPr/>
        </p:nvPicPr>
        <p:blipFill>
          <a:blip r:embed="rId1"/>
          <a:stretch/>
        </p:blipFill>
        <p:spPr>
          <a:xfrm>
            <a:off x="1116000" y="285264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4053240" y="2492280"/>
            <a:ext cx="467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Чтобы вырасти ты мог, 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В пище должен быть белок.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Он в яйце, конечно, есть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В твороге его не счесть.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В молоке и в мясе тоже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Есть он и тебе помож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тельные веще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УГЛЕ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11"/>
          <p:cNvPicPr/>
          <p:nvPr/>
        </p:nvPicPr>
        <p:blipFill>
          <a:blip r:embed="rId1"/>
          <a:stretch/>
        </p:blipFill>
        <p:spPr>
          <a:xfrm>
            <a:off x="1042920" y="2781360"/>
            <a:ext cx="2432160" cy="244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4065120" y="2273400"/>
            <a:ext cx="437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Фрукты, овощи и крупы –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Удивительная группа –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Нам в тепло и непогоду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Поставляют углеводы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Нам клетчатку посылают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Витамины добавляют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И энергией питаю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WordArt 3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тельные веще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Picture 4" descr="13"/>
          <p:cNvPicPr/>
          <p:nvPr/>
        </p:nvPicPr>
        <p:blipFill>
          <a:blip r:embed="rId1"/>
          <a:stretch/>
        </p:blipFill>
        <p:spPr>
          <a:xfrm>
            <a:off x="1116000" y="2781360"/>
            <a:ext cx="2160720" cy="2122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3780000" y="292788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Жир, что в пище мы едим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Очень нам необходим: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Сохранит температуру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Повлияет на фигуру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Защитит от холодов,</a:t>
            </a:r>
            <a:br>
              <a:rPr sz="2400"/>
            </a:br>
            <a:r>
              <a:rPr b="1" lang="ru-RU" sz="2400" spc="-1" strike="noStrike">
                <a:solidFill>
                  <a:srgbClr val="2a00a2"/>
                </a:solidFill>
                <a:latin typeface="Comic Sans MS"/>
              </a:rPr>
              <a:t>Шубой нам служить гото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85800" y="152280"/>
            <a:ext cx="6870600" cy="1600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тельные веще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1709640" cy="1643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"/>
          <p:cNvPicPr/>
          <p:nvPr/>
        </p:nvPicPr>
        <p:blipFill>
          <a:blip r:embed="rId3"/>
          <a:stretch/>
        </p:blipFill>
        <p:spPr>
          <a:xfrm>
            <a:off x="3708360" y="4941720"/>
            <a:ext cx="2592360" cy="1735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4"/>
          <a:stretch/>
        </p:blipFill>
        <p:spPr>
          <a:xfrm>
            <a:off x="3635280" y="2349360"/>
            <a:ext cx="2160720" cy="1616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5"/>
          <a:stretch/>
        </p:blipFill>
        <p:spPr>
          <a:xfrm>
            <a:off x="324000" y="5153040"/>
            <a:ext cx="2160360" cy="1460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6"/>
          <a:stretch/>
        </p:blipFill>
        <p:spPr>
          <a:xfrm>
            <a:off x="5435640" y="386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"/>
          <p:cNvPicPr/>
          <p:nvPr/>
        </p:nvPicPr>
        <p:blipFill>
          <a:blip r:embed="rId7"/>
          <a:stretch/>
        </p:blipFill>
        <p:spPr>
          <a:xfrm>
            <a:off x="7020000" y="256536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"/>
          <p:cNvPicPr/>
          <p:nvPr/>
        </p:nvPicPr>
        <p:blipFill>
          <a:blip r:embed="rId8"/>
          <a:stretch/>
        </p:blipFill>
        <p:spPr>
          <a:xfrm>
            <a:off x="7236000" y="4869000"/>
            <a:ext cx="16570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186" name="WordArt 5"/>
          <p:cNvSpPr txBox="1"/>
          <p:nvPr/>
        </p:nvSpPr>
        <p:spPr>
          <a:xfrm>
            <a:off x="1042920" y="549360"/>
            <a:ext cx="64087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тикет за столом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451680" y="2276640"/>
            <a:ext cx="544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Установленный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порядок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поведения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во время ед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340000" y="5445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 Для чего нужно соблюдать правила поведения за стол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5:13:22Z</dcterms:created>
  <dc:creator>курсы</dc:creator>
  <dc:description/>
  <dc:language>en-US</dc:language>
  <cp:lastModifiedBy>RePack by Diakov</cp:lastModifiedBy>
  <dcterms:modified xsi:type="dcterms:W3CDTF">2016-12-08T13:03:18Z</dcterms:modified>
  <cp:revision>20</cp:revision>
  <dc:subject/>
  <dc:title>Слайд 1</dc:title>
</cp:coreProperties>
</file>