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1.jpeg" ContentType="image/jpeg"/>
  <Override PartName="/ppt/media/image38.gif" ContentType="image/gif"/>
  <Override PartName="/ppt/media/image15.jpeg" ContentType="image/jpeg"/>
  <Override PartName="/ppt/media/image32.jpeg" ContentType="image/jpeg"/>
  <Override PartName="/ppt/media/image39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83B-69DF-408F-8754-CA67F54D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B1F-2751-4F1B-A0B2-056AEEE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20C-E45F-4F23-B341-59C4CD87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51E-CC77-4309-AD75-6229E5B6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525-DCF5-4BFD-A2BC-BF345FF3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0D9-D4AC-45C7-8FA8-A435B18A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927-A065-4FEA-ADE1-D31E0E9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5F6-4353-4D4C-AA46-687856C0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E086-4330-4A69-BB95-3C951DBA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FCE4-9B18-4F43-AE2F-DA8A00EA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CDD9-EE60-48E3-823E-7D69297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725-C5DA-46DB-ADE5-A3579204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56C-F45C-44DE-9C4E-FD8CB93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199-1991-4719-92AA-369A1BE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4E03-666A-46A2-B09C-8CA9EAA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2B4-99C5-4649-9496-588A0C05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D05-C5AA-4DD4-816C-950BAFC8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833-F60A-473B-B049-BA567E9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274-A879-4C43-9A91-B87BD7DE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09E-E4D3-4F82-957E-11D5BB5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6FB-418B-4692-9EFE-2D0CE32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B52-1D60-4071-8B52-410BC0A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760-D55E-4815-A9E4-6034925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286-1615-4E29-B3D1-B6D7A81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EF34-7725-4A50-BC20-C92F577BB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7BB-D0BA-4382-A542-941FAA65E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mic Sans MS"/>
              </a:rPr>
              <a:t>НЕ ЗАБЫВАЙ ТЫ НИКОГ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mic Sans MS"/>
              </a:rPr>
              <a:t>КАК ЗА СТОЛОМ ВЕСТИ СЕБЯ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042920" y="476280"/>
            <a:ext cx="71247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елый этикет за столом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295272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76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5"/>
          <p:cNvSpPr txBox="1"/>
          <p:nvPr/>
        </p:nvSpPr>
        <p:spPr>
          <a:xfrm>
            <a:off x="3708360" y="404640"/>
            <a:ext cx="401976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истории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809720" cy="2664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1941480" cy="2511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356000" y="1916280"/>
            <a:ext cx="418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Издавна на Руси сто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читался почет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местом. На него нельзя было вставать ногами, класть посторонние вещи. Вести себя за столом надо было, как в церкви. Считалось, сколько за столом посидишь, столько и на этом свете проживеш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2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07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Давно известен такой обычай. Если гость окажется в кавказском селении, в доме горца и похвалит какую-то вещь, то как бы ни была она дорога хозяину, его честь не позволит не подарить ее гостю. Он даже обидится, если тот окажется от подар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У японцев не принято принимать гостей дома. Но если все-таки доведется это сделать, они долго будут извиняться за скромность стола, хотя на нем и будет изобилие всяких угощен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В среднеазиатских республиках гостей нередко принимают во дворе, который является как бы частью дома. А в турецких семьях гостей могут пригласить даже в баню, которая кроме основного своего назначения, выполняет роль своеобразного клуба, там беседуют, слушают певцов и рассказчиков, играют на различных инструментах и в шахма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Англичане не станут заботиться об обилии угощения, ограничатся только самым малым: они считают, что в гости ходят не для того, чтобы много и вкусно есть и пить, но чтобы приятно провести время за беседой с людьми, к которым чувствуют особое расположение</a:t>
            </a: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258920" y="260280"/>
            <a:ext cx="58482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Times New Roman"/>
              </a:rPr>
              <a:t>А в разных странах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cc00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6443640" y="4927680"/>
            <a:ext cx="2112840" cy="169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132000" y="4869000"/>
            <a:ext cx="23767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Столовые прибо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95280" y="5373720"/>
            <a:ext cx="1871640" cy="112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7667640" y="3284640"/>
            <a:ext cx="1168560" cy="143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4"/>
          <a:stretch/>
        </p:blipFill>
        <p:spPr>
          <a:xfrm>
            <a:off x="611280" y="1989000"/>
            <a:ext cx="2087640" cy="165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5"/>
          <a:stretch/>
        </p:blipFill>
        <p:spPr>
          <a:xfrm>
            <a:off x="6084720" y="2060640"/>
            <a:ext cx="2232360" cy="1068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6"/>
          <a:stretch/>
        </p:blipFill>
        <p:spPr>
          <a:xfrm>
            <a:off x="3419640" y="2924280"/>
            <a:ext cx="2178000" cy="149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"/>
          <p:cNvPicPr/>
          <p:nvPr/>
        </p:nvPicPr>
        <p:blipFill>
          <a:blip r:embed="rId7"/>
          <a:stretch/>
        </p:blipFill>
        <p:spPr>
          <a:xfrm>
            <a:off x="5076720" y="4005360"/>
            <a:ext cx="20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"/>
          <p:cNvPicPr/>
          <p:nvPr/>
        </p:nvPicPr>
        <p:blipFill>
          <a:blip r:embed="rId8"/>
          <a:stretch/>
        </p:blipFill>
        <p:spPr>
          <a:xfrm>
            <a:off x="6588000" y="4869000"/>
            <a:ext cx="230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17920" cy="3294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5"/>
          <p:cNvSpPr txBox="1"/>
          <p:nvPr/>
        </p:nvSpPr>
        <p:spPr>
          <a:xfrm>
            <a:off x="2484360" y="549360"/>
            <a:ext cx="3672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 - САМ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02000" y="2276640"/>
            <a:ext cx="308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опробу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краси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ложи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алфет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850"/>
                            </p:stCondLst>
                            <p:childTnLst>
                              <p:par>
                                <p:cTn id="4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650"/>
                            </p:stCondLst>
                            <p:childTnLst>
                              <p:par>
                                <p:cTn id="4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450"/>
                            </p:stCondLst>
                            <p:childTnLst>
                              <p:par>
                                <p:cTn id="4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300"/>
                            </p:stCondLst>
                            <p:childTnLst>
                              <p:par>
                                <p:cTn id="4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4360" y="1484280"/>
            <a:ext cx="4103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Сегодня день рожденья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Не чей-нибудь, а мой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 я бегу скорее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Домой, домой, дом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Там ждут меня подарки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От всех моих друзей: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Машины, книги, марки –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Не комната – музе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Я всем скажу спасибо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 позову за сто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Пусть без подарка даже –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Улыбки хватит мне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Я стал сегодня старше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может быть, умней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сильней!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длинней!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взросле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95640" y="692280"/>
            <a:ext cx="4286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НЬ РОЖДЕНИ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584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95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50"/>
                            </p:stCondLst>
                            <p:childTnLst>
                              <p:par>
                                <p:cTn id="4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116000" y="620640"/>
            <a:ext cx="5200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подарить?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68200" cy="266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2562120" cy="186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image025"/>
          <p:cNvPicPr/>
          <p:nvPr/>
        </p:nvPicPr>
        <p:blipFill>
          <a:blip r:embed="rId3"/>
          <a:stretch/>
        </p:blipFill>
        <p:spPr>
          <a:xfrm>
            <a:off x="421164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transpcarro7"/>
          <p:cNvPicPr/>
          <p:nvPr/>
        </p:nvPicPr>
        <p:blipFill>
          <a:blip r:embed="rId4"/>
          <a:stretch/>
        </p:blipFill>
        <p:spPr>
          <a:xfrm>
            <a:off x="6084720" y="2997360"/>
            <a:ext cx="2689560" cy="3011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image690"/>
          <p:cNvPicPr/>
          <p:nvPr/>
        </p:nvPicPr>
        <p:blipFill>
          <a:blip r:embed="rId5"/>
          <a:stretch/>
        </p:blipFill>
        <p:spPr>
          <a:xfrm>
            <a:off x="2195640" y="3573360"/>
            <a:ext cx="2160360" cy="1871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rabbit"/>
          <p:cNvPicPr/>
          <p:nvPr/>
        </p:nvPicPr>
        <p:blipFill>
          <a:blip r:embed="rId6"/>
          <a:stretch/>
        </p:blipFill>
        <p:spPr>
          <a:xfrm>
            <a:off x="395280" y="4724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476360" y="404640"/>
            <a:ext cx="426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гадай кроссвор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22" name="Object 13"/>
          <p:cNvGraphicFramePr/>
          <p:nvPr/>
        </p:nvGraphicFramePr>
        <p:xfrm>
          <a:off x="755640" y="1844640"/>
          <a:ext cx="7345440" cy="44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34544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0160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176360" y="2637000"/>
            <a:ext cx="3993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Какие ты знаешь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правила повед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за столо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з жизни (50–55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ояние окружающей среды (20–25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ледственность (20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дравоохранение (10%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971640" y="404640"/>
            <a:ext cx="61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влияет на наше здоровь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44800" y="561492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? Что такое правильный образ жизн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3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4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90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35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448000" y="1341000"/>
            <a:ext cx="6696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еловеку нужно ес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ы встать и чтобы сес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 расти и кувыркаться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Песни петь, дружить, смеяться.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 расти и развиваться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И при этом не боле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Нужно правильно питаться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С самых юных лет уме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366560" y="260280"/>
            <a:ext cx="58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Comic Sans MS"/>
              </a:rPr>
              <a:t>Правильное пит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258920" y="836640"/>
            <a:ext cx="6257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равильно питаться?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1341360"/>
            <a:ext cx="8137440" cy="439272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Ешь разнообразную пищ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Меньше булочек и сладостей, а больше витамин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Не ешь много жареного, копченого, соленого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строго. Это вредно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Пища не должна быть очень горячей и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чень холодно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Ешь в одно и то же время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бязательно позавтракай перед школо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Нельзя есть прямо перед сном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Picture 4" descr="14"/>
          <p:cNvPicPr/>
          <p:nvPr/>
        </p:nvPicPr>
        <p:blipFill>
          <a:blip r:embed="rId1"/>
          <a:stretch/>
        </p:blipFill>
        <p:spPr>
          <a:xfrm>
            <a:off x="1116000" y="285264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053240" y="2492280"/>
            <a:ext cx="46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Чтобы вырасти ты мог, 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пище должен быть белок.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Он в яйце, конечно, есть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твороге его не счесть.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молоке и в мясе тоже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Есть он и тебе помож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11"/>
          <p:cNvPicPr/>
          <p:nvPr/>
        </p:nvPicPr>
        <p:blipFill>
          <a:blip r:embed="rId1"/>
          <a:stretch/>
        </p:blipFill>
        <p:spPr>
          <a:xfrm>
            <a:off x="1042920" y="2781360"/>
            <a:ext cx="2432160" cy="244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065120" y="2273400"/>
            <a:ext cx="437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Фрукты, овощи и крупы –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Удивительная группа –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Нам в тепло и непогоду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Поставляют углеводы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Нам клетчатку посылают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итамины добавляют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И энергией пит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4" descr="13"/>
          <p:cNvPicPr/>
          <p:nvPr/>
        </p:nvPicPr>
        <p:blipFill>
          <a:blip r:embed="rId1"/>
          <a:stretch/>
        </p:blipFill>
        <p:spPr>
          <a:xfrm>
            <a:off x="1116000" y="2781360"/>
            <a:ext cx="2160720" cy="2122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3780000" y="29278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Жир, что в пище мы едим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Очень нам необходим: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Сохранит температуру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Повлияет на фигуру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Защитит от холодов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Шубой нам служить гот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170964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3"/>
          <a:stretch/>
        </p:blipFill>
        <p:spPr>
          <a:xfrm>
            <a:off x="3708360" y="4941720"/>
            <a:ext cx="2592360" cy="173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3635280" y="2349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5"/>
          <a:stretch/>
        </p:blipFill>
        <p:spPr>
          <a:xfrm>
            <a:off x="324000" y="5153040"/>
            <a:ext cx="2160360" cy="146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6"/>
          <a:stretch/>
        </p:blipFill>
        <p:spPr>
          <a:xfrm>
            <a:off x="5435640" y="386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"/>
          <p:cNvPicPr/>
          <p:nvPr/>
        </p:nvPicPr>
        <p:blipFill>
          <a:blip r:embed="rId8"/>
          <a:stretch/>
        </p:blipFill>
        <p:spPr>
          <a:xfrm>
            <a:off x="7236000" y="4869000"/>
            <a:ext cx="1657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1042920" y="549360"/>
            <a:ext cx="64087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икет за столо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451680" y="2276640"/>
            <a:ext cx="544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Установленны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порядок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поведени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во время ед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340000" y="5445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 Для чего нужно соблюдать правила поведения за стол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5:13:22Z</dcterms:created>
  <dc:creator>курсы</dc:creator>
  <dc:description/>
  <dc:language>en-US</dc:language>
  <cp:lastModifiedBy>RePack by Diakov</cp:lastModifiedBy>
  <dcterms:modified xsi:type="dcterms:W3CDTF">2016-12-08T13:03:18Z</dcterms:modified>
  <cp:revision>20</cp:revision>
  <dc:subject/>
  <dc:title>Слайд 1</dc:title>
</cp:coreProperties>
</file>