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B3-3D93-4C58-8443-F7ACAA70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B01-5EC8-4DDC-A919-9590AF5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F04-96EB-49DE-8E45-CE3EE0C8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F61-D1A1-40CF-B920-FCF6C54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4365-1251-43BE-A8E3-D68569E9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316B-0164-4B98-AEB8-6BCB4BB8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78CF-27D2-4FDD-BDB4-ED5D6CDE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FFB-3F28-43CF-BAF9-89D0CB58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F720-8E47-4D09-84D9-78F3FF2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2743-943D-4651-A5F2-D63F707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AED1-AC38-4B7F-8841-8FCBCFD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0C9-BF42-4151-B03D-7538E34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E78C-6C6B-44EC-95AC-65A0355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FF7F-DCD0-466D-BC2D-627AE3D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8838-44CD-445C-892B-4903DC52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B6A5-529A-488B-9021-579D1FA1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A42-094A-49EB-BE27-3C09C199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E71-283E-4685-88EC-65753A44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D70-6D28-4192-831A-BE764B0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39B-D29C-455A-A788-B559F4F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049-5AD4-40D7-8CFD-229DB3B6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2E0-D2A2-4F49-B896-B7C7732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FAF-448E-4F5A-A5DC-DB4C858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7EF-B675-41DF-8ECB-1CC7A93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691F-C05C-4E0A-A3EE-B69D3EA84B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4593-5756-4C35-864B-F15A1B8304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20876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8920" y="3962520"/>
            <a:ext cx="3675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1413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ектная деятельность на уроках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4076640"/>
            <a:ext cx="466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Талалов Александр Петр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учитель первой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Arial"/>
              </a:rPr>
              <a:t>МОУ «СОШ № 23»  г.Сара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4319640" cy="42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2446200" cy="3673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2448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ебный проект с точки зрения учащегос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возможность делать что-то самостоятельно, в группе или самом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деятельность, позволяющая проявить себя, попробовать свои силы, приложить свои знания, принести пользу и показать публично достигнутый результ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то деятельность, направленная на решение интересной проблемы, которая носит практический характер, имеет важное прикладное знач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942920" cy="201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87640" y="4149720"/>
            <a:ext cx="309708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59640" y="4149720"/>
            <a:ext cx="19429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стижения учащихс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3/2014 учебный год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иональный фестиваль-конкурс исследовательских работ и творческих проектов учащихся «Свой путь к открытиям» - призовое 3 мес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5/2016 учебный год  районный конкурс творческих проектов - решение экологической проблемы вымирания птиц в суровых зимних условиях  - 3 призовое мес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6/2017 учебный год - городской конкурс творческих проектов - создание эксклюзивной и необычной мебели - 2 призов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2016360" cy="24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64000" y="4076640"/>
            <a:ext cx="2011320" cy="25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2016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ебный проект с точки зрения учител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тегративное дидактическое средство развития, обучения и воспитания, позволяющее 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полаганию и планированию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анализу и рефлек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ю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хода своей деятельности и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ому применению знаний, умений и навыков в различ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4724280"/>
            <a:ext cx="6624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Трудности, которые необходимо учитывать при подготовке и выполнении проектов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Трудности, связанные с организационной стороной проекта и управлением деятельностью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Трудности, обусловленные содержа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592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клю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ёт ребёнку возможность экспериментировать, развивать творческие способности и коммуникативные навыки, позволяет ему успешно адаптироваться к изменившейся ситуации школьного обуч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ктуальность методики проектной  деятельности подтверждается авторитетным мнением ученых. А вот, что говорят сами учени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Мне нравится работать над проектом потому, что я все делаю сам и с интересом. А главное - это запоминается надолго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11280" y="4581360"/>
            <a:ext cx="4267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В условиях реализации требований ФГОС ООО наиболее актуальными становятся технологии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 – коммуникацио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оект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адачи проектной деятель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еспечить целостность педагогического проце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уществить обучение, развитие и воспитание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ть положительную мотивацию для самообраз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принципы учебного проект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центре обучения находится ученик, а не уч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ятельность позна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19640" y="3645000"/>
            <a:ext cx="33307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явление  профессиональных способно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ческий проект в 5-х классах начинается с изготовления самой элементарной игрушки – головоломки: «Звёздочка». Каждый пятиклассник стремится быстрее изготовить звезду, но понимает  процесс  изготовления трудоёмок и всё зависит от своих способностей и сооб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3167280" cy="23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9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рганизационная структура метода учебного проек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ключение ребенка в данную поисковую деятель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Выбор проблемы, постановка цели и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Сбор и переработка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Завершение работы (изготовление издел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Собственно защита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щие дидактические требования, связанные с проведением проект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Время, отводимое педагогом для выполнения задания, должно быть достаточным для качественного и спокойного решения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ценка 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истемное  использование проектов - «копилка» знаний и способностей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448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Успешность проектной деятельности на уроках технологии зависит от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я занятия с учетом имеющихся возможносте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я организовать и стимулировать познавательную работу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их возможностей учи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я современных технолог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Сильная сторона проекта - положительная мотивация для самообразова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выполнении творческих проектов учащиеся выявляют свои профессиональные способности, получают первоначальную специальную подготовку, в результате чего у них формируется осознанное профессиональное намер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60036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5989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8:54:48Z</dcterms:created>
  <dc:creator>User</dc:creator>
  <dc:description/>
  <dc:language>en-US</dc:language>
  <cp:lastModifiedBy>User</cp:lastModifiedBy>
  <dcterms:modified xsi:type="dcterms:W3CDTF">2017-06-06T02:45:21Z</dcterms:modified>
  <cp:revision>36</cp:revision>
  <dc:subject/>
  <dc:title>Слайд 1</dc:title>
</cp:coreProperties>
</file>