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DA06-0F10-46B4-A0FD-1226B2A8E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17C3-9273-42A3-ABF9-6B01B74B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7356-1CB0-4799-8691-097EA27B3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C0A4-E9B8-4086-991D-12025829B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9BD5-CEAE-43B3-8131-FBE4BBAA8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EB16-C9B7-490B-8D87-669E7C20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78BA-6EFB-4A35-880A-530FAD01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E917-8CC2-4E66-A424-3EAE0F17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F2B6-16D0-488A-8E52-0EA82772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D714-972D-4E14-AD72-CB6F1D1A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B0C5-6858-4BBC-BB90-4549AF12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D674-F2FA-4DEC-AB6B-F333A54C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015E7-8796-4FC6-8626-0830D614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EC41-4BA6-41A1-8D92-A7174049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1DB62-F2BD-4357-80D2-DBD8C5ED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D3E6-7E24-48DE-8FEA-B8C2DFF69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6F9B-C716-4F14-8719-99D37283F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6A2E-FE99-43E8-B848-1A5EAB9B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3BAF-30E0-4067-9050-F85AE65B2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EAB9-CE88-4014-8537-88C41EED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3570-FA77-4797-B1D7-5DB9DE2E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ED66-C293-42CA-BF0A-124E5723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5A5D-43EB-42CA-B31C-EB41D332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BAC3-5F07-44A4-8C81-687B4224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F710-2E00-40C1-8525-8F760C0DC4B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ABA2-FC86-42E7-9CE5-1A42ADC5F41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99640" y="2636640"/>
            <a:ext cx="208764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858920" y="3962520"/>
            <a:ext cx="3675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40360" y="141300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ектная деятельность на уроках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84720" y="4076640"/>
            <a:ext cx="466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0e04"/>
                </a:solidFill>
                <a:latin typeface="Arial"/>
              </a:rPr>
              <a:t>Талалов Александр Петрович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0e04"/>
                </a:solidFill>
                <a:latin typeface="Arial"/>
              </a:rPr>
              <a:t>учитель первой квалификационной катег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0e04"/>
                </a:solidFill>
                <a:latin typeface="Arial"/>
              </a:rPr>
              <a:t>МОУ «СОШ № 23»  г.Сарат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4319640" cy="424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116000" y="1268280"/>
            <a:ext cx="2446200" cy="36734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547640" y="2205000"/>
            <a:ext cx="244800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Учебный проект с точки зрения учащегося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это возможность делать что-то самостоятельно, в группе или самому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это деятельность, позволяющая проявить себя, попробовать свои силы, приложить свои знания, принести пользу и показать публично достигнутый результат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это деятельность, направленная на решение интересной проблемы, которая носит практический характер, имеет важное прикладное значен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8360" y="4149720"/>
            <a:ext cx="1942920" cy="2016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987640" y="4149720"/>
            <a:ext cx="3097080" cy="20289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659640" y="4149720"/>
            <a:ext cx="194292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Достижения учащихс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13/2014 учебный год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гиональный фестиваль-конкурс исследовательских работ и творческих проектов учащихся «Свой путь к открытиям» - призовое 3 мест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2015/2016 учебный год  районный конкурс творческих проектов - решение экологической проблемы вымирания птиц в суровых зимних условиях  - 3 призовое мест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2016/2017 учебный год - городской конкурс творческих проектов - создание эксклюзивной и необычной мебели - 2 призовое мес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042920" y="4076640"/>
            <a:ext cx="2016360" cy="2465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564000" y="4076640"/>
            <a:ext cx="2011320" cy="2538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6084720" y="4076640"/>
            <a:ext cx="201636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Учебный проект с точки зрения учителя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интегративное дидактическое средство развития, обучения и воспитания, позволяющее учи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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атиз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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еполаганию и планированию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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анализу и рефлекс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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дению исслед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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и хода своей деятельности и результа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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ому применению знаний, умений и навыков в различных ситуац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58920" y="4724280"/>
            <a:ext cx="6624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Трудности, которые необходимо учитывать при подготовке и выполнении проектов: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Трудности, связанные с организационной стороной проекта и управлением деятельностью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Трудности, обусловленные содержанием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360" y="4221000"/>
            <a:ext cx="2448000" cy="1943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276720" y="4149720"/>
            <a:ext cx="2232000" cy="2016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867280" y="4149720"/>
            <a:ext cx="259236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Заключени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Метод проектов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даёт ребёнку возможность экспериментировать, развивать творческие способности и коммуникативные навыки, позволяет ему успешно адаптироваться к изменившейся ситуации школьного обуче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Актуальность методики проектной  деятельности подтверждается авторитетным мнением ученых. А вот, что говорят сами ученики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"Мне нравится работать над проектом потому, что я все делаю сам и с интересом. А главное - это запоминается надолго”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411280" y="4581360"/>
            <a:ext cx="426744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В условиях реализации требований ФГОС ООО наиболее актуальными становятся технологии: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онно – коммуникационная техн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я развития критического мыш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Проектная техн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оровьесберегающие технологи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я проблемного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Задачи проектной деятельност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беспечить целостность педагогического процесс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существить обучение, развитие и воспитание учащихс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оздать положительную мотивацию для самообразова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Основные принципы учебного проект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центре обучения находится ученик, а не учител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еятельность познания, а не преподава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219640" y="3645000"/>
            <a:ext cx="3330720" cy="24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Выявление  профессиональных способностей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ворческий проект в 5-х классах начинается с изготовления самой элементарной игрушки – головоломки: «Звёздочка». Каждый пятиклассник стремится быстрее изготовить звезду, но понимает  процесс  изготовления трудоёмок и всё зависит от своих способностей и сообрази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16360" y="4005360"/>
            <a:ext cx="3167280" cy="2303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00000" y="4005360"/>
            <a:ext cx="3191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Организационная структура метода учебного проекта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Включение ребенка в данную поисковую деятельнос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Выбор проблемы, постановка цели и задач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Сбор и переработка информа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 Завершение работы (изготовление издели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. Собственно защита проек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Общие дидактические требования, связанные с проведением проектов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Время, отводимое педагогом для выполнения задания, должно быть достаточным для качественного и спокойного решения пробл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Оценка деятельности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Системное  использование проектов - «копилка» знаний и способностей учащих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8360" y="3933720"/>
            <a:ext cx="2232000" cy="2016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132000" y="3933720"/>
            <a:ext cx="2664000" cy="2016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227640" y="3933720"/>
            <a:ext cx="2448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Успешность проектной деятельности на уроках технологии зависит от: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ланирования занятия с учетом имеющихся возможностей школ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мения организовать и стимулировать познавательную работу учащихс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ворческих возможностей учител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спользования современных технолог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Сильная сторона проекта - положительная мотивация для самообразования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ри выполнении творческих проектов учащиеся выявляют свои профессиональные способности, получают первоначальную специальную подготовку, в результате чего у них формируется осознанное профессиональное намерени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8360" y="3860640"/>
            <a:ext cx="3600360" cy="2232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932360" y="3860640"/>
            <a:ext cx="3598920" cy="22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2T18:54:48Z</dcterms:created>
  <dc:creator>User</dc:creator>
  <dc:description/>
  <dc:language>en-US</dc:language>
  <cp:lastModifiedBy>User</cp:lastModifiedBy>
  <dcterms:modified xsi:type="dcterms:W3CDTF">2017-06-06T02:45:21Z</dcterms:modified>
  <cp:revision>36</cp:revision>
  <dc:subject/>
  <dc:title>Слайд 1</dc:title>
</cp:coreProperties>
</file>