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691813" cy="7559675"/>
  <p:notesSz cx="6786563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B3C-2207-46D8-BB63-00E43886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9AC-B81E-47B6-8C26-5AB41428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950-4AB1-49D6-8670-6AC89460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5FE-4178-4E84-940A-526AE3B3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994-47F4-4750-AABA-A9AEEADD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32B-823D-4847-B9A5-6717CF0C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FD0-B3B5-450C-8D76-5F65C30F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AA0-8C60-4C3D-8D5C-4FAFD66E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B08-39A5-4BDE-8394-E08DB2B9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A63-32E0-4FCC-A4AE-E3453EA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445-E7F0-4F09-A71B-B34F9B82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D86-F2BA-445B-ADBD-512EA012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59A7-EC6F-46FE-ACF7-EB389C42A7F2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7434360" y="4843440"/>
            <a:ext cx="309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400" spc="-1" strike="noStrike">
                <a:solidFill>
                  <a:srgbClr val="262673"/>
                </a:solidFill>
                <a:latin typeface="Arial"/>
              </a:rPr>
              <a:t>Формирование индивидуальной траектории развития учащихся с высоким уровнем исследовательской 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7337520" y="7015320"/>
            <a:ext cx="335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рма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7002360" y="5508720"/>
            <a:ext cx="3475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Tahoma"/>
                <a:ea typeface="Tahoma"/>
              </a:rPr>
              <a:t>Рыбакова И.Н.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Tahoma"/>
                <a:ea typeface="Tahoma"/>
              </a:rPr>
              <a:t> </a:t>
            </a:r>
            <a:r>
              <a:rPr b="1" lang="ru-RU" sz="1100" spc="-1" strike="noStrike">
                <a:solidFill>
                  <a:srgbClr val="660066"/>
                </a:solidFill>
                <a:latin typeface="Tahoma"/>
                <a:ea typeface="Tahoma"/>
              </a:rPr>
              <a:t>учитель английского языка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Tahoma"/>
                <a:ea typeface="Tahoma"/>
              </a:rPr>
              <a:t>МБОУ г. Мурманска лицей №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7434360" y="322920"/>
            <a:ext cx="3206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г. Мурманска лицей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ектно-исследовательская деятельность как условие личностного развития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logo_ml2 [Converted]"/>
          <p:cNvPicPr/>
          <p:nvPr/>
        </p:nvPicPr>
        <p:blipFill>
          <a:blip r:embed="rId1"/>
          <a:stretch/>
        </p:blipFill>
        <p:spPr>
          <a:xfrm>
            <a:off x="4336920" y="5918040"/>
            <a:ext cx="1944720" cy="708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3"/>
          <p:cNvSpPr/>
          <p:nvPr/>
        </p:nvSpPr>
        <p:spPr>
          <a:xfrm>
            <a:off x="3768840" y="6661080"/>
            <a:ext cx="3019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. Мурманск, ул. Самойловой, д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7 (8152) 47-64-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www.lyc2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yceum2@mail.ru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2"/>
          <p:cNvSpPr/>
          <p:nvPr/>
        </p:nvSpPr>
        <p:spPr>
          <a:xfrm>
            <a:off x="162000" y="299880"/>
            <a:ext cx="3257640" cy="527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Arial"/>
              </a:rPr>
              <a:t>Технология исследовательск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31840" y="93816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99"/>
                </a:solidFill>
                <a:latin typeface="Verdana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07800" y="1184400"/>
            <a:ext cx="3113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Что? Почему? Вопросы начинающему исследовател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Что? Почему? Вопросы себ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пределение исходных положений работы (актуальность, проблема, объект, предмет, цель, гипотеза, задачи, методы исследования и значим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1"/>
          <p:cNvSpPr/>
          <p:nvPr/>
        </p:nvSpPr>
        <p:spPr>
          <a:xfrm>
            <a:off x="243000" y="317484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99"/>
                </a:solidFill>
                <a:latin typeface="Verdana"/>
              </a:rPr>
              <a:t>Базовые методы основного 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3"/>
          <p:cNvSpPr/>
          <p:nvPr/>
        </p:nvSpPr>
        <p:spPr>
          <a:xfrm>
            <a:off x="307800" y="3619440"/>
            <a:ext cx="302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Метод компонентного анализа на основе словарных дефиниц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Контекстуальный анализ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Интрепретативный анализ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Анкетирование, опрос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Методы обработки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4"/>
          <p:cNvSpPr/>
          <p:nvPr/>
        </p:nvSpPr>
        <p:spPr>
          <a:xfrm>
            <a:off x="208080" y="523224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99"/>
                </a:solidFill>
                <a:latin typeface="Verdana"/>
              </a:rPr>
              <a:t>Заключ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5"/>
          <p:cNvSpPr/>
          <p:nvPr/>
        </p:nvSpPr>
        <p:spPr>
          <a:xfrm>
            <a:off x="360360" y="5483160"/>
            <a:ext cx="2943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Рефлексия основных положений работы до и после исследования (актуальность, цель, гипотеза, задачи, вывод, трудности, личностные изменения в интеллектуальной, мотивационной, эмоциональной сферах и приобретенный опыт деятель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5"/>
          <p:cNvGrpSpPr/>
          <p:nvPr/>
        </p:nvGrpSpPr>
        <p:grpSpPr>
          <a:xfrm>
            <a:off x="7840800" y="1490760"/>
            <a:ext cx="2282760" cy="2568600"/>
            <a:chOff x="7840800" y="1490760"/>
            <a:chExt cx="2282760" cy="2568600"/>
          </a:xfrm>
        </p:grpSpPr>
        <p:pic>
          <p:nvPicPr>
            <p:cNvPr id="55" name="Picture 38" descr=""/>
            <p:cNvPicPr/>
            <p:nvPr/>
          </p:nvPicPr>
          <p:blipFill>
            <a:blip r:embed="rId2"/>
            <a:stretch/>
          </p:blipFill>
          <p:spPr>
            <a:xfrm>
              <a:off x="7840800" y="3007080"/>
              <a:ext cx="74556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3" descr=""/>
            <p:cNvPicPr/>
            <p:nvPr/>
          </p:nvPicPr>
          <p:blipFill>
            <a:blip r:embed="rId3"/>
            <a:stretch/>
          </p:blipFill>
          <p:spPr>
            <a:xfrm flipH="1">
              <a:off x="9523800" y="1490760"/>
              <a:ext cx="59976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0" descr=""/>
            <p:cNvPicPr/>
            <p:nvPr/>
          </p:nvPicPr>
          <p:blipFill>
            <a:blip r:embed="rId4"/>
            <a:stretch/>
          </p:blipFill>
          <p:spPr>
            <a:xfrm>
              <a:off x="8389080" y="2195280"/>
              <a:ext cx="123948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42" descr=""/>
            <p:cNvPicPr/>
            <p:nvPr/>
          </p:nvPicPr>
          <p:blipFill>
            <a:blip r:embed="rId5"/>
            <a:stretch/>
          </p:blipFill>
          <p:spPr>
            <a:xfrm flipH="1">
              <a:off x="9022680" y="2677680"/>
              <a:ext cx="567720" cy="70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5"/>
          <p:cNvSpPr/>
          <p:nvPr/>
        </p:nvSpPr>
        <p:spPr>
          <a:xfrm>
            <a:off x="233280" y="1442880"/>
            <a:ext cx="313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приобретение культурной самоидентичности ребенка в широком смысле на методологическом, географическом, историческом уровнях и успешная социализация ребенка в культурное пространство соци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22360" y="2771640"/>
            <a:ext cx="28861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9"/>
          <p:cNvSpPr/>
          <p:nvPr/>
        </p:nvSpPr>
        <p:spPr>
          <a:xfrm>
            <a:off x="233280" y="4572000"/>
            <a:ext cx="313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  <a:ea typeface="Verdana"/>
              </a:rPr>
              <a:t>это имя для особого порядка, или класса феноменов, а именно: таких вещей и явлений, которые зависят от реализации умственной способности, специфичной для человеческого рода, которую мы называем «символизаци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3691080" y="3421080"/>
            <a:ext cx="3279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развитие личности учащегося, приобретение функционального навыка исследования как универсального способа освоения действительности, развитии способности к исследовательскому типу мышления, активизации личностной позиции учащегося в образовательном процессе на основе приобретения субъективно новых знаний).</a:t>
            </a: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3"/>
          <p:cNvSpPr/>
          <p:nvPr/>
        </p:nvSpPr>
        <p:spPr>
          <a:xfrm>
            <a:off x="3817800" y="264960"/>
            <a:ext cx="3025800" cy="28440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Исследовательская куль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2"/>
          <p:cNvSpPr/>
          <p:nvPr/>
        </p:nvSpPr>
        <p:spPr>
          <a:xfrm>
            <a:off x="579600" y="4140360"/>
            <a:ext cx="2449440" cy="28080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"/>
          <p:cNvSpPr/>
          <p:nvPr/>
        </p:nvSpPr>
        <p:spPr>
          <a:xfrm>
            <a:off x="7385040" y="3436920"/>
            <a:ext cx="3083040" cy="48744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Arial"/>
              </a:rPr>
              <a:t>Индивидуальная образовательная траекто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3708360" y="539640"/>
            <a:ext cx="32450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интегративное, динамичное качество личности, характеризующееся ценностным отношением к исследовательской деятельности, ненасыщаемой потребностью в поисковой активности, совокупностью методологических, мировоззренческих, общепредметных, рефлексивных знаний и исследовательских умений, потенциалом креативных и исследовательских спосо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2"/>
          <p:cNvSpPr/>
          <p:nvPr/>
        </p:nvSpPr>
        <p:spPr>
          <a:xfrm>
            <a:off x="7329600" y="264960"/>
            <a:ext cx="3060720" cy="490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Характеристики одаренных, не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format</a:t>
            </a: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ны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3691080" y="6014880"/>
            <a:ext cx="327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  <a:ea typeface="Verdana"/>
              </a:rPr>
              <a:t>качественно  своеобразное  сочетание  способностей, обеспечивающее успешность деятельности; совокупность  природных  задатков, обеспечивающих начальный высокий уровень в определенной деятельности; талантл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"/>
          <p:cNvPicPr/>
          <p:nvPr/>
        </p:nvPicPr>
        <p:blipFill>
          <a:blip r:embed="rId1"/>
          <a:stretch/>
        </p:blipFill>
        <p:spPr>
          <a:xfrm>
            <a:off x="247680" y="2600280"/>
            <a:ext cx="3159000" cy="1425600"/>
          </a:xfrm>
          <a:prstGeom prst="rect">
            <a:avLst/>
          </a:prstGeom>
          <a:ln w="0">
            <a:noFill/>
          </a:ln>
        </p:spPr>
      </p:pic>
      <p:sp>
        <p:nvSpPr>
          <p:cNvPr id="70" name="Скругленный прямоугольник 2"/>
          <p:cNvSpPr/>
          <p:nvPr/>
        </p:nvSpPr>
        <p:spPr>
          <a:xfrm>
            <a:off x="3790800" y="5641920"/>
            <a:ext cx="3079800" cy="31608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ОДАР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2"/>
          <p:cNvSpPr/>
          <p:nvPr/>
        </p:nvSpPr>
        <p:spPr>
          <a:xfrm>
            <a:off x="3817800" y="2913120"/>
            <a:ext cx="3025800" cy="50328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Цель проектно-исследов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7291440" y="957240"/>
            <a:ext cx="29844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высокая мотивация к работе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особый способ восприятия мир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определенные черты личност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преувеличенные страхи и трудности в отношениях со сверстникам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требование повышенного внимания к себе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трудности в общении с людьм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часто раннее усвоение нравственных нор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"/>
          <p:cNvSpPr/>
          <p:nvPr/>
        </p:nvSpPr>
        <p:spPr>
          <a:xfrm>
            <a:off x="7346880" y="4751280"/>
            <a:ext cx="3083040" cy="48888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Arial"/>
              </a:rPr>
              <a:t>Этапы разр</a:t>
            </a:r>
            <a:r>
              <a:rPr b="1" i="1" lang="ru-RU" sz="10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000" spc="-1" strike="noStrike">
                <a:solidFill>
                  <a:srgbClr val="2d2d8a"/>
                </a:solidFill>
                <a:latin typeface="Arial"/>
              </a:rPr>
              <a:t>ботки ИО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7291440" y="5380200"/>
            <a:ext cx="3112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аналитический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диагностический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деятельностный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рефлексивны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2"/>
          <p:cNvSpPr/>
          <p:nvPr/>
        </p:nvSpPr>
        <p:spPr>
          <a:xfrm>
            <a:off x="909720" y="282600"/>
            <a:ext cx="2498760" cy="67464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основного общего образ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7291440" y="3965400"/>
            <a:ext cx="3112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персональный путь реализации личностного потенциала ученика в процессе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"/>
          <p:cNvSpPr/>
          <p:nvPr/>
        </p:nvSpPr>
        <p:spPr>
          <a:xfrm>
            <a:off x="7407360" y="6534000"/>
            <a:ext cx="3082680" cy="48744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Arial"/>
              </a:rPr>
              <a:t>ПРОЕКТ, ПРОЦЕСС И РЕЗУЛЬТ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7" descr=""/>
          <p:cNvPicPr/>
          <p:nvPr/>
        </p:nvPicPr>
        <p:blipFill>
          <a:blip r:embed="rId2"/>
          <a:stretch/>
        </p:blipFill>
        <p:spPr>
          <a:xfrm>
            <a:off x="136440" y="228600"/>
            <a:ext cx="771480" cy="11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8" descr=""/>
          <p:cNvPicPr/>
          <p:nvPr/>
        </p:nvPicPr>
        <p:blipFill>
          <a:blip r:embed="rId3"/>
          <a:stretch/>
        </p:blipFill>
        <p:spPr>
          <a:xfrm>
            <a:off x="289080" y="6013440"/>
            <a:ext cx="3078000" cy="145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0" descr=""/>
          <p:cNvPicPr/>
          <p:nvPr/>
        </p:nvPicPr>
        <p:blipFill>
          <a:blip r:embed="rId4"/>
          <a:stretch/>
        </p:blipFill>
        <p:spPr>
          <a:xfrm>
            <a:off x="8921880" y="5362560"/>
            <a:ext cx="1546200" cy="108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1" descr=""/>
          <p:cNvPicPr/>
          <p:nvPr/>
        </p:nvPicPr>
        <p:blipFill>
          <a:blip r:embed="rId5"/>
          <a:stretch/>
        </p:blipFill>
        <p:spPr>
          <a:xfrm>
            <a:off x="8988480" y="2428920"/>
            <a:ext cx="1386000" cy="992160"/>
          </a:xfrm>
          <a:prstGeom prst="rect">
            <a:avLst/>
          </a:prstGeom>
          <a:ln w="0">
            <a:noFill/>
          </a:ln>
        </p:spPr>
      </p:pic>
      <p:sp>
        <p:nvSpPr>
          <p:cNvPr id="82" name="Line 4"/>
          <p:cNvSpPr/>
          <p:nvPr/>
        </p:nvSpPr>
        <p:spPr>
          <a:xfrm>
            <a:off x="3490920" y="0"/>
            <a:ext cx="0" cy="7561440"/>
          </a:xfrm>
          <a:prstGeom prst="line">
            <a:avLst/>
          </a:prstGeom>
          <a:ln w="9360">
            <a:solidFill>
              <a:srgbClr val="badde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7075440" y="0"/>
            <a:ext cx="0" cy="7561440"/>
          </a:xfrm>
          <a:prstGeom prst="line">
            <a:avLst/>
          </a:prstGeom>
          <a:ln w="9360">
            <a:solidFill>
              <a:srgbClr val="badde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3:03:25Z</dcterms:created>
  <dc:creator>Teach-21</dc:creator>
  <dc:description/>
  <dc:language>en-US</dc:language>
  <cp:lastModifiedBy>Lenovo</cp:lastModifiedBy>
  <dcterms:modified xsi:type="dcterms:W3CDTF">2016-12-13T19:00:50Z</dcterms:modified>
  <cp:revision>164</cp:revision>
  <dc:subject/>
  <dc:title>Слайд 1</dc:title>
</cp:coreProperties>
</file>