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11.png" ContentType="image/png"/>
  <Override PartName="/ppt/media/image1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F98C-24FA-44EC-ACD6-4024C31E8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A9B5-D1A1-47CA-9C2E-D2A5A16DB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E051-3D25-4B65-98F2-4D11BF788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374E-47A7-4736-A463-D7E5AD995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D83F0-706B-4980-9B5A-B7A8A8888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34FED-FD07-414F-ADB4-3015184AA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985BC-76EE-4298-A304-7F855C83C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1521A-DACE-4962-957C-731CB1553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CF8AB-9BCD-4E64-ACD8-016D47112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8D240-6F0F-428B-98CC-1E2BF4DBF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16704-2DC0-405D-AC5C-50D4B76B0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7C6E-6F72-4396-95CC-904B7AE81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FB153-638A-4A7C-B2A4-C9D44372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A09EF-4640-4D34-A4C8-E1B3285B5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E191D-55D2-4F81-8B89-7F6F1E4CA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58056-E632-4BB2-A757-661512447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2BCD8-BD96-4DC5-BC33-1DA17B68F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513E3-E735-4C08-8088-4B92EB261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CBA21-9380-4588-9EA3-537B36ECC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32550-E78B-4E7B-8940-1251918C9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D7F9C-AF0D-491D-9CFC-0A877CDBD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5F70F-48FE-4957-9755-60F2542BF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9B64-1D07-42E5-8610-99DB90599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3A77C-57AB-4D17-8947-308597703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BC229-28DD-4A8D-BECB-786D0A86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0E8AC-7729-4F84-A2EA-0BAD45D0A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680C8-7328-43AD-922A-667E4B930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45EAC-8A19-4D40-A1A7-30D66A4A6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D8043-A6CD-4424-BD92-5F029D021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8E41C-C952-418E-827F-2A3078C63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F8022-5FCC-4849-8434-6874CADA5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4D716-3E83-4389-9025-D211323E2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F797B-AB49-47FC-BB91-93F4EFADF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41A6-7F8E-4943-9597-D4EF5195A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C674F-73F3-4B5C-A687-1D25E348E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3F79F-7B0E-4A9C-A330-52CAF1EE7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F7506-1609-4001-859E-D953E3537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D060D-53EF-4778-9870-508904B71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4F5C3-5963-4312-B295-6F60258B9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4EB21-2352-453E-B7DF-7F36498B7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2ADEA-B317-4DA2-AD4D-4EBB0AFCC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BB4BD-0B94-4F13-83F7-426E2AA48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9587C-32A0-471E-9011-0140D1001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6632-CD43-408E-9324-ABFF2E57A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1052-6CFD-4C6A-8B96-4476BE1C3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BC9D-D81F-414B-A284-2A0F0764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F95A-C922-4591-B607-E8BC646DA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BCBD-D063-472C-BC9C-CCCFCF4BE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D2D07-4EF4-4CA3-967F-B95A247194A1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BCDC0-2C35-4E02-829F-B089AE865879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FD66D-EA39-4B60-AFFB-854DEA343BB3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B9E13-0EE1-40DF-9D8C-719089DAAEFF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Литература 3 класс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Рисунок 3" descr="http://crazy.werd.ru/uploads/posts/2007-10-08/1191826847_image005.jpg"/>
          <p:cNvPicPr/>
          <p:nvPr/>
        </p:nvPicPr>
        <p:blipFill>
          <a:blip r:embed="rId2"/>
          <a:stretch/>
        </p:blipFill>
        <p:spPr>
          <a:xfrm>
            <a:off x="395280" y="549360"/>
            <a:ext cx="4537080" cy="5759280"/>
          </a:xfrm>
          <a:prstGeom prst="rect">
            <a:avLst/>
          </a:prstGeom>
          <a:ln w="0">
            <a:noFill/>
          </a:ln>
        </p:spPr>
      </p:pic>
      <p:sp>
        <p:nvSpPr>
          <p:cNvPr id="198" name="Прямоугольник 4"/>
          <p:cNvSpPr/>
          <p:nvPr/>
        </p:nvSpPr>
        <p:spPr>
          <a:xfrm>
            <a:off x="4932360" y="112536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Первый журнал для детей 5-6 лет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вышел в 1924 году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0" name="Содержимое 3" descr="http://s42.radikal.ru/i096/0906/04/bbb2555dcd81.jpg"/>
          <p:cNvPicPr/>
          <p:nvPr/>
        </p:nvPicPr>
        <p:blipFill>
          <a:blip r:embed="rId2"/>
          <a:stretch/>
        </p:blipFill>
        <p:spPr>
          <a:xfrm>
            <a:off x="395280" y="1052640"/>
            <a:ext cx="4176720" cy="52718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" descr="http://www.litsnab.ru/wp-content/uploads/2011/05/murzilka.jpg"/>
          <p:cNvPicPr/>
          <p:nvPr/>
        </p:nvPicPr>
        <p:blipFill>
          <a:blip r:embed="rId3"/>
          <a:stretch/>
        </p:blipFill>
        <p:spPr>
          <a:xfrm>
            <a:off x="4716360" y="1052640"/>
            <a:ext cx="4089600" cy="52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Содержимое 3" descr="http://www.zapostim.ru/uploads/posts/2011-06/1306968419_010.png"/>
          <p:cNvPicPr/>
          <p:nvPr/>
        </p:nvPicPr>
        <p:blipFill>
          <a:blip r:embed="rId2"/>
          <a:stretch/>
        </p:blipFill>
        <p:spPr>
          <a:xfrm>
            <a:off x="179280" y="1413000"/>
            <a:ext cx="4032360" cy="47498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" descr="http://www.murzilka.org/data/files/Image/news/Yrod/murz.jpg"/>
          <p:cNvPicPr/>
          <p:nvPr/>
        </p:nvPicPr>
        <p:blipFill>
          <a:blip r:embed="rId3"/>
          <a:stretch/>
        </p:blipFill>
        <p:spPr>
          <a:xfrm>
            <a:off x="4572000" y="1413000"/>
            <a:ext cx="419400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http://kirovskoe.dn.ua/uploads/posts/2010-03/1267395917_murzilka.jpg"/>
          <p:cNvPicPr/>
          <p:nvPr/>
        </p:nvPicPr>
        <p:blipFill>
          <a:blip r:embed="rId2"/>
          <a:stretch/>
        </p:blipFill>
        <p:spPr>
          <a:xfrm>
            <a:off x="0" y="0"/>
            <a:ext cx="6659640" cy="532764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3"/>
          <p:cNvSpPr/>
          <p:nvPr/>
        </p:nvSpPr>
        <p:spPr>
          <a:xfrm>
            <a:off x="1763640" y="5110920"/>
            <a:ext cx="615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В 2014 году любимому детскому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журналу исполнится 90 лет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http://ruby.wirkstoffgruppe.de/img/l/www.ljplus.ru/img/t/h/the_dancer/1_91.jpg"/>
          <p:cNvPicPr/>
          <p:nvPr/>
        </p:nvPicPr>
        <p:blipFill>
          <a:blip r:embed="rId2"/>
          <a:stretch/>
        </p:blipFill>
        <p:spPr>
          <a:xfrm>
            <a:off x="755640" y="836640"/>
            <a:ext cx="3422520" cy="50403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http://wikers.ru/upload/medialibrary/ec3/Tramvai_Cover_1990.jpg"/>
          <p:cNvPicPr/>
          <p:nvPr/>
        </p:nvPicPr>
        <p:blipFill>
          <a:blip r:embed="rId3"/>
          <a:stretch/>
        </p:blipFill>
        <p:spPr>
          <a:xfrm>
            <a:off x="4802040" y="836640"/>
            <a:ext cx="356868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http://gallery.forum-grad.ru/files/3/4/0/4/8/3ca0fbe752a2865dfae3be4a552a5e0a_full.jpg"/>
          <p:cNvPicPr/>
          <p:nvPr/>
        </p:nvPicPr>
        <p:blipFill>
          <a:blip r:embed="rId2"/>
          <a:stretch/>
        </p:blipFill>
        <p:spPr>
          <a:xfrm>
            <a:off x="611280" y="907920"/>
            <a:ext cx="3816360" cy="51850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http://papavlad.ucoz.ru/_ld/1/93383947.jpg"/>
          <p:cNvPicPr/>
          <p:nvPr/>
        </p:nvPicPr>
        <p:blipFill>
          <a:blip r:embed="rId3"/>
          <a:stretch/>
        </p:blipFill>
        <p:spPr>
          <a:xfrm>
            <a:off x="5003640" y="907920"/>
            <a:ext cx="362124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http://skyclipart.ru/uploads/posts/2010-04/1272541797_all.jpg"/>
          <p:cNvPicPr/>
          <p:nvPr/>
        </p:nvPicPr>
        <p:blipFill>
          <a:blip r:embed="rId1"/>
          <a:stretch/>
        </p:blipFill>
        <p:spPr>
          <a:xfrm>
            <a:off x="468360" y="1125360"/>
            <a:ext cx="3746520" cy="51120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http://pics.kz/s3/2a/81/84/3f/2a81843f3d3cab91b2ce44ed9b322d5a.jpg"/>
          <p:cNvPicPr/>
          <p:nvPr/>
        </p:nvPicPr>
        <p:blipFill>
          <a:blip r:embed="rId2"/>
          <a:stretch/>
        </p:blipFill>
        <p:spPr>
          <a:xfrm>
            <a:off x="5003640" y="1052640"/>
            <a:ext cx="3430800" cy="50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1T17:16:23Z</dcterms:created>
  <dc:creator>Наталия</dc:creator>
  <dc:description/>
  <dc:language>en-US</dc:language>
  <cp:lastModifiedBy>Наталия</cp:lastModifiedBy>
  <dcterms:modified xsi:type="dcterms:W3CDTF">2013-04-21T17:47:05Z</dcterms:modified>
  <cp:revision>4</cp:revision>
  <dc:subject/>
  <dc:title>Детские журналы</dc:title>
</cp:coreProperties>
</file>