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387-70B7-45BF-B564-FFF30C1E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2FF-21C6-4549-87B3-5E2A10E2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73E-F208-4DFB-B6F5-DE3C32BF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05C-E0CD-4207-B80F-9BB7AE85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5AAC-6162-4663-A250-FBC9DEAC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D79D-F93E-4F97-9FC7-27CB9F03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58E4-F03E-4C67-A27D-E0169BD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BD37-EC20-4147-882E-C16A63B2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465D-BDF0-49FA-B32B-5EFB8BBD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E7C8-A70A-46B5-836C-1476DA3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1277-B9EF-47A9-913B-E1E4CAE6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004-5F2B-419D-8CF5-78A8CD5A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7B69-3F28-404A-8B8B-E6673FA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8EBA-1AC8-420A-9FE7-F3E045E6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18D-6DB6-4A17-B60A-04C4FCE4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30C7-85F3-4D92-A9EE-6631CB5C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13C-C1A0-4E93-9F68-D408DFAF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9A3C-1400-49D2-B0B0-B7D2E8FA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A251-D23F-4E92-85A6-B17ACFD8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4888-E2F4-4387-8345-2E1D56BA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CC75-DBE4-4B70-BA85-93B8C318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44E1-9473-4D5E-AE7B-A64058AA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EB8-71BF-4BD7-A49B-1D68E204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AB54-D312-45AC-BA43-73E639AD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D1265-63B6-4726-A284-4D1E2089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6B23-D246-4F3A-A2C6-0EDC8FA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E68C4-1DF4-40C3-8460-1E23A71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EC36-4929-4877-B4C2-22469AE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797A-1DFB-4712-92C7-F9DF1968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119F-7DDF-4CEA-ADF5-8B81FE47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AD31A-110A-4F87-93A0-6CEEC0A9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AF1B-4D1B-490B-8F8A-3652B63E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0377-FB94-4261-BC25-EB71E0E9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FE2-6E49-4358-A9B7-A50444DD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B486-5658-41CB-A954-B4A34989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E8B45-2CFC-4B6D-9E09-EE082A15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8287-4C56-4497-B1C5-3FB965C4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7E53-D4D0-4401-991D-FA1056F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2F1B-BFA9-40C9-84D4-CF056E47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3BFF-2463-4380-8C51-71509A97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4CA1-8AAD-4812-BA61-F93BA8F2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D0302-040C-451B-863E-BF11B42B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8992-3B28-44FD-BE74-133714BA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A55-E333-42CE-9731-D1E46AC9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6E8-D099-4648-9CE8-CD6B51E2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986-D2E8-43CB-AE12-36B8E7B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E51-C891-4F7C-A387-5795DC3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DD3-8B34-4EF6-82F0-B10D3EFA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EB3F-A599-4D89-BB9F-27923E2BEE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AF77-8728-4253-8574-089764DE053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44F8-6FBC-404C-A380-944B78D7FAC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A33-0314-45AF-96BA-4A469D1A76B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тература 3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3" descr="http://crazy.werd.ru/uploads/posts/2007-10-08/1191826847_image005.jpg"/>
          <p:cNvPicPr/>
          <p:nvPr/>
        </p:nvPicPr>
        <p:blipFill>
          <a:blip r:embed="rId2"/>
          <a:stretch/>
        </p:blipFill>
        <p:spPr>
          <a:xfrm>
            <a:off x="395280" y="549360"/>
            <a:ext cx="4537080" cy="57592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4932360" y="11253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рвый журнал для детей 5-6 ле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ышел в 1924 год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3" descr="http://s42.radikal.ru/i096/0906/04/bbb2555dcd81.jpg"/>
          <p:cNvPicPr/>
          <p:nvPr/>
        </p:nvPicPr>
        <p:blipFill>
          <a:blip r:embed="rId2"/>
          <a:stretch/>
        </p:blipFill>
        <p:spPr>
          <a:xfrm>
            <a:off x="395280" y="1052640"/>
            <a:ext cx="4176720" cy="5271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www.litsnab.ru/wp-content/uploads/2011/05/murzilka.jpg"/>
          <p:cNvPicPr/>
          <p:nvPr/>
        </p:nvPicPr>
        <p:blipFill>
          <a:blip r:embed="rId3"/>
          <a:stretch/>
        </p:blipFill>
        <p:spPr>
          <a:xfrm>
            <a:off x="4716360" y="1052640"/>
            <a:ext cx="40896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одержимое 3" descr="http://www.zapostim.ru/uploads/posts/2011-06/1306968419_010.png"/>
          <p:cNvPicPr/>
          <p:nvPr/>
        </p:nvPicPr>
        <p:blipFill>
          <a:blip r:embed="rId2"/>
          <a:stretch/>
        </p:blipFill>
        <p:spPr>
          <a:xfrm>
            <a:off x="179280" y="1413000"/>
            <a:ext cx="4032360" cy="4749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www.murzilka.org/data/files/Image/news/Yrod/murz.jpg"/>
          <p:cNvPicPr/>
          <p:nvPr/>
        </p:nvPicPr>
        <p:blipFill>
          <a:blip r:embed="rId3"/>
          <a:stretch/>
        </p:blipFill>
        <p:spPr>
          <a:xfrm>
            <a:off x="4572000" y="1413000"/>
            <a:ext cx="4194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kirovskoe.dn.ua/uploads/posts/2010-03/1267395917_murzilka.jpg"/>
          <p:cNvPicPr/>
          <p:nvPr/>
        </p:nvPicPr>
        <p:blipFill>
          <a:blip r:embed="rId2"/>
          <a:stretch/>
        </p:blipFill>
        <p:spPr>
          <a:xfrm>
            <a:off x="0" y="0"/>
            <a:ext cx="6659640" cy="5327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1763640" y="5110920"/>
            <a:ext cx="61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 2014 году любимому детскому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журналу исполнится 90 л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ruby.wirkstoffgruppe.de/img/l/www.ljplus.ru/img/t/h/the_dancer/1_91.jpg"/>
          <p:cNvPicPr/>
          <p:nvPr/>
        </p:nvPicPr>
        <p:blipFill>
          <a:blip r:embed="rId2"/>
          <a:stretch/>
        </p:blipFill>
        <p:spPr>
          <a:xfrm>
            <a:off x="755640" y="836640"/>
            <a:ext cx="3422520" cy="504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http://wikers.ru/upload/medialibrary/ec3/Tramvai_Cover_1990.jpg"/>
          <p:cNvPicPr/>
          <p:nvPr/>
        </p:nvPicPr>
        <p:blipFill>
          <a:blip r:embed="rId3"/>
          <a:stretch/>
        </p:blipFill>
        <p:spPr>
          <a:xfrm>
            <a:off x="4802040" y="836640"/>
            <a:ext cx="356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gallery.forum-grad.ru/files/3/4/0/4/8/3ca0fbe752a2865dfae3be4a552a5e0a_full.jpg"/>
          <p:cNvPicPr/>
          <p:nvPr/>
        </p:nvPicPr>
        <p:blipFill>
          <a:blip r:embed="rId2"/>
          <a:stretch/>
        </p:blipFill>
        <p:spPr>
          <a:xfrm>
            <a:off x="611280" y="907920"/>
            <a:ext cx="3816360" cy="518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papavlad.ucoz.ru/_ld/1/93383947.jpg"/>
          <p:cNvPicPr/>
          <p:nvPr/>
        </p:nvPicPr>
        <p:blipFill>
          <a:blip r:embed="rId3"/>
          <a:stretch/>
        </p:blipFill>
        <p:spPr>
          <a:xfrm>
            <a:off x="5003640" y="907920"/>
            <a:ext cx="36212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ttp://skyclipart.ru/uploads/posts/2010-04/1272541797_all.jpg"/>
          <p:cNvPicPr/>
          <p:nvPr/>
        </p:nvPicPr>
        <p:blipFill>
          <a:blip r:embed="rId1"/>
          <a:stretch/>
        </p:blipFill>
        <p:spPr>
          <a:xfrm>
            <a:off x="468360" y="1125360"/>
            <a:ext cx="3746520" cy="511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pics.kz/s3/2a/81/84/3f/2a81843f3d3cab91b2ce44ed9b322d5a.jpg"/>
          <p:cNvPicPr/>
          <p:nvPr/>
        </p:nvPicPr>
        <p:blipFill>
          <a:blip r:embed="rId2"/>
          <a:stretch/>
        </p:blipFill>
        <p:spPr>
          <a:xfrm>
            <a:off x="5003640" y="1052640"/>
            <a:ext cx="34308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7:16:23Z</dcterms:created>
  <dc:creator>Наталия</dc:creator>
  <dc:description/>
  <dc:language>en-US</dc:language>
  <cp:lastModifiedBy>Наталия</cp:lastModifiedBy>
  <dcterms:modified xsi:type="dcterms:W3CDTF">2013-04-21T17:47:05Z</dcterms:modified>
  <cp:revision>4</cp:revision>
  <dc:subject/>
  <dc:title>Детские журналы</dc:title>
</cp:coreProperties>
</file>