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A147-F1CD-4712-8626-3C194C64AA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4854-FECE-4E14-BE7E-6A9BE003D0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474-E35D-4E90-ABA9-39D356A5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AB5-07AD-4FB0-A3AA-AA2F49B7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210-02A2-4D21-88E4-8B52C730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777-3B69-4A92-9891-5A2FAA27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419-1814-45E7-A087-91EFF9A9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7C6-5206-43DB-BF22-A1B4AA7B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80F-74BC-4F73-B7E7-6E3C767B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2BE-4819-4604-A766-7F0D299A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CAE-8D7A-4461-8944-6B81EB0E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949-F550-4C3F-9CA7-F905C25B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CA3-1B9B-43E9-8958-38E3F76A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593-0F93-467F-AB79-B63FDF8E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F31E-2762-4F1B-9790-86302E3AF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858960" y="573120"/>
            <a:ext cx="54259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Типы уроков по способу использования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1222200"/>
            <a:ext cx="9144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Georgia"/>
                <a:ea typeface="Times New Roman"/>
              </a:rPr>
              <a:t>Уроки, на которых компьютер используется в демонстрационном режиме – один компьютер на учительском столе + проектор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Georgia"/>
                <a:ea typeface="Times New Roman"/>
              </a:rPr>
              <a:t>Уроки, на которых компьютер используется в индивидуальном режиме – урок в компьютерном классе без выхода в Интернет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Georgia"/>
                <a:ea typeface="Times New Roman"/>
              </a:rPr>
              <a:t>Уроки, на которых компьютер используется в индивидуальном дистанционном режиме – урок в компьютерном классе с выходом в Интерне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0" y="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632523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  <a:ea typeface="Times New Roman"/>
              </a:rPr>
              <a:t>1Демонстрация на уроке материалов: карт, иллюстраций ландшафтов, географических объектов, фильмов из источников не доступных всем уче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Documents and Settings\Александр\Local Settings\Temporary Internet Files\Content.IE5\G5UV4DUB\MC900426396[1].wmf"/>
          <p:cNvPicPr/>
          <p:nvPr/>
        </p:nvPicPr>
        <p:blipFill>
          <a:blip r:embed="rId2"/>
          <a:stretch/>
        </p:blipFill>
        <p:spPr>
          <a:xfrm>
            <a:off x="928800" y="1700280"/>
            <a:ext cx="79390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14200" y="214200"/>
            <a:ext cx="871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53735"/>
                </a:solidFill>
                <a:latin typeface="Georgia"/>
              </a:rPr>
              <a:t>I</a:t>
            </a:r>
            <a:r>
              <a:rPr b="1" i="1" lang="ru-RU" sz="2800" spc="-1" strike="noStrike">
                <a:solidFill>
                  <a:srgbClr val="953735"/>
                </a:solidFill>
                <a:latin typeface="Georgia"/>
              </a:rPr>
              <a:t>.3 На одном экране можно компоновать различную информацию, сопоставляя явления и процессы в наглядной демонс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212760" y="500040"/>
            <a:ext cx="87915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71680" y="214200"/>
            <a:ext cx="8215200" cy="48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Georgia"/>
              </a:rPr>
              <a:t>Образовательная: систематизировать знания учащихся по теме «Климат Росс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Georgia"/>
              </a:rPr>
              <a:t>Развивающая: развивать умение сравнивать, анализировать, прогнозировать географические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Georgia"/>
              </a:rPr>
              <a:t>Воспитательная: воспитание чувств через использование поэтических и музыкальных образов</a:t>
            </a:r>
            <a:r>
              <a:rPr b="1" i="1" lang="ru-RU" sz="2800" spc="-1" strike="noStrike">
                <a:solidFill>
                  <a:srgbClr val="a50021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0" y="21420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Georgia"/>
              </a:rPr>
              <a:t>Этапы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Georgia"/>
              </a:rPr>
              <a:t>-</a:t>
            </a: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оргмомент(проверка готовности класса к уроку, целеполагание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-обобщение зна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-выво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6" descr=""/>
          <p:cNvPicPr/>
          <p:nvPr/>
        </p:nvPicPr>
        <p:blipFill>
          <a:blip r:embed="rId2"/>
          <a:stretch/>
        </p:blipFill>
        <p:spPr>
          <a:xfrm>
            <a:off x="285840" y="426960"/>
            <a:ext cx="885816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14200" y="214200"/>
            <a:ext cx="89298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Georgia"/>
              </a:rPr>
              <a:t>Цель работы над те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  <a:ea typeface="Gautami"/>
              </a:rPr>
              <a:t>Повышение мотивации учащихся к обучению географии посредством осуществления личностно – ориентированного подхода и применение инновационных технологий как условие формирования творчески мысляще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0" y="142920"/>
            <a:ext cx="90010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Georgia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изучение и анализ научной литературы по данной пробл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участие в работе МО учителей географ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самоанализ и самооценка собственных ур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применения методик для диагностической оценки уровня качества знаний учащихся по географ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обобщение опыта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1"/>
          <p:cNvSpPr/>
          <p:nvPr/>
        </p:nvSpPr>
        <p:spPr>
          <a:xfrm>
            <a:off x="1166760" y="214200"/>
            <a:ext cx="714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Georgia"/>
              </a:rPr>
              <a:t>Информационные техн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21600"/>
            <a:ext cx="892980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  <a:ea typeface="Times New Roman"/>
              </a:rPr>
              <a:t>Компьютерные технологии обучения -  это процессы сбора переработки хранения  и передачи информации обучаемому  посредством компьютера. К настоящему времени наибольшее распространение получили такие технологические направления в которых компьютер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2"/>
          <a:stretch/>
        </p:blipFill>
        <p:spPr>
          <a:xfrm>
            <a:off x="-92160" y="0"/>
            <a:ext cx="8950320" cy="72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-152280" y="139680"/>
            <a:ext cx="9656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2185920" y="2357280"/>
            <a:ext cx="49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Georgia"/>
              </a:rPr>
              <a:t>Компьютер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Стрелка влево 15"/>
          <p:cNvGrpSpPr/>
          <p:nvPr/>
        </p:nvGrpSpPr>
        <p:grpSpPr>
          <a:xfrm>
            <a:off x="6340320" y="1768320"/>
            <a:ext cx="614520" cy="809640"/>
            <a:chOff x="6340320" y="1768320"/>
            <a:chExt cx="614520" cy="809640"/>
          </a:xfrm>
        </p:grpSpPr>
        <p:pic>
          <p:nvPicPr>
            <p:cNvPr id="59" name="Стрелка влево 15" descr=""/>
            <p:cNvPicPr/>
            <p:nvPr/>
          </p:nvPicPr>
          <p:blipFill>
            <a:blip r:embed="rId2"/>
            <a:stretch/>
          </p:blipFill>
          <p:spPr>
            <a:xfrm>
              <a:off x="6340320" y="1768320"/>
              <a:ext cx="6145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7018800">
              <a:off x="6326640" y="2117880"/>
              <a:ext cx="606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Стрелка влево 18"/>
          <p:cNvGrpSpPr/>
          <p:nvPr/>
        </p:nvGrpSpPr>
        <p:grpSpPr>
          <a:xfrm>
            <a:off x="2487600" y="1627200"/>
            <a:ext cx="627120" cy="798480"/>
            <a:chOff x="2487600" y="1627200"/>
            <a:chExt cx="627120" cy="798480"/>
          </a:xfrm>
        </p:grpSpPr>
        <p:pic>
          <p:nvPicPr>
            <p:cNvPr id="62" name="Стрелка влево 18" descr=""/>
            <p:cNvPicPr/>
            <p:nvPr/>
          </p:nvPicPr>
          <p:blipFill>
            <a:blip r:embed="rId3"/>
            <a:stretch/>
          </p:blipFill>
          <p:spPr>
            <a:xfrm>
              <a:off x="2487600" y="1627200"/>
              <a:ext cx="6271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 rot="3658800">
              <a:off x="2512440" y="1973160"/>
              <a:ext cx="6080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Стрелка влево 19"/>
          <p:cNvGrpSpPr/>
          <p:nvPr/>
        </p:nvGrpSpPr>
        <p:grpSpPr>
          <a:xfrm>
            <a:off x="4591080" y="1255680"/>
            <a:ext cx="407880" cy="792360"/>
            <a:chOff x="4591080" y="1255680"/>
            <a:chExt cx="407880" cy="792360"/>
          </a:xfrm>
        </p:grpSpPr>
        <p:pic>
          <p:nvPicPr>
            <p:cNvPr id="65" name="Стрелка влево 19" descr=""/>
            <p:cNvPicPr/>
            <p:nvPr/>
          </p:nvPicPr>
          <p:blipFill>
            <a:blip r:embed="rId4"/>
            <a:stretch/>
          </p:blipFill>
          <p:spPr>
            <a:xfrm>
              <a:off x="4591080" y="1255680"/>
              <a:ext cx="4078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5400000">
              <a:off x="4491360" y="1588320"/>
              <a:ext cx="608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Прямоугольник 20"/>
          <p:cNvSpPr/>
          <p:nvPr/>
        </p:nvSpPr>
        <p:spPr>
          <a:xfrm>
            <a:off x="214200" y="71424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Georgia"/>
              </a:rPr>
              <a:t>Мультимедиа – учеб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1"/>
          <p:cNvSpPr/>
          <p:nvPr/>
        </p:nvSpPr>
        <p:spPr>
          <a:xfrm>
            <a:off x="4111560" y="6429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Georgia"/>
              </a:rPr>
              <a:t>Учеб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2"/>
          <p:cNvSpPr/>
          <p:nvPr/>
        </p:nvSpPr>
        <p:spPr>
          <a:xfrm>
            <a:off x="6643800" y="3857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Georgia"/>
              </a:rPr>
              <a:t>Справоч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Georgia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Стрелка влево 23"/>
          <p:cNvGrpSpPr/>
          <p:nvPr/>
        </p:nvGrpSpPr>
        <p:grpSpPr>
          <a:xfrm>
            <a:off x="4591080" y="3968640"/>
            <a:ext cx="407880" cy="792360"/>
            <a:chOff x="4591080" y="3968640"/>
            <a:chExt cx="407880" cy="792360"/>
          </a:xfrm>
        </p:grpSpPr>
        <p:pic>
          <p:nvPicPr>
            <p:cNvPr id="71" name="Стрелка влево 23" descr=""/>
            <p:cNvPicPr/>
            <p:nvPr/>
          </p:nvPicPr>
          <p:blipFill>
            <a:blip r:embed="rId5"/>
            <a:stretch/>
          </p:blipFill>
          <p:spPr>
            <a:xfrm>
              <a:off x="4591080" y="3968640"/>
              <a:ext cx="4078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16200000">
              <a:off x="4491720" y="4226400"/>
              <a:ext cx="608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Стрелка влево 24"/>
          <p:cNvGrpSpPr/>
          <p:nvPr/>
        </p:nvGrpSpPr>
        <p:grpSpPr>
          <a:xfrm>
            <a:off x="6126120" y="3554280"/>
            <a:ext cx="731880" cy="731880"/>
            <a:chOff x="6126120" y="3554280"/>
            <a:chExt cx="731880" cy="731880"/>
          </a:xfrm>
        </p:grpSpPr>
        <p:pic>
          <p:nvPicPr>
            <p:cNvPr id="74" name="Стрелка влево 24" descr=""/>
            <p:cNvPicPr/>
            <p:nvPr/>
          </p:nvPicPr>
          <p:blipFill>
            <a:blip r:embed="rId6"/>
            <a:stretch/>
          </p:blipFill>
          <p:spPr>
            <a:xfrm>
              <a:off x="6126120" y="3554280"/>
              <a:ext cx="731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rot="13480800">
              <a:off x="6162840" y="3817440"/>
              <a:ext cx="606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Стрелка влево 25"/>
          <p:cNvGrpSpPr/>
          <p:nvPr/>
        </p:nvGrpSpPr>
        <p:grpSpPr>
          <a:xfrm>
            <a:off x="2487600" y="3413160"/>
            <a:ext cx="693720" cy="750960"/>
            <a:chOff x="2487600" y="3413160"/>
            <a:chExt cx="693720" cy="750960"/>
          </a:xfrm>
        </p:grpSpPr>
        <p:pic>
          <p:nvPicPr>
            <p:cNvPr id="77" name="Стрелка влево 25" descr=""/>
            <p:cNvPicPr/>
            <p:nvPr/>
          </p:nvPicPr>
          <p:blipFill>
            <a:blip r:embed="rId7"/>
            <a:stretch/>
          </p:blipFill>
          <p:spPr>
            <a:xfrm>
              <a:off x="2487600" y="3413160"/>
              <a:ext cx="6937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rot="18529200">
              <a:off x="2552400" y="3683880"/>
              <a:ext cx="606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Прямоугольник 26"/>
          <p:cNvSpPr/>
          <p:nvPr/>
        </p:nvSpPr>
        <p:spPr>
          <a:xfrm>
            <a:off x="3528000" y="478620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Georgia"/>
              </a:rPr>
              <a:t>Тренажё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7"/>
          <p:cNvSpPr/>
          <p:nvPr/>
        </p:nvSpPr>
        <p:spPr>
          <a:xfrm>
            <a:off x="357120" y="3929040"/>
            <a:ext cx="25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Georgia"/>
              </a:rPr>
              <a:t>Контролир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8"/>
          <p:cNvSpPr/>
          <p:nvPr/>
        </p:nvSpPr>
        <p:spPr>
          <a:xfrm>
            <a:off x="6357960" y="78588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Georgia"/>
              </a:rPr>
              <a:t>Демонстр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Методические особенности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0" y="10000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репродуктивные: следуй за мной, делай, как 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интерактивные: движение к истине через размышление ученика, отвечающего на вопросы учи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развивающие: преподаватель определяет цель и средства познания, ученик сам избирает пути и способы, которые ведут к ц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Georgia"/>
              </a:rPr>
              <a:t>парадигмы саморазвития: свободное путешествие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5:20:38Z</dcterms:created>
  <dc:creator>Alex</dc:creator>
  <dc:description/>
  <dc:language>en-US</dc:language>
  <cp:lastModifiedBy>Учитель1</cp:lastModifiedBy>
  <dcterms:modified xsi:type="dcterms:W3CDTF">2017-06-06T14:29:53Z</dcterms:modified>
  <cp:revision>112</cp:revision>
  <dc:subject/>
  <dc:title>Слайд 1</dc:title>
</cp:coreProperties>
</file>