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B0ED-D746-4BCF-9585-4230477EFD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821A-8B46-4F02-B4BC-926DA39EA8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D2B-73D0-4573-ACBC-8627CB72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CB7A-6721-4248-9D72-97A874ED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535-DAC7-47E5-BFEE-0FB384C2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8D0B-50AE-491D-8A81-AC95C61D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AB7F-0B9B-4E74-8380-FCA578EA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5E3-BD53-4BB6-8A5D-748AE541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A3F1-D0B2-4A80-85ED-49F0045A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BD1-1627-4857-8A5D-966F879C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2C3-2E3E-4E85-BF13-24895517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6A9E-B1F1-4AED-AD75-CC23A5FC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895D-2650-47EB-BAF4-17CAAE7A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74F-3C67-454F-8B5D-7BB4A4F7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2BDF-7C25-418C-9D5F-D7AD706B72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 в числ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90960" y="4876560"/>
            <a:ext cx="33526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4-А кл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школы № 4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армон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ляров Дени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т-Петербур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 16 мая 1703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е в 2016 году сост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225 690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занимает площадь 1439 к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яженность Невы 32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рек и протоков -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ов – свыше 58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зеев-200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нкт-Петербург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0_85b2a_b2a40229_XXXL"/>
          <p:cNvPicPr/>
          <p:nvPr/>
        </p:nvPicPr>
        <p:blipFill>
          <a:blip r:embed="rId1"/>
          <a:stretch/>
        </p:blipFill>
        <p:spPr>
          <a:xfrm>
            <a:off x="1219320" y="2362320"/>
            <a:ext cx="693396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ков:  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%D0%9F%D0%B5%D1%82%D0%B5%D1%80%D0%B3%D0%BE%D1%84%202"/>
          <p:cNvPicPr/>
          <p:nvPr/>
        </p:nvPicPr>
        <p:blipFill>
          <a:blip r:embed="rId1"/>
          <a:stretch/>
        </p:blipFill>
        <p:spPr>
          <a:xfrm>
            <a:off x="304920" y="1600200"/>
            <a:ext cx="4343400" cy="4648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45ca1747315731a7ff061e51e102dac7"/>
          <p:cNvPicPr/>
          <p:nvPr/>
        </p:nvPicPr>
        <p:blipFill>
          <a:blip r:embed="rId2"/>
          <a:stretch/>
        </p:blipFill>
        <p:spPr>
          <a:xfrm>
            <a:off x="4724280" y="160020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letniy_sad"/>
          <p:cNvPicPr/>
          <p:nvPr/>
        </p:nvPicPr>
        <p:blipFill>
          <a:blip r:embed="rId3"/>
          <a:stretch/>
        </p:blipFill>
        <p:spPr>
          <a:xfrm>
            <a:off x="4724280" y="3886200"/>
            <a:ext cx="40388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танов:   92 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6002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21625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42376959_1239455686_19"/>
          <p:cNvPicPr/>
          <p:nvPr/>
        </p:nvPicPr>
        <p:blipFill>
          <a:blip r:embed="rId2"/>
          <a:stretch/>
        </p:blipFill>
        <p:spPr>
          <a:xfrm>
            <a:off x="4648320" y="3886200"/>
            <a:ext cx="403848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312543_69"/>
          <p:cNvPicPr/>
          <p:nvPr/>
        </p:nvPicPr>
        <p:blipFill>
          <a:blip r:embed="rId3"/>
          <a:stretch/>
        </p:blipFill>
        <p:spPr>
          <a:xfrm>
            <a:off x="380880" y="1600200"/>
            <a:ext cx="411480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ов: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origin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209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1"/>
          <p:cNvPicPr/>
          <p:nvPr/>
        </p:nvPicPr>
        <p:blipFill>
          <a:blip r:embed="rId2"/>
          <a:stretch/>
        </p:blipFill>
        <p:spPr>
          <a:xfrm>
            <a:off x="4648320" y="3962520"/>
            <a:ext cx="4038480" cy="2151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87281475"/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2209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3886200"/>
            <a:ext cx="403848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malyy_dramaticheskiy_teatr"/>
          <p:cNvPicPr/>
          <p:nvPr/>
        </p:nvPicPr>
        <p:blipFill>
          <a:blip r:embed="rId4"/>
          <a:stretch/>
        </p:blipFill>
        <p:spPr>
          <a:xfrm>
            <a:off x="457200" y="3886200"/>
            <a:ext cx="40384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зеев: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hello_html_1b7f1df7"/>
          <p:cNvPicPr/>
          <p:nvPr/>
        </p:nvPicPr>
        <p:blipFill>
          <a:blip r:embed="rId1"/>
          <a:stretch/>
        </p:blipFill>
        <p:spPr>
          <a:xfrm>
            <a:off x="457200" y="1600200"/>
            <a:ext cx="4343400" cy="4524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3352739"/>
          <p:cNvPicPr/>
          <p:nvPr/>
        </p:nvPicPr>
        <p:blipFill>
          <a:blip r:embed="rId2"/>
          <a:stretch/>
        </p:blipFill>
        <p:spPr>
          <a:xfrm>
            <a:off x="5029200" y="1600200"/>
            <a:ext cx="3924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Санкт-Петербурге 100 театров. Музеев в 2 раза больше, чем театров, а парков на 27 меньше, чем театр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Санкт-Петербурге парков, театров и музеев вмес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100*2=200(шт) - муз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100-27=73(шт) - пар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100+200+73=373 (ш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в Санкт-Петербурге 373 парка, театров и музеев в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на В. Звягина</cp:lastModifiedBy>
  <dcterms:modified xsi:type="dcterms:W3CDTF">2017-06-08T10:13:4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