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16B-4EE2-4A02-AA16-CD93F6B61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5F5-77EA-45AE-9FF5-86AE9EF13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FD9-8115-47C2-AAEC-98FB916F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8DB-21D7-487B-86FB-1E95E0C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E5F-BD0F-470E-97DA-49D48A0D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632-2BB6-44B5-A82E-A8502EEC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737-7B18-43F7-9A1E-AA6FAE5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0DD-7D98-402C-B0AC-5283315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8C9-26DB-4D17-8AD7-BB9B9612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98E-DB95-4674-9C5E-1919279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FD8-6A09-44E4-B854-48F3DBD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FAB-A5E7-4FE1-AFF6-3AE3B01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C6F-885A-4124-B794-3032DB4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D5E-B4F9-485E-9E5B-659CA58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A6E-DD4D-4AF3-A6D5-A76A61278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в чис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90960" y="4876560"/>
            <a:ext cx="33526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4-А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№ 4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мо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яров Ден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т-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16 мая 1703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в 2016 году со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225 69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занимает площадь 1439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женность Невы 32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рек и протоков 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ов – свыше 5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ев-200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_85b2a_b2a40229_XXXL"/>
          <p:cNvPicPr/>
          <p:nvPr/>
        </p:nvPicPr>
        <p:blipFill>
          <a:blip r:embed="rId1"/>
          <a:stretch/>
        </p:blipFill>
        <p:spPr>
          <a:xfrm>
            <a:off x="1219320" y="2362320"/>
            <a:ext cx="6933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ов: 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%D0%9F%D0%B5%D1%82%D0%B5%D1%80%D0%B3%D0%BE%D1%84%202"/>
          <p:cNvPicPr/>
          <p:nvPr/>
        </p:nvPicPr>
        <p:blipFill>
          <a:blip r:embed="rId1"/>
          <a:stretch/>
        </p:blipFill>
        <p:spPr>
          <a:xfrm>
            <a:off x="304920" y="16002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45ca1747315731a7ff061e51e102dac7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letniy_sad"/>
          <p:cNvPicPr/>
          <p:nvPr/>
        </p:nvPicPr>
        <p:blipFill>
          <a:blip r:embed="rId3"/>
          <a:stretch/>
        </p:blipFill>
        <p:spPr>
          <a:xfrm>
            <a:off x="4724280" y="3886200"/>
            <a:ext cx="4038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ов:   92 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1625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42376959_1239455686_19"/>
          <p:cNvPicPr/>
          <p:nvPr/>
        </p:nvPicPr>
        <p:blipFill>
          <a:blip r:embed="rId2"/>
          <a:stretch/>
        </p:blipFill>
        <p:spPr>
          <a:xfrm>
            <a:off x="4648320" y="3886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312543_69"/>
          <p:cNvPicPr/>
          <p:nvPr/>
        </p:nvPicPr>
        <p:blipFill>
          <a:blip r:embed="rId3"/>
          <a:stretch/>
        </p:blipFill>
        <p:spPr>
          <a:xfrm>
            <a:off x="380880" y="1600200"/>
            <a:ext cx="4114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ов: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origin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15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87281475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3886200"/>
            <a:ext cx="4038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malyy_dramaticheskiy_teatr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еев: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ello_html_1b7f1df7"/>
          <p:cNvPicPr/>
          <p:nvPr/>
        </p:nvPicPr>
        <p:blipFill>
          <a:blip r:embed="rId1"/>
          <a:stretch/>
        </p:blipFill>
        <p:spPr>
          <a:xfrm>
            <a:off x="457200" y="1600200"/>
            <a:ext cx="4343400" cy="452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3352739"/>
          <p:cNvPicPr/>
          <p:nvPr/>
        </p:nvPicPr>
        <p:blipFill>
          <a:blip r:embed="rId2"/>
          <a:stretch/>
        </p:blipFill>
        <p:spPr>
          <a:xfrm>
            <a:off x="5029200" y="1600200"/>
            <a:ext cx="392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Санкт-Петербурге 100 театров. Музеев в 2 раза больше, чем театров, а парков на 27 меньше, чем теат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Санкт-Петербурге парков, театров и музеев вме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00*2=200(шт) - муз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00-27=73(шт) - пар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0+200+73=373 (ш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в Санкт-Петербурге 373 парка, театров и музе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В. Звягина</cp:lastModifiedBy>
  <dcterms:modified xsi:type="dcterms:W3CDTF">2017-06-08T10:13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