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9B6-3681-4AFA-8B78-C85E6F8C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B19-2D8A-4F12-9F4A-75B247F6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F4D32-8EEE-40EC-972F-ECF995E8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DD522-0ACB-4805-B454-6024E527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BBBEF-D744-4D89-BB63-E6DAB2C2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11DFE-5F19-4410-94B9-7FAE59ED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BE6D8-373A-4DCD-A66F-6CE2458B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C6DA7-6F3C-4823-90AB-9AE7CCCB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EC4FB-E971-4DF6-9064-93AAEE20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B27C1-DC7D-4491-B4E3-8D0C099A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528BE-4573-47B6-9C57-A1403D79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88B65-9161-4ACF-8F1F-F1711EAD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1C9-0ED2-47B7-AD58-A7463808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8023E-B79E-4495-ADEB-CCCE2C6B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B45B9-B87C-4219-89E6-4C868AD4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FDC87-0DD4-45A7-A59A-50D468CF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28356-71F0-43C6-AB9A-E2DCE35D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AD323-DC35-4B24-8437-04A39B6D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8E9F0-6EFD-43A5-8CA7-80700E30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2DDA8-CB1F-4DD1-B2FD-BFB11CD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EC0E1-2B32-449B-9625-BDE3E6E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787C5-4B0A-463D-BF02-445E1B50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B6DDE-1AEB-4EDA-8107-9501889D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560-46F1-45DD-9505-D92DFE2F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AE7B3-80A4-4C49-AB97-738D65B8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321CA-2E60-4675-93C0-81156391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8A425-9945-4BFE-BDAB-31A4AAD7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D698A-0EE0-4EE5-9F6A-72CC2830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631EC-D058-41A4-B15B-60B36520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C68CE-7B63-49EC-B7B4-8C914D2E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7FDF0-BD55-446E-A6CD-64168030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2AC9C-39C1-4ABD-AA3D-5AA028E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99250-A2D4-40C7-B2A4-046BCB43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92B97-775C-4570-BB01-CD83F8CE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21B-64FB-490E-9B9F-90A93449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75E77-6807-49A6-95D6-0909E849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70D62-7888-4CE2-9063-B4AA0B40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97661-ACBB-4D1A-B716-2D3711F9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1746E-B62F-48A0-82B5-7CE75D25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D133A-A7AD-4D95-A429-916AED56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07F6D-C720-4F13-8550-F39EC10A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85836-C924-4026-9B69-26AF74CF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6AD54-2525-4873-AFD9-9E4C2AD0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47023-AE9C-4DB4-B3D4-CE553C8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65487-079D-4E5D-AB8A-B55F16F2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B750-E262-4B1E-8558-720753D5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5C093-A6D9-40C5-B92F-9B3B14B6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C848A-5CF0-4EB7-AD2A-61E03CB5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D1B0D-536D-4DDC-8678-F58A6320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A40C4-E6C7-472D-AB2D-34C15710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C4CCC-FD81-4714-BB84-6CFC1ED2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CF457-DE43-48FA-978E-E5405BB7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984EA-448B-4906-876F-37133D72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BE32A-8123-4576-B377-838CD8C8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F5D55-EFC1-4AFF-861F-48F34997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18427-3BA3-45AE-A28C-AF98D509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643A-1A31-439E-94A7-D9DF95DF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85676-47F5-435B-93D4-790D7534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024CF-018A-4782-B0EE-3141D3F1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0A75C-C9B8-4357-9FE3-48538226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4F65C-F3EA-45B3-999E-15A79BF8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18AA6-05F0-4564-ACD4-4073426F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F2A29-F9A9-43ED-BC44-5014ADB2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7A5B4-9034-40FC-B512-DF257987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3F39E-F658-482F-9351-7508C556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56B66-6C6C-457C-9354-8A5483AF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353CC-66EF-42F0-8E8D-A35D4EF2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0055-DFE3-4DB8-BAD6-542B0B71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6F48E-92B2-40C0-83E1-3F3C23C2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53627-E019-4A4C-AC04-4FAA46A9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01507-959D-4441-A581-947A7B8B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9AF7C-C3EC-4F02-86BC-F9A00BB1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A9C3C-7D4D-4707-922C-DDDC2553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54B33-3F47-44EB-BAA5-1A43CD49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CC427-07B2-4A32-AF0E-A5EB7536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14F99-F1FD-47CE-8A37-3D64FF55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3587E-C0D8-44B9-AFDE-790CBB20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21D62-283C-4034-BAD6-9E2BC374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7A27-96A5-49CB-A19F-D1C05A6C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2A50A-CD68-42C1-9EAC-3587B10A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4AF3A-4BFD-48A1-82CB-74F9E013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1AC78-1846-4065-B301-B414DCEE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45E55-EB03-46DD-A4FE-8C9007D4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53521-CFD5-4C06-9B85-9545CD77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922B1-5CB6-4507-ADDA-61AE4ED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0A574C-E021-444F-802B-DD2A00F2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9171A-40BE-460B-A079-2D84CD1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2786E-3D4C-4AF5-BA51-EB29F30B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B9B48-D922-49F6-A028-5311A70A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1096-52B2-4979-ADD5-2A1C8FD6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443E0-6BBD-4471-9738-699478A6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FDF05-5D3C-4255-91E5-CF4F364A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E76C2-423E-419E-8DA4-7115151C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CA559-9416-4BE4-906C-A7A74D9C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5F563-1840-4D39-B0FD-6E0298A9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5C617-960F-48CC-8D2C-5EA7915D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83A04-5C99-48D5-B75A-A44A591C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22BDE-2E63-4E1E-AAC2-CBC22DB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B8C1E-0646-4CC2-9763-69B2EE6A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14B7EF-E13B-498F-B88E-2B903DC7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E8A7-2F6D-4920-A998-F798F3A3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18FF3-7401-4D4E-9DDA-55756A99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1DF0C-7FF7-48F4-AFC8-EAA76C0E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24A0CA-67A2-4592-8202-A8B34625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25B43F-59E1-485C-9C9B-CAAE6420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9871D6-E33D-489B-B5FD-0CA62F53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A210D-2B36-4F64-83E6-C10E593F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B12C5-04E1-487A-B3AA-F2572A1F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D2D27-82FE-472E-AE15-D66A7C31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C43B7-3A68-4ECE-B419-FDF881B6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99427-D8F3-4957-BD65-EA265288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59A-33D1-4C93-B8AC-F1BA66D3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D548-E655-4C10-AD4B-A47F960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EDA11-0402-4326-A797-8696587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DCBF0-19B0-4058-B392-F2004F87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E56EBE-9E6B-4BD2-BCDF-0B1DDF4A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32183-8833-42D5-B77D-4DA4A57D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F5008-AE92-4B30-A290-C4720509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E1F1-E036-4918-AD7E-21F28B66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D48F-AE97-46C3-8CE0-E3AD3C8C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6F73-1F07-4249-9DEC-3B0DC28A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0213-7948-4945-BF2C-28BE6A82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61EA-1822-494C-8383-4289BD74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2527-86CE-4E79-A0CA-774A2DDF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9097-D3DE-4433-B79E-00400BDF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D62B-F934-4594-BDB4-882202FE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0672-AA55-448D-8D6D-3CD12CB3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10F-7C53-4EB4-A09F-38479D0E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19D9-3FE3-4572-9D82-F5F90263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C5FEC-3DDD-4592-B859-B182E67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B5C21-A8D8-4717-A345-C8F0CDBC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8627-4ACA-4989-B7EF-115B0F63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A403-5283-4F9E-9F9C-1A300FF6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6204-EC2A-401A-BCAB-DA469382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8BF4-5609-4597-89BA-60729D16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7876-26F9-4971-B727-4A7E2FCB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E24A-CC8B-4892-A9A0-C02A1AC0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C733E-E13D-43B7-9026-B53BCA73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64F-762D-4F98-9572-B4E64E99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9EC4-A374-4401-BF81-8C6DAD8A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FA47-03AD-4D59-B56A-29009681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941FD-D35E-48CA-9F74-0F83554D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14C87-A5AA-4253-9D7A-6150DCAC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F640-5C35-4734-981C-699C0789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A87D-1814-4BC7-9EAB-73A87C45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E12F9-4AF6-4EC5-811D-72DA8340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4A23-E4B9-4E05-8DD6-0A8D4549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3704-20BE-4F19-A5B7-EE78F670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76227-CA5C-462B-979F-44FE721B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CAB-4339-424E-AC18-0B3035C0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46343-6429-45B4-BCAD-9ED97B72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C598-81D9-42FC-B455-391F4838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F1242-430C-425C-9D31-16622538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92EF1-984E-4135-B1BB-154BF518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48171-B147-4D0C-AB96-D1FF3FF2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6E39B-29F2-4826-9086-3875517E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07C46-7C3C-4313-A0B8-7DD5A6C2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1002F-9A42-4DA4-9E2E-3E18BCCA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B7C1B-F785-4A96-8C0D-3274DAC9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B7186-2204-4344-B258-F52F18A2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A2B-7668-4AA8-AEEB-CF3549AA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0A9DF-08D3-4C71-8925-5170B00E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2ECA8-3D09-40C4-88FA-15F93F7E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96471-2A1B-4EA7-8C94-B083D2D0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6B5AF-B122-4B32-828B-738B3AAF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91341-D76D-4CE3-8038-3926A4D6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82824-0325-4F62-9D3D-623F67F7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9BBFF-48DE-4E63-9F39-D1CCAF1F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4BC61-E070-4255-8E0B-8E50CF4B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25B71-4B70-4A68-A03C-DD397199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71C1F-723E-4364-8231-F290BAF4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738-933F-4ECB-9282-23F4AB2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94FFE-48EA-4D40-B1DD-F3000EE6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BBD8F-5C18-49AA-9163-6A6CE052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869A1-13B2-4B64-BAAA-DD7492A7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EC289-B27E-4546-9AD7-629D307A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470F2-F225-43B4-8BC7-3F055E60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1136A-30B5-4FF3-9F2E-1474253E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3B63E-0423-44FA-9E41-CCF50312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D023F-BE51-42E0-8FBD-B81A6E16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B56D-784A-4170-B9EB-3DC3AF10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078E6-5501-473A-AF09-A8BDEAC0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158-5856-4EFA-9687-F4116F5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D7598-AD42-4D46-B634-06C5E584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D4C74-45A2-43C6-AE91-97B0EDC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B1E1D-6052-4491-805A-FE13721B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9AB1D-1D8F-49AB-AA2A-4CC0D37A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8BA5A-3B30-4F39-B6EA-AFBB473F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F63B3-F95F-4C15-907D-547C03FB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DD233-E81A-4FB2-BBCD-3C438AA5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12F0A-0F4E-4C99-A450-E81E4CDF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1ACBA-31C2-4801-913E-3B138546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64B5A-BC4D-4AE8-BFFA-ECFDC0AA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1D2-814E-403E-8AEB-D814DD88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5EC74-E601-42ED-8143-085B0C44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B870B-F69D-4829-B576-8459122A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55E35-92CB-43BD-A5E6-FAE2A9FF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93C60-C7BB-4E1B-B063-9C4CDB6A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F66D0-4DCC-47A9-A590-71665E13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5D650-5414-4E59-ABD9-C11C4C53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06F07-B680-4F55-9363-99643F19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65101-1C86-4198-9200-5A9A5EFD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6281E-75C0-4DF4-98F8-C130ED38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F0191-084A-4FD2-A223-7007AEA2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87B87-6556-41C9-86D7-A0779549407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0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0E153-1899-4289-B0F2-37DCDDE6B5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8FF1D-AFC5-4D8A-BEAC-3F51532D47B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DC2E5-7603-413E-9498-5266987C8F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B3B1B-B99A-4B8A-BC8D-421ECA0182E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0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9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0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B1004-9C57-4B6F-ACF8-6CF26DC427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CAA8D-3B3A-473D-93C3-1C319AF72F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87F78-6526-4A24-89D2-C37758DB69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153E8-E926-409C-AE80-04E649A0FD6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55B15-4408-40A9-8DCE-A50C1A19654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BBE37-A60D-461B-95D9-5A24C930DC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1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2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F16AD-1976-443C-963D-56DE817F219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C5DEF-23FD-4465-B0D6-D4DD1D668AB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0A739-0398-4A92-A50E-9D053A35C9E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3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4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A7FD1-F4F4-436D-A1CA-4273C51D1C0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1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1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1FEE0-E25D-4FB8-B28C-505ADE59411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8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50B94-5CDD-4835-A008-24FF23B6CE2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050920" y="765000"/>
            <a:ext cx="6407280" cy="28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ПРЕЗЕНТАЦИЯ</a:t>
            </a:r>
            <a:br>
              <a:rPr sz="4900"/>
            </a:br>
            <a:r>
              <a:rPr b="1" lang="ru-RU" sz="4900" spc="-1" strike="noStrike">
                <a:solidFill>
                  <a:srgbClr val="ff0000"/>
                </a:solidFill>
                <a:latin typeface="Century Gothic"/>
              </a:rPr>
              <a:t>«</a:t>
            </a:r>
            <a:r>
              <a:rPr b="1" i="1" lang="ru-RU" sz="4900" spc="-1" strike="noStrike">
                <a:solidFill>
                  <a:srgbClr val="ff0000"/>
                </a:solidFill>
                <a:latin typeface="Century Gothic"/>
              </a:rPr>
              <a:t>Я и моя СЕМЬЯ»</a:t>
            </a: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262626"/>
                </a:solidFill>
                <a:latin typeface="Century Gothic"/>
              </a:rPr>
              <a:t>           </a:t>
            </a: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ПРЕЗЕНТАЦИЯ</a:t>
            </a:r>
            <a:br>
              <a:rPr sz="2500"/>
            </a:b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                   </a:t>
            </a:r>
            <a:br>
              <a:rPr sz="2500"/>
            </a:br>
            <a:r>
              <a:rPr b="1" i="1" lang="ru-RU" sz="3200" spc="-1" strike="noStrike">
                <a:solidFill>
                  <a:srgbClr val="ffc000"/>
                </a:solidFill>
                <a:latin typeface="Century Gothic"/>
              </a:rPr>
              <a:t>           «Я и моя СЕМЬЯ»</a:t>
            </a:r>
            <a:br>
              <a:rPr sz="49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 rot="21393600">
            <a:off x="1842840" y="371628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        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TextBox 3"/>
          <p:cNvSpPr/>
          <p:nvPr/>
        </p:nvSpPr>
        <p:spPr>
          <a:xfrm>
            <a:off x="2340000" y="765000"/>
            <a:ext cx="58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КДОУ детсад №2 г Острогожск Воронежской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2" name="TextBox 4"/>
          <p:cNvSpPr/>
          <p:nvPr/>
        </p:nvSpPr>
        <p:spPr>
          <a:xfrm>
            <a:off x="4788000" y="53150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полнила Мищенко И.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спитатель МКДОУ д/с№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858960"/>
            <a:ext cx="7858080" cy="5170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«Традиции русских семей»</a:t>
            </a:r>
            <a:br>
              <a:rPr sz="32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Собираться всей семьей в родительском доме в праздники, а также отмечать семейные праздники;</a:t>
            </a:r>
            <a:br>
              <a:rPr sz="25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Всем вместе петь и играть на музыкальных инструментах;</a:t>
            </a:r>
            <a:br>
              <a:rPr sz="25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Приглашать гостей и собирать застолье;</a:t>
            </a:r>
            <a:br>
              <a:rPr sz="25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Собирать и хранить семейные фотографии;</a:t>
            </a:r>
            <a:br>
              <a:rPr sz="25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Хранить вещи, принадлежавшие родственникам, как предметы старины и как память о родных и близких;</a:t>
            </a:r>
            <a:br>
              <a:rPr sz="2500"/>
            </a:br>
            <a:r>
              <a:rPr b="0" i="1" lang="ru-RU" sz="2500" spc="-1" strike="noStrike">
                <a:solidFill>
                  <a:srgbClr val="262626"/>
                </a:solidFill>
                <a:latin typeface="Century Gothic"/>
              </a:rPr>
              <a:t>Представители одной семьи занимались одним видом деятельности. Так рождались династии гончаров, военных, строителей, учителей и т.д.</a:t>
            </a:r>
            <a:br>
              <a:rPr sz="29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Прямоугольник 2" descr=""/>
          <p:cNvPicPr/>
          <p:nvPr/>
        </p:nvPicPr>
        <p:blipFill>
          <a:blip r:embed="rId1"/>
          <a:stretch/>
        </p:blipFill>
        <p:spPr>
          <a:xfrm>
            <a:off x="858960" y="1139760"/>
            <a:ext cx="79246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Прямоугольник 1" descr=""/>
          <p:cNvPicPr/>
          <p:nvPr/>
        </p:nvPicPr>
        <p:blipFill>
          <a:blip r:embed="rId1"/>
          <a:stretch/>
        </p:blipFill>
        <p:spPr>
          <a:xfrm>
            <a:off x="858960" y="426960"/>
            <a:ext cx="792468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3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929720" cy="6288120"/>
          </a:xfrm>
          <a:prstGeom prst="rect">
            <a:avLst/>
          </a:prstGeom>
          <a:ln w="0">
            <a:noFill/>
          </a:ln>
        </p:spPr>
      </p:pic>
      <p:pic>
        <p:nvPicPr>
          <p:cNvPr id="1202" name="Мелодия_4.wma.mp3" descr=""/>
          <p:cNvPicPr/>
          <p:nvPr/>
        </p:nvPicPr>
        <p:blipFill>
          <a:blip r:embed="rId2"/>
          <a:stretch/>
        </p:blipFill>
        <p:spPr>
          <a:xfrm>
            <a:off x="1071720" y="471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03" name="Прямоугольник 11" descr=""/>
          <p:cNvPicPr/>
          <p:nvPr/>
        </p:nvPicPr>
        <p:blipFill>
          <a:blip r:embed="rId3"/>
          <a:stretch/>
        </p:blipFill>
        <p:spPr>
          <a:xfrm>
            <a:off x="281160" y="3084480"/>
            <a:ext cx="8528040" cy="3602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9775" fill="hold"/>
                                        <p:tgtEl>
                                          <p:spTgt spid="1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262626"/>
                </a:solidFill>
                <a:latin typeface="Century Gothic"/>
              </a:rPr>
              <a:t>В (семье) и каша гуще. </a:t>
            </a: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262626"/>
                </a:solidFill>
                <a:latin typeface="Century Gothic"/>
              </a:rPr>
              <a:t>На что и клад, коли в (семье) лад.</a:t>
            </a: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262626"/>
                </a:solidFill>
                <a:latin typeface="Century Gothic"/>
              </a:rPr>
              <a:t>В (семье) любовь да совет, так и нужды нет.</a:t>
            </a:r>
            <a:br>
              <a:rPr sz="3200"/>
            </a:b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Прямоугольник 9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07400" cy="13222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4" descr=""/>
          <p:cNvPicPr/>
          <p:nvPr/>
        </p:nvPicPr>
        <p:blipFill>
          <a:blip r:embed="rId2"/>
          <a:stretch/>
        </p:blipFill>
        <p:spPr>
          <a:xfrm>
            <a:off x="857160" y="1714680"/>
            <a:ext cx="7985160" cy="4911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Picture 2" descr="http://www.joyreactor.ru/uploads/1279608050217808.jpg"/>
          <p:cNvPicPr/>
          <p:nvPr/>
        </p:nvPicPr>
        <p:blipFill>
          <a:blip r:embed="rId1"/>
          <a:stretch/>
        </p:blipFill>
        <p:spPr>
          <a:xfrm>
            <a:off x="857160" y="285840"/>
            <a:ext cx="7929720" cy="6286320"/>
          </a:xfrm>
          <a:prstGeom prst="rect">
            <a:avLst/>
          </a:prstGeom>
          <a:ln w="0">
            <a:noFill/>
          </a:ln>
        </p:spPr>
      </p:pic>
      <p:pic>
        <p:nvPicPr>
          <p:cNvPr id="1187" name="lev_leshenko-roditel'skiiy_dom_(basemp3.ru).mp3" descr=""/>
          <p:cNvPicPr/>
          <p:nvPr/>
        </p:nvPicPr>
        <p:blipFill>
          <a:blip r:embed="rId2"/>
          <a:stretch/>
        </p:blipFill>
        <p:spPr>
          <a:xfrm>
            <a:off x="100008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00938" fill="hold"/>
                                        <p:tgtEl>
                                          <p:spTgt spid="1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00200" y="500040"/>
            <a:ext cx="5958000" cy="36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Century Gothic"/>
              </a:rPr>
              <a:t>Дом – это…начало начал, крепость, кров, очаг, причал.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Picture 2" descr=""/>
          <p:cNvPicPr/>
          <p:nvPr/>
        </p:nvPicPr>
        <p:blipFill>
          <a:blip r:embed="rId1"/>
          <a:stretch/>
        </p:blipFill>
        <p:spPr>
          <a:xfrm>
            <a:off x="642960" y="285840"/>
            <a:ext cx="8215200" cy="6286320"/>
          </a:xfrm>
          <a:prstGeom prst="rect">
            <a:avLst/>
          </a:prstGeom>
          <a:ln w="0">
            <a:noFill/>
          </a:ln>
        </p:spPr>
      </p:pic>
      <p:grpSp>
        <p:nvGrpSpPr>
          <p:cNvPr id="1190" name="Group 3"/>
          <p:cNvGrpSpPr/>
          <p:nvPr/>
        </p:nvGrpSpPr>
        <p:grpSpPr>
          <a:xfrm>
            <a:off x="2627640" y="1861200"/>
            <a:ext cx="2279520" cy="1355400"/>
            <a:chOff x="2627640" y="1861200"/>
            <a:chExt cx="2279520" cy="1355400"/>
          </a:xfrm>
        </p:grpSpPr>
        <p:sp>
          <p:nvSpPr>
            <p:cNvPr id="1191" name="Rectangle 4"/>
            <p:cNvSpPr/>
            <p:nvPr/>
          </p:nvSpPr>
          <p:spPr>
            <a:xfrm rot="20929800">
              <a:off x="2700360" y="2058480"/>
              <a:ext cx="2133720" cy="9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WordArt 5"/>
            <p:cNvSpPr txBox="1"/>
            <p:nvPr/>
          </p:nvSpPr>
          <p:spPr>
            <a:xfrm rot="20929800">
              <a:off x="2890440" y="2233440"/>
              <a:ext cx="1826640" cy="56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19080">
                    <a:solidFill>
                      <a:srgbClr val="c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Мой дом.</a:t>
              </a:r>
              <a:endParaRPr b="0" lang="en-US" sz="1800" spc="1" strike="noStrike">
                <a:ln w="19080">
                  <a:solidFill>
                    <a:srgbClr val="c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193" name="Мелодия_5.wma.mp3" descr=""/>
          <p:cNvPicPr/>
          <p:nvPr/>
        </p:nvPicPr>
        <p:blipFill>
          <a:blip r:embed="rId2"/>
          <a:stretch/>
        </p:blipFill>
        <p:spPr>
          <a:xfrm>
            <a:off x="857160" y="5143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91008" fill="hold"/>
                                        <p:tgtEl>
                                          <p:spTgt spid="1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Picture 2" descr=""/>
          <p:cNvPicPr/>
          <p:nvPr/>
        </p:nvPicPr>
        <p:blipFill>
          <a:blip r:embed="rId1"/>
          <a:stretch/>
        </p:blipFill>
        <p:spPr>
          <a:xfrm>
            <a:off x="785880" y="285840"/>
            <a:ext cx="807084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Прямоугольник 3" descr=""/>
          <p:cNvPicPr/>
          <p:nvPr/>
        </p:nvPicPr>
        <p:blipFill>
          <a:blip r:embed="rId1"/>
          <a:stretch/>
        </p:blipFill>
        <p:spPr>
          <a:xfrm>
            <a:off x="2359080" y="1073160"/>
            <a:ext cx="5925960" cy="3413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Прямоугольник 2" descr=""/>
          <p:cNvPicPr/>
          <p:nvPr/>
        </p:nvPicPr>
        <p:blipFill>
          <a:blip r:embed="rId1"/>
          <a:stretch/>
        </p:blipFill>
        <p:spPr>
          <a:xfrm>
            <a:off x="682560" y="2567160"/>
            <a:ext cx="7961400" cy="4151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Мищенко</cp:lastModifiedBy>
  <dcterms:modified xsi:type="dcterms:W3CDTF">2017-06-08T14:22:13Z</dcterms:modified>
  <cp:revision>29</cp:revision>
  <dc:subject/>
  <dc:title>Слайд 1</dc:title>
</cp:coreProperties>
</file>