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0A2-94FE-4439-90A7-9EB63D4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729-A5A7-453A-91FB-B2AA446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AD26F-CC72-46EA-83FE-D94A53F0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DC0DE-0853-4A07-92B1-FBE2E25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0233-66A9-4C3F-95A0-4DAE897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48F84-4BB3-49C9-ACB6-57CCC20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F47FC-FDAC-456D-9617-063765B9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5FE83-ECA5-4728-B3DF-A576319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B12AC-8B44-4C5D-A68B-F9857AE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B45BE-63CC-4372-B29B-19FAAF11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AAA95-86B4-4148-9536-8CE74ED0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A0BF7-9B23-4F7E-993B-689B3B5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DAF-2D18-42ED-96A5-EF761D17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D356B-712D-4764-80A6-34E5714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B32AE-3D5A-44A4-8F21-CEBAD5E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6B1E2-009A-456F-ABAC-88C5BB8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A8DA0-8E71-4E77-9F64-8D99C8A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0B59A-58B8-4169-BAE9-3741335A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01ED6-C6A5-4432-9520-7877C25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7A4B1-9E2A-4AD1-8A49-558A0AC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6A3BD-5EE3-4870-AF4B-727C60E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92EDC-C455-4CF3-85D8-3A7B1D7B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9B761-CB83-423A-833D-256720CA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1BA-E816-4B06-A49E-EDDB454A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4E309-D213-4283-978D-581E56A5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E2FDC-FE87-46A4-8B4C-34A519E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F7124-976A-440F-861B-BEFC2FB6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546E1-84A6-4D74-A514-9823B2B4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95610-7AAD-4D22-80E7-10B41988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32519-34B4-4C5C-86F1-A6437C71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52D48-31CB-4D27-9854-CED5D1CE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F32B-ECD6-42DC-BD61-B978ADC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CAAE5-B9DC-4169-9032-B8636C85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7B0B-2CB0-4750-AFCB-0E0651AF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FEAA-AFEB-4738-8D5A-3B7E1A9B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3F6E3-5149-4E43-92F3-D87A348B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F0E6-9771-4D66-BAC4-3A0D53F3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B0FAE-5164-43AE-900B-5B174828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42F69-C476-4C06-92A9-5D226E77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C6CE-7C1D-453F-A846-74C499B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0B40F-1B98-4AD6-A3B4-7771C7F9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4C3D5-AB12-4CDE-B446-A8247871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246EF-F4E0-4894-9ABF-DAE898D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5BE96-9ECB-4A74-B4CE-1FCA39DA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EF5E6-1A5F-44DE-B085-56DD8A4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A242-2595-489A-BEA5-D3DDE07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714B-B47C-4877-B299-79228F9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F8D5C-96A1-4336-9D7C-6C699B6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92452-785D-4780-84A6-8B55DC1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89B65-40D6-44D7-8391-5B26E526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D9672-7AC6-4D16-94C2-E24315A8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138B5-35AA-40A5-AAD8-6CC6597D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D82C5-3FD6-4670-A877-405F4036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424F6-B8B7-4202-9EAF-3B2D98E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A7F4F-AD6D-4C37-93FD-2384D14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66EBE-316E-4800-9C21-C313B11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AE52-306C-4B2F-9813-6ECB6E7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010F9-D476-4853-9F52-AC2F9669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E735F-8BA5-48B0-9612-0A5A8ED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250B8-7761-4489-9EE3-415D724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3F777-D8FE-4265-A261-B9AC983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A8037-562E-4852-80BC-7D8DF50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E0752-1005-4EEB-B500-7B50D0B3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0D599-AEA2-4F11-8FA0-2DF4C95F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9872A-C087-4F4A-B39C-4FFBAEB7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C2E83-FF61-4E77-B4EA-55DBC5C4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8ECE8-C4EF-4A11-B588-DEC02D3A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5C0A-8EE4-4D00-AE03-4C9BB06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FCF4F-FE44-421A-B3A9-8455C12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C3B2C-8B44-4288-9C11-7D8266A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90BCE-5DEE-4427-B080-604D6A27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12AF7-AAC2-4EBD-A3A8-3A7DED4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C8676-DC6C-491E-ABB7-0847233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2AA7D-9037-402A-B0C1-0C8686E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E2C4F-C7EF-44F6-82D3-78279979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6DD19-B22B-42BC-BEB3-D152A36D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2CB8F-4B1C-4ED5-9104-4EDEFE58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4F0F6-B0C3-4037-BCE7-650A61DE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91E-026A-4B38-9E3D-99A0E406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846E3-B4AA-43DC-A038-5A91C08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44F8D-D7F8-4975-B3AC-C0476FA3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85611-5BFE-4006-9D75-97C79B3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877F5-C47F-49D0-BD75-01E2FC72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FEA1D-D63C-4904-935A-E81284B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6850C-AF2C-47D2-B174-38A55DC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2AD67-C65D-4CAC-AE2B-C7D1D55F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3D57B-B798-4FBB-B6DF-CB47C30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3C87E-4BD1-42F3-B1BB-9FBE4AE4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C8461-9F84-40C2-AB3F-9DAC5B5F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853-C895-426F-A268-680AF389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62651-C780-4212-91DD-632FA30A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95635-B9A9-42CA-9013-37013482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BF16C-911E-46C9-88ED-5BEC159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DE1D1-12F1-45B2-8FF8-D1DCE07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A654B-24DE-44A2-971D-2DF0A2A3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607DF-8094-4AC2-86A7-271A30FD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8DC61-D6DD-442C-8462-3819C29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E3A01-3750-41F5-80C2-EA428F3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ED43B-B3DC-49C0-BD68-E6EDA3D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001AA-7C1C-4CCF-BB6E-4B5FA1D9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99B-D995-459B-A644-6BE4D51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E9FA7-BCAF-440A-983F-4646923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DD45C-A9BE-4ECC-9B18-B90407B1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10040-A86F-43B9-B7CD-82584A2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F39ED-FDBA-43BF-B5FE-B5351038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767CE-5073-49AE-9206-28E11AE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1DDDE-444C-4190-A8DF-2F40C289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A4F57-0707-4D2B-B262-5D5D463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D2510-EBDF-4D55-BB0F-DBCAD2B1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738C2-EB0C-40B0-944B-3700124F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21438-0324-4C1B-BD5E-844B7BE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75F-C422-4C54-8C61-9772041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B044-6010-49E7-BEB1-2AE57EC7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668FA-7204-48CA-A448-ACFB1C5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072AB-5CBC-4CAB-908B-5D3877A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CE51E-205B-445C-94E8-99911D55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16DF7-17FD-43D1-B92F-F67B9DBE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9458F-2351-4DC7-87F7-32B1B859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2989-9DE8-4F38-8E7D-C4CBE05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65FB-C527-4D34-8C7D-273E49E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1CEA-3CAF-47DA-8AAA-48CA7719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2E3-7728-4A60-B957-4E9AC96E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86F5-4804-498E-B97B-D0F09CF3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20C0-8863-41B6-B767-83264E1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E72D-C605-4F6C-8292-F863EF2A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9142-A146-4ACF-9DDA-FBC088EA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6FD7-97A2-436D-9EDC-B1BE5FAC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97D-359F-413F-938F-B9C9F67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ED08-2907-4E45-82A7-36246913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CB8E-8595-4C16-A2D5-0B66D41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EC5F-D77A-4224-8D28-F35FD72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4DAA-F228-4B11-B29A-242DD195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790D-67EA-49B1-B8A5-FC16665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18AE-0823-4DB6-85F0-0A9C0FD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7218-A5AE-46A1-9539-2BE26A14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5F09-4013-4360-B07C-91067EBF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BCC0-539A-4CD2-8BA6-091C50BA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B224-51FB-4419-8863-DFA7678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9DF-F6F7-4D86-B1C6-4ECA6BAF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8B8E5-C260-426F-80AC-2B81A3DF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9466-8937-419E-B280-471D6F7D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EF4C-6538-444D-8E87-57D6643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BA94-8A57-48FB-B20B-3F57E58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2CF9-B6AC-4EA9-983B-84834381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45C3-5C01-4192-A984-8EB36EC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0B1D-71B2-4899-A840-760C8A3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29C2-32D4-444F-B410-3D4A41AC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E063-925C-48E9-8736-FBABC09C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05B8-F870-43A0-A4E8-2CE0BA57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351-1C51-4020-93F2-338EE888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3EFA-0138-4DB8-B985-6B8415C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510D-60F1-4C33-97A4-7162EBAC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3777-40C0-4836-BBA2-B823C37F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56ADA-1729-4FC9-A8D2-7E9ACE1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0D12-993A-43B3-8FE3-A5E6FA0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E8E0-2F9F-42A1-8C22-45666FB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0B2D-10FB-473F-9C38-88FC568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E2B6-BBCB-4E4C-BECD-415781C9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9137-EE4E-4335-8F8B-54792F4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374D-93D9-4828-BAEE-7B427BC2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6A3-E185-46B8-8833-FB2CB7C9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E5A6-7AB3-4A68-8AD0-23221BD4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7ABC-F4FF-4454-A582-4EFB2143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3F415-BAA3-471D-A099-8AC0698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B451-FD4E-4EC0-8BFD-ADDE653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EEFA-32C4-4C3C-839F-0EE69D3D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F4B9-A7B2-43C9-83DC-9D044BCB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3623-E759-49A3-A1EB-F10711E1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6DC4-E941-4EBE-833C-1B253FCA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C889-E5D0-44C5-9AF6-E4D370C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DF60-49F0-44FA-B0DF-C78F7D9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342-855E-4577-AC72-6D2C26B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B1A6-4062-4719-8B98-232A1C5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CBFD0-BFEA-4354-81FA-CE264CAE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1793-322E-4E77-A583-43951466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FEFB-C738-47DE-AE35-04EA8BA8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0F45-BBE1-407C-9E36-7DB609F4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2D86C-CA8B-4B06-BB11-132BABC9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C5B0-2C73-42C0-BD92-63524102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90D9-351E-4B00-969C-B702D4C1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44A4-756C-4E14-B352-69F0BD6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6382-300C-415A-9A9B-0D19BE5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41A-57FD-4B63-A76A-A37DEAF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3221A-E2ED-40E1-AAE1-71470F20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703E6-BF4E-4B1F-8F05-CD9453A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6D0F-5F33-40B5-9154-0B49981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D4DD-CC7F-47AC-AD47-07B84CB1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E4EF-1F23-4675-AB48-02D7DD91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C9CC-3D89-40F5-B79E-6AB2E7B1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83F6-287E-4E0A-9CC4-D7B5085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2B1B-DF4C-4E82-A285-5E0BADB3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1DEC-50A9-4C90-8A97-EE43CE2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B52C-6F6E-480E-9961-E001AFAB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353-0769-40F7-A9D0-77F5594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DDFD2-DE10-49E3-8921-D3C96224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9ED3-0F84-4703-81C3-AA96A1A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F97A-7142-4AE3-B218-5CE807E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A608-B867-4F9B-A632-8F6898C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E36E7-F91F-479A-919B-BE51A936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E7C68-AA32-42A1-8886-6B4C7977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9DEEE-AE6B-4C54-9F58-32DFFD76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D571-AD24-409C-82B3-DD6B61C0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472F9-1547-4C9E-8DB1-295B4FC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168D1-E0EA-497A-A3AC-8687F2D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0DFA6-CF5B-4C79-8C12-443C53D95C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70852-F774-49D5-8755-BD923B53A2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4F241-D0AB-4B71-890C-DB10862C79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8EC31-785A-4888-B634-0A052B3154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81F68-555D-453F-8C0A-3D7E201B66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0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DD9AE-63F2-42D4-937A-DD8A6D3650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67713-C14E-422D-A816-F0915FFF0A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CAAA1-E640-4590-BD69-F7690A3434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F795A-299C-4F10-85D0-55DE835A35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70757-EEDD-40D7-B4DB-7DDC6FC564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A541B-F7CB-4DC7-B901-B17B9F34DF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CF91C-1A07-49EE-95A6-C56AEF3584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779D1-3CED-4F5C-990B-901232C7C4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6CA06-507F-422E-984F-45E63040AD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3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4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6FDB1-738D-4BC1-9FB8-E95776CB5D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1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1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32B2F-2F25-4921-8E63-5839F4455E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8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F480F-8836-48A1-88C9-EC6CE464B2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6407280" cy="28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ПРЕЗЕНТАЦИЯ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entury Gothic"/>
              </a:rPr>
              <a:t>«</a:t>
            </a:r>
            <a:r>
              <a:rPr b="1" i="1" lang="ru-RU" sz="4900" spc="-1" strike="noStrike">
                <a:solidFill>
                  <a:srgbClr val="ff0000"/>
                </a:solidFill>
                <a:latin typeface="Century Gothic"/>
              </a:rPr>
              <a:t>Я и моя СЕМЬЯ»</a:t>
            </a: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           </a:t>
            </a: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ПРЕЗЕНТАЦИЯ</a:t>
            </a:r>
            <a:br>
              <a:rPr sz="2500"/>
            </a:b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                   </a:t>
            </a:r>
            <a:br>
              <a:rPr sz="2500"/>
            </a:br>
            <a:r>
              <a:rPr b="1" i="1" lang="ru-RU" sz="3200" spc="-1" strike="noStrike">
                <a:solidFill>
                  <a:srgbClr val="ffc000"/>
                </a:solidFill>
                <a:latin typeface="Century Gothic"/>
              </a:rPr>
              <a:t>           «Я и моя СЕМЬЯ»</a:t>
            </a:r>
            <a:br>
              <a:rPr sz="49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 rot="21393600">
            <a:off x="1842840" y="371628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TextBox 3"/>
          <p:cNvSpPr/>
          <p:nvPr/>
        </p:nvSpPr>
        <p:spPr>
          <a:xfrm>
            <a:off x="2340000" y="765000"/>
            <a:ext cx="58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КДОУ детсад №2 г Острогожск Воронежско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TextBox 4"/>
          <p:cNvSpPr/>
          <p:nvPr/>
        </p:nvSpPr>
        <p:spPr>
          <a:xfrm>
            <a:off x="4788000" y="53150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ла Мищенко И.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спитатель МКДОУ д/с№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858960"/>
            <a:ext cx="7858080" cy="5170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«Традиции русских семей»</a:t>
            </a:r>
            <a:br>
              <a:rPr sz="32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Собираться всей семьей в родительском доме в праздники, а также отмечать семейные праздники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Всем вместе петь и играть на музыкальных инструментах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Приглашать гостей и собирать застолье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Собирать и хранить семейные фотографии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Хранить вещи, принадлежавшие родственникам, как предметы старины и как память о родных и близких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Представители одной семьи занимались одним видом деятельности. Так рождались династии гончаров, военных, строителей, учителей и т.д.</a:t>
            </a:r>
            <a:br>
              <a:rPr sz="29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139760"/>
            <a:ext cx="79246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Прямоугольник 1" descr=""/>
          <p:cNvPicPr/>
          <p:nvPr/>
        </p:nvPicPr>
        <p:blipFill>
          <a:blip r:embed="rId1"/>
          <a:stretch/>
        </p:blipFill>
        <p:spPr>
          <a:xfrm>
            <a:off x="858960" y="42696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3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929720" cy="6288120"/>
          </a:xfrm>
          <a:prstGeom prst="rect">
            <a:avLst/>
          </a:prstGeom>
          <a:ln w="0">
            <a:noFill/>
          </a:ln>
        </p:spPr>
      </p:pic>
      <p:pic>
        <p:nvPicPr>
          <p:cNvPr id="1202" name="Мелодия_4.wma.mp3" descr=""/>
          <p:cNvPicPr/>
          <p:nvPr/>
        </p:nvPicPr>
        <p:blipFill>
          <a:blip r:embed="rId2"/>
          <a:stretch/>
        </p:blipFill>
        <p:spPr>
          <a:xfrm>
            <a:off x="1071720" y="471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3" name="Прямоугольник 11" descr=""/>
          <p:cNvPicPr/>
          <p:nvPr/>
        </p:nvPicPr>
        <p:blipFill>
          <a:blip r:embed="rId3"/>
          <a:stretch/>
        </p:blipFill>
        <p:spPr>
          <a:xfrm>
            <a:off x="281160" y="3084480"/>
            <a:ext cx="8528040" cy="360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9775" fill="hold"/>
                                        <p:tgtEl>
                                          <p:spTgt spid="1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Century Gothic"/>
              </a:rPr>
              <a:t>В (семье) и каша гуще. </a:t>
            </a: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262626"/>
                </a:solidFill>
                <a:latin typeface="Century Gothic"/>
              </a:rPr>
              <a:t>На что и клад, коли в (семье) лад.</a:t>
            </a: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262626"/>
                </a:solidFill>
                <a:latin typeface="Century Gothic"/>
              </a:rPr>
              <a:t>В (семье) любовь да совет, так и нужды нет.</a:t>
            </a:r>
            <a:br>
              <a:rPr sz="3200"/>
            </a:b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Прямоугольник 9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07400" cy="13222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4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7985160" cy="4911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http://www.joyreactor.ru/uploads/1279608050217808.jpg"/>
          <p:cNvPicPr/>
          <p:nvPr/>
        </p:nvPicPr>
        <p:blipFill>
          <a:blip r:embed="rId1"/>
          <a:stretch/>
        </p:blipFill>
        <p:spPr>
          <a:xfrm>
            <a:off x="857160" y="285840"/>
            <a:ext cx="7929720" cy="6286320"/>
          </a:xfrm>
          <a:prstGeom prst="rect">
            <a:avLst/>
          </a:prstGeom>
          <a:ln w="0">
            <a:noFill/>
          </a:ln>
        </p:spPr>
      </p:pic>
      <p:pic>
        <p:nvPicPr>
          <p:cNvPr id="1187" name="lev_leshenko-roditel'skiiy_dom_(basemp3.ru).mp3" descr=""/>
          <p:cNvPicPr/>
          <p:nvPr/>
        </p:nvPicPr>
        <p:blipFill>
          <a:blip r:embed="rId2"/>
          <a:stretch/>
        </p:blipFill>
        <p:spPr>
          <a:xfrm>
            <a:off x="100008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00938" fill="hold"/>
                                        <p:tgtEl>
                                          <p:spTgt spid="1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00200" y="500040"/>
            <a:ext cx="5958000" cy="36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Century Gothic"/>
              </a:rPr>
              <a:t>Дом – это…начало начал, крепость, кров, очаг, причал.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2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8215200" cy="6286320"/>
          </a:xfrm>
          <a:prstGeom prst="rect">
            <a:avLst/>
          </a:prstGeom>
          <a:ln w="0">
            <a:noFill/>
          </a:ln>
        </p:spPr>
      </p:pic>
      <p:grpSp>
        <p:nvGrpSpPr>
          <p:cNvPr id="1190" name="Group 3"/>
          <p:cNvGrpSpPr/>
          <p:nvPr/>
        </p:nvGrpSpPr>
        <p:grpSpPr>
          <a:xfrm>
            <a:off x="2627640" y="1861200"/>
            <a:ext cx="2279520" cy="1355400"/>
            <a:chOff x="2627640" y="1861200"/>
            <a:chExt cx="2279520" cy="1355400"/>
          </a:xfrm>
        </p:grpSpPr>
        <p:sp>
          <p:nvSpPr>
            <p:cNvPr id="1191" name="Rectangle 4"/>
            <p:cNvSpPr/>
            <p:nvPr/>
          </p:nvSpPr>
          <p:spPr>
            <a:xfrm rot="20929800">
              <a:off x="2700360" y="2058480"/>
              <a:ext cx="2133720" cy="9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WordArt 5"/>
            <p:cNvSpPr txBox="1"/>
            <p:nvPr/>
          </p:nvSpPr>
          <p:spPr>
            <a:xfrm rot="20929800">
              <a:off x="2890440" y="2233440"/>
              <a:ext cx="182664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9080">
                    <a:solidFill>
                      <a:srgbClr val="c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Мой дом.</a:t>
              </a:r>
              <a:endParaRPr b="0" lang="en-US" sz="1800" spc="1" strike="noStrike">
                <a:ln w="19080">
                  <a:solidFill>
                    <a:srgbClr val="c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193" name="Мелодия_5.wma.mp3" descr=""/>
          <p:cNvPicPr/>
          <p:nvPr/>
        </p:nvPicPr>
        <p:blipFill>
          <a:blip r:embed="rId2"/>
          <a:stretch/>
        </p:blipFill>
        <p:spPr>
          <a:xfrm>
            <a:off x="857160" y="5143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1008" fill="hold"/>
                                        <p:tgtEl>
                                          <p:spTgt spid="1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2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807084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Прямоугольник 3" descr=""/>
          <p:cNvPicPr/>
          <p:nvPr/>
        </p:nvPicPr>
        <p:blipFill>
          <a:blip r:embed="rId1"/>
          <a:stretch/>
        </p:blipFill>
        <p:spPr>
          <a:xfrm>
            <a:off x="2359080" y="1073160"/>
            <a:ext cx="5925960" cy="3413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Прямоугольник 2" descr=""/>
          <p:cNvPicPr/>
          <p:nvPr/>
        </p:nvPicPr>
        <p:blipFill>
          <a:blip r:embed="rId1"/>
          <a:stretch/>
        </p:blipFill>
        <p:spPr>
          <a:xfrm>
            <a:off x="682560" y="2567160"/>
            <a:ext cx="7961400" cy="4151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Мищенко</cp:lastModifiedBy>
  <dcterms:modified xsi:type="dcterms:W3CDTF">2017-06-08T14:22:13Z</dcterms:modified>
  <cp:revision>29</cp:revision>
  <dc:subject/>
  <dc:title>Слайд 1</dc:title>
</cp:coreProperties>
</file>