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697-E47B-4E9C-B33D-072D48F8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183-593D-4C6C-8836-87FF1B2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729-3DE1-4F87-9F8C-899BE13A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9F6-7541-4550-A411-867AF658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0E1-EFF2-421C-80C7-F5C82FD8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45DA-2419-425F-AB9D-4459445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D208-3FF6-4499-9A36-FED3FB4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9E9C-3DC0-4329-8C7E-EA3938D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4482-0E35-4D90-BF1D-1A8CF1E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6C5E-F42E-4090-AC8B-008C3DCA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AA7-8065-4FBF-B4CE-8434351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3DD-4940-4430-920B-849B182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05FE-41E7-4844-B34D-BD02AA9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DD6-8CF1-441D-A191-4E85958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C2AD-6894-47FF-8AFD-3699620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026-C806-43E4-A1A6-137BCA2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EE2-B365-4C9D-BA50-201AC9FC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6A9-84D0-4C6B-A741-1B1889BE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952-EC51-4C70-97E8-30BDCEB0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E6F-9F52-45C7-A90E-53CF471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043-0EEC-4409-8854-137DEA3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DE5-DD86-45F2-B8F5-59B828CC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17F-C003-4493-855D-A73B4F9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1B4-97F0-4C89-889A-003D96C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497B-E578-41A1-ABAF-338CD261B6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B89-F680-4E53-A694-840EE338D1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6b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620280"/>
            <a:ext cx="6399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СОР – ГЛОБАЛЬНАЯ ЭКОЛОГИЧЕСКАЯ ПРОБЛЕМА СОВРЕМЕННОГО ОБ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 по экологии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700280"/>
          <a:ext cx="9144000" cy="4952880"/>
        </p:xfrm>
        <a:graphic>
          <a:graphicData uri="http://schemas.openxmlformats.org/drawingml/2006/table">
            <a:tbl>
              <a:tblPr/>
              <a:tblGrid>
                <a:gridCol w="1508040"/>
                <a:gridCol w="2200320"/>
                <a:gridCol w="1943280"/>
                <a:gridCol w="2044440"/>
                <a:gridCol w="1447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н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Пищевые отходы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Бумага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Полиэтилен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ругое (г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9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1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.1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неделю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04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39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25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месяц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18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5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За год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016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1627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096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 Unicode MS"/>
                        </a:rPr>
                        <a:t>216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440" y="508428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следова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7667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течение недели я провела исследование, в котором изучила количество мусора, производимого в моей семье. Итого, всего за год среднестатистическая семья (2 взрослых, 2 ребенка) производит примерно 99 килограмм мус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Рисунок4.jpg"/>
          <p:cNvPicPr/>
          <p:nvPr/>
        </p:nvPicPr>
        <p:blipFill>
          <a:blip r:embed="rId1"/>
          <a:stretch/>
        </p:blipFill>
        <p:spPr>
          <a:xfrm>
            <a:off x="1692360" y="2205000"/>
            <a:ext cx="590544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особы реше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6920" y="1904760"/>
            <a:ext cx="7707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кидывать мусор в положенных мест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до ликвидировать несанкционированные свал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возить мусор в Лермонтовский перерабатывающий зав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ртировать мус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страивать субботники, привлекая обществен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ключение. Вывод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нашем городе огромное количество мусора, от которого надо избавляться. От  него страдает все: экология, люди, животные и птицы. Мусор – проблема глобального масштаб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3880" y="333360"/>
            <a:ext cx="7010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чевная картина - как город нам не жалко. 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ы дороги, подъезды и дворы!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йдут года и будет одна сплошная свалка! 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для чего тогда живем на этом свете м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нем с себя сегодня, и все спешите с нами, 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ьмемся за порядок - мы в этом покля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призываем власти,заслон поставить крепк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тем, кто загрязняет и травит нашу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вгений Рихванов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кологический журнал "Волна" №18(1), 1999. Твердые бытовые отходы. http://www.recyclers.ru/modules/section/item.php?itemid=18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кимова Т. А., Хаскин В. В. Экология: учебник для вузов. – М.: ЮНИТИ, 199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оробкин В. И., Передельский Л. В. ЭКОЛОГИЯ. Конспект лекций. Ростов н/Д: Феникс, 2004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тасов В. Ф. Экология, здоровье и охрана окружающей среды в России. Учебное и справочное пособие. – М.: Финансы и статистика, 199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лож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877080" cy="515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880" y="333360"/>
            <a:ext cx="70106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Автор проекта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Матвиенко Ольг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 ученица 9 «А» класса муниципального казённого образовательного учреждения основная общеобразовательная школа №1 города-курорта Железноводска, Ставропольского кра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Луценко Вера Михайловн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, учитель географии муниципального казённого образовательного учреждения основная общеобразовательная школа №1 города-курорта Железноводска, Ставропольского кра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держани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ведение. Актуальность проблем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Цели и задачи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Железноводские прелест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валка под горой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сследовани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пособы решени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Заключение. Вывод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ложение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зучить Железноводск и его окрестности на наличие мусор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едположить пути решения проблемы, связанной с таким загрязняющим фактором, как мус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Рисунок2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ведение. Актуальность проблем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блема, которая волнует весь мир – нарушение экологической обстановки, связанной с загрязнением окружающей среды мусор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им город-курорт Железноводск, расположенный на территории Российской Федерации. Он насчитывает  24 466 человек, при площади в 93,13 кв.км, не включая посёлок Иноземцев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78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Железноводск – не большой город, но количество мусора, находящегося в различных частях города, зашкаливает. Можно бесконечно ссылаться на людей, которые мусорят. Но есть места, где виноваты не прохожие, не автомобилисты, выкидывающие мусор из окна, а организации, которые не утилизируют отходы, управляющие компании, которые своей халатностью портят окружающую среду (не убирая мусор), и портят они её не одним фантиком, а целыми горами мусора, расположенными возле детских площадок и других местах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елезноводские прелест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iCJrvZ0EQS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валка под горо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1392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Несколько лет назад была ликвидирована свалка под горой Развалк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Свалка была санкционирована и мусор туда вывозили практически со всего города на протяжении многих лет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ерез некоторое время свалку ликвидировали, но огромная гора мусора горела каждый день. Недалеко от свалки расположена дорога на посёлок «Вороново» и проезжающие там водители чувствовали непередаваемую вонь, по другому не скажеш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Горело всё, шерстяные изделия, пластик и т.д. Воздух был наполнен ядовитыми парами. Почва была в ужасном состоянии. Исследования учёных показали, что от таких свалок в радиусе 1км земля может быть заражена, а, ведь, горы – излюбленные места туристов. Там же находится и «Пещера вечной мерзлоты» и кумыс, из которого люди берут воду для пить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8:41:24Z</dcterms:created>
  <dc:creator>Olenka</dc:creator>
  <dc:description/>
  <dc:language>en-US</dc:language>
  <cp:lastModifiedBy>Olenka</cp:lastModifiedBy>
  <dcterms:modified xsi:type="dcterms:W3CDTF">2015-11-17T20:47:09Z</dcterms:modified>
  <cp:revision>2</cp:revision>
  <dc:subject/>
  <dc:title>МУСОР – ГЛОБАЛЬНАЯ ЭКОЛОГИЧЕСКАЯ ПРОБЛЕМА СОВРЕМЕННОГО ОБЩЕСТВА.</dc:title>
</cp:coreProperties>
</file>