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.gif" ContentType="image/gif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F2F-F137-4788-A5EF-8735C126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5EE-71F4-4ECC-847C-1EC505A0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40D-60DB-49E0-853A-DAAF89ED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2B9-9818-42C7-A968-A5E92B7F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B0A-0330-4B0C-8CD7-B906E044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BEC-D88E-4E62-BA94-BBCB63A3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69E-119F-4ED6-A5E0-6417CC3C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7F5-A7DC-41EF-A666-3B6A550E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2A5-231A-461C-9528-28575636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1B6-CB1B-4489-B65B-72508DEC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9DC-52F0-41DB-BDD8-7EBB68AC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68F-C11E-4CCC-8CF4-60640EF3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B5F1-0291-4D3D-9DC4-BFEA64606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6.png"/><Relationship Id="rId6" Type="http://schemas.openxmlformats.org/officeDocument/2006/relationships/image" Target="../media/image1.gif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1.gif"/><Relationship Id="rId10" Type="http://schemas.openxmlformats.org/officeDocument/2006/relationships/image" Target="../media/image28.png"/><Relationship Id="rId11" Type="http://schemas.openxmlformats.org/officeDocument/2006/relationships/image" Target="../media/image1.gif"/><Relationship Id="rId12" Type="http://schemas.openxmlformats.org/officeDocument/2006/relationships/image" Target="../media/image29.png"/><Relationship Id="rId13" Type="http://schemas.openxmlformats.org/officeDocument/2006/relationships/image" Target="../media/image1.gif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28.png"/><Relationship Id="rId17" Type="http://schemas.openxmlformats.org/officeDocument/2006/relationships/image" Target="../media/image30.png"/><Relationship Id="rId18" Type="http://schemas.openxmlformats.org/officeDocument/2006/relationships/image" Target="../media/image29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29.png"/><Relationship Id="rId23" Type="http://schemas.openxmlformats.org/officeDocument/2006/relationships/image" Target="../media/image29.png"/><Relationship Id="rId24" Type="http://schemas.openxmlformats.org/officeDocument/2006/relationships/image" Target="../media/image29.png"/><Relationship Id="rId25" Type="http://schemas.openxmlformats.org/officeDocument/2006/relationships/image" Target="../media/image26.png"/><Relationship Id="rId26" Type="http://schemas.openxmlformats.org/officeDocument/2006/relationships/image" Target="../media/image30.png"/><Relationship Id="rId27" Type="http://schemas.openxmlformats.org/officeDocument/2006/relationships/image" Target="../media/image29.png"/><Relationship Id="rId28" Type="http://schemas.openxmlformats.org/officeDocument/2006/relationships/image" Target="../media/image29.png"/><Relationship Id="rId29" Type="http://schemas.openxmlformats.org/officeDocument/2006/relationships/image" Target="../media/image26.png"/><Relationship Id="rId30" Type="http://schemas.openxmlformats.org/officeDocument/2006/relationships/image" Target="../media/image34.png"/><Relationship Id="rId31" Type="http://schemas.openxmlformats.org/officeDocument/2006/relationships/image" Target="../media/image29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1.gif"/><Relationship Id="rId35" Type="http://schemas.openxmlformats.org/officeDocument/2006/relationships/image" Target="../media/image32.png"/><Relationship Id="rId36" Type="http://schemas.openxmlformats.org/officeDocument/2006/relationships/image" Target="../media/image36.png"/><Relationship Id="rId37" Type="http://schemas.openxmlformats.org/officeDocument/2006/relationships/image" Target="../media/image26.png"/><Relationship Id="rId38" Type="http://schemas.openxmlformats.org/officeDocument/2006/relationships/image" Target="../media/image1.gif"/><Relationship Id="rId39" Type="http://schemas.openxmlformats.org/officeDocument/2006/relationships/image" Target="../media/image27.png"/><Relationship Id="rId40" Type="http://schemas.openxmlformats.org/officeDocument/2006/relationships/image" Target="../media/image27.png"/><Relationship Id="rId41" Type="http://schemas.openxmlformats.org/officeDocument/2006/relationships/image" Target="../media/image37.png"/><Relationship Id="rId42" Type="http://schemas.openxmlformats.org/officeDocument/2006/relationships/image" Target="../media/image1.gif"/><Relationship Id="rId4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3280" y="-360"/>
            <a:ext cx="450072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99"/>
                </a:solidFill>
                <a:latin typeface="Arial"/>
              </a:rPr>
              <a:t>Вместе - против терроризма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3284640"/>
            <a:ext cx="464328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1557360"/>
            <a:ext cx="40338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404640"/>
            <a:ext cx="91116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826920" y="229716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А мы не будем забывать</a:t>
            </a:r>
            <a:br>
              <a:rPr sz="4400"/>
            </a:b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День первый сентября,</a:t>
            </a:r>
            <a:br>
              <a:rPr sz="4400"/>
            </a:b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Когда умолкли навсегда</a:t>
            </a:r>
            <a:br>
              <a:rPr sz="4400"/>
            </a:b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Ребячьи голоса.</a:t>
            </a: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258920" y="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Сентябрь в гости постучался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День знаний наступил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Открыла школа детям двери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А террорист закры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258920" y="134136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Спортзал увешанный взрывчаткой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Обвалы крыши, взрывы, дым..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И этот день пожаром ярким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Мы - люди в памяти хран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258920" y="292428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Оборвались ребячьи жизни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И жизни их учителей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О, люди! Вы должны служить отчизне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А не губить ее дет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258920" y="458136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Зачем стрелять ребенку в спину?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Ведь он еще не начал жить...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Вот мать оплакивает сына -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альчишка взрывом был у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292720" y="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5150880" y="189000"/>
            <a:ext cx="35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Ах, сколько жизней оборвали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Невинных маленьких детей.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Ребята жизни потеряли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А школьники -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5153400" y="155736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Убийца, злобный и жестокий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Собачьей смертью умер ты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А жертвам вашего террора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Несут и слезы и ц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166000" y="2781360"/>
            <a:ext cx="39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Тебя оплакивать не станут -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Ты кровь детей посмел пролить!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День знаний в городе Беслане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ы будем в памяти хра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224680" y="4149720"/>
            <a:ext cx="35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ы будем помнить тех детей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Которые погибли в школе: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Из слез сольются ручейки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Из ручейков святое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5297040" y="544500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И это море забурлит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Восстанет, закипит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Утонет в море террорист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Убийца, вор, бан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45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49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05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605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969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325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721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85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708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СПОМНИМ ВСЕХ ПОИМЕННО</a:t>
            </a:r>
            <a:br>
              <a:rPr sz="24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СПИСОК ПОГИБШИХ В БЕСЛАНЕ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6360" y="76500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№  </a:t>
            </a: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Фамилия Имя Отчество   Год рождения</a:t>
            </a:r>
            <a:r>
              <a:rPr b="0" lang="ru-RU" sz="24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 Абросимова Екатерина Эдуардовна 19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 Агаев Георгий Тамерланович 19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 Адырхаев Альберт Казбекович 2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4 Адырхаева Ирина Александровна 19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5 Адырхаева-Аликова Зара Аликовна 196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6 Азиева Злата Сергеевна 19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7 Айлярова Светлана Юрьевна 19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8 Албегов Тимур Михайлович 19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9 Албегова Залина Тамерлановна 199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0 Аликова Алина Анатольевна 19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1 Аликова Альбина Викторовна 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2 Аликова Дарима Батуевна 196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3 Алкаев Сергей Дмитриевич 19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4 Арсоева Софья Владимирована 199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5 Арчегов Аслан Феликсович 19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6 Арчинов Ахсарбек Борисович 19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7 Арчинов Николай Борисович 199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8 Арчинова Индира Ахсарбековна 195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9 Бадоев Ахтемир Шамильевич 195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0 Бадтиева Анжела Валерьевна 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1 Базрова Дзерасса Ярославовна 19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2 Базрова Татьяна Сергеевна 19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3 Баландин Саша Александрович 199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4 Баландина Наташа Валерьевна 197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5 Баликоева Лариса Константиновна 197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6 Баликоева Светлана Ахмедовна 19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7 Басаева Дзерасса Казбековна 19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8 Баскаева Диана Муратовна 19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9 Батагов Тимур Сосланбекович 199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0 Батагова Алана Алановна 19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1 Батагова Марина Юрьевна 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2 Батагова Юля Алановна 19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3 Бедоев Борис Владимирович 19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4 Бекузарова Елена Сергеевна 19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5 Бердиков Альберт Бертович 199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6 Березова Ирина Владимировна 199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7 Березова-Аликова Серафима Аликовна 195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8 Бероев Аслан Зелимханович 19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9 Бетрозов Алан Русланович 19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40 Бетрозов Аслан Русланович 19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41 Бетрозов Руслан Рамазанович 1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2 Бзиева-Плиева Динара Николаевна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3 Бзыкова Агунда Александр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4 Биганошвили Сослан Эмзарович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 Beslane_Xor detej.mp3" descr=""/>
          <p:cNvPicPr/>
          <p:nvPr/>
        </p:nvPicPr>
        <p:blipFill>
          <a:blip r:embed="rId1"/>
          <a:stretch/>
        </p:blipFill>
        <p:spPr>
          <a:xfrm>
            <a:off x="7812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6667560" y="1989000"/>
            <a:ext cx="2476440" cy="34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5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5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5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5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5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50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50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50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50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50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0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50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50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50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9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00" fill="hold"/>
                                        <p:tgtEl>
                                          <p:spTgt spid="9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00" fill="hold"/>
                                        <p:tgtEl>
                                          <p:spTgt spid="9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00" fill="hold"/>
                                        <p:tgtEl>
                                          <p:spTgt spid="9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9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0" fill="hold"/>
                                        <p:tgtEl>
                                          <p:spTgt spid="9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9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9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00" fill="hold"/>
                                        <p:tgtEl>
                                          <p:spTgt spid="9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0" fill="hold"/>
                                        <p:tgtEl>
                                          <p:spTgt spid="9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5000" fill="hold"/>
                                        <p:tgtEl>
                                          <p:spTgt spid="9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0" fill="hold"/>
                                        <p:tgtEl>
                                          <p:spTgt spid="9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00" fill="hold"/>
                                        <p:tgtEl>
                                          <p:spTgt spid="93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00" fill="hold"/>
                                        <p:tgtEl>
                                          <p:spTgt spid="93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93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93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93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93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93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000" fill="hold"/>
                                        <p:tgtEl>
                                          <p:spTgt spid="93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5000" fill="hold"/>
                                        <p:tgtEl>
                                          <p:spTgt spid="93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000" fill="hold"/>
                                        <p:tgtEl>
                                          <p:spTgt spid="93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5000" fill="hold"/>
                                        <p:tgtEl>
                                          <p:spTgt spid="93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000" fill="hold"/>
                                        <p:tgtEl>
                                          <p:spTgt spid="93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5000" fill="hold"/>
                                        <p:tgtEl>
                                          <p:spTgt spid="93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000" fill="hold"/>
                                        <p:tgtEl>
                                          <p:spTgt spid="93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5000" fill="hold"/>
                                        <p:tgtEl>
                                          <p:spTgt spid="93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5000" fill="hold"/>
                                        <p:tgtEl>
                                          <p:spTgt spid="93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340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5 Бициев Заурбек Эдуард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6 Биченов Казбек Роман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7 Богазова Фатима Борис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8 Богазова-Хадикова Сима Гаппоевна 195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9 Боллоев Вадим Владимирович 19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0 Боллоева Зарина Вадим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1 Боллоева Мадина Вадим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2 Болотаева Фатима Хазбие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3 Болотаева Эльвира Алексее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4 Будаева Альбина Казбековна 196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5 Будаева Валерия Олеговна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6 Валигазова Стелла Альберт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7 Ваниев Альберт Гивиевич 198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8 Варзиев Эрик Эльбрусо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9 Ватаева Галина Хаджиевна 19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0 Габараев Эмзар Сиваевич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1 Гагарцева Виктория Олего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2 Гадаева-Бекмурзова Зарема Гавриловна 194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3 Гадиева-Голоева Фатима Таймуразовна 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4 Гайтов Алан Заурбекович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5 Галаева Алина Уматгирее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6 Гаппоев Руслан Харитонович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7 Гаппоева Дзера Руслановна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8 Гаппоева Наида Магометовна 19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9 Гацалова Агунда Тотраз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0 Годжиев Роман Маратович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1 Голоева Кристина Джабраиловна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2 Григорян Гагик Манукович 197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3 Григорян Мелине Гагик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4 Григорян Наира Юрик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5 Григорян Мирануш Гагико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6 Губуров Сослан Владимир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7 Гугкаева Инга Викторовна 198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8 Гульдаева Олеся Владимир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9 Гумецова Аза Александр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0 Гуриев Борис Станиславович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1 Гуриева Вера Станислав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2 Гутнов Заур Владимир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3 Гутнова Майя Казбековна 195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4 Дагуева Карина Сослановна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5 Дауров Вадим Валерьевич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6 Дауров Георгий Вадимович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7 Дауров Давид Владимир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8 Дауров Таймураз Олего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9 Даурова Зинаида Николаевна 19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1989000"/>
            <a:ext cx="222084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5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50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50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5000" fill="hold"/>
                                        <p:tgtEl>
                                          <p:spTgt spid="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5000" fill="hold"/>
                                        <p:tgtEl>
                                          <p:spTgt spid="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000" fill="hold"/>
                                        <p:tgtEl>
                                          <p:spTgt spid="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5000" fill="hold"/>
                                        <p:tgtEl>
                                          <p:spTgt spid="9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000" fill="hold"/>
                                        <p:tgtEl>
                                          <p:spTgt spid="9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5000" fill="hold"/>
                                        <p:tgtEl>
                                          <p:spTgt spid="9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0" fill="hold"/>
                                        <p:tgtEl>
                                          <p:spTgt spid="9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9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9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9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9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5000" fill="hold"/>
                                        <p:tgtEl>
                                          <p:spTgt spid="9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5000" fill="hold"/>
                                        <p:tgtEl>
                                          <p:spTgt spid="9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9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9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9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9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5000" fill="hold"/>
                                        <p:tgtEl>
                                          <p:spTgt spid="9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5000" fill="hold"/>
                                        <p:tgtEl>
                                          <p:spTgt spid="9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5000" fill="hold"/>
                                        <p:tgtEl>
                                          <p:spTgt spid="9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5000" fill="hold"/>
                                        <p:tgtEl>
                                          <p:spTgt spid="9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5000" fill="hold"/>
                                        <p:tgtEl>
                                          <p:spTgt spid="9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5000" fill="hold"/>
                                        <p:tgtEl>
                                          <p:spTgt spid="9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5000" fill="hold"/>
                                        <p:tgtEl>
                                          <p:spTgt spid="9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0" fill="hold"/>
                                        <p:tgtEl>
                                          <p:spTgt spid="9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0" fill="hold"/>
                                        <p:tgtEl>
                                          <p:spTgt spid="9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0" fill="hold"/>
                                        <p:tgtEl>
                                          <p:spTgt spid="9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5000" fill="hold"/>
                                        <p:tgtEl>
                                          <p:spTgt spid="9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5000" fill="hold"/>
                                        <p:tgtEl>
                                          <p:spTgt spid="9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5000" fill="hold"/>
                                        <p:tgtEl>
                                          <p:spTgt spid="9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5000" fill="hold"/>
                                        <p:tgtEl>
                                          <p:spTgt spid="9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5000" fill="hold"/>
                                        <p:tgtEl>
                                          <p:spTgt spid="9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5000" fill="hold"/>
                                        <p:tgtEl>
                                          <p:spTgt spid="9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5000" fill="hold"/>
                                        <p:tgtEl>
                                          <p:spTgt spid="9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0" fill="hold"/>
                                        <p:tgtEl>
                                          <p:spTgt spid="9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0" fill="hold"/>
                                        <p:tgtEl>
                                          <p:spTgt spid="9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0" fill="hold"/>
                                        <p:tgtEl>
                                          <p:spTgt spid="9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5000" fill="hold"/>
                                        <p:tgtEl>
                                          <p:spTgt spid="9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5000" fill="hold"/>
                                        <p:tgtEl>
                                          <p:spTgt spid="9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5000" fill="hold"/>
                                        <p:tgtEl>
                                          <p:spTgt spid="9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0" fill="hold"/>
                                        <p:tgtEl>
                                          <p:spTgt spid="9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5000" fill="hold"/>
                                        <p:tgtEl>
                                          <p:spTgt spid="9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5000" fill="hold"/>
                                        <p:tgtEl>
                                          <p:spTgt spid="9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5000" fill="hold"/>
                                        <p:tgtEl>
                                          <p:spTgt spid="9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5000" fill="hold"/>
                                        <p:tgtEl>
                                          <p:spTgt spid="9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5000" fill="hold"/>
                                        <p:tgtEl>
                                          <p:spTgt spid="9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0" fill="hold"/>
                                        <p:tgtEl>
                                          <p:spTgt spid="9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5000" fill="hold"/>
                                        <p:tgtEl>
                                          <p:spTgt spid="9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5000" fill="hold"/>
                                        <p:tgtEl>
                                          <p:spTgt spid="9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360" y="-3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0 Даурова Инэсса Патвакановна 19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1 Джибилов Борис Руслан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2 Джибилова Алана Руслан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3 Джибилова-Гасинова Эмма Лазаревна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4 Джидзалова Эдита Константин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5 Джимиев Олег Казбекович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6 Джиоев Артур Ахсарбек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7 Дзагоева Жанна Горгаевна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8 Дзагоева Ирма Валерье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9 Дзампаев Артур Таймуразович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0 Дзампаев Аспар Артурович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1 Дзампаева Агунда Артур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2 Дзампаева Светлана Дудар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3 Дзампаевна-Хетагурова Таисия Каурбековна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4 Дзарасов Аслан Казбек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5 Дзахова Сабина Асланбек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6 Дзгоев Хазби Хаджимуратович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7 Дзгоева Анна Михайловна 195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8 Дзгоева Дзерасса Казбек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9 Дзгоева Залина Алико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0 Дзгоева Ольга Владимировна 198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1 Дзиова Вика Касполат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2 Дзиова Дзера Аслан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3 Дзиова Зарина Таймуразовна 196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4 Дзуцева Алена Ахсарбек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5 Доган Алана Сейфилье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6 Дрюков Сергей Владимирович 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7 Дудиева Изета Ахсарбек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8 Дудиева Алла Асланбековна 17.03.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9 Дудиев Заур Эльбрусович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0 Дудиев Сослан Ахсарбекович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1 Дудиева Тина Харумовна 193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2 Дямбеков Майрам Сосланович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3 Дямбекова Луиза Сослан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4 Дямбекова Тамара Ибрагимо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5 Есенов Георгий Александрович 1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6 Есенова Ольга Николаевна 197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7 Есиев Эльбрус Викторович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8 Замесов Игорь Юрье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9 Замесова Наталья Юрье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0 Зангиева-Ногаева Зоя Муссаевна 19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1 Запорожец Сергей Александрович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2 Кабанова Диана Тамерлан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3 Кабанова-Бурнацева Эльмира Асланбековна 196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4 Кадалаева Ира Владимировна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232236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5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5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5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5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5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5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5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5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5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5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5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5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5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5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50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0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5000" fill="hold"/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5000" fill="hold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5000" fill="hold"/>
                                        <p:tgtEl>
                                          <p:spTgt spid="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5000" fill="hold"/>
                                        <p:tgtEl>
                                          <p:spTgt spid="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5000" fill="hold"/>
                                        <p:tgtEl>
                                          <p:spTgt spid="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000" fill="hold"/>
                                        <p:tgtEl>
                                          <p:spTgt spid="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5000" fill="hold"/>
                                        <p:tgtEl>
                                          <p:spTgt spid="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000" fill="hold"/>
                                        <p:tgtEl>
                                          <p:spTgt spid="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5000" fill="hold"/>
                                        <p:tgtEl>
                                          <p:spTgt spid="9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5000" fill="hold"/>
                                        <p:tgtEl>
                                          <p:spTgt spid="9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5000" fill="hold"/>
                                        <p:tgtEl>
                                          <p:spTgt spid="9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5000" fill="hold"/>
                                        <p:tgtEl>
                                          <p:spTgt spid="9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5000" fill="hold"/>
                                        <p:tgtEl>
                                          <p:spTgt spid="9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000" fill="hold"/>
                                        <p:tgtEl>
                                          <p:spTgt spid="9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5000" fill="hold"/>
                                        <p:tgtEl>
                                          <p:spTgt spid="9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5000" fill="hold"/>
                                        <p:tgtEl>
                                          <p:spTgt spid="9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5000" fill="hold"/>
                                        <p:tgtEl>
                                          <p:spTgt spid="9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5000" fill="hold"/>
                                        <p:tgtEl>
                                          <p:spTgt spid="9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5000" fill="hold"/>
                                        <p:tgtEl>
                                          <p:spTgt spid="9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5000" fill="hold"/>
                                        <p:tgtEl>
                                          <p:spTgt spid="9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5000" fill="hold"/>
                                        <p:tgtEl>
                                          <p:spTgt spid="9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000" fill="hold"/>
                                        <p:tgtEl>
                                          <p:spTgt spid="9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5000" fill="hold"/>
                                        <p:tgtEl>
                                          <p:spTgt spid="98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5000" fill="hold"/>
                                        <p:tgtEl>
                                          <p:spTgt spid="98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5000" fill="hold"/>
                                        <p:tgtEl>
                                          <p:spTgt spid="98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5000" fill="hold"/>
                                        <p:tgtEl>
                                          <p:spTgt spid="98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5000" fill="hold"/>
                                        <p:tgtEl>
                                          <p:spTgt spid="98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5000" fill="hold"/>
                                        <p:tgtEl>
                                          <p:spTgt spid="98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5000" fill="hold"/>
                                        <p:tgtEl>
                                          <p:spTgt spid="98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5000" fill="hold"/>
                                        <p:tgtEl>
                                          <p:spTgt spid="98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5000" fill="hold"/>
                                        <p:tgtEl>
                                          <p:spTgt spid="98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5000" fill="hold"/>
                                        <p:tgtEl>
                                          <p:spTgt spid="98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5000" fill="hold"/>
                                        <p:tgtEl>
                                          <p:spTgt spid="98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5000" fill="hold"/>
                                        <p:tgtEl>
                                          <p:spTgt spid="98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5000" fill="hold"/>
                                        <p:tgtEl>
                                          <p:spTgt spid="98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5000" fill="hold"/>
                                        <p:tgtEl>
                                          <p:spTgt spid="98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5000" fill="hold"/>
                                        <p:tgtEl>
                                          <p:spTgt spid="98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5000" fill="hold"/>
                                        <p:tgtEl>
                                          <p:spTgt spid="98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5000" fill="hold"/>
                                        <p:tgtEl>
                                          <p:spTgt spid="98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000" fill="hold"/>
                                        <p:tgtEl>
                                          <p:spTgt spid="98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5000" fill="hold"/>
                                        <p:tgtEl>
                                          <p:spTgt spid="98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5000" fill="hold"/>
                                        <p:tgtEl>
                                          <p:spTgt spid="98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5000" fill="hold"/>
                                        <p:tgtEl>
                                          <p:spTgt spid="98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00" fill="hold"/>
                                        <p:tgtEl>
                                          <p:spTgt spid="98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5000" fill="hold"/>
                                        <p:tgtEl>
                                          <p:spTgt spid="9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5000" fill="hold"/>
                                        <p:tgtEl>
                                          <p:spTgt spid="9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5000" fill="hold"/>
                                        <p:tgtEl>
                                          <p:spTgt spid="98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5000" fill="hold"/>
                                        <p:tgtEl>
                                          <p:spTgt spid="98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5000" fill="hold"/>
                                        <p:tgtEl>
                                          <p:spTgt spid="9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5000" fill="hold"/>
                                        <p:tgtEl>
                                          <p:spTgt spid="9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5000" fill="hold"/>
                                        <p:tgtEl>
                                          <p:spTgt spid="98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5000" fill="hold"/>
                                        <p:tgtEl>
                                          <p:spTgt spid="98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5000" fill="hold"/>
                                        <p:tgtEl>
                                          <p:spTgt spid="98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5000" fill="hold"/>
                                        <p:tgtEl>
                                          <p:spTgt spid="98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5000" fill="hold"/>
                                        <p:tgtEl>
                                          <p:spTgt spid="98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5000" fill="hold"/>
                                        <p:tgtEl>
                                          <p:spTgt spid="98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5 Канахина Мария Иван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6 Каниди Иван Константинович 19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7 Кантемирова Ажау Асланбек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8 Кантемирова Светлана Кантемир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9 Канукова Анжелика Анатолье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0 Караев Юрий Тотразович 195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1 Караева Нино Шалвовна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2 Караева-Цахилова Анна Батрбековна 19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3 Каркузашвили Лора Суликое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4 Карлов Иван Ильич 19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5 Карсанова Диана Таймураз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6 Каряева Эмма Хасановна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7 Кастуева Зарина Олег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8 Кацанова Алана Мурат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9 Кисиев Артур Владимирович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0 Кисиев Аслан Артур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1 Кодзаева Тамара Михайловна 193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2 Кодзаева Эллина Эдуардовна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3 Козырев Ахсар Игоре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4 Козырев Тимур Виталье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5 Козырева Алла Таймуразовна 19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6 Козырева Илона Виталье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7 Кокова Оксана Руслан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8 Кокоева Лиана Казбек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9 Кокойти Белла Мартие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0 Кониев Али(Олег) Казбекович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1 Кониев Казбек Алиевич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2 Кониев-Туаева Жанна Беслановна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3 Коцоев Артур Измаилович 196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4 Кудзиева Зинаида Владимировна 196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5 Кулов Олег Игоре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6 Кулова Лариса Майрамовна 195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7 Кундухова-Ходова Кристина Альберт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8 Курносова Светлана Ивановна 19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9 Кусова Анжела Альберт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0 Кусова Мадина Асланбековна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1 Кусова Маруся Аркадьевна 193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2 Кусова-Улубиева Римма Мурзабековна 1928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3Кучиева Альбина Цараевна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4 Кучиева Зарина Шамилье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5 Кцоева Мадина Владимировна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6 Лолаева Алана Алан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7 Макиев Станислав Гие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8 Макиева Людмила Александровна 197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9 Малиева Света Аслановна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2233440" cy="31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5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5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5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5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5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5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5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5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5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5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5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5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5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5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5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5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5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5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50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50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5000" fill="hold"/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5000" fill="hold"/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5000" fill="hold"/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5000" fill="hold"/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5000" fill="hold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5000" fill="hold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5000" fill="hold"/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5000" fill="hold"/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5000" fill="hold"/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5000" fill="hold"/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5000" fill="hold"/>
                                        <p:tgtEl>
                                          <p:spTgt spid="1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5000" fill="hold"/>
                                        <p:tgtEl>
                                          <p:spTgt spid="1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5000" fill="hold"/>
                                        <p:tgtEl>
                                          <p:spTgt spid="1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5000" fill="hold"/>
                                        <p:tgtEl>
                                          <p:spTgt spid="1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5000" fill="hold"/>
                                        <p:tgtEl>
                                          <p:spTgt spid="1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5000" fill="hold"/>
                                        <p:tgtEl>
                                          <p:spTgt spid="1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5000" fill="hold"/>
                                        <p:tgtEl>
                                          <p:spTgt spid="10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5000" fill="hold"/>
                                        <p:tgtEl>
                                          <p:spTgt spid="10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5000" fill="hold"/>
                                        <p:tgtEl>
                                          <p:spTgt spid="10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5000" fill="hold"/>
                                        <p:tgtEl>
                                          <p:spTgt spid="10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5000" fill="hold"/>
                                        <p:tgtEl>
                                          <p:spTgt spid="10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5000" fill="hold"/>
                                        <p:tgtEl>
                                          <p:spTgt spid="10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5000" fill="hold"/>
                                        <p:tgtEl>
                                          <p:spTgt spid="10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5000" fill="hold"/>
                                        <p:tgtEl>
                                          <p:spTgt spid="10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5000" fill="hold"/>
                                        <p:tgtEl>
                                          <p:spTgt spid="10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5000" fill="hold"/>
                                        <p:tgtEl>
                                          <p:spTgt spid="10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5000" fill="hold"/>
                                        <p:tgtEl>
                                          <p:spTgt spid="10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5000" fill="hold"/>
                                        <p:tgtEl>
                                          <p:spTgt spid="10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5000" fill="hold"/>
                                        <p:tgtEl>
                                          <p:spTgt spid="10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5000" fill="hold"/>
                                        <p:tgtEl>
                                          <p:spTgt spid="10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5000" fill="hold"/>
                                        <p:tgtEl>
                                          <p:spTgt spid="100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5000" fill="hold"/>
                                        <p:tgtEl>
                                          <p:spTgt spid="100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5000" fill="hold"/>
                                        <p:tgtEl>
                                          <p:spTgt spid="10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5000" fill="hold"/>
                                        <p:tgtEl>
                                          <p:spTgt spid="10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5000" fill="hold"/>
                                        <p:tgtEl>
                                          <p:spTgt spid="100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5000" fill="hold"/>
                                        <p:tgtEl>
                                          <p:spTgt spid="100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5000" fill="hold"/>
                                        <p:tgtEl>
                                          <p:spTgt spid="10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5000" fill="hold"/>
                                        <p:tgtEl>
                                          <p:spTgt spid="10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5000" fill="hold"/>
                                        <p:tgtEl>
                                          <p:spTgt spid="10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5000" fill="hold"/>
                                        <p:tgtEl>
                                          <p:spTgt spid="10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5000" fill="hold"/>
                                        <p:tgtEl>
                                          <p:spTgt spid="10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5000" fill="hold"/>
                                        <p:tgtEl>
                                          <p:spTgt spid="10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5000" fill="hold"/>
                                        <p:tgtEl>
                                          <p:spTgt spid="100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5000" fill="hold"/>
                                        <p:tgtEl>
                                          <p:spTgt spid="100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5000" fill="hold"/>
                                        <p:tgtEl>
                                          <p:spTgt spid="10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5000" fill="hold"/>
                                        <p:tgtEl>
                                          <p:spTgt spid="10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5000" fill="hold"/>
                                        <p:tgtEl>
                                          <p:spTgt spid="10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5000" fill="hold"/>
                                        <p:tgtEl>
                                          <p:spTgt spid="10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5000" fill="hold"/>
                                        <p:tgtEl>
                                          <p:spTgt spid="10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5000" fill="hold"/>
                                        <p:tgtEl>
                                          <p:spTgt spid="10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5000" fill="hold"/>
                                        <p:tgtEl>
                                          <p:spTgt spid="10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5000" fill="hold"/>
                                        <p:tgtEl>
                                          <p:spTgt spid="10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5000" fill="hold"/>
                                        <p:tgtEl>
                                          <p:spTgt spid="100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5000" fill="hold"/>
                                        <p:tgtEl>
                                          <p:spTgt spid="100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5000" fill="hold"/>
                                        <p:tgtEl>
                                          <p:spTgt spid="10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5000" fill="hold"/>
                                        <p:tgtEl>
                                          <p:spTgt spid="10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908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0 Маликиев Арсен Александрович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1 Мамаева Сабина Константин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2 Маргиева Эльвира Валикоевна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3 Меладзе-Биганошвили Людмила Николаевна 19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4 Меликова Карина Алан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5 Мисиков Артур Альбертович 197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6 Михайлов Александр Михайлович 19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7 Мкртчян-Галстян Амаля Арменаки 16.04.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8 Мкртчян Сатеник Гагики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9 Мокров Владимир Григорьевич 19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0 Моргоев Тамерлан Элберд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1 Мсостова-Гульдаева Эльза Акимо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2 Музаева-Самаева Фатима Татырбековна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3 Мукагова-Кундухова Таира Бекшоловна 19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4 Назарова Анастасия Геннадье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5 Назарова Надежда Ивановна 19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6 Найфонова Света Валерьевна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7 Несговоров Сослан Евгенье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8 Ногаева Марина Олег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9 Ногаева Рита Мухтаровна 196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0 Ногаева Элина Эльбрус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1 Норматова Лира Борисовна 197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2 Норматова-Ильина Зарина Рустам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3 Норматов-Бахромов Амирхан Авазович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4 Озиев Вадим Сергее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5 Озиева-Засеева Марина Анзоровна 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6 Останий Елена Павловна 196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7 Плиева Алана Важае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8 Пухаева Мадина Автандил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9 Рамонова Мариана Касполат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0 Решетняк Василий Виктор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1 Рубаев Артур Борисович 19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2 Рубаев Хасан Казбек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3 Руденок Наталья Александровна 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4 Рудик Лариса Владимировна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5 Рудик Юлия Сергее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6 Рудик Яна Сергеевна 6 к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7 Русов Мартин Арутюн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8 Русова Ани Арутюновна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9 Русова Рузана Георгие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0 Сабанов Таркан Габулеевич 19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1 Сабеева Илона Максимовна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2 Салказанова Рада Валерьевна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3 Салказанова-Кантемирова Лариса 196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-181080" y="2421000"/>
            <a:ext cx="206712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5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5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5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5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50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50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50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50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50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50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5000" fill="hold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5000" fill="hold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5000" fill="hold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5000" fill="hold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5000" fill="hold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5000" fill="hold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5000" fill="hold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5000" fill="hold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5000" fill="hold"/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5000" fill="hold"/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5000" fill="hold"/>
                                        <p:tgtEl>
                                          <p:spTgt spid="1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5000" fill="hold"/>
                                        <p:tgtEl>
                                          <p:spTgt spid="1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5000" fill="hold"/>
                                        <p:tgtEl>
                                          <p:spTgt spid="10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5000" fill="hold"/>
                                        <p:tgtEl>
                                          <p:spTgt spid="10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5000" fill="hold"/>
                                        <p:tgtEl>
                                          <p:spTgt spid="10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5000" fill="hold"/>
                                        <p:tgtEl>
                                          <p:spTgt spid="10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5000" fill="hold"/>
                                        <p:tgtEl>
                                          <p:spTgt spid="10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5000" fill="hold"/>
                                        <p:tgtEl>
                                          <p:spTgt spid="10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5000" fill="hold"/>
                                        <p:tgtEl>
                                          <p:spTgt spid="10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5000" fill="hold"/>
                                        <p:tgtEl>
                                          <p:spTgt spid="10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5000" fill="hold"/>
                                        <p:tgtEl>
                                          <p:spTgt spid="10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5000" fill="hold"/>
                                        <p:tgtEl>
                                          <p:spTgt spid="10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5000" fill="hold"/>
                                        <p:tgtEl>
                                          <p:spTgt spid="10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5000" fill="hold"/>
                                        <p:tgtEl>
                                          <p:spTgt spid="10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5000" fill="hold"/>
                                        <p:tgtEl>
                                          <p:spTgt spid="10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5000" fill="hold"/>
                                        <p:tgtEl>
                                          <p:spTgt spid="10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5000" fill="hold"/>
                                        <p:tgtEl>
                                          <p:spTgt spid="10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5000" fill="hold"/>
                                        <p:tgtEl>
                                          <p:spTgt spid="10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5000" fill="hold"/>
                                        <p:tgtEl>
                                          <p:spTgt spid="10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5000" fill="hold"/>
                                        <p:tgtEl>
                                          <p:spTgt spid="10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5000" fill="hold"/>
                                        <p:tgtEl>
                                          <p:spTgt spid="10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5000" fill="hold"/>
                                        <p:tgtEl>
                                          <p:spTgt spid="10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5000" fill="hold"/>
                                        <p:tgtEl>
                                          <p:spTgt spid="10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5000" fill="hold"/>
                                        <p:tgtEl>
                                          <p:spTgt spid="10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5000" fill="hold"/>
                                        <p:tgtEl>
                                          <p:spTgt spid="10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5000" fill="hold"/>
                                        <p:tgtEl>
                                          <p:spTgt spid="10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5000" fill="hold"/>
                                        <p:tgtEl>
                                          <p:spTgt spid="10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5000" fill="hold"/>
                                        <p:tgtEl>
                                          <p:spTgt spid="10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5000" fill="hold"/>
                                        <p:tgtEl>
                                          <p:spTgt spid="10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5000" fill="hold"/>
                                        <p:tgtEl>
                                          <p:spTgt spid="10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5000" fill="hold"/>
                                        <p:tgtEl>
                                          <p:spTgt spid="10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5000" fill="hold"/>
                                        <p:tgtEl>
                                          <p:spTgt spid="10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5000" fill="hold"/>
                                        <p:tgtEl>
                                          <p:spTgt spid="10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5000" fill="hold"/>
                                        <p:tgtEl>
                                          <p:spTgt spid="10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5000" fill="hold"/>
                                        <p:tgtEl>
                                          <p:spTgt spid="10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5000" fill="hold"/>
                                        <p:tgtEl>
                                          <p:spTgt spid="10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5000" fill="hold"/>
                                        <p:tgtEl>
                                          <p:spTgt spid="10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5000" fill="hold"/>
                                        <p:tgtEl>
                                          <p:spTgt spid="10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5000" fill="hold"/>
                                        <p:tgtEl>
                                          <p:spTgt spid="10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5000" fill="hold"/>
                                        <p:tgtEl>
                                          <p:spTgt spid="10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5000" fill="hold"/>
                                        <p:tgtEl>
                                          <p:spTgt spid="10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5000" fill="hold"/>
                                        <p:tgtEl>
                                          <p:spTgt spid="10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5000" fill="hold"/>
                                        <p:tgtEl>
                                          <p:spTgt spid="102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5000" fill="hold"/>
                                        <p:tgtEl>
                                          <p:spTgt spid="102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4 Сапронова Валентина Иванова 19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5 Сидаков Альберт Русланович 197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6 Сидаков Заур Вячаслав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7 Сидакова Дзерасса Саукузо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8 Сикоева Галина Астемировна 19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9 Смирнова Алла Евгенье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0 Смирнова Инна Олеговна 198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1 Созанова Мадина Юрье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2 Сокаева Альбина Владимир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3 Соколова Наталья Ивановна 197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4 Соскиева Ольга Николаевна 19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5 Сулейманов Шамиль Игоре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6 Тамаев Тотраз Артуро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7 Тамаев Артур Рамазанович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8 Тамаева-Савкуева Инга Таймуразовна 197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9 Таучелова Ирина Артур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0 Таучелова Света Артуро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1 Тебиев Заурбек Олег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2 Тебиева-Тускаева Альбина Владимировна 197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3 Тебиева Альма Бексолтано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4 Тебиева Фатима(Лариса) Афанасьевна 194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5 Теблоев Заур Самир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6 Тедеева Фатима Гарие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7 Тедтов Тимур Эльбрусо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8 Тетова Агунда Вадимо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9 Тетова Алина Вадимо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0 Тигиев Сослан Борисович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1 Токмаев Аслан Алан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2 Токмаев Сослан Алан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3 Токова Алина Аслан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4 Томаева Мадина Владимир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5 Тотиев Борис Таймураз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6 Тотиева Альбина Таймураз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7 Тотиева Анна Константино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8 Тотиева Дзерасса Константинович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9 Тотиева Лариса Таймуразовна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0 Тотиева Любовь Таймураз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1 Тотрова Марина Руслан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2 Тохтиев Азамат Эльбрусович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3 Третьякова Зинаида Филипповна 192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4 Туаев Хетаг Георгие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5 Туаева Инна Маирбековна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2060640"/>
            <a:ext cx="232236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5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5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5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5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5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5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5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5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5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5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5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5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5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5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5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5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5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5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50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50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50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50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50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50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50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50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50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50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50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50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50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50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50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50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5000" fill="hold"/>
                                        <p:tgtEl>
                                          <p:spTgt spid="1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5000" fill="hold"/>
                                        <p:tgtEl>
                                          <p:spTgt spid="1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5000" fill="hold"/>
                                        <p:tgtEl>
                                          <p:spTgt spid="1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5000" fill="hold"/>
                                        <p:tgtEl>
                                          <p:spTgt spid="1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5000" fill="hold"/>
                                        <p:tgtEl>
                                          <p:spTgt spid="10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5000" fill="hold"/>
                                        <p:tgtEl>
                                          <p:spTgt spid="10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5000" fill="hold"/>
                                        <p:tgtEl>
                                          <p:spTgt spid="10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5000" fill="hold"/>
                                        <p:tgtEl>
                                          <p:spTgt spid="10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5000" fill="hold"/>
                                        <p:tgtEl>
                                          <p:spTgt spid="10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5000" fill="hold"/>
                                        <p:tgtEl>
                                          <p:spTgt spid="10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5000" fill="hold"/>
                                        <p:tgtEl>
                                          <p:spTgt spid="10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5000" fill="hold"/>
                                        <p:tgtEl>
                                          <p:spTgt spid="10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5000" fill="hold"/>
                                        <p:tgtEl>
                                          <p:spTgt spid="10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5000" fill="hold"/>
                                        <p:tgtEl>
                                          <p:spTgt spid="10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5000" fill="hold"/>
                                        <p:tgtEl>
                                          <p:spTgt spid="10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5000" fill="hold"/>
                                        <p:tgtEl>
                                          <p:spTgt spid="10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5000" fill="hold"/>
                                        <p:tgtEl>
                                          <p:spTgt spid="10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5000" fill="hold"/>
                                        <p:tgtEl>
                                          <p:spTgt spid="10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5000" fill="hold"/>
                                        <p:tgtEl>
                                          <p:spTgt spid="104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5000" fill="hold"/>
                                        <p:tgtEl>
                                          <p:spTgt spid="104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5000" fill="hold"/>
                                        <p:tgtEl>
                                          <p:spTgt spid="10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5000" fill="hold"/>
                                        <p:tgtEl>
                                          <p:spTgt spid="10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5000" fill="hold"/>
                                        <p:tgtEl>
                                          <p:spTgt spid="104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5000" fill="hold"/>
                                        <p:tgtEl>
                                          <p:spTgt spid="104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5000" fill="hold"/>
                                        <p:tgtEl>
                                          <p:spTgt spid="10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5000" fill="hold"/>
                                        <p:tgtEl>
                                          <p:spTgt spid="10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5000" fill="hold"/>
                                        <p:tgtEl>
                                          <p:spTgt spid="104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5000" fill="hold"/>
                                        <p:tgtEl>
                                          <p:spTgt spid="104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5000" fill="hold"/>
                                        <p:tgtEl>
                                          <p:spTgt spid="10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5000" fill="hold"/>
                                        <p:tgtEl>
                                          <p:spTgt spid="10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5000" fill="hold"/>
                                        <p:tgtEl>
                                          <p:spTgt spid="104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5000" fill="hold"/>
                                        <p:tgtEl>
                                          <p:spTgt spid="104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5000" fill="hold"/>
                                        <p:tgtEl>
                                          <p:spTgt spid="10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5000" fill="hold"/>
                                        <p:tgtEl>
                                          <p:spTgt spid="10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5000" fill="hold"/>
                                        <p:tgtEl>
                                          <p:spTgt spid="104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5000" fill="hold"/>
                                        <p:tgtEl>
                                          <p:spTgt spid="104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5000" fill="hold"/>
                                        <p:tgtEl>
                                          <p:spTgt spid="10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5000" fill="hold"/>
                                        <p:tgtEl>
                                          <p:spTgt spid="10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5000" fill="hold"/>
                                        <p:tgtEl>
                                          <p:spTgt spid="104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5000" fill="hold"/>
                                        <p:tgtEl>
                                          <p:spTgt spid="104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5000" fill="hold"/>
                                        <p:tgtEl>
                                          <p:spTgt spid="104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5000" fill="hold"/>
                                        <p:tgtEl>
                                          <p:spTgt spid="104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5000" fill="hold"/>
                                        <p:tgtEl>
                                          <p:spTgt spid="104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5000" fill="hold"/>
                                        <p:tgtEl>
                                          <p:spTgt spid="104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63640" y="-36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6 Туаева Карина Георгие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7 Туаева Тамара Савлоховна 193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8 Туганов Батраз Георгиевич 19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9 Урманова Залина Сергеевна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0 Урманова Маша Алан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1 Урманова-Ходова Рита Сергеевна 19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2 Урусов Александр Эдуард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3 Фарниева Кристина Алановна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4 Фраев Руслан Михайлович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5 Фраева Фаризат Асланбековна 19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6 Фриева Елена Сергее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7 Хаблиев Батраз Эдуардо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8 Хадиков Ислам Аланович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9 Хадикова Ирина Сергее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0 Хаева Эмма Вадим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1 Хаматкоева Рима Даурбековна (баб. Урус.) 193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2 Ханаева Ирина Захаровна 19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3 Ходов Володя Майрбек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4 Ходова-Кундухова Алла Тамерлан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5 Хуадонова Регина Кермен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6 Хубаев Руслан Игоре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7 Хубаева Мадина Анатольевна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8 Хубецова Алина Феликс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9 Худалов Бексолтан Батразо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0 Худалов Георгий Эльбрус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1 Худалов Эльбрус Дзамболатович 19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2 Хузмиев Георгий Алан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3 Хузмиева Стелла Алан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4 Хуцистов Азамат Борисович 197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5 Цаболов Марат Алан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6 Цаллагов Тимур Борисович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7 Царахов Тамерлан Тотразович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8 Царахов Эльбрус Таймуразо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9 Цгоева-Бибоева Фатима Албего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0 Цибирова Тамирис Валерье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1 Циноева Инга Батраз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2 Цирихова Лиза Казбековна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3 Цирихова Тинна Асахметовна 19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4 Цкаев Ахсарбек Уралбек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5 Цкаева Кристина Руслан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6 Цкаева Фатима Борисовна 197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7 Цогоев Алан Казбек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8 Цогоев Аслан Казбек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9 Цогоев Виктор Казбекович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0 Цогоева Джульетта Казбек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1 Цогоева-Цгоева Залина Муссаевна 19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2 Цой Светлана Сергее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3 Цомартов Алексей Олег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4 Чеджемов Зелим Валерье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5 Чеджемова Лемма Цораевна 196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6 Черджиева Роза Тимофеевна 193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7 Шавлохов Аслан Борисович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8 Шавлохова Зарема Николаевна 19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Arial"/>
              </a:rPr>
              <a:t>№№ </a:t>
            </a:r>
            <a:r>
              <a:rPr b="0" lang="ru-RU" sz="2400" spc="-1" strike="noStrike">
                <a:solidFill>
                  <a:srgbClr val="00ccff"/>
                </a:solidFill>
                <a:latin typeface="Arial"/>
              </a:rPr>
              <a:t>Фамилия Имя Отчество Место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 Вилько Андрей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 Ильин Олег Геннадье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 Катасонов Роман Юрье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 Кормилин Дмитрий Ивано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 Кузнецов Михаил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 Лоськов Олег 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 Маляров Вячеслав Владимирович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 Перов Александр Валентино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 Пудовкин Денис 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 Туркин Андрей Алексее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 Разумовский Дмитрий Александрович     МЧ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 Замараев Валерий Валентинович      МЧ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0" y="2565360"/>
            <a:ext cx="18367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0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1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5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5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5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5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5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5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5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5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5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5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5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5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5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5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5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5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5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5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5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5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5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5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5000" fill="hold"/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5000" fill="hold"/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5000" fill="hold"/>
                                        <p:tgtEl>
                                          <p:spTgt spid="10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5000" fill="hold"/>
                                        <p:tgtEl>
                                          <p:spTgt spid="10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5000" fill="hold"/>
                                        <p:tgtEl>
                                          <p:spTgt spid="1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5000" fill="hold"/>
                                        <p:tgtEl>
                                          <p:spTgt spid="1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5000" fill="hold"/>
                                        <p:tgtEl>
                                          <p:spTgt spid="10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5000" fill="hold"/>
                                        <p:tgtEl>
                                          <p:spTgt spid="10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5000" fill="hold"/>
                                        <p:tgtEl>
                                          <p:spTgt spid="10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5000" fill="hold"/>
                                        <p:tgtEl>
                                          <p:spTgt spid="10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5000" fill="hold"/>
                                        <p:tgtEl>
                                          <p:spTgt spid="10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5000" fill="hold"/>
                                        <p:tgtEl>
                                          <p:spTgt spid="10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5000" fill="hold"/>
                                        <p:tgtEl>
                                          <p:spTgt spid="10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5000" fill="hold"/>
                                        <p:tgtEl>
                                          <p:spTgt spid="10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5000" fill="hold"/>
                                        <p:tgtEl>
                                          <p:spTgt spid="10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5000" fill="hold"/>
                                        <p:tgtEl>
                                          <p:spTgt spid="10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5000" fill="hold"/>
                                        <p:tgtEl>
                                          <p:spTgt spid="10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5000" fill="hold"/>
                                        <p:tgtEl>
                                          <p:spTgt spid="10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5000" fill="hold"/>
                                        <p:tgtEl>
                                          <p:spTgt spid="10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5000" fill="hold"/>
                                        <p:tgtEl>
                                          <p:spTgt spid="10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5000" fill="hold"/>
                                        <p:tgtEl>
                                          <p:spTgt spid="10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5000" fill="hold"/>
                                        <p:tgtEl>
                                          <p:spTgt spid="10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5000" fill="hold"/>
                                        <p:tgtEl>
                                          <p:spTgt spid="10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5000" fill="hold"/>
                                        <p:tgtEl>
                                          <p:spTgt spid="10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5000" fill="hold"/>
                                        <p:tgtEl>
                                          <p:spTgt spid="10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5000" fill="hold"/>
                                        <p:tgtEl>
                                          <p:spTgt spid="10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5000" fill="hold"/>
                                        <p:tgtEl>
                                          <p:spTgt spid="10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5000" fill="hold"/>
                                        <p:tgtEl>
                                          <p:spTgt spid="10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5000" fill="hold"/>
                                        <p:tgtEl>
                                          <p:spTgt spid="10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5000" fill="hold"/>
                                        <p:tgtEl>
                                          <p:spTgt spid="10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15000" fill="hold"/>
                                        <p:tgtEl>
                                          <p:spTgt spid="10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5000" fill="hold"/>
                                        <p:tgtEl>
                                          <p:spTgt spid="10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5000" fill="hold"/>
                                        <p:tgtEl>
                                          <p:spTgt spid="10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5000" fill="hold"/>
                                        <p:tgtEl>
                                          <p:spTgt spid="10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5000" fill="hold"/>
                                        <p:tgtEl>
                                          <p:spTgt spid="10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5000" fill="hold"/>
                                        <p:tgtEl>
                                          <p:spTgt spid="10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5000" fill="hold"/>
                                        <p:tgtEl>
                                          <p:spTgt spid="10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5000" fill="hold"/>
                                        <p:tgtEl>
                                          <p:spTgt spid="10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5000" fill="hold"/>
                                        <p:tgtEl>
                                          <p:spTgt spid="10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5000" fill="hold"/>
                                        <p:tgtEl>
                                          <p:spTgt spid="10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5000" fill="hold"/>
                                        <p:tgtEl>
                                          <p:spTgt spid="10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5000" fill="hold"/>
                                        <p:tgtEl>
                                          <p:spTgt spid="10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5000" fill="hold"/>
                                        <p:tgtEl>
                                          <p:spTgt spid="10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5000" fill="hold"/>
                                        <p:tgtEl>
                                          <p:spTgt spid="10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5000" fill="hold"/>
                                        <p:tgtEl>
                                          <p:spTgt spid="10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5000" fill="hold"/>
                                        <p:tgtEl>
                                          <p:spTgt spid="10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5000" fill="hold"/>
                                        <p:tgtEl>
                                          <p:spTgt spid="10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5000" fill="hold"/>
                                        <p:tgtEl>
                                          <p:spTgt spid="10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5000" fill="hold"/>
                                        <p:tgtEl>
                                          <p:spTgt spid="10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5000" fill="hold"/>
                                        <p:tgtEl>
                                          <p:spTgt spid="10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5000" fill="hold"/>
                                        <p:tgtEl>
                                          <p:spTgt spid="10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5000" fill="hold"/>
                                        <p:tgtEl>
                                          <p:spTgt spid="10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15000" fill="hold"/>
                                        <p:tgtEl>
                                          <p:spTgt spid="10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5000" fill="hold"/>
                                        <p:tgtEl>
                                          <p:spTgt spid="10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5" end="4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5000" fill="hold"/>
                                        <p:tgtEl>
                                          <p:spTgt spid="106">
                                            <p:txEl>
                                              <p:pRg st="45" end="4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5000" fill="hold"/>
                                        <p:tgtEl>
                                          <p:spTgt spid="106">
                                            <p:txEl>
                                              <p:pRg st="45" end="4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5000" fill="hold"/>
                                        <p:tgtEl>
                                          <p:spTgt spid="106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000" fill="hold"/>
                                        <p:tgtEl>
                                          <p:spTgt spid="106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7" end="4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5000" fill="hold"/>
                                        <p:tgtEl>
                                          <p:spTgt spid="106">
                                            <p:txEl>
                                              <p:pRg st="47" end="4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5000" fill="hold"/>
                                        <p:tgtEl>
                                          <p:spTgt spid="106">
                                            <p:txEl>
                                              <p:pRg st="47" end="4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8" end="4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5000" fill="hold"/>
                                        <p:tgtEl>
                                          <p:spTgt spid="106">
                                            <p:txEl>
                                              <p:pRg st="48" end="4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5000" fill="hold"/>
                                        <p:tgtEl>
                                          <p:spTgt spid="106">
                                            <p:txEl>
                                              <p:pRg st="48" end="4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5000" fill="hold"/>
                                        <p:tgtEl>
                                          <p:spTgt spid="106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5000" fill="hold"/>
                                        <p:tgtEl>
                                          <p:spTgt spid="106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0" end="5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5000" fill="hold"/>
                                        <p:tgtEl>
                                          <p:spTgt spid="106">
                                            <p:txEl>
                                              <p:pRg st="50" end="5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5000" fill="hold"/>
                                        <p:tgtEl>
                                          <p:spTgt spid="106">
                                            <p:txEl>
                                              <p:pRg st="50" end="5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5000" fill="hold"/>
                                        <p:tgtEl>
                                          <p:spTgt spid="106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5000" fill="hold"/>
                                        <p:tgtEl>
                                          <p:spTgt spid="106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5000" fill="hold"/>
                                        <p:tgtEl>
                                          <p:spTgt spid="106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5000" fill="hold"/>
                                        <p:tgtEl>
                                          <p:spTgt spid="106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5000" fill="hold"/>
                                        <p:tgtEl>
                                          <p:spTgt spid="106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5000" fill="hold"/>
                                        <p:tgtEl>
                                          <p:spTgt spid="106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5000" fill="hold"/>
                                        <p:tgtEl>
                                          <p:spTgt spid="106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5000" fill="hold"/>
                                        <p:tgtEl>
                                          <p:spTgt spid="106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5000" fill="hold"/>
                                        <p:tgtEl>
                                          <p:spTgt spid="106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5000" fill="hold"/>
                                        <p:tgtEl>
                                          <p:spTgt spid="106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5000" fill="hold"/>
                                        <p:tgtEl>
                                          <p:spTgt spid="106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5000" fill="hold"/>
                                        <p:tgtEl>
                                          <p:spTgt spid="106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5000" fill="hold"/>
                                        <p:tgtEl>
                                          <p:spTgt spid="106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5000" fill="hold"/>
                                        <p:tgtEl>
                                          <p:spTgt spid="106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5000" fill="hold"/>
                                        <p:tgtEl>
                                          <p:spTgt spid="106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5000" fill="hold"/>
                                        <p:tgtEl>
                                          <p:spTgt spid="106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15000" fill="hold"/>
                                        <p:tgtEl>
                                          <p:spTgt spid="106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5000" fill="hold"/>
                                        <p:tgtEl>
                                          <p:spTgt spid="106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0" end="6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5000" fill="hold"/>
                                        <p:tgtEl>
                                          <p:spTgt spid="106">
                                            <p:txEl>
                                              <p:pRg st="60" end="6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5000" fill="hold"/>
                                        <p:tgtEl>
                                          <p:spTgt spid="106">
                                            <p:txEl>
                                              <p:pRg st="60" end="6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5000" fill="hold"/>
                                        <p:tgtEl>
                                          <p:spTgt spid="106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5000" fill="hold"/>
                                        <p:tgtEl>
                                          <p:spTgt spid="106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5000" fill="hold"/>
                                        <p:tgtEl>
                                          <p:spTgt spid="106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5000" fill="hold"/>
                                        <p:tgtEl>
                                          <p:spTgt spid="106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5000" fill="hold"/>
                                        <p:tgtEl>
                                          <p:spTgt spid="106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5000" fill="hold"/>
                                        <p:tgtEl>
                                          <p:spTgt spid="106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5000" fill="hold"/>
                                        <p:tgtEl>
                                          <p:spTgt spid="106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5000" fill="hold"/>
                                        <p:tgtEl>
                                          <p:spTgt spid="106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5000" fill="hold"/>
                                        <p:tgtEl>
                                          <p:spTgt spid="106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5000" fill="hold"/>
                                        <p:tgtEl>
                                          <p:spTgt spid="106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404640"/>
            <a:ext cx="911160" cy="1197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427640" y="2708280"/>
            <a:ext cx="208116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1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59280" y="2997360"/>
            <a:ext cx="1184040" cy="155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1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771640" y="1413000"/>
            <a:ext cx="1132200" cy="1485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1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5908680" y="1773360"/>
            <a:ext cx="47304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6877080" y="404640"/>
            <a:ext cx="1623960" cy="213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1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1736640" y="3357720"/>
            <a:ext cx="362160" cy="47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1"/>
          <p:cNvPicPr/>
          <p:nvPr/>
        </p:nvPicPr>
        <p:blipFill>
          <a:blip r:embed="rId8">
            <a:lum contrast="6000"/>
          </a:blip>
          <a:stretch/>
        </p:blipFill>
        <p:spPr>
          <a:xfrm>
            <a:off x="2130480" y="1125360"/>
            <a:ext cx="473040" cy="621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1"/>
          <p:cNvPicPr/>
          <p:nvPr/>
        </p:nvPicPr>
        <p:blipFill>
          <a:blip r:embed="rId9">
            <a:lum contrast="6000"/>
          </a:blip>
          <a:stretch/>
        </p:blipFill>
        <p:spPr>
          <a:xfrm>
            <a:off x="179280" y="2276640"/>
            <a:ext cx="911160" cy="119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1"/>
          <p:cNvPicPr/>
          <p:nvPr/>
        </p:nvPicPr>
        <p:blipFill>
          <a:blip r:embed="rId10">
            <a:lum contrast="6000"/>
          </a:blip>
          <a:stretch/>
        </p:blipFill>
        <p:spPr>
          <a:xfrm>
            <a:off x="4716360" y="1197000"/>
            <a:ext cx="690840" cy="90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1"/>
          <p:cNvPicPr/>
          <p:nvPr/>
        </p:nvPicPr>
        <p:blipFill>
          <a:blip r:embed="rId11">
            <a:lum contrast="6000"/>
          </a:blip>
          <a:stretch/>
        </p:blipFill>
        <p:spPr>
          <a:xfrm>
            <a:off x="7020000" y="4437000"/>
            <a:ext cx="911160" cy="1197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1"/>
          <p:cNvPicPr/>
          <p:nvPr/>
        </p:nvPicPr>
        <p:blipFill>
          <a:blip r:embed="rId12">
            <a:lum contrast="6000"/>
          </a:blip>
          <a:stretch/>
        </p:blipFill>
        <p:spPr>
          <a:xfrm>
            <a:off x="1835280" y="213372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1"/>
          <p:cNvPicPr/>
          <p:nvPr/>
        </p:nvPicPr>
        <p:blipFill>
          <a:blip r:embed="rId13">
            <a:lum contrast="6000"/>
          </a:blip>
          <a:stretch/>
        </p:blipFill>
        <p:spPr>
          <a:xfrm>
            <a:off x="971640" y="4869000"/>
            <a:ext cx="1131840" cy="1485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1"/>
          <p:cNvPicPr/>
          <p:nvPr/>
        </p:nvPicPr>
        <p:blipFill>
          <a:blip r:embed="rId14">
            <a:lum contrast="6000"/>
          </a:blip>
          <a:stretch/>
        </p:blipFill>
        <p:spPr>
          <a:xfrm>
            <a:off x="3203640" y="515772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1"/>
          <p:cNvPicPr/>
          <p:nvPr/>
        </p:nvPicPr>
        <p:blipFill>
          <a:blip r:embed="rId15">
            <a:lum contrast="6000"/>
          </a:blip>
          <a:stretch/>
        </p:blipFill>
        <p:spPr>
          <a:xfrm>
            <a:off x="8244000" y="3068640"/>
            <a:ext cx="58248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1"/>
          <p:cNvPicPr/>
          <p:nvPr/>
        </p:nvPicPr>
        <p:blipFill>
          <a:blip r:embed="rId16">
            <a:lum contrast="6000"/>
          </a:blip>
          <a:stretch/>
        </p:blipFill>
        <p:spPr>
          <a:xfrm>
            <a:off x="7020000" y="3141720"/>
            <a:ext cx="690480" cy="90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1"/>
          <p:cNvPicPr/>
          <p:nvPr/>
        </p:nvPicPr>
        <p:blipFill>
          <a:blip r:embed="rId17">
            <a:lum contrast="6000"/>
          </a:blip>
          <a:stretch/>
        </p:blipFill>
        <p:spPr>
          <a:xfrm>
            <a:off x="6053040" y="765000"/>
            <a:ext cx="582840" cy="765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1"/>
          <p:cNvPicPr/>
          <p:nvPr/>
        </p:nvPicPr>
        <p:blipFill>
          <a:blip r:embed="rId18">
            <a:lum contrast="6000"/>
          </a:blip>
          <a:stretch/>
        </p:blipFill>
        <p:spPr>
          <a:xfrm>
            <a:off x="1332000" y="33336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1"/>
          <p:cNvPicPr/>
          <p:nvPr/>
        </p:nvPicPr>
        <p:blipFill>
          <a:blip r:embed="rId19">
            <a:lum contrast="6000"/>
          </a:blip>
          <a:stretch/>
        </p:blipFill>
        <p:spPr>
          <a:xfrm>
            <a:off x="3944880" y="549360"/>
            <a:ext cx="746280" cy="981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1"/>
          <p:cNvPicPr/>
          <p:nvPr/>
        </p:nvPicPr>
        <p:blipFill>
          <a:blip r:embed="rId20">
            <a:lum contrast="6000"/>
          </a:blip>
          <a:stretch/>
        </p:blipFill>
        <p:spPr>
          <a:xfrm>
            <a:off x="5148360" y="5589720"/>
            <a:ext cx="801720" cy="1052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1"/>
          <p:cNvPicPr/>
          <p:nvPr/>
        </p:nvPicPr>
        <p:blipFill>
          <a:blip r:embed="rId21">
            <a:lum contrast="6000"/>
          </a:blip>
          <a:stretch/>
        </p:blipFill>
        <p:spPr>
          <a:xfrm>
            <a:off x="231840" y="3645000"/>
            <a:ext cx="799920" cy="1052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1"/>
          <p:cNvPicPr/>
          <p:nvPr/>
        </p:nvPicPr>
        <p:blipFill>
          <a:blip r:embed="rId22">
            <a:lum contrast="6000"/>
          </a:blip>
          <a:stretch/>
        </p:blipFill>
        <p:spPr>
          <a:xfrm>
            <a:off x="2195640" y="371628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8" descr="1"/>
          <p:cNvPicPr/>
          <p:nvPr/>
        </p:nvPicPr>
        <p:blipFill>
          <a:blip r:embed="rId23">
            <a:lum contrast="6000"/>
          </a:blip>
          <a:stretch/>
        </p:blipFill>
        <p:spPr>
          <a:xfrm>
            <a:off x="5003640" y="260280"/>
            <a:ext cx="636840" cy="836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1"/>
          <p:cNvPicPr/>
          <p:nvPr/>
        </p:nvPicPr>
        <p:blipFill>
          <a:blip r:embed="rId24">
            <a:lum contrast="6000"/>
          </a:blip>
          <a:stretch/>
        </p:blipFill>
        <p:spPr>
          <a:xfrm>
            <a:off x="2484360" y="115920"/>
            <a:ext cx="636840" cy="83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0" descr="1"/>
          <p:cNvPicPr/>
          <p:nvPr/>
        </p:nvPicPr>
        <p:blipFill>
          <a:blip r:embed="rId25">
            <a:lum contrast="6000"/>
          </a:blip>
          <a:stretch/>
        </p:blipFill>
        <p:spPr>
          <a:xfrm>
            <a:off x="6156360" y="5950080"/>
            <a:ext cx="473040" cy="62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1" descr="1"/>
          <p:cNvPicPr/>
          <p:nvPr/>
        </p:nvPicPr>
        <p:blipFill>
          <a:blip r:embed="rId26">
            <a:lum contrast="6000"/>
          </a:blip>
          <a:stretch/>
        </p:blipFill>
        <p:spPr>
          <a:xfrm>
            <a:off x="8172360" y="4292640"/>
            <a:ext cx="582840" cy="76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1"/>
          <p:cNvPicPr/>
          <p:nvPr/>
        </p:nvPicPr>
        <p:blipFill>
          <a:blip r:embed="rId27">
            <a:lum contrast="6000"/>
          </a:blip>
          <a:stretch/>
        </p:blipFill>
        <p:spPr>
          <a:xfrm>
            <a:off x="6732720" y="573408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3" descr="1"/>
          <p:cNvPicPr/>
          <p:nvPr/>
        </p:nvPicPr>
        <p:blipFill>
          <a:blip r:embed="rId28">
            <a:lum contrast="6000"/>
          </a:blip>
          <a:stretch/>
        </p:blipFill>
        <p:spPr>
          <a:xfrm>
            <a:off x="2340000" y="479736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4" descr="1"/>
          <p:cNvPicPr/>
          <p:nvPr/>
        </p:nvPicPr>
        <p:blipFill>
          <a:blip r:embed="rId29">
            <a:lum contrast="6000"/>
          </a:blip>
          <a:stretch/>
        </p:blipFill>
        <p:spPr>
          <a:xfrm>
            <a:off x="4140360" y="5734080"/>
            <a:ext cx="473040" cy="620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5" descr="1"/>
          <p:cNvPicPr/>
          <p:nvPr/>
        </p:nvPicPr>
        <p:blipFill>
          <a:blip r:embed="rId30">
            <a:lum contrast="6000"/>
          </a:blip>
          <a:stretch/>
        </p:blipFill>
        <p:spPr>
          <a:xfrm>
            <a:off x="1187280" y="2133720"/>
            <a:ext cx="417600" cy="54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6" descr="1"/>
          <p:cNvPicPr/>
          <p:nvPr/>
        </p:nvPicPr>
        <p:blipFill>
          <a:blip r:embed="rId31">
            <a:lum contrast="6000"/>
          </a:blip>
          <a:stretch/>
        </p:blipFill>
        <p:spPr>
          <a:xfrm>
            <a:off x="324000" y="486900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7" descr="1"/>
          <p:cNvPicPr/>
          <p:nvPr/>
        </p:nvPicPr>
        <p:blipFill>
          <a:blip r:embed="rId32">
            <a:lum contrast="6000"/>
          </a:blip>
          <a:stretch/>
        </p:blipFill>
        <p:spPr>
          <a:xfrm>
            <a:off x="1258920" y="4149720"/>
            <a:ext cx="417600" cy="547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8" descr="1"/>
          <p:cNvPicPr/>
          <p:nvPr/>
        </p:nvPicPr>
        <p:blipFill>
          <a:blip r:embed="rId33">
            <a:lum contrast="6000"/>
          </a:blip>
          <a:stretch/>
        </p:blipFill>
        <p:spPr>
          <a:xfrm>
            <a:off x="3851280" y="1628640"/>
            <a:ext cx="855720" cy="112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9" descr="1"/>
          <p:cNvPicPr/>
          <p:nvPr/>
        </p:nvPicPr>
        <p:blipFill>
          <a:blip r:embed="rId34">
            <a:lum contrast="6000"/>
          </a:blip>
          <a:stretch/>
        </p:blipFill>
        <p:spPr>
          <a:xfrm>
            <a:off x="2268360" y="5661000"/>
            <a:ext cx="911520" cy="1197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0" descr="1"/>
          <p:cNvPicPr/>
          <p:nvPr/>
        </p:nvPicPr>
        <p:blipFill>
          <a:blip r:embed="rId35">
            <a:lum contrast="6000"/>
          </a:blip>
          <a:stretch/>
        </p:blipFill>
        <p:spPr>
          <a:xfrm>
            <a:off x="0" y="5805360"/>
            <a:ext cx="801720" cy="1052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" descr="1"/>
          <p:cNvPicPr/>
          <p:nvPr/>
        </p:nvPicPr>
        <p:blipFill>
          <a:blip r:embed="rId36">
            <a:lum contrast="6000"/>
          </a:blip>
          <a:stretch/>
        </p:blipFill>
        <p:spPr>
          <a:xfrm>
            <a:off x="6084720" y="2852640"/>
            <a:ext cx="671760" cy="88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2" descr="1"/>
          <p:cNvPicPr/>
          <p:nvPr/>
        </p:nvPicPr>
        <p:blipFill>
          <a:blip r:embed="rId37">
            <a:lum contrast="6000"/>
          </a:blip>
          <a:stretch/>
        </p:blipFill>
        <p:spPr>
          <a:xfrm>
            <a:off x="8532720" y="189000"/>
            <a:ext cx="473040" cy="62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3" descr="1"/>
          <p:cNvPicPr/>
          <p:nvPr/>
        </p:nvPicPr>
        <p:blipFill>
          <a:blip r:embed="rId38">
            <a:lum contrast="6000"/>
          </a:blip>
          <a:stretch/>
        </p:blipFill>
        <p:spPr>
          <a:xfrm>
            <a:off x="4067280" y="3860640"/>
            <a:ext cx="965160" cy="1268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4" descr="1"/>
          <p:cNvPicPr/>
          <p:nvPr/>
        </p:nvPicPr>
        <p:blipFill>
          <a:blip r:embed="rId39">
            <a:lum contrast="6000"/>
          </a:blip>
          <a:stretch/>
        </p:blipFill>
        <p:spPr>
          <a:xfrm>
            <a:off x="8244000" y="5516640"/>
            <a:ext cx="361800" cy="476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5" descr="1"/>
          <p:cNvPicPr/>
          <p:nvPr/>
        </p:nvPicPr>
        <p:blipFill>
          <a:blip r:embed="rId40">
            <a:lum contrast="6000"/>
          </a:blip>
          <a:stretch/>
        </p:blipFill>
        <p:spPr>
          <a:xfrm>
            <a:off x="6588000" y="4292640"/>
            <a:ext cx="362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6" descr="1"/>
          <p:cNvPicPr/>
          <p:nvPr/>
        </p:nvPicPr>
        <p:blipFill>
          <a:blip r:embed="rId41">
            <a:lum contrast="6000"/>
          </a:blip>
          <a:stretch/>
        </p:blipFill>
        <p:spPr>
          <a:xfrm>
            <a:off x="2627280" y="3068640"/>
            <a:ext cx="308160" cy="404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7" descr="1"/>
          <p:cNvPicPr/>
          <p:nvPr/>
        </p:nvPicPr>
        <p:blipFill>
          <a:blip r:embed="rId42">
            <a:lum contrast="6000"/>
          </a:blip>
          <a:stretch/>
        </p:blipFill>
        <p:spPr>
          <a:xfrm>
            <a:off x="3203640" y="0"/>
            <a:ext cx="10746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16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539640" y="0"/>
            <a:ext cx="7967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ы живём в разных городах и селах, учимся в разных школах, у каждого из нас есть родные, близкие, друзья, планы на будущее и мечты. Нельзя допустить, чтобы наша жизнь прервалась, так и не начавшись. Мы не хотим жить в страхе! Мы не позволим запугать себя, мы хотим спокойно ходить в школу и чувствовать себя в безопасности. Давайте объединимся перед лицом опасности и окажем поддержку тем, кто стал жертвам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914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Терроризм (от слова "террор", что значит "ужас") - средство психологического воздействия. Его главный объект - не те, кто стал жертвой, а те, кто остался жив. Его цель - не убийство, а устрашение и деморализация жив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Жертвы - инструмент, убийство - мет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Этим терроризм отличается от диверсионных действий, цель которых - разрушить объект (мост, электростанцию) или ликвидировать противника. Иногда цели совпадают (например, в покушениях на политических деятелей), но мы будем говорить лишь о терроризме, направленном против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93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077240" cy="49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рофилактика терро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памятка"/>
          <p:cNvPicPr/>
          <p:nvPr/>
        </p:nvPicPr>
        <p:blipFill>
          <a:blip r:embed="rId1"/>
          <a:stretch/>
        </p:blipFill>
        <p:spPr>
          <a:xfrm>
            <a:off x="108000" y="333360"/>
            <a:ext cx="140004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0" y="3186000"/>
            <a:ext cx="3390840" cy="3672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3419640" y="692280"/>
            <a:ext cx="5724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Если ты оказался в заложниках, знай - ты не один. Помни: опытные люди уже спешат к тебе на помощь. Не пытайся убежать, вырваться самостоятельно - террористы могут отреагировать агрессивно. Постарайся успокоиться и жди освоб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1) Настройся на долгое ожидание. Специалистам требуется время, чтобы освободить тебя. Они не теряют ни минуты, но должны всё предусмотре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2) Постарайся мысленно отвлечься от происходящего: вспоминай содержание книг, художественных фильмов, мультфильмов, решай в уме задачи. Если веришь в Бога, мол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3) Старайся не раздражать террористов: не кричи, не плачь, не возмущайся. Не требуй также немедленного освобождения - это не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4) Не вступай в споры с террористами, выполняй все их требования. Помни: это вынужденная мера, ты спасаешь себя и окружаю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5) Помни, что, возможно, тебе придётся долгое время провести без воды и пищи -экономь свои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6) Если в помещении душно, постарайся меньше двигаться, чтобы экономнее расходовать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7) Если воздуха достаточно, а по зданию передвигаться запрещают, делай нехитрые физические упражнения - напрягай и расслабляй мышцы рук, ног, спины. Не делай резких дви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8) Помни: если заложник проводит много времени с террористами, ему может показаться, что они вместе, а весь мир - против них. Это очень опасная ошибка! Знай: в любой ситуации террорист - это преступник, а заложник - его жертва! У них не может быть общих цел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5"/>
          <p:cNvSpPr txBox="1"/>
          <p:nvPr/>
        </p:nvSpPr>
        <p:spPr>
          <a:xfrm rot="4496400">
            <a:off x="1223640" y="1591920"/>
            <a:ext cx="251928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Century Gothic"/>
              </a:rPr>
              <a:t>памя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Century Gothic"/>
              <a:ea typeface="Century Gothic"/>
            </a:endParaRPr>
          </a:p>
        </p:txBody>
      </p:sp>
    </p:spTree>
  </p:cSld>
  <p:transition>
    <p:wheel spokes="2"/>
  </p:transition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0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Типология терро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Эксперты, изучающие феномен терроризма выделяют шесть основных типов современного террориз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националистический террор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религиозный террор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терроризм с поддержкой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терроризм левых экстреми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терроризм правых экстреми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терроризм анарх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4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Международная террористическая сеть. Региональные террористические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55640" y="4724280"/>
            <a:ext cx="511164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85640" indent="-485640">
              <a:spcBef>
                <a:spcPts val="700"/>
              </a:spcBef>
              <a:buClr>
                <a:srgbClr val="ffffff"/>
              </a:buClr>
              <a:buSzPct val="125000"/>
              <a:buFont typeface="Wide Lati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ижение «Талиба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spcBef>
                <a:spcPts val="700"/>
              </a:spcBef>
              <a:buClr>
                <a:srgbClr val="ffffff"/>
              </a:buClr>
              <a:buSzPct val="125000"/>
              <a:buFont typeface="Wide Lati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-Ка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spcBef>
                <a:spcPts val="700"/>
              </a:spcBef>
              <a:buClr>
                <a:srgbClr val="ffffff"/>
              </a:buClr>
              <a:buSzPct val="125000"/>
              <a:buFont typeface="Wide Lati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м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spcBef>
                <a:spcPts val="700"/>
              </a:spcBef>
              <a:buClr>
                <a:srgbClr val="ffffff"/>
              </a:buClr>
              <a:buSzPct val="125000"/>
              <a:buFont typeface="Wide Lati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-Джихад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ибо"/>
          <p:cNvPicPr/>
          <p:nvPr/>
        </p:nvPicPr>
        <p:blipFill>
          <a:blip r:embed="rId1"/>
          <a:stretch/>
        </p:blipFill>
        <p:spPr>
          <a:xfrm>
            <a:off x="755640" y="2563920"/>
            <a:ext cx="3263760" cy="1952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ибо2"/>
          <p:cNvPicPr/>
          <p:nvPr/>
        </p:nvPicPr>
        <p:blipFill>
          <a:blip r:embed="rId2"/>
          <a:stretch/>
        </p:blipFill>
        <p:spPr>
          <a:xfrm>
            <a:off x="5148360" y="2563920"/>
            <a:ext cx="3047760" cy="19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640"/>
                            </p:stCondLst>
                            <p:childTnLst>
                              <p:par>
                                <p:cTn id="9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960"/>
                            </p:stCondLst>
                            <p:childTnLst>
                              <p:par>
                                <p:cTn id="9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119"/>
                            </p:stCondLst>
                            <p:childTnLst>
                              <p:par>
                                <p:cTn id="9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Террористические акты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XXI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85"/>
          <p:cNvSpPr/>
          <p:nvPr/>
        </p:nvSpPr>
        <p:spPr>
          <a:xfrm>
            <a:off x="179280" y="200808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Год                      </a:t>
            </a:r>
            <a:r>
              <a:rPr b="1" i="1" lang="ru-RU" sz="2400" spc="-1" strike="noStrike">
                <a:solidFill>
                  <a:srgbClr val="00ff99"/>
                </a:solidFill>
                <a:latin typeface="Arial"/>
              </a:rPr>
              <a:t>Россия</a:t>
            </a:r>
            <a:r>
              <a:rPr b="1" i="1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ff99"/>
                </a:solidFill>
                <a:latin typeface="Arial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2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Москва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онезия   200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Каспийск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200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Грозный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2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рд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Беслан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я       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Ингушетия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британия2005      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Нальчик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87" descr="11_sentiabria-150"/>
          <p:cNvPicPr/>
          <p:nvPr/>
        </p:nvPicPr>
        <p:blipFill>
          <a:blip r:embed="rId1"/>
          <a:stretch/>
        </p:blipFill>
        <p:spPr>
          <a:xfrm>
            <a:off x="0" y="4770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8" descr=""/>
          <p:cNvPicPr/>
          <p:nvPr/>
        </p:nvPicPr>
        <p:blipFill>
          <a:blip r:embed="rId2"/>
          <a:stretch/>
        </p:blipFill>
        <p:spPr>
          <a:xfrm>
            <a:off x="2050920" y="4869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9" descr="CA3ML815"/>
          <p:cNvPicPr/>
          <p:nvPr/>
        </p:nvPicPr>
        <p:blipFill>
          <a:blip r:embed="rId3"/>
          <a:stretch/>
        </p:blipFill>
        <p:spPr>
          <a:xfrm>
            <a:off x="4500720" y="5086440"/>
            <a:ext cx="2663640" cy="1771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0" descr="Каспийск"/>
          <p:cNvPicPr/>
          <p:nvPr/>
        </p:nvPicPr>
        <p:blipFill>
          <a:blip r:embed="rId4"/>
          <a:stretch/>
        </p:blipFill>
        <p:spPr>
          <a:xfrm>
            <a:off x="0" y="1484280"/>
            <a:ext cx="2289240" cy="3433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91" descr="Грозный"/>
          <p:cNvPicPr/>
          <p:nvPr/>
        </p:nvPicPr>
        <p:blipFill>
          <a:blip r:embed="rId5"/>
          <a:stretch/>
        </p:blipFill>
        <p:spPr>
          <a:xfrm>
            <a:off x="6804000" y="5064120"/>
            <a:ext cx="2340000" cy="179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92" descr="shkola4"/>
          <p:cNvPicPr/>
          <p:nvPr/>
        </p:nvPicPr>
        <p:blipFill>
          <a:blip r:embed="rId6"/>
          <a:stretch/>
        </p:blipFill>
        <p:spPr>
          <a:xfrm>
            <a:off x="1547640" y="141300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3" descr="в грозном"/>
          <p:cNvPicPr/>
          <p:nvPr/>
        </p:nvPicPr>
        <p:blipFill>
          <a:blip r:embed="rId7"/>
          <a:stretch/>
        </p:blipFill>
        <p:spPr>
          <a:xfrm>
            <a:off x="2195640" y="3192480"/>
            <a:ext cx="2232000" cy="171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4" descr="8F4E33BB253A45FE41759223"/>
          <p:cNvPicPr/>
          <p:nvPr/>
        </p:nvPicPr>
        <p:blipFill>
          <a:blip r:embed="rId8"/>
          <a:stretch/>
        </p:blipFill>
        <p:spPr>
          <a:xfrm>
            <a:off x="4572000" y="1341360"/>
            <a:ext cx="2665440" cy="1638360"/>
          </a:xfrm>
          <a:prstGeom prst="rect">
            <a:avLst/>
          </a:prstGeom>
          <a:ln w="0">
            <a:noFill/>
          </a:ln>
        </p:spPr>
      </p:pic>
      <p:sp>
        <p:nvSpPr>
          <p:cNvPr id="61" name="WordArt 72"/>
          <p:cNvSpPr txBox="1"/>
          <p:nvPr/>
        </p:nvSpPr>
        <p:spPr>
          <a:xfrm>
            <a:off x="324000" y="2708280"/>
            <a:ext cx="82771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сентябр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памяти жертв терактов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076720" y="3573360"/>
            <a:ext cx="4067280" cy="3049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468360" y="0"/>
            <a:ext cx="4572000" cy="72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Мы никогда не забудем, какая ужасная трагедия случилась в Северной Осетии, именно в Беслане 1 сентября 2004 года. С тех пор в российском календаре стало на одну чёрную дату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Но эта дата будет одной из самых чёрных потому, что в этот праздничный день погибли дети в священном  месте -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ffcc"/>
                </a:solidFill>
                <a:uFillTx/>
                <a:latin typeface="Arial"/>
              </a:rPr>
              <a:t>Невинные дети!!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Самое дорогое, что есть в э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страшном Мире. Они погиб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от позорных пуль в спи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полулюдей-полуволков. Но им  надо помнить, что и на них всегда найдётся управа и Россия уже не раз  и успешно защищала свою Родину от  чужих тварей, положивших глаз на  Славную Землю и Великий на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1"/>
          <p:cNvPicPr/>
          <p:nvPr/>
        </p:nvPicPr>
        <p:blipFill>
          <a:blip r:embed="rId2"/>
          <a:stretch/>
        </p:blipFill>
        <p:spPr>
          <a:xfrm>
            <a:off x="6046920" y="1628640"/>
            <a:ext cx="145872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8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96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56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6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5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4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476280"/>
            <a:ext cx="86976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Beslan_3"/>
          <p:cNvPicPr/>
          <p:nvPr/>
        </p:nvPicPr>
        <p:blipFill>
          <a:blip r:embed="rId2"/>
          <a:stretch/>
        </p:blipFill>
        <p:spPr>
          <a:xfrm>
            <a:off x="4862520" y="0"/>
            <a:ext cx="4281480" cy="3162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b_20862"/>
          <p:cNvPicPr/>
          <p:nvPr/>
        </p:nvPicPr>
        <p:blipFill>
          <a:blip r:embed="rId3"/>
          <a:stretch/>
        </p:blipFill>
        <p:spPr>
          <a:xfrm>
            <a:off x="1187280" y="321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900920" cy="533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113040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116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68360" y="1197000"/>
          <a:ext cx="8229600" cy="5111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1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49" descr="gal-thumbs-foto-t901-64"/>
          <p:cNvPicPr/>
          <p:nvPr/>
        </p:nvPicPr>
        <p:blipFill>
          <a:blip r:embed="rId2"/>
          <a:stretch/>
        </p:blipFill>
        <p:spPr>
          <a:xfrm>
            <a:off x="324000" y="1197000"/>
            <a:ext cx="2198520" cy="29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0" descr="gal-thumbs-foto-t881-64"/>
          <p:cNvPicPr/>
          <p:nvPr/>
        </p:nvPicPr>
        <p:blipFill>
          <a:blip r:embed="rId3"/>
          <a:stretch/>
        </p:blipFill>
        <p:spPr>
          <a:xfrm>
            <a:off x="6732720" y="1197000"/>
            <a:ext cx="2131920" cy="30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1" descr="gal-thumbs-foto-t879-64"/>
          <p:cNvPicPr/>
          <p:nvPr/>
        </p:nvPicPr>
        <p:blipFill>
          <a:blip r:embed="rId4"/>
          <a:stretch/>
        </p:blipFill>
        <p:spPr>
          <a:xfrm>
            <a:off x="2556000" y="1197000"/>
            <a:ext cx="1920600" cy="295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2" descr="gal-thumbs-foto-t880-64"/>
          <p:cNvPicPr/>
          <p:nvPr/>
        </p:nvPicPr>
        <p:blipFill>
          <a:blip r:embed="rId5"/>
          <a:stretch/>
        </p:blipFill>
        <p:spPr>
          <a:xfrm>
            <a:off x="4500720" y="1197000"/>
            <a:ext cx="2217600" cy="295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3" descr="gal-thumbs-foto-t902-64"/>
          <p:cNvPicPr/>
          <p:nvPr/>
        </p:nvPicPr>
        <p:blipFill>
          <a:blip r:embed="rId6"/>
          <a:stretch/>
        </p:blipFill>
        <p:spPr>
          <a:xfrm>
            <a:off x="324000" y="4221000"/>
            <a:ext cx="3024000" cy="21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4" descr="gal-thumbs-foto-t905-64"/>
          <p:cNvPicPr/>
          <p:nvPr/>
        </p:nvPicPr>
        <p:blipFill>
          <a:blip r:embed="rId7"/>
          <a:stretch/>
        </p:blipFill>
        <p:spPr>
          <a:xfrm>
            <a:off x="3276720" y="4221000"/>
            <a:ext cx="2950920" cy="208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5" descr="gal-thumbs-foto-t892-64"/>
          <p:cNvPicPr/>
          <p:nvPr/>
        </p:nvPicPr>
        <p:blipFill>
          <a:blip r:embed="rId8"/>
          <a:stretch/>
        </p:blipFill>
        <p:spPr>
          <a:xfrm>
            <a:off x="6227640" y="4221000"/>
            <a:ext cx="2916360" cy="2090880"/>
          </a:xfrm>
          <a:prstGeom prst="rect">
            <a:avLst/>
          </a:prstGeom>
          <a:ln w="0">
            <a:noFill/>
          </a:ln>
        </p:spPr>
      </p:pic>
      <p:sp>
        <p:nvSpPr>
          <p:cNvPr id="79" name="WordArt 56"/>
          <p:cNvSpPr txBox="1"/>
          <p:nvPr/>
        </p:nvSpPr>
        <p:spPr>
          <a:xfrm>
            <a:off x="1042920" y="115920"/>
            <a:ext cx="78501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рроризм - глазами дете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7:35:16Z</dcterms:created>
  <dc:creator>user</dc:creator>
  <dc:description/>
  <dc:language>en-US</dc:language>
  <cp:lastModifiedBy>pavel</cp:lastModifiedBy>
  <dcterms:modified xsi:type="dcterms:W3CDTF">2016-04-17T18:52:44Z</dcterms:modified>
  <cp:revision>20</cp:revision>
  <dc:subject/>
  <dc:title>Мы – против терроризма!!!</dc:title>
</cp:coreProperties>
</file>