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3DDC-49B8-42DD-9670-599D597B90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8965-57E3-4F44-9007-5581B3B27A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B50E-F2CB-4753-9B02-4DD48BCFF1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80B-19A6-46CC-8408-43CAFC01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564-6D5D-44B8-8A53-3E9615EB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73D-1D52-4384-AF39-AE211489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70F-C71C-4CC9-9072-17AAC1E8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566-F91A-4688-970B-E8F83261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F29-2677-43EA-BDAD-52BAFC8A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C5B-5BFD-4435-BF3D-7562FB4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432-FB23-42C4-A7BB-9DDC2F6E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00C-15D8-42D4-A557-10838B41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5B0-8353-42EC-978C-FF1D0D70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524-3328-4604-B7C7-2BF51CE5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531-39E5-4AE1-ABB3-60BE004E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26FF-D57C-4F62-A3AA-F8568E5B5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908000" y="836640"/>
            <a:ext cx="61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я совместной работы специалистов коррекционно-развивающего образования ГКОУ СО «Верхнесинячихинская школа-интерна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4"/>
          <p:cNvSpPr/>
          <p:nvPr/>
        </p:nvSpPr>
        <p:spPr>
          <a:xfrm flipH="1">
            <a:off x="1476000" y="2924280"/>
            <a:ext cx="642924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5"/>
          <p:cNvSpPr/>
          <p:nvPr/>
        </p:nvSpPr>
        <p:spPr>
          <a:xfrm flipH="1">
            <a:off x="2340000" y="692280"/>
            <a:ext cx="650088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0" y="5373720"/>
            <a:ext cx="468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ыполнила: учитель логопедии Зикратова М.А.  08.06.201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826920" y="725760"/>
            <a:ext cx="72392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4. Организационно-методическое, анали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 методическое (выступления на родительских собраниях, круглых столах, педагогических советах, методических объединениях; участие в выездных семинарах, курсах повышения квалификации, школьном консилиум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ое (составление аналитических справок, отчетов, речевых заключений, характеристик на учащих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4360" y="1924920"/>
            <a:ext cx="7920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86f2b"/>
                </a:solidFill>
                <a:uFillTx/>
                <a:latin typeface="Times New Roman"/>
              </a:rPr>
              <a:t>Главной проблемой мы определили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сутствие совместного скоординированного планирования работы специалистов сопровождения с методическими объединениями школ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8"/>
          <p:cNvSpPr/>
          <p:nvPr/>
        </p:nvSpPr>
        <p:spPr>
          <a:xfrm flipH="1">
            <a:off x="0" y="981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31564"/>
          <p:cNvPicPr/>
          <p:nvPr/>
        </p:nvPicPr>
        <p:blipFill>
          <a:blip r:embed="rId1"/>
          <a:stretch/>
        </p:blipFill>
        <p:spPr>
          <a:xfrm>
            <a:off x="5724360" y="4508640"/>
            <a:ext cx="3049920" cy="21621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8"/>
          <p:cNvSpPr/>
          <p:nvPr/>
        </p:nvSpPr>
        <p:spPr>
          <a:xfrm flipH="1">
            <a:off x="0" y="981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86f2b"/>
                </a:solidFill>
                <a:uFillTx/>
                <a:latin typeface="Times New Roman"/>
              </a:rPr>
              <a:t>Наши предло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20" y="1844640"/>
            <a:ext cx="73598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ное участие специалистов сопровождения в работе методических объеди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накомление педагогов с результатами обследования и совместное планирование  работы над выявленной пробле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посещение  уроков (занятий) и формулировка рекомендаций по индивидуальной работе с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местное консультирование родите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5292720" y="4343400"/>
            <a:ext cx="3851280" cy="25146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ая соединительная линия 8"/>
          <p:cNvSpPr/>
          <p:nvPr/>
        </p:nvSpPr>
        <p:spPr>
          <a:xfrm flipH="1">
            <a:off x="0" y="184464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26920" y="1640160"/>
            <a:ext cx="72392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Эффективность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ционно-развивающей работы определяется ее комплексностью, то есть тесным взаимодействием педагогов, психологов, логопедов, социальных педагогов, медицинских рабо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684360" y="1193400"/>
            <a:ext cx="7920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86f2b"/>
                </a:solidFill>
                <a:uFillTx/>
                <a:latin typeface="Times New Roman"/>
              </a:rPr>
              <a:t>Цель совместной работ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условий в школе, способствующих освоению  образовательной программы, сохранению  здоровья, коррекции отклонений в развитии познавательной деятельности, успешной социализации с учетом индивидуальных способностей, потребностей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 flipH="1">
            <a:off x="0" y="981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31564"/>
          <p:cNvPicPr/>
          <p:nvPr/>
        </p:nvPicPr>
        <p:blipFill>
          <a:blip r:embed="rId1"/>
          <a:stretch/>
        </p:blipFill>
        <p:spPr>
          <a:xfrm>
            <a:off x="5724360" y="4508640"/>
            <a:ext cx="3049920" cy="21621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8"/>
          <p:cNvSpPr/>
          <p:nvPr/>
        </p:nvSpPr>
        <p:spPr>
          <a:xfrm flipH="1">
            <a:off x="0" y="981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86f2b"/>
                </a:solidFill>
                <a:uFillTx/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20" y="1844640"/>
            <a:ext cx="73598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ть своевременное выявление затруднений у детей с особыми образовательными потребност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ить комплексный (психолого-медико-педагогический) подход в КР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ь индивидуальную коррекцию развити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азывать помощь семье в коррекционно-развивающем проце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ять сотрудничество с учреждениями социокультурной среды для повышения эффективности коррекционно-развивающе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3"/>
          <a:stretch/>
        </p:blipFill>
        <p:spPr>
          <a:xfrm>
            <a:off x="5292720" y="4343400"/>
            <a:ext cx="3851280" cy="25146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8"/>
          <p:cNvSpPr/>
          <p:nvPr/>
        </p:nvSpPr>
        <p:spPr>
          <a:xfrm flipH="1">
            <a:off x="0" y="184464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86f2b"/>
                </a:solidFill>
                <a:uFillTx/>
                <a:latin typeface="Times New Roman"/>
              </a:rPr>
              <a:t>Приоритетными направлениями работы специалистов КРО мы определи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670716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ностическ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рекционно-развивающе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ультативно-просветитель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ое, аналит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3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ая соединительная линия 8"/>
          <p:cNvSpPr/>
          <p:nvPr/>
        </p:nvSpPr>
        <p:spPr>
          <a:xfrm flipH="1">
            <a:off x="0" y="184464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826920" y="664200"/>
            <a:ext cx="72392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1  Диагно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ка готовности к школьному обуч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: определение уровня готовности к школе и выявление учащихся «группы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Диагностика готовности к обучению в среднем зв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: поддержка учащихся пятого класса в период адаптации к обучению в среднем зв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Диагностика индивидуальных и личностных особенностей старшего звена. Цель: раскрытие потенциальных возможностей личности при определении профессионального вы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826920" y="1914480"/>
            <a:ext cx="723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Виды диагно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овая (согласно плану специалист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запросу (педагогов, родителей, администрации, ИДН, комиссии по делам несовершеннолетних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826920" y="1061280"/>
            <a:ext cx="7239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2. Коррекционно-развиваю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ьная работа (занятия по развитию ЭВС, занятия по развитию устной и письменной реч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овые (занятия по развитию психо-моторики и сенсорных процес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: создание условий для положительной динамики развития и обучения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826920" y="573120"/>
            <a:ext cx="72392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3. Консультативно-просветитель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с родителями (родительские собрания, консультации родителей конкретного ребенка по проблемам воспитания и обучения, информирование и просвещение родителей, анкетир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с педагогами (консультирование по запросу, совместная работа педагогов и роди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иеся (реализация индивидуальных планов работы по коррекционной работе с детьми СОП, профориентационная раб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: получение педагогами, детьми, родителями информации, связанной с обучением, воспит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7-06-08T09:46:16Z</dcterms:modified>
  <cp:revision>30</cp:revision>
  <dc:subject/>
  <dc:title>Слайд 1</dc:title>
</cp:coreProperties>
</file>