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DB575-B135-4385-8B28-D03A93DF18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C2AE-EE96-4266-8336-CA49D10F98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9B43-7E23-437B-97FD-F85420D870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F5B4-136E-483B-AAEB-AFB9146A7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27C7-E652-4D70-8934-4E0254F7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9CB3-C203-4D01-9ECC-FD8AE7B08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629A-5C4D-4230-A44D-70AA2C2FC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1B0F-994E-4CB4-900A-7A48F2BC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3A78-37F0-4B15-B4D3-790C68AE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23D2-B268-4365-B37B-C4AE89AB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2882-3678-4C0D-9E98-4434AB9D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7AFD-D20B-4867-985C-44B38898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4E02-F192-4FF0-BF15-1F400D7B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F9FA-5400-45F0-B75F-465D29E2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3D31-794F-4533-9009-5CB81E98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B8FE-9CB0-4978-BDFF-9CB108C179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1908000" y="836640"/>
            <a:ext cx="6143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рганизация совместной работы специалистов коррекционно-развивающего образования ГКОУ СО «Верхнесинячихинская школа-интерна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4"/>
          <p:cNvSpPr/>
          <p:nvPr/>
        </p:nvSpPr>
        <p:spPr>
          <a:xfrm flipH="1">
            <a:off x="1476000" y="2924280"/>
            <a:ext cx="6429240" cy="0"/>
          </a:xfrm>
          <a:prstGeom prst="line">
            <a:avLst/>
          </a:prstGeom>
          <a:ln w="63360">
            <a:solidFill>
              <a:srgbClr val="d8d80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5"/>
          <p:cNvSpPr/>
          <p:nvPr/>
        </p:nvSpPr>
        <p:spPr>
          <a:xfrm flipH="1">
            <a:off x="2340000" y="692280"/>
            <a:ext cx="6500880" cy="0"/>
          </a:xfrm>
          <a:prstGeom prst="line">
            <a:avLst/>
          </a:prstGeom>
          <a:ln w="63360">
            <a:solidFill>
              <a:srgbClr val="d8d80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0" y="5373720"/>
            <a:ext cx="4681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ыполнила: учитель логопедии Зикратова М.А.  08.06.2017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ая соединительная линия 8"/>
          <p:cNvSpPr/>
          <p:nvPr/>
        </p:nvSpPr>
        <p:spPr>
          <a:xfrm flipH="1">
            <a:off x="250920" y="765000"/>
            <a:ext cx="9144000" cy="0"/>
          </a:xfrm>
          <a:prstGeom prst="line">
            <a:avLst/>
          </a:prstGeom>
          <a:ln w="63360">
            <a:solidFill>
              <a:srgbClr val="d8d80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826920" y="725760"/>
            <a:ext cx="723924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4. Организационно-методическое, аналитиче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ационно- методическое (выступления на родительских собраниях, круглых столах, педагогических советах, методических объединениях; участие в выездных семинарах, курсах повышения квалификации, школьном консилиум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алитическое (составление аналитических справок, отчетов, речевых заключений, характеристик на учащихс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684360" y="1924920"/>
            <a:ext cx="792000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86f2b"/>
                </a:solidFill>
                <a:uFillTx/>
                <a:latin typeface="Times New Roman"/>
              </a:rPr>
              <a:t>Главной проблемой мы определили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сутствие совместного скоординированного планирования работы специалистов сопровождения с методическими объединениями школ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8"/>
          <p:cNvSpPr/>
          <p:nvPr/>
        </p:nvSpPr>
        <p:spPr>
          <a:xfrm flipH="1">
            <a:off x="0" y="981000"/>
            <a:ext cx="9144000" cy="0"/>
          </a:xfrm>
          <a:prstGeom prst="line">
            <a:avLst/>
          </a:prstGeom>
          <a:ln w="63360">
            <a:solidFill>
              <a:srgbClr val="d8d80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31564"/>
          <p:cNvPicPr/>
          <p:nvPr/>
        </p:nvPicPr>
        <p:blipFill>
          <a:blip r:embed="rId1"/>
          <a:stretch/>
        </p:blipFill>
        <p:spPr>
          <a:xfrm>
            <a:off x="5724360" y="4508640"/>
            <a:ext cx="3049920" cy="2162160"/>
          </a:xfrm>
          <a:prstGeom prst="rect">
            <a:avLst/>
          </a:prstGeom>
          <a:ln w="0">
            <a:noFill/>
          </a:ln>
        </p:spPr>
      </p:pic>
      <p:sp>
        <p:nvSpPr>
          <p:cNvPr id="83" name="Прямая соединительная линия 8"/>
          <p:cNvSpPr/>
          <p:nvPr/>
        </p:nvSpPr>
        <p:spPr>
          <a:xfrm flipH="1">
            <a:off x="0" y="981000"/>
            <a:ext cx="9144000" cy="0"/>
          </a:xfrm>
          <a:prstGeom prst="line">
            <a:avLst/>
          </a:prstGeom>
          <a:ln w="63360">
            <a:solidFill>
              <a:srgbClr val="d8d80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86f2b"/>
                </a:solidFill>
                <a:uFillTx/>
                <a:latin typeface="Times New Roman"/>
              </a:rPr>
              <a:t>Наши предлож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0520" y="1844640"/>
            <a:ext cx="735984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язательное участие специалистов сопровождения в работе методических объедин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знакомление педагогов с результатами обследования и совместное планирование  работы над выявленной проблем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посещение  уроков (занятий) и формулировка рекомендаций по индивидуальной работе с деть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местное консультирование родител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1"/>
          <a:stretch/>
        </p:blipFill>
        <p:spPr>
          <a:xfrm>
            <a:off x="5076720" y="4203720"/>
            <a:ext cx="4067280" cy="2654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2"/>
          <a:stretch/>
        </p:blipFill>
        <p:spPr>
          <a:xfrm>
            <a:off x="5076720" y="4203720"/>
            <a:ext cx="4067280" cy="2654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"/>
          <p:cNvPicPr/>
          <p:nvPr/>
        </p:nvPicPr>
        <p:blipFill>
          <a:blip r:embed="rId3"/>
          <a:stretch/>
        </p:blipFill>
        <p:spPr>
          <a:xfrm>
            <a:off x="5292720" y="4343400"/>
            <a:ext cx="3851280" cy="2514600"/>
          </a:xfrm>
          <a:prstGeom prst="rect">
            <a:avLst/>
          </a:prstGeom>
          <a:ln w="0">
            <a:noFill/>
          </a:ln>
        </p:spPr>
      </p:pic>
      <p:sp>
        <p:nvSpPr>
          <p:cNvPr id="89" name="Прямая соединительная линия 8"/>
          <p:cNvSpPr/>
          <p:nvPr/>
        </p:nvSpPr>
        <p:spPr>
          <a:xfrm flipH="1">
            <a:off x="0" y="1844640"/>
            <a:ext cx="9144000" cy="0"/>
          </a:xfrm>
          <a:prstGeom prst="line">
            <a:avLst/>
          </a:prstGeom>
          <a:ln w="63360">
            <a:solidFill>
              <a:srgbClr val="d8d80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ая соединительная линия 8"/>
          <p:cNvSpPr/>
          <p:nvPr/>
        </p:nvSpPr>
        <p:spPr>
          <a:xfrm flipH="1">
            <a:off x="250920" y="765000"/>
            <a:ext cx="9144000" cy="0"/>
          </a:xfrm>
          <a:prstGeom prst="line">
            <a:avLst/>
          </a:prstGeom>
          <a:ln w="63360">
            <a:solidFill>
              <a:srgbClr val="d8d80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826920" y="1640160"/>
            <a:ext cx="723924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c00000"/>
                </a:solidFill>
                <a:uFillTx/>
                <a:latin typeface="Times New Roman"/>
              </a:rPr>
              <a:t>Эффективность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рекционно-развивающей работы определяется ее комплексностью, то есть тесным взаимодействием педагогов, психологов, логопедов, социальных педагогов, медицинских работ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684360" y="1193400"/>
            <a:ext cx="792000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86f2b"/>
                </a:solidFill>
                <a:uFillTx/>
                <a:latin typeface="Times New Roman"/>
              </a:rPr>
              <a:t>Цель совместной работы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ние условий в школе, способствующих освоению  образовательной программы, сохранению  здоровья, коррекции отклонений в развитии познавательной деятельности, успешной социализации с учетом индивидуальных способностей, потребностей обучаю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8"/>
          <p:cNvSpPr/>
          <p:nvPr/>
        </p:nvSpPr>
        <p:spPr>
          <a:xfrm flipH="1">
            <a:off x="0" y="981000"/>
            <a:ext cx="9144000" cy="0"/>
          </a:xfrm>
          <a:prstGeom prst="line">
            <a:avLst/>
          </a:prstGeom>
          <a:ln w="63360">
            <a:solidFill>
              <a:srgbClr val="d8d80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31564"/>
          <p:cNvPicPr/>
          <p:nvPr/>
        </p:nvPicPr>
        <p:blipFill>
          <a:blip r:embed="rId1"/>
          <a:stretch/>
        </p:blipFill>
        <p:spPr>
          <a:xfrm>
            <a:off x="5724360" y="4508640"/>
            <a:ext cx="3049920" cy="21621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ая соединительная линия 8"/>
          <p:cNvSpPr/>
          <p:nvPr/>
        </p:nvSpPr>
        <p:spPr>
          <a:xfrm flipH="1">
            <a:off x="0" y="981000"/>
            <a:ext cx="9144000" cy="0"/>
          </a:xfrm>
          <a:prstGeom prst="line">
            <a:avLst/>
          </a:prstGeom>
          <a:ln w="63360">
            <a:solidFill>
              <a:srgbClr val="d8d80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86f2b"/>
                </a:solidFill>
                <a:uFillTx/>
                <a:latin typeface="Times New Roman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0520" y="1844640"/>
            <a:ext cx="735984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еспечить своевременное выявление затруднений у детей с особыми образовательными потребност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уществить комплексный (психолого-медико-педагогический) подход в КР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водить индивидуальную коррекцию развития де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казывать помощь семье в коррекционно-развивающем процесс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уществлять сотрудничество с учреждениями социокультурной среды для повышения эффективности коррекционно-развивающе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1"/>
          <a:stretch/>
        </p:blipFill>
        <p:spPr>
          <a:xfrm>
            <a:off x="5076720" y="4203720"/>
            <a:ext cx="4067280" cy="2654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"/>
          <p:cNvPicPr/>
          <p:nvPr/>
        </p:nvPicPr>
        <p:blipFill>
          <a:blip r:embed="rId2"/>
          <a:stretch/>
        </p:blipFill>
        <p:spPr>
          <a:xfrm>
            <a:off x="5076720" y="4203720"/>
            <a:ext cx="4067280" cy="2654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"/>
          <p:cNvPicPr/>
          <p:nvPr/>
        </p:nvPicPr>
        <p:blipFill>
          <a:blip r:embed="rId3"/>
          <a:stretch/>
        </p:blipFill>
        <p:spPr>
          <a:xfrm>
            <a:off x="5292720" y="4343400"/>
            <a:ext cx="3851280" cy="25146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ая соединительная линия 8"/>
          <p:cNvSpPr/>
          <p:nvPr/>
        </p:nvSpPr>
        <p:spPr>
          <a:xfrm flipH="1">
            <a:off x="0" y="1844640"/>
            <a:ext cx="9144000" cy="0"/>
          </a:xfrm>
          <a:prstGeom prst="line">
            <a:avLst/>
          </a:prstGeom>
          <a:ln w="63360">
            <a:solidFill>
              <a:srgbClr val="d8d80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86f2b"/>
                </a:solidFill>
                <a:uFillTx/>
                <a:latin typeface="Times New Roman"/>
              </a:rPr>
              <a:t>Приоритетными направлениями работы специалистов КРО мы определи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670716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иагностическо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ррекционно-развивающе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сультативно-просветительск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ганизационно-методическое, аналитическ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5076720" y="4203720"/>
            <a:ext cx="4067280" cy="2654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"/>
          <p:cNvPicPr/>
          <p:nvPr/>
        </p:nvPicPr>
        <p:blipFill>
          <a:blip r:embed="rId2"/>
          <a:stretch/>
        </p:blipFill>
        <p:spPr>
          <a:xfrm>
            <a:off x="5076720" y="4203720"/>
            <a:ext cx="4067280" cy="2654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"/>
          <p:cNvPicPr/>
          <p:nvPr/>
        </p:nvPicPr>
        <p:blipFill>
          <a:blip r:embed="rId3"/>
          <a:stretch/>
        </p:blipFill>
        <p:spPr>
          <a:xfrm>
            <a:off x="5076720" y="4203720"/>
            <a:ext cx="4067280" cy="2654280"/>
          </a:xfrm>
          <a:prstGeom prst="rect">
            <a:avLst/>
          </a:prstGeom>
          <a:ln w="0">
            <a:noFill/>
          </a:ln>
        </p:spPr>
      </p:pic>
      <p:sp>
        <p:nvSpPr>
          <p:cNvPr id="69" name="Прямая соединительная линия 8"/>
          <p:cNvSpPr/>
          <p:nvPr/>
        </p:nvSpPr>
        <p:spPr>
          <a:xfrm flipH="1">
            <a:off x="0" y="1844640"/>
            <a:ext cx="9144000" cy="0"/>
          </a:xfrm>
          <a:prstGeom prst="line">
            <a:avLst/>
          </a:prstGeom>
          <a:ln w="63360">
            <a:solidFill>
              <a:srgbClr val="d8d80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ая соединительная линия 8"/>
          <p:cNvSpPr/>
          <p:nvPr/>
        </p:nvSpPr>
        <p:spPr>
          <a:xfrm flipH="1">
            <a:off x="250920" y="765000"/>
            <a:ext cx="9144000" cy="0"/>
          </a:xfrm>
          <a:prstGeom prst="line">
            <a:avLst/>
          </a:prstGeom>
          <a:ln w="63360">
            <a:solidFill>
              <a:srgbClr val="d8d80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826920" y="664200"/>
            <a:ext cx="723924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1  Диагностическ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агностика готовности к школьному обучен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ь: определение уровня готовности к школе и выявление учащихся «группы рис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Диагностика готовности к обучению в среднем зве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ь: поддержка учащихся пятого класса в период адаптации к обучению в среднем зве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Диагностика индивидуальных и личностных особенностей старшего звена. Цель: раскрытие потенциальных возможностей личности при определении профессионального выб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ая соединительная линия 8"/>
          <p:cNvSpPr/>
          <p:nvPr/>
        </p:nvSpPr>
        <p:spPr>
          <a:xfrm flipH="1">
            <a:off x="250920" y="765000"/>
            <a:ext cx="9144000" cy="0"/>
          </a:xfrm>
          <a:prstGeom prst="line">
            <a:avLst/>
          </a:prstGeom>
          <a:ln w="63360">
            <a:solidFill>
              <a:srgbClr val="d8d80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826920" y="1914480"/>
            <a:ext cx="7239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Виды диагно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ановая (согласно плану специалист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запросу (педагогов, родителей, администрации, ИДН, комиссии по делам несовершеннолетних и д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ая соединительная линия 8"/>
          <p:cNvSpPr/>
          <p:nvPr/>
        </p:nvSpPr>
        <p:spPr>
          <a:xfrm flipH="1">
            <a:off x="250920" y="765000"/>
            <a:ext cx="9144000" cy="0"/>
          </a:xfrm>
          <a:prstGeom prst="line">
            <a:avLst/>
          </a:prstGeom>
          <a:ln w="63360">
            <a:solidFill>
              <a:srgbClr val="d8d80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826920" y="1061280"/>
            <a:ext cx="72392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2. Коррекционно-развивающ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дивидуальная работа (занятия по развитию ЭВС, занятия по развитию устной и письменной реч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рупповые (занятия по развитию психо-моторики и сенсорных процесс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ль: создание условий для положительной динамики развития и обучения де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ая соединительная линия 8"/>
          <p:cNvSpPr/>
          <p:nvPr/>
        </p:nvSpPr>
        <p:spPr>
          <a:xfrm flipH="1">
            <a:off x="250920" y="765000"/>
            <a:ext cx="9144000" cy="0"/>
          </a:xfrm>
          <a:prstGeom prst="line">
            <a:avLst/>
          </a:prstGeom>
          <a:ln w="63360">
            <a:solidFill>
              <a:srgbClr val="d8d80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826920" y="573120"/>
            <a:ext cx="723924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3. Консультативно-просветитель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та с родителями (родительские собрания, консультации родителей конкретного ребенка по проблемам воспитания и обучения, информирование и просвещение родителей, анкетирова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та с педагогами (консультирование по запросу, совместная работа педагогов и родителе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ащиеся (реализация индивидуальных планов работы по коррекционной работе с детьми СОП, профориентационная работ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ь: получение педагогами, детьми, родителями информации, связанной с обучением, воспитан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ина</cp:lastModifiedBy>
  <dcterms:modified xsi:type="dcterms:W3CDTF">2017-06-08T09:46:16Z</dcterms:modified>
  <cp:revision>30</cp:revision>
  <dc:subject/>
  <dc:title>Слайд 1</dc:title>
</cp:coreProperties>
</file>