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9A9C-4D71-4CE6-81A4-98EA1127C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A788-B21B-442C-8DB5-530BC3DBC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FECC-E92F-4E1C-A4DB-AACBD5798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D99E-8E3B-43CA-9C23-B0259B402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BEAFD-DD1B-4013-B8C6-34D71DEDB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0A036-B614-4868-B2BF-2DC9A8A39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5CFEB-9DDD-411D-A5EE-486CCB8B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A8C69-F907-4611-9CF4-73D7E9C67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3ECDF-944E-4945-8E4B-3A0C837A2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3F07F-F63B-44AD-BC5D-AF652E0A4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68E87-D35D-4DF8-8B62-8C5C9431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7E32-715D-452D-A828-6F8C6091B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A60E9-07E9-4ACE-BC00-7AF69692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9AE07-64C9-4B44-8C0F-7EB84EE1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33C27-9E43-4DBD-A139-B8421C74F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403D0-7776-4614-851B-20964B13D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B7742-7311-4C02-8249-2F640333F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7231-4C19-4303-9EA4-33D051F79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D88E-FF6E-4EE4-B853-334294DF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FB05-BA77-46A0-8DC7-469F46B11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8973-C192-44ED-820F-D9F3451E1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3CD5-56A5-4979-8F30-F25FE64D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07EA-EBB2-48EF-9362-A21A5AA9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2398-A9A2-41AB-A6C7-07D2E2FB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355FB-18E9-4869-80E7-EA16F00716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15FE2-A013-4277-A659-6609891C90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6920" y="1197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c0c00"/>
                </a:solidFill>
                <a:latin typeface="Tahoma"/>
              </a:rPr>
              <a:t>Открытый урок</a:t>
            </a:r>
            <a:br>
              <a:rPr sz="3600"/>
            </a:br>
            <a:r>
              <a:rPr b="0" lang="en-US" sz="3600" spc="-1" strike="noStrike">
                <a:solidFill>
                  <a:srgbClr val="0c0c00"/>
                </a:solidFill>
                <a:latin typeface="Tahoma"/>
              </a:rPr>
              <a:t>по русскому языку</a:t>
            </a:r>
            <a:br>
              <a:rPr sz="3600"/>
            </a:br>
            <a:r>
              <a:rPr b="0" lang="en-US" sz="3600" spc="-1" strike="noStrike">
                <a:solidFill>
                  <a:srgbClr val="0c0c00"/>
                </a:solidFill>
                <a:latin typeface="Tahoma"/>
              </a:rPr>
              <a:t>во 2 классе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643280" y="3789000"/>
            <a:ext cx="450072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c00"/>
                </a:solidFill>
                <a:latin typeface="Tahoma"/>
              </a:rPr>
              <a:t>Подготовил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c00"/>
                </a:solidFill>
                <a:latin typeface="Tahoma"/>
              </a:rPr>
              <a:t>Токарева Е. 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c00"/>
                </a:solidFill>
                <a:latin typeface="Tahoma"/>
              </a:rPr>
              <a:t>Учитель начальных класс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3141720"/>
            <a:ext cx="4067280" cy="3716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-38736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44956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c0c00"/>
                </a:solidFill>
                <a:uFillTx/>
                <a:latin typeface="Tahoma"/>
              </a:rPr>
              <a:t>Задание №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c0c00"/>
                </a:solidFill>
                <a:latin typeface="Tahoma"/>
              </a:rPr>
              <a:t>Образуй слова от данных корней </a:t>
            </a: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Нов, окон, пис.</a:t>
            </a:r>
            <a:r>
              <a:rPr b="0" lang="ru-RU" sz="3600" spc="-1" strike="noStrike">
                <a:solidFill>
                  <a:srgbClr val="0c0c00"/>
                </a:solidFill>
                <a:latin typeface="Tahoma"/>
              </a:rPr>
              <a:t>, используя приставки и суффиксы: </a:t>
            </a:r>
            <a:r>
              <a:rPr b="0" lang="ru-RU" sz="3600" spc="-1" strike="noStrike">
                <a:solidFill>
                  <a:srgbClr val="f02924"/>
                </a:solidFill>
                <a:latin typeface="Tahoma"/>
              </a:rPr>
              <a:t>об, к, под, ник, за, к. </a:t>
            </a:r>
            <a:r>
              <a:rPr b="0" lang="ru-RU" sz="3600" spc="-1" strike="noStrike">
                <a:solidFill>
                  <a:srgbClr val="0c0c00"/>
                </a:solidFill>
                <a:latin typeface="Tahoma"/>
              </a:rPr>
              <a:t>Разбери их по составу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8320" y="1196640"/>
            <a:ext cx="44956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c0c00"/>
                </a:solidFill>
                <a:latin typeface="Tahoma"/>
              </a:rPr>
              <a:t>Задание №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c0c00"/>
                </a:solidFill>
                <a:latin typeface="Tahoma"/>
              </a:rPr>
              <a:t>Образуй от данных корней слова с помощью приставки и суффикса и запиши их в тетрадь, разбери по составу 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21"/>
                </a:solidFill>
                <a:latin typeface="Tahoma"/>
              </a:rPr>
              <a:t>Нов, окон, пис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0" y="3573360"/>
          <a:ext cx="9144000" cy="328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573360"/>
                    <a:ext cx="9144000" cy="32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0" y="2565360"/>
          <a:ext cx="9144000" cy="429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65360"/>
                    <a:ext cx="9144000" cy="42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435640" y="2349360"/>
            <a:ext cx="3268800" cy="1113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042920" y="3645000"/>
            <a:ext cx="3268800" cy="1112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95280" y="2349360"/>
            <a:ext cx="4232160" cy="1113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4932360" y="3716280"/>
            <a:ext cx="3306600" cy="11127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2771640" y="4869000"/>
            <a:ext cx="4084920" cy="11127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26920" y="836640"/>
            <a:ext cx="0" cy="21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1052640"/>
            <a:ext cx="2449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71640" y="333360"/>
            <a:ext cx="1439640" cy="358920"/>
          </a:xfrm>
          <a:custGeom>
            <a:avLst/>
            <a:gdLst/>
            <a:ahLst/>
            <a:rect l="l" t="t" r="r" b="b"/>
            <a:pathLst>
              <a:path w="907" h="272">
                <a:moveTo>
                  <a:pt x="0" y="272"/>
                </a:moveTo>
                <a:cubicBezTo>
                  <a:pt x="72" y="181"/>
                  <a:pt x="144" y="91"/>
                  <a:pt x="227" y="46"/>
                </a:cubicBezTo>
                <a:cubicBezTo>
                  <a:pt x="310" y="1"/>
                  <a:pt x="424" y="0"/>
                  <a:pt x="499" y="0"/>
                </a:cubicBezTo>
                <a:cubicBezTo>
                  <a:pt x="574" y="0"/>
                  <a:pt x="612" y="1"/>
                  <a:pt x="680" y="46"/>
                </a:cubicBezTo>
                <a:cubicBezTo>
                  <a:pt x="748" y="91"/>
                  <a:pt x="877" y="235"/>
                  <a:pt x="907" y="272"/>
                </a:cubicBezTo>
              </a:path>
            </a:pathLst>
          </a:custGeom>
          <a:noFill/>
          <a:ln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105264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627280" y="404640"/>
            <a:ext cx="504720" cy="432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32000" y="404640"/>
            <a:ext cx="360360" cy="432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780000" y="764640"/>
            <a:ext cx="0" cy="289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765000"/>
            <a:ext cx="0" cy="21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48360" y="981000"/>
            <a:ext cx="2449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165800" y="98100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292720" y="404640"/>
            <a:ext cx="647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7667640" y="765000"/>
            <a:ext cx="0" cy="21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885080" y="476280"/>
            <a:ext cx="0" cy="504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885080" y="476280"/>
            <a:ext cx="432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17080" y="476280"/>
            <a:ext cx="0" cy="504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885080" y="981000"/>
            <a:ext cx="432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24360" y="549360"/>
            <a:ext cx="0" cy="504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24360" y="549360"/>
            <a:ext cx="431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56000" y="549360"/>
            <a:ext cx="0" cy="504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24360" y="1054080"/>
            <a:ext cx="431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300720" y="260280"/>
            <a:ext cx="1150920" cy="358920"/>
          </a:xfrm>
          <a:custGeom>
            <a:avLst/>
            <a:gdLst/>
            <a:ahLst/>
            <a:rect l="l" t="t" r="r" b="b"/>
            <a:pathLst>
              <a:path w="907" h="272">
                <a:moveTo>
                  <a:pt x="0" y="272"/>
                </a:moveTo>
                <a:cubicBezTo>
                  <a:pt x="72" y="181"/>
                  <a:pt x="144" y="91"/>
                  <a:pt x="227" y="46"/>
                </a:cubicBezTo>
                <a:cubicBezTo>
                  <a:pt x="310" y="1"/>
                  <a:pt x="424" y="0"/>
                  <a:pt x="499" y="0"/>
                </a:cubicBezTo>
                <a:cubicBezTo>
                  <a:pt x="574" y="0"/>
                  <a:pt x="612" y="1"/>
                  <a:pt x="680" y="46"/>
                </a:cubicBezTo>
                <a:cubicBezTo>
                  <a:pt x="748" y="91"/>
                  <a:pt x="877" y="235"/>
                  <a:pt x="907" y="272"/>
                </a:cubicBezTo>
              </a:path>
            </a:pathLst>
          </a:custGeom>
          <a:noFill/>
          <a:ln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940360" y="40464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c0c00"/>
                </a:solidFill>
                <a:latin typeface="Tahoma"/>
              </a:rPr>
              <a:t>Тема урока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844280"/>
            <a:ext cx="884556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c0c00"/>
                </a:solidFill>
                <a:latin typeface="Tahoma"/>
              </a:rPr>
              <a:t>Образование слов с помощью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c0c00"/>
                </a:solidFill>
                <a:latin typeface="Tahoma"/>
              </a:rPr>
              <a:t>приставки и суффикс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385120" cy="5848560"/>
          </a:xfrm>
          <a:prstGeom prst="rect">
            <a:avLst/>
          </a:prstGeom>
          <a:noFill/>
          <a:ln w="9360">
            <a:solidFill>
              <a:srgbClr val="0c0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c0c00"/>
                </a:solidFill>
                <a:latin typeface="Tahoma"/>
              </a:rPr>
              <a:t>Н а п л е ч н и к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c0c00"/>
                </a:solidFill>
                <a:latin typeface="Tahoma"/>
              </a:rPr>
              <a:t>н е у д а ч н и к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c0c00"/>
                </a:solidFill>
                <a:latin typeface="Tahoma"/>
              </a:rPr>
              <a:t>п о д с в е ч н и к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476280"/>
            <a:ext cx="1008000" cy="0"/>
          </a:xfrm>
          <a:prstGeom prst="line">
            <a:avLst/>
          </a:prstGeom>
          <a:ln w="28440">
            <a:solidFill>
              <a:srgbClr val="0c0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348000" y="476280"/>
            <a:ext cx="0" cy="288720"/>
          </a:xfrm>
          <a:prstGeom prst="line">
            <a:avLst/>
          </a:prstGeom>
          <a:ln w="28440">
            <a:solidFill>
              <a:srgbClr val="0c0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11280" y="2492280"/>
            <a:ext cx="1008360" cy="0"/>
          </a:xfrm>
          <a:prstGeom prst="line">
            <a:avLst/>
          </a:prstGeom>
          <a:ln w="28440">
            <a:solidFill>
              <a:srgbClr val="0c0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95640" y="4508640"/>
            <a:ext cx="1512720" cy="0"/>
          </a:xfrm>
          <a:prstGeom prst="line">
            <a:avLst/>
          </a:prstGeom>
          <a:ln w="28440">
            <a:solidFill>
              <a:srgbClr val="0c0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708360" y="4508640"/>
            <a:ext cx="0" cy="288720"/>
          </a:xfrm>
          <a:prstGeom prst="line">
            <a:avLst/>
          </a:prstGeom>
          <a:ln w="28440">
            <a:solidFill>
              <a:srgbClr val="0c0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19640" y="2492280"/>
            <a:ext cx="0" cy="216000"/>
          </a:xfrm>
          <a:prstGeom prst="line">
            <a:avLst/>
          </a:prstGeom>
          <a:ln w="28440">
            <a:solidFill>
              <a:srgbClr val="0c0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580000" y="333000"/>
            <a:ext cx="720720" cy="358920"/>
          </a:xfrm>
          <a:prstGeom prst="line">
            <a:avLst/>
          </a:prstGeom>
          <a:ln w="28440">
            <a:solidFill>
              <a:srgbClr val="0c0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5508720" y="2276640"/>
            <a:ext cx="720720" cy="358560"/>
          </a:xfrm>
          <a:prstGeom prst="line">
            <a:avLst/>
          </a:prstGeom>
          <a:ln w="28440">
            <a:solidFill>
              <a:srgbClr val="0c0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796000" y="4292640"/>
            <a:ext cx="720720" cy="358560"/>
          </a:xfrm>
          <a:prstGeom prst="line">
            <a:avLst/>
          </a:prstGeom>
          <a:ln w="28440">
            <a:solidFill>
              <a:srgbClr val="0c0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300720" y="333360"/>
            <a:ext cx="647640" cy="287280"/>
          </a:xfrm>
          <a:prstGeom prst="line">
            <a:avLst/>
          </a:prstGeom>
          <a:ln w="28440">
            <a:solidFill>
              <a:srgbClr val="0c0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227640" y="2276640"/>
            <a:ext cx="648000" cy="287280"/>
          </a:xfrm>
          <a:prstGeom prst="line">
            <a:avLst/>
          </a:prstGeom>
          <a:ln w="28440">
            <a:solidFill>
              <a:srgbClr val="0c0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16720" y="4292640"/>
            <a:ext cx="647640" cy="287280"/>
          </a:xfrm>
          <a:prstGeom prst="line">
            <a:avLst/>
          </a:prstGeom>
          <a:ln w="28440">
            <a:solidFill>
              <a:srgbClr val="0c0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3" name=""/>
          <p:cNvCxnSpPr>
            <a:stCxn id="120" idx="0"/>
            <a:endCxn id="120" idx="0"/>
          </p:cNvCxnSpPr>
          <p:nvPr/>
        </p:nvCxnSpPr>
        <p:spPr>
          <a:xfrm>
            <a:off x="4731840" y="25992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34" name=""/>
          <p:cNvSpPr/>
          <p:nvPr/>
        </p:nvSpPr>
        <p:spPr>
          <a:xfrm rot="18588000">
            <a:off x="3302640" y="229680"/>
            <a:ext cx="2541600" cy="2653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552" y="3"/>
                </a:moveTo>
                <a:arcTo wR="10800" hR="10800" stAng="-5478902" swAng="6019384"/>
                <a:lnTo>
                  <a:pt x="10800" y="10800"/>
                </a:lnTo>
                <a:close/>
              </a:path>
              <a:path fill="none" w="21600" h="21600">
                <a:moveTo>
                  <a:pt x="10552" y="3"/>
                </a:moveTo>
                <a:arcTo wR="10800" hR="10800" stAng="-5478902" swAng="6019384"/>
              </a:path>
            </a:pathLst>
          </a:custGeom>
          <a:noFill/>
          <a:ln w="28440">
            <a:solidFill>
              <a:srgbClr val="0c0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20113200">
            <a:off x="3541320" y="2186640"/>
            <a:ext cx="182664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202" y="2250"/>
                </a:moveTo>
                <a:arcTo wR="10800" hR="10800" stAng="-7659518" swAng="7659518"/>
                <a:lnTo>
                  <a:pt x="10800" y="10800"/>
                </a:lnTo>
                <a:close/>
              </a:path>
              <a:path fill="none" w="21600" h="21600">
                <a:moveTo>
                  <a:pt x="4202" y="2250"/>
                </a:moveTo>
                <a:arcTo wR="10800" hR="10800" stAng="-7659518" swAng="7659518"/>
              </a:path>
            </a:pathLst>
          </a:custGeom>
          <a:noFill/>
          <a:ln w="28440">
            <a:solidFill>
              <a:srgbClr val="0c0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20113200">
            <a:off x="3847680" y="4037760"/>
            <a:ext cx="182664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202" y="2250"/>
                </a:moveTo>
                <a:arcTo wR="10800" hR="10800" stAng="-7659518" swAng="7659518"/>
                <a:lnTo>
                  <a:pt x="10800" y="10800"/>
                </a:lnTo>
                <a:close/>
              </a:path>
              <a:path fill="none" w="21600" h="21600">
                <a:moveTo>
                  <a:pt x="4202" y="2250"/>
                </a:moveTo>
                <a:arcTo wR="10800" hR="10800" stAng="-7659518" swAng="7659518"/>
              </a:path>
            </a:pathLst>
          </a:custGeom>
          <a:noFill/>
          <a:ln w="28440">
            <a:solidFill>
              <a:srgbClr val="0c0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971640" y="3213000"/>
          <a:ext cx="7561080" cy="30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3213000"/>
                    <a:ext cx="756108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c0c00"/>
                </a:solidFill>
                <a:latin typeface="Tahoma"/>
              </a:rPr>
              <a:t>наконечник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c0c00"/>
                </a:solidFill>
                <a:latin typeface="Tahoma"/>
              </a:rPr>
              <a:t>пограничник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c0c00"/>
                </a:solidFill>
                <a:latin typeface="Tahoma"/>
              </a:rPr>
              <a:t>бездельник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c0c00"/>
                </a:solidFill>
                <a:latin typeface="Tahoma"/>
              </a:rPr>
              <a:t>подорожник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3026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c0c00"/>
                </a:solidFill>
                <a:latin typeface="Tahoma"/>
              </a:rPr>
              <a:t>Я сегодня узнал (узнала)….</a:t>
            </a:r>
            <a:br>
              <a:rPr sz="4000"/>
            </a:br>
            <a:r>
              <a:rPr b="0" lang="en-US" sz="4000" spc="-1" strike="noStrike">
                <a:solidFill>
                  <a:srgbClr val="0c0c00"/>
                </a:solidFill>
                <a:latin typeface="Tahoma"/>
              </a:rPr>
              <a:t>Я сегодня научился (научилась)…</a:t>
            </a:r>
            <a:br>
              <a:rPr sz="4000"/>
            </a:br>
            <a:r>
              <a:rPr b="0" lang="en-US" sz="4000" spc="-1" strike="noStrike">
                <a:solidFill>
                  <a:srgbClr val="0c0c00"/>
                </a:solidFill>
                <a:latin typeface="Tahoma"/>
              </a:rPr>
              <a:t>У меня сегодня получилось…</a:t>
            </a:r>
            <a:br>
              <a:rPr sz="4000"/>
            </a:br>
            <a:r>
              <a:rPr b="0" lang="en-US" sz="4000" spc="-1" strike="noStrike">
                <a:solidFill>
                  <a:srgbClr val="0c0c00"/>
                </a:solidFill>
                <a:latin typeface="Tahoma"/>
              </a:rPr>
              <a:t>У меня не получилось…</a:t>
            </a:r>
            <a:br>
              <a:rPr sz="4000"/>
            </a:br>
            <a:r>
              <a:rPr b="0" lang="en-US" sz="4000" spc="-1" strike="noStrike">
                <a:solidFill>
                  <a:srgbClr val="0c0c00"/>
                </a:solidFill>
                <a:latin typeface="Tahoma"/>
              </a:rPr>
              <a:t>Мне нужно ещё учиться…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300720" y="3212640"/>
            <a:ext cx="2843280" cy="38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156360" y="3716280"/>
            <a:ext cx="298764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4T12:20:03Z</dcterms:created>
  <dc:creator>Лена</dc:creator>
  <dc:description/>
  <dc:language>en-US</dc:language>
  <cp:lastModifiedBy>Лена</cp:lastModifiedBy>
  <dcterms:modified xsi:type="dcterms:W3CDTF">2013-03-19T19:22:17Z</dcterms:modified>
  <cp:revision>6</cp:revision>
  <dc:subject/>
  <dc:title>Открытый урок по русскому язык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