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6DC8-F6C6-44A5-8F9A-B0CC74315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F1B9-6C1D-4C73-8AE6-066CCAE4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F124-A0B2-45E2-8CAC-6F3752847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3541-360C-436C-B242-54200EF7B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9F57-1345-4DE4-BB8A-3443C7059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8ED8-0FA4-4CEB-B366-F528B997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29EA-00BA-4287-84B6-64FB8EF2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B0FD-CC6D-4EAC-8948-5DCA3348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75ED-4FE4-4295-AAD0-8B1C97CF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566C-87BB-467B-B18E-9594C7FA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AE1F-8BAA-4084-9578-F5BD44C8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9154-95C3-4725-8758-D220EEE4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D704-B7F3-46C7-9054-5C441A7D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7E04-E617-4D9F-BBD3-723A9BF2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1BAC-61D8-4911-BBED-B2657699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CAFB-F093-42F8-85A6-5CF8092C4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CE4F-0CFF-435A-9AFF-62B95FB0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DAA2-36D4-464F-B022-A566EB98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D2BF-DD97-4F5A-8A88-712EDD95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1E5F-D05A-49FA-B0B2-B352D839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87F1-DB2A-4BFB-AC97-C0026D37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3B07-8ABC-497C-BD7F-42C2C05B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D711-949D-427D-A4D5-AE4B6A4C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8707-6857-4C94-8A5E-7164EBF8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12B6-6637-413E-92D4-FD51BFFF83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9741-D3DF-4B59-976E-E4BD78EDEF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920" y="1197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0c00"/>
                </a:solidFill>
                <a:latin typeface="Tahoma"/>
              </a:rPr>
              <a:t>Открытый урок</a:t>
            </a:r>
            <a:br>
              <a:rPr sz="3600"/>
            </a:br>
            <a:r>
              <a:rPr b="0" lang="en-US" sz="3600" spc="-1" strike="noStrike">
                <a:solidFill>
                  <a:srgbClr val="0c0c00"/>
                </a:solidFill>
                <a:latin typeface="Tahoma"/>
              </a:rPr>
              <a:t>по русскому языку</a:t>
            </a:r>
            <a:br>
              <a:rPr sz="3600"/>
            </a:br>
            <a:r>
              <a:rPr b="0" lang="en-US" sz="3600" spc="-1" strike="noStrike">
                <a:solidFill>
                  <a:srgbClr val="0c0c00"/>
                </a:solidFill>
                <a:latin typeface="Tahoma"/>
              </a:rPr>
              <a:t>во 2 классе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643280" y="3789000"/>
            <a:ext cx="45007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c00"/>
                </a:solidFill>
                <a:latin typeface="Tahoma"/>
              </a:rPr>
              <a:t>Подготовил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c00"/>
                </a:solidFill>
                <a:latin typeface="Tahoma"/>
              </a:rPr>
              <a:t>Токарева Е. 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c00"/>
                </a:solidFill>
                <a:latin typeface="Tahoma"/>
              </a:rPr>
              <a:t>Учитель начальных клас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3141720"/>
            <a:ext cx="4067280" cy="3716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-38736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44956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c0c00"/>
                </a:solidFill>
                <a:uFillTx/>
                <a:latin typeface="Tahoma"/>
              </a:rPr>
              <a:t>Задание №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c0c00"/>
                </a:solidFill>
                <a:latin typeface="Tahoma"/>
              </a:rPr>
              <a:t>Образуй слова от данных корней </a:t>
            </a: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Нов, окон, пис.</a:t>
            </a:r>
            <a:r>
              <a:rPr b="0" lang="ru-RU" sz="3600" spc="-1" strike="noStrike">
                <a:solidFill>
                  <a:srgbClr val="0c0c00"/>
                </a:solidFill>
                <a:latin typeface="Tahoma"/>
              </a:rPr>
              <a:t>, используя приставки и суффиксы: </a:t>
            </a:r>
            <a:r>
              <a:rPr b="0" lang="ru-RU" sz="3600" spc="-1" strike="noStrike">
                <a:solidFill>
                  <a:srgbClr val="f02924"/>
                </a:solidFill>
                <a:latin typeface="Tahoma"/>
              </a:rPr>
              <a:t>об, к, под, ник, за, к. </a:t>
            </a:r>
            <a:r>
              <a:rPr b="0" lang="ru-RU" sz="3600" spc="-1" strike="noStrike">
                <a:solidFill>
                  <a:srgbClr val="0c0c00"/>
                </a:solidFill>
                <a:latin typeface="Tahoma"/>
              </a:rPr>
              <a:t>Разбери их по состав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320" y="1196640"/>
            <a:ext cx="44956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c0c00"/>
                </a:solidFill>
                <a:latin typeface="Tahoma"/>
              </a:rPr>
              <a:t>Задание №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c0c00"/>
                </a:solidFill>
                <a:latin typeface="Tahoma"/>
              </a:rPr>
              <a:t>Образуй от данных корней слова с помощью приставки и суффикса и запиши их в тетрадь, разбери по составу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21"/>
                </a:solidFill>
                <a:latin typeface="Tahoma"/>
              </a:rPr>
              <a:t>Нов, окон, пис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0" y="3573360"/>
          <a:ext cx="9144000" cy="328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573360"/>
                    <a:ext cx="9144000" cy="32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2565360"/>
          <a:ext cx="9144000" cy="42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65360"/>
                    <a:ext cx="914400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435640" y="2349360"/>
            <a:ext cx="3268800" cy="1113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042920" y="3645000"/>
            <a:ext cx="3268800" cy="1112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95280" y="2349360"/>
            <a:ext cx="4232160" cy="1113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932360" y="3716280"/>
            <a:ext cx="3306600" cy="1112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2771640" y="4869000"/>
            <a:ext cx="4084920" cy="1112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26920" y="836640"/>
            <a:ext cx="0" cy="21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1052640"/>
            <a:ext cx="2449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333360"/>
            <a:ext cx="1439640" cy="358920"/>
          </a:xfrm>
          <a:custGeom>
            <a:avLst/>
            <a:gdLst/>
            <a:ahLst/>
            <a:rect l="l" t="t" r="r" b="b"/>
            <a:pathLst>
              <a:path w="907" h="272">
                <a:moveTo>
                  <a:pt x="0" y="272"/>
                </a:moveTo>
                <a:cubicBezTo>
                  <a:pt x="72" y="181"/>
                  <a:pt x="144" y="91"/>
                  <a:pt x="227" y="46"/>
                </a:cubicBezTo>
                <a:cubicBezTo>
                  <a:pt x="310" y="1"/>
                  <a:pt x="424" y="0"/>
                  <a:pt x="499" y="0"/>
                </a:cubicBezTo>
                <a:cubicBezTo>
                  <a:pt x="574" y="0"/>
                  <a:pt x="612" y="1"/>
                  <a:pt x="680" y="46"/>
                </a:cubicBezTo>
                <a:cubicBezTo>
                  <a:pt x="748" y="91"/>
                  <a:pt x="877" y="235"/>
                  <a:pt x="907" y="272"/>
                </a:cubicBezTo>
              </a:path>
            </a:pathLst>
          </a:custGeom>
          <a:noFill/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105264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627280" y="404640"/>
            <a:ext cx="504720" cy="43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32000" y="404640"/>
            <a:ext cx="360360" cy="43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780000" y="764640"/>
            <a:ext cx="0" cy="289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765000"/>
            <a:ext cx="0" cy="21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48360" y="981000"/>
            <a:ext cx="2449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65800" y="98100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92720" y="40464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7667640" y="765000"/>
            <a:ext cx="0" cy="21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85080" y="47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885080" y="476280"/>
            <a:ext cx="43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17080" y="47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885080" y="981000"/>
            <a:ext cx="43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24360" y="54936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24360" y="54936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56000" y="54936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24360" y="105408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00720" y="260280"/>
            <a:ext cx="1150920" cy="358920"/>
          </a:xfrm>
          <a:custGeom>
            <a:avLst/>
            <a:gdLst/>
            <a:ahLst/>
            <a:rect l="l" t="t" r="r" b="b"/>
            <a:pathLst>
              <a:path w="907" h="272">
                <a:moveTo>
                  <a:pt x="0" y="272"/>
                </a:moveTo>
                <a:cubicBezTo>
                  <a:pt x="72" y="181"/>
                  <a:pt x="144" y="91"/>
                  <a:pt x="227" y="46"/>
                </a:cubicBezTo>
                <a:cubicBezTo>
                  <a:pt x="310" y="1"/>
                  <a:pt x="424" y="0"/>
                  <a:pt x="499" y="0"/>
                </a:cubicBezTo>
                <a:cubicBezTo>
                  <a:pt x="574" y="0"/>
                  <a:pt x="612" y="1"/>
                  <a:pt x="680" y="46"/>
                </a:cubicBezTo>
                <a:cubicBezTo>
                  <a:pt x="748" y="91"/>
                  <a:pt x="877" y="235"/>
                  <a:pt x="907" y="272"/>
                </a:cubicBezTo>
              </a:path>
            </a:pathLst>
          </a:custGeom>
          <a:noFill/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0360" y="404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c0c00"/>
                </a:solidFill>
                <a:latin typeface="Tahoma"/>
              </a:rPr>
              <a:t>Тема урок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844280"/>
            <a:ext cx="88455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c0c00"/>
                </a:solidFill>
                <a:latin typeface="Tahoma"/>
              </a:rPr>
              <a:t>Образование слов с помощью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c0c00"/>
                </a:solidFill>
                <a:latin typeface="Tahoma"/>
              </a:rPr>
              <a:t>приставки и суффикс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385120" cy="5848560"/>
          </a:xfrm>
          <a:prstGeom prst="rect">
            <a:avLst/>
          </a:prstGeom>
          <a:noFill/>
          <a:ln w="9360">
            <a:solidFill>
              <a:srgbClr val="0c0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0c00"/>
                </a:solidFill>
                <a:latin typeface="Tahoma"/>
              </a:rPr>
              <a:t>Н а п л е ч н и к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c0c00"/>
                </a:solidFill>
                <a:latin typeface="Tahoma"/>
              </a:rPr>
              <a:t>н е у д а ч н и к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c0c00"/>
                </a:solidFill>
                <a:latin typeface="Tahoma"/>
              </a:rPr>
              <a:t>п о д с в е ч н и к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476280"/>
            <a:ext cx="1008000" cy="0"/>
          </a:xfrm>
          <a:prstGeom prst="line">
            <a:avLst/>
          </a:prstGeom>
          <a:ln w="28440">
            <a:solidFill>
              <a:srgbClr val="0c0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48000" y="476280"/>
            <a:ext cx="0" cy="288720"/>
          </a:xfrm>
          <a:prstGeom prst="line">
            <a:avLst/>
          </a:prstGeom>
          <a:ln w="28440">
            <a:solidFill>
              <a:srgbClr val="0c0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11280" y="2492280"/>
            <a:ext cx="1008360" cy="0"/>
          </a:xfrm>
          <a:prstGeom prst="line">
            <a:avLst/>
          </a:prstGeom>
          <a:ln w="28440">
            <a:solidFill>
              <a:srgbClr val="0c0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95640" y="4508640"/>
            <a:ext cx="1512720" cy="0"/>
          </a:xfrm>
          <a:prstGeom prst="line">
            <a:avLst/>
          </a:prstGeom>
          <a:ln w="28440">
            <a:solidFill>
              <a:srgbClr val="0c0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08360" y="4508640"/>
            <a:ext cx="0" cy="288720"/>
          </a:xfrm>
          <a:prstGeom prst="line">
            <a:avLst/>
          </a:prstGeom>
          <a:ln w="28440">
            <a:solidFill>
              <a:srgbClr val="0c0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19640" y="2492280"/>
            <a:ext cx="0" cy="216000"/>
          </a:xfrm>
          <a:prstGeom prst="line">
            <a:avLst/>
          </a:prstGeom>
          <a:ln w="28440">
            <a:solidFill>
              <a:srgbClr val="0c0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580000" y="333000"/>
            <a:ext cx="720720" cy="358920"/>
          </a:xfrm>
          <a:prstGeom prst="line">
            <a:avLst/>
          </a:prstGeom>
          <a:ln w="28440">
            <a:solidFill>
              <a:srgbClr val="0c0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508720" y="2276640"/>
            <a:ext cx="720720" cy="358560"/>
          </a:xfrm>
          <a:prstGeom prst="line">
            <a:avLst/>
          </a:prstGeom>
          <a:ln w="28440">
            <a:solidFill>
              <a:srgbClr val="0c0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796000" y="4292640"/>
            <a:ext cx="720720" cy="358560"/>
          </a:xfrm>
          <a:prstGeom prst="line">
            <a:avLst/>
          </a:prstGeom>
          <a:ln w="28440">
            <a:solidFill>
              <a:srgbClr val="0c0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00720" y="333360"/>
            <a:ext cx="647640" cy="287280"/>
          </a:xfrm>
          <a:prstGeom prst="line">
            <a:avLst/>
          </a:prstGeom>
          <a:ln w="28440">
            <a:solidFill>
              <a:srgbClr val="0c0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27640" y="2276640"/>
            <a:ext cx="648000" cy="287280"/>
          </a:xfrm>
          <a:prstGeom prst="line">
            <a:avLst/>
          </a:prstGeom>
          <a:ln w="28440">
            <a:solidFill>
              <a:srgbClr val="0c0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16720" y="4292640"/>
            <a:ext cx="647640" cy="287280"/>
          </a:xfrm>
          <a:prstGeom prst="line">
            <a:avLst/>
          </a:prstGeom>
          <a:ln w="28440">
            <a:solidFill>
              <a:srgbClr val="0c0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20" idx="0"/>
            <a:endCxn id="120" idx="0"/>
          </p:cNvCxnSpPr>
          <p:nvPr/>
        </p:nvCxnSpPr>
        <p:spPr>
          <a:xfrm>
            <a:off x="4731840" y="2599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34" name=""/>
          <p:cNvSpPr/>
          <p:nvPr/>
        </p:nvSpPr>
        <p:spPr>
          <a:xfrm rot="18588000">
            <a:off x="3302640" y="229680"/>
            <a:ext cx="2541600" cy="265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52" y="3"/>
                </a:moveTo>
                <a:arcTo wR="10800" hR="10800" stAng="-5478902" swAng="6019384"/>
                <a:lnTo>
                  <a:pt x="10800" y="10800"/>
                </a:lnTo>
                <a:close/>
              </a:path>
              <a:path fill="none" w="21600" h="21600">
                <a:moveTo>
                  <a:pt x="10552" y="3"/>
                </a:moveTo>
                <a:arcTo wR="10800" hR="10800" stAng="-5478902" swAng="6019384"/>
              </a:path>
            </a:pathLst>
          </a:custGeom>
          <a:noFill/>
          <a:ln w="28440">
            <a:solidFill>
              <a:srgbClr val="0c0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20113200">
            <a:off x="3541320" y="2186640"/>
            <a:ext cx="182664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02" y="2250"/>
                </a:moveTo>
                <a:arcTo wR="10800" hR="10800" stAng="-7659518" swAng="7659518"/>
                <a:lnTo>
                  <a:pt x="10800" y="10800"/>
                </a:lnTo>
                <a:close/>
              </a:path>
              <a:path fill="none" w="21600" h="21600">
                <a:moveTo>
                  <a:pt x="4202" y="2250"/>
                </a:moveTo>
                <a:arcTo wR="10800" hR="10800" stAng="-7659518" swAng="7659518"/>
              </a:path>
            </a:pathLst>
          </a:custGeom>
          <a:noFill/>
          <a:ln w="28440">
            <a:solidFill>
              <a:srgbClr val="0c0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20113200">
            <a:off x="3847680" y="4037760"/>
            <a:ext cx="182664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02" y="2250"/>
                </a:moveTo>
                <a:arcTo wR="10800" hR="10800" stAng="-7659518" swAng="7659518"/>
                <a:lnTo>
                  <a:pt x="10800" y="10800"/>
                </a:lnTo>
                <a:close/>
              </a:path>
              <a:path fill="none" w="21600" h="21600">
                <a:moveTo>
                  <a:pt x="4202" y="2250"/>
                </a:moveTo>
                <a:arcTo wR="10800" hR="10800" stAng="-7659518" swAng="7659518"/>
              </a:path>
            </a:pathLst>
          </a:custGeom>
          <a:noFill/>
          <a:ln w="28440">
            <a:solidFill>
              <a:srgbClr val="0c0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971640" y="3213000"/>
          <a:ext cx="7561080" cy="30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213000"/>
                    <a:ext cx="756108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c0c00"/>
                </a:solidFill>
                <a:latin typeface="Tahoma"/>
              </a:rPr>
              <a:t>наконечник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c0c00"/>
                </a:solidFill>
                <a:latin typeface="Tahoma"/>
              </a:rPr>
              <a:t>пограничник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c0c00"/>
                </a:solidFill>
                <a:latin typeface="Tahoma"/>
              </a:rPr>
              <a:t>бездельник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c0c00"/>
                </a:solidFill>
                <a:latin typeface="Tahoma"/>
              </a:rPr>
              <a:t>подорожник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3026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c0c00"/>
                </a:solidFill>
                <a:latin typeface="Tahoma"/>
              </a:rPr>
              <a:t>Я сегодня узнал (узнала)….</a:t>
            </a:r>
            <a:br>
              <a:rPr sz="4000"/>
            </a:br>
            <a:r>
              <a:rPr b="0" lang="en-US" sz="4000" spc="-1" strike="noStrike">
                <a:solidFill>
                  <a:srgbClr val="0c0c00"/>
                </a:solidFill>
                <a:latin typeface="Tahoma"/>
              </a:rPr>
              <a:t>Я сегодня научился (научилась)…</a:t>
            </a:r>
            <a:br>
              <a:rPr sz="4000"/>
            </a:br>
            <a:r>
              <a:rPr b="0" lang="en-US" sz="4000" spc="-1" strike="noStrike">
                <a:solidFill>
                  <a:srgbClr val="0c0c00"/>
                </a:solidFill>
                <a:latin typeface="Tahoma"/>
              </a:rPr>
              <a:t>У меня сегодня получилось…</a:t>
            </a:r>
            <a:br>
              <a:rPr sz="4000"/>
            </a:br>
            <a:r>
              <a:rPr b="0" lang="en-US" sz="4000" spc="-1" strike="noStrike">
                <a:solidFill>
                  <a:srgbClr val="0c0c00"/>
                </a:solidFill>
                <a:latin typeface="Tahoma"/>
              </a:rPr>
              <a:t>У меня не получилось…</a:t>
            </a:r>
            <a:br>
              <a:rPr sz="4000"/>
            </a:br>
            <a:r>
              <a:rPr b="0" lang="en-US" sz="4000" spc="-1" strike="noStrike">
                <a:solidFill>
                  <a:srgbClr val="0c0c00"/>
                </a:solidFill>
                <a:latin typeface="Tahoma"/>
              </a:rPr>
              <a:t>Мне нужно ещё учиться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00720" y="3212640"/>
            <a:ext cx="2843280" cy="38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156360" y="3716280"/>
            <a:ext cx="298764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12:20:03Z</dcterms:created>
  <dc:creator>Лена</dc:creator>
  <dc:description/>
  <dc:language>en-US</dc:language>
  <cp:lastModifiedBy>Лена</cp:lastModifiedBy>
  <dcterms:modified xsi:type="dcterms:W3CDTF">2013-03-19T19:22:17Z</dcterms:modified>
  <cp:revision>6</cp:revision>
  <dc:subject/>
  <dc:title>Открытый урок по русскому язык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