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EC4-9755-41A2-8F44-2BCFFCDE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B3F-2ABF-46D9-AC01-41682BBD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C28-C71A-475A-92DD-E4A27CB1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D12-6E27-4690-8362-A0CB2376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443D-01E5-4602-B3CD-22B3F616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E61E-556C-4D2C-B214-8F52D7B5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C7E9-C62C-4ACB-8278-6163E40C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3698-A1C2-4785-BF47-43B38913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1EC4-4FE7-4A40-984A-3D60357B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E038-4046-42A7-98F0-27DEEF6A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4873-F7E6-4E63-ADCE-2A834A4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4CE-48D6-464B-94CF-6745A52D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09C5-E608-4740-9392-7EE85EFA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B6C9-A3C6-410F-AB39-B5A4BD3A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1B8F-7D4B-4C0B-B2B1-287D1AB6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F559-377E-4CEC-8B84-F79FDBF7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B855-FD2D-46F6-9431-1EAC9ECE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210-F9E0-4B99-B289-FAD2ADE8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A06-C730-49A5-9C10-C6B5713D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99D-8253-4399-BAA5-98BF32AA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958-E211-489F-A192-C3DFF7C6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6FB-BE95-41F5-B0B6-7FCCCF74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138-A84D-4835-8C1F-DC393E7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93C-AC12-42EA-B5C7-75A8D054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38C6-BD00-47BE-9AC5-457766E93D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699A-2B56-4D08-A88D-8D05AE493445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d7c5b5"/>
                </a:solidFill>
                <a:latin typeface="Palace Script MT"/>
              </a:rPr>
              <a:t>  </a:t>
            </a:r>
            <a:r>
              <a:rPr b="1" i="1" lang="nl-NL" sz="8000" spc="-1" strike="noStrike">
                <a:solidFill>
                  <a:srgbClr val="d7c5b5"/>
                </a:solidFill>
                <a:latin typeface="Palace Script MT"/>
              </a:rPr>
              <a:t>Saint-Petersburg</a:t>
            </a:r>
            <a:endParaRPr b="0" lang="en-US" sz="8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28240"/>
            <a:ext cx="845208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r>
              <a:rPr b="1" i="1" lang="nl-NL" sz="80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3860280"/>
            <a:ext cx="83804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ade b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Zhernakova Christ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arfeonova Aliona     7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«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er   Babushkina N.B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852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r>
              <a:rPr b="1" i="1" lang="nl-NL" sz="80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00ff00"/>
                </a:solidFill>
                <a:latin typeface="Verdana"/>
              </a:rPr>
              <a:t>Welcome to Saint-Petersburg! Saint-Petersburg is a cultural capital of </a:t>
            </a:r>
            <a:r>
              <a:rPr b="1" i="1" lang="ru-RU" sz="3200" spc="-1" strike="noStrike">
                <a:solidFill>
                  <a:srgbClr val="00ff00"/>
                </a:solidFill>
                <a:latin typeface="Verdana"/>
              </a:rPr>
              <a:t>Russia</a:t>
            </a:r>
            <a:r>
              <a:rPr b="1" i="1" lang="en-US" sz="3200" spc="-1" strike="noStrike">
                <a:solidFill>
                  <a:srgbClr val="00ff00"/>
                </a:solidFill>
                <a:latin typeface="Verdana"/>
              </a:rPr>
              <a:t>.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Verdana"/>
              </a:rPr>
              <a:t>It is Russia's second largest and Europe's fourth largest city after Moscow, London and Paris. The city has over </a:t>
            </a:r>
            <a:r>
              <a:rPr b="1" i="1" lang="en-US" sz="3200" spc="-1" strike="noStrike">
                <a:solidFill>
                  <a:srgbClr val="00ff00"/>
                </a:solidFill>
                <a:latin typeface="Verdana"/>
              </a:rPr>
              <a:t>5</a:t>
            </a:r>
            <a:r>
              <a:rPr b="1" i="1" lang="ru-RU" sz="3200" spc="-1" strike="noStrike">
                <a:solidFill>
                  <a:srgbClr val="00ff00"/>
                </a:solidFill>
                <a:latin typeface="Verdana"/>
              </a:rPr>
              <a:t> million people. Saint Petersburg is a major European cultural center, and an important Russian port on the Baltic Se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96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r>
              <a:rPr b="1" i="1" lang="nl-NL" sz="80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r>
              <a:rPr b="1" i="1" lang="ru-RU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br>
              <a:rPr sz="8000"/>
            </a:br>
            <a:r>
              <a:rPr b="1" lang="ru-RU" sz="5400" spc="-1" strike="noStrike">
                <a:solidFill>
                  <a:srgbClr val="ffffff"/>
                </a:solidFill>
                <a:latin typeface="Palace Script MT"/>
              </a:rPr>
              <a:t>The Peter and Paul Fortress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3429000"/>
            <a:ext cx="874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ff66ff"/>
                </a:solidFill>
                <a:latin typeface="Verdana"/>
              </a:rPr>
              <a:t>We can see the Peter and Paul Fortress at night. It is very beautiful. T</a:t>
            </a:r>
            <a:r>
              <a:rPr b="1" i="1" lang="ru-RU" sz="3200" spc="-1" strike="noStrike">
                <a:solidFill>
                  <a:srgbClr val="ff66ff"/>
                </a:solidFill>
                <a:latin typeface="Verdana"/>
              </a:rPr>
              <a:t>here are many color</a:t>
            </a:r>
            <a:r>
              <a:rPr b="1" i="1" lang="en-US" sz="3200" spc="-1" strike="noStrike">
                <a:solidFill>
                  <a:srgbClr val="ff66ff"/>
                </a:solidFill>
                <a:latin typeface="Verdana"/>
              </a:rPr>
              <a:t>ful</a:t>
            </a:r>
            <a:r>
              <a:rPr b="1" i="1" lang="ru-RU" sz="3200" spc="-1" strike="noStrike">
                <a:solidFill>
                  <a:srgbClr val="ff66ff"/>
                </a:solidFill>
                <a:latin typeface="Verdana"/>
              </a:rPr>
              <a:t> lights</a:t>
            </a:r>
            <a:r>
              <a:rPr b="1" i="1" lang="en-US" sz="3200" spc="-1" strike="noStrike">
                <a:solidFill>
                  <a:srgbClr val="ff66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5229360"/>
            <a:ext cx="793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ow there is a museum here. Last century there was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prison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5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r>
              <a:rPr b="1" i="1" lang="nl-NL" sz="80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66920" y="1447560"/>
            <a:ext cx="4924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00ff99"/>
                </a:solidFill>
                <a:latin typeface="Verdana"/>
              </a:rPr>
              <a:t>This is a photo of the center of </a:t>
            </a:r>
            <a:r>
              <a:rPr b="1" i="1" lang="nl-NL" sz="2800" spc="-1" strike="noStrike">
                <a:solidFill>
                  <a:srgbClr val="00ff99"/>
                </a:solidFill>
                <a:latin typeface="Verdana"/>
              </a:rPr>
              <a:t>Saint-Petersburg in 1750. There weren`t many people. There weren`t any zebra crossings or traffic lights and the traffic was very slow. Also there were horse-drawn carriages and there weren`t  many cars or bu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i="1" lang="nl-NL" sz="72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r>
              <a:rPr b="1" i="1" lang="ru-RU" sz="7200" spc="-1" strike="noStrike">
                <a:solidFill>
                  <a:srgbClr val="ffffff"/>
                </a:solidFill>
                <a:latin typeface="Palace Script MT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95640" y="1196640"/>
            <a:ext cx="3195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00ff99"/>
                </a:solidFill>
                <a:latin typeface="Verdana"/>
              </a:rPr>
              <a:t>Nowadays the traffic is very fast. There are many buses and cars. Many tourists come to see the sights. There weren't any tourists in the old Saint-Petersbur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05636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Palace Script MT"/>
              </a:rPr>
              <a:t> </a:t>
            </a:r>
            <a:r>
              <a:rPr b="1" i="1" lang="nl-NL" sz="8000" spc="-1" strike="noStrike">
                <a:solidFill>
                  <a:srgbClr val="ffffff"/>
                </a:solidFill>
                <a:latin typeface="Palace Script MT"/>
              </a:rPr>
              <a:t>Saint-Petersburg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5229000"/>
            <a:ext cx="8351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n  old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etersburg there were many boats  and the people were very poor.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There weren't many houses in Petersbur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63640" y="4869000"/>
            <a:ext cx="722808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day there are many modern skyscrapers in our cit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5720" y="5084280"/>
            <a:ext cx="72360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st century there were three-storeyed hous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7:28:03Z</dcterms:created>
  <dc:creator>Admin</dc:creator>
  <dc:description/>
  <cp:keywords/>
  <dc:language>en-US</dc:language>
  <cp:lastModifiedBy>Антон</cp:lastModifiedBy>
  <dcterms:modified xsi:type="dcterms:W3CDTF">2009-02-25T17:15:33Z</dcterms:modified>
  <cp:revision>11</cp:revision>
  <dc:subject/>
  <dc:title>  Saint-Petersbu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49</vt:lpwstr>
  </property>
</Properties>
</file>