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1F9-95B7-4A62-B5FA-56F428F6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3AF-51F6-46BB-8949-4DF27DD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130-149C-47AB-BC0E-3AB2E742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A1E-9FFA-4499-AB30-AA57B008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95C5-9D63-4954-ADA4-FE58F13D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A7EF-8381-4507-B17B-EE24DBCD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E824-8356-4D40-93B0-BE9D803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B794-DA2A-44EE-9985-9E73B4F1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23E-C1EE-48F1-99B9-CC085DC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6AB2-2164-4231-8F31-C50928A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AEAB-2DD4-43EC-8DD0-4EC13B8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839-C24A-44FB-B444-F146CBA3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5B8-0343-4D4F-8E27-AE7919B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2464-6E1A-41F1-9E1B-E69E17E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2BF5-9A28-4A2E-B29E-4B90FF94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CC7D-E9C7-4017-9CD3-EBD565B0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B78-648F-435A-9B9E-99225CE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7A1-FB25-48F1-A411-5B32655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C9C-8D28-4F2A-A23E-64CB56A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7EA-8E30-47FB-9F55-D7433CF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660-5AAB-41FB-9358-755F9E2D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A41-D000-451C-A46C-CEC34FA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51C-A2CA-4797-842A-2A9C6DF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7F1-97FA-4132-93F2-B40F9D8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3879-398B-4B01-B051-1FB8FE0019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BAC-B5FF-4F24-93C4-7F351960A139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d7c5b5"/>
                </a:solidFill>
                <a:latin typeface="Palace Script MT"/>
              </a:rPr>
              <a:t>  </a:t>
            </a:r>
            <a:r>
              <a:rPr b="1" i="1" lang="nl-NL" sz="8000" spc="-1" strike="noStrike">
                <a:solidFill>
                  <a:srgbClr val="d7c5b5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28240"/>
            <a:ext cx="845208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3860280"/>
            <a:ext cx="8380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de 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Zhernakova Christ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arfeonova Aliona     7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«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er   Babushkina N.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52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Welcome to Saint-Petersburg! Saint-Petersburg is a cultural capital of 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Russia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.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It is Russia's second largest and Europe's fourth largest city after Moscow, London and Paris. The city has over 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5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 million people. Saint Petersburg is a major European cultural center, and an important Russian port on the Baltic Se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96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r>
              <a:rPr b="1" i="1" lang="ru-RU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br>
              <a:rPr sz="8000"/>
            </a:br>
            <a:r>
              <a:rPr b="1" lang="ru-RU" sz="5400" spc="-1" strike="noStrike">
                <a:solidFill>
                  <a:srgbClr val="ffffff"/>
                </a:solidFill>
                <a:latin typeface="Palace Script MT"/>
              </a:rPr>
              <a:t>The Peter and Paul Fortress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74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We can see the Peter and Paul Fortress at night. It is very beautiful. T</a:t>
            </a:r>
            <a:r>
              <a:rPr b="1" i="1" lang="ru-RU" sz="3200" spc="-1" strike="noStrike">
                <a:solidFill>
                  <a:srgbClr val="ff66ff"/>
                </a:solidFill>
                <a:latin typeface="Verdana"/>
              </a:rPr>
              <a:t>here are many color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ful</a:t>
            </a:r>
            <a:r>
              <a:rPr b="1" i="1" lang="ru-RU" sz="3200" spc="-1" strike="noStrike">
                <a:solidFill>
                  <a:srgbClr val="ff66ff"/>
                </a:solidFill>
                <a:latin typeface="Verdana"/>
              </a:rPr>
              <a:t> lights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229360"/>
            <a:ext cx="793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ow there is a museum here. Last century there was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prison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5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6920" y="1447560"/>
            <a:ext cx="4924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ff99"/>
                </a:solidFill>
                <a:latin typeface="Verdana"/>
              </a:rPr>
              <a:t>This is a photo of the center of </a:t>
            </a:r>
            <a:r>
              <a:rPr b="1" i="1" lang="nl-NL" sz="2800" spc="-1" strike="noStrike">
                <a:solidFill>
                  <a:srgbClr val="00ff99"/>
                </a:solidFill>
                <a:latin typeface="Verdana"/>
              </a:rPr>
              <a:t>Saint-Petersburg in 1750. There weren`t many people. There weren`t any zebra crossings or traffic lights and the traffic was very slow. Also there were horse-drawn carriages and there weren`t  many cars or bu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nl-NL" sz="72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r>
              <a:rPr b="1" i="1" lang="ru-RU" sz="7200" spc="-1" strike="noStrike">
                <a:solidFill>
                  <a:srgbClr val="ffffff"/>
                </a:solidFill>
                <a:latin typeface="Palace Script MT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95640" y="1196640"/>
            <a:ext cx="3195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ff99"/>
                </a:solidFill>
                <a:latin typeface="Verdana"/>
              </a:rPr>
              <a:t>Nowadays the traffic is very fast. There are many buses and cars. Many tourists come to see the sights. There weren't any tourists in the old Saint-Petersbur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0563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5229000"/>
            <a:ext cx="8351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  old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etersburg there were many boats  and the people were very poor.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here weren't many houses in Petersbur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63640" y="4869000"/>
            <a:ext cx="722808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there are many modern skyscrapers in our c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5720" y="5084280"/>
            <a:ext cx="7236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st century there were three-storeyed hou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7:28:03Z</dcterms:created>
  <dc:creator>Admin</dc:creator>
  <dc:description/>
  <cp:keywords/>
  <dc:language>en-US</dc:language>
  <cp:lastModifiedBy>Антон</cp:lastModifiedBy>
  <dcterms:modified xsi:type="dcterms:W3CDTF">2009-02-25T17:15:33Z</dcterms:modified>
  <cp:revision>11</cp:revision>
  <dc:subject/>
  <dc:title>  Saint-Petersbu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