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6F0-B1A8-4378-BFC8-43C648A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EBA-B4B5-46FF-AF6D-511526B8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B2C-352F-4F6A-A651-20514C8C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CE9-B44A-4D00-BD64-41A40BAB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589-9142-4B7D-9F2F-CB7D783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9CA-145C-47A9-B35F-E82B9429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D9F-3C2E-4474-B3E4-640E44F8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38B-86A2-4A3C-BB18-C8DFBDC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33C-B157-4A9A-9BFD-3FB5687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FAC-E26F-41A7-8A2F-38FF19A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B6D-6894-46F9-8590-7AE26BE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3FF-1866-4DDD-9C54-EDAF1431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D0DC-6377-4009-8C44-122B99540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Second Conditional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3601800"/>
            <a:ext cx="1015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f __ Past Simple, __ would / wouldn’t + V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3880" y="52578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Презентация для 8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Выполнила Кучуркина Елена Борисовна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МБОУ «СОШ №91» г.Новокузне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2600" y="453960"/>
            <a:ext cx="11661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If I _________ (be) you, I ____________ (get) a new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If he __________ (be) younger, he __________ (travel)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If we _________ (not / be) friends, I ________ (be) angry with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 If I ___________ (have) enough money, I ______ (buy) a big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 If she _______ (not / be) always so late, she ______(be) promo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 She ______ (be) happier if she ________ (have) mor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 We ________ (buy) a house if we _____ (decide) to stay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. They _____ (have) more money if they ____ (not / buy) so many clot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. We ______ (come) to dinner if we _________ (have)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. She ______ (call) him if she _____ (know) his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" y="372960"/>
            <a:ext cx="1206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 __ (be) you, I __ (get) a new prof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Katya __ (not / be) always so late, she __ (be) promoted to the senior 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 __ (speak) perfect English, I __ (have) a better paid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Roma __ (pass) the exam, he __ (be) able to enter our colle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veta __ (be) happier if she __ (have) bett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(buy) a house if we __ (decide) to live here for g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(come) to the party if we __ (have)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nya __ (call) him if she __ (have) his mobile phone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irill __ (pass) the exam if he __ (study) ha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never __(be) late again if we __ (buy) this new car. I prom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773280" y="515880"/>
            <a:ext cx="1040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бы она рассказала все, он бы помог 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бы надела эта платье, если бы пошла в ресторан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бы купил эту машину, если бы она была черн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бы не пошли в школу, если бы у них были каникул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бы он не жил в Нью-Йорке, он жил бы в Москв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бы пошла в кино, если бы не работал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79440" y="34128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uld buy it …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ould go abroad…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could com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I had a lot of money…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she knew English…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he worked her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6475320" y="2189160"/>
            <a:ext cx="609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ould buy the car if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would call you if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e would cook dinner if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would dance all night if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would travel if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9T15:01:25Z</dcterms:created>
  <dc:creator>User</dc:creator>
  <dc:description/>
  <dc:language>en-US</dc:language>
  <cp:lastModifiedBy>User</cp:lastModifiedBy>
  <dcterms:modified xsi:type="dcterms:W3CDTF">2017-06-08T12:38:31Z</dcterms:modified>
  <cp:revision>3</cp:revision>
  <dc:subject/>
  <dc:title>Second Conditional</dc:title>
</cp:coreProperties>
</file>