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A90-BD0C-43E3-A45B-CEB7D495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526-C179-4540-9045-AA041730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E71-D8BC-4322-B64B-0FF62AE1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763-B65C-4155-A820-B998C0EA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1AC-9013-47FF-84B1-80D4FA88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10E-3021-4990-83B9-3B9193C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26B-1FC5-49A9-8045-756B7B8A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E7B-5602-46F3-B29D-FF6025E3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198-7745-4FF2-9539-7308012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936-D132-4529-A716-570768D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79C-6292-400D-B95F-BDD7B85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CD4-42E5-4BD5-BFEB-379959B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AE9B-0A78-4ACF-93FA-417E680F5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Second Conditional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3601800"/>
            <a:ext cx="1015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f __ Past Simple, __ would / wouldn’t + V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23880" y="52578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Презентация для 8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Выполнила Кучуркина Елена Борисовна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МБОУ «СОШ №91» г.Новокузнец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2600" y="453960"/>
            <a:ext cx="11661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If I _________ (be) you, I ____________ (get) a new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If he __________ (be) younger, he __________ (travel)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If we _________ (not / be) friends, I ________ (be) angry with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 If I ___________ (have) enough money, I ______ (buy) a big ho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 If she _______ (not / be) always so late, she ______(be) promo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. She ______ (be) happier if she ________ (have) mor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. We ________ (buy) a house if we _____ (decide) to stay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. They _____ (have) more money if they ____ (not / buy) so many clot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. We ______ (come) to dinner if we _________ (have)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. She ______ (call) him if she _____ (know) his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28600" y="372960"/>
            <a:ext cx="1206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I __ (be) you, I __ (get) a new prof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Katya __ (not / be) always so late, she __ (be) promoted to the senior 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I __ (speak) perfect English, I __ (have) a better paid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Roma __ (pass) the exam, he __ (be) able to enter our colle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veta __ (be) happier if she __ (have) bett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__ (buy) a house if we __ (decide) to live here for g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__ (come) to the party if we __ (have)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nya __ (call) him if she __ (have) his mobile phone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irill __ (pass) the exam if he __ (study) ha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__ never __(be) late again if we __ (buy) this new car. I prom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773280" y="515880"/>
            <a:ext cx="1040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бы она рассказала все, он бы помог 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бы надела эта платье, если бы пошла в ресторан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бы купил эту машину, если бы она была черн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бы не пошли в школу, если бы у них были каникул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бы он не жил в Нью-Йорке, он жил бы в Москв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бы пошла в кино, если бы не работал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79440" y="34128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uld buy it …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ould go abroad…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could come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I had a lot of money…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she knew English…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he worked here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6475320" y="2189160"/>
            <a:ext cx="6096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ould buy the car if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would call you if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e would cook dinner if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would dance all night if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would travel if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9T15:01:25Z</dcterms:created>
  <dc:creator>User</dc:creator>
  <dc:description/>
  <dc:language>en-US</dc:language>
  <cp:lastModifiedBy>User</cp:lastModifiedBy>
  <dcterms:modified xsi:type="dcterms:W3CDTF">2017-06-08T12:38:31Z</dcterms:modified>
  <cp:revision>3</cp:revision>
  <dc:subject/>
  <dc:title>Second Conditional</dc:title>
</cp:coreProperties>
</file>