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</p:sldMasterIdLst>
  <p:sldIdLst>
    <p:sldId id="256" r:id="rId43"/>
    <p:sldId id="257" r:id="rId44"/>
    <p:sldId id="258" r:id="rId45"/>
    <p:sldId id="259" r:id="rId46"/>
    <p:sldId id="260" r:id="rId47"/>
    <p:sldId id="261" r:id="rId48"/>
    <p:sldId id="262" r:id="rId49"/>
    <p:sldId id="263" r:id="rId50"/>
    <p:sldId id="26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" Target="slides/slide1.xml"/><Relationship Id="rId44" Type="http://schemas.openxmlformats.org/officeDocument/2006/relationships/slide" Target="slides/slide2.xml"/><Relationship Id="rId45" Type="http://schemas.openxmlformats.org/officeDocument/2006/relationships/slide" Target="slides/slide3.xml"/><Relationship Id="rId46" Type="http://schemas.openxmlformats.org/officeDocument/2006/relationships/slide" Target="slides/slide4.xml"/><Relationship Id="rId47" Type="http://schemas.openxmlformats.org/officeDocument/2006/relationships/slide" Target="slides/slide5.xml"/><Relationship Id="rId48" Type="http://schemas.openxmlformats.org/officeDocument/2006/relationships/slide" Target="slides/slide6.xml"/><Relationship Id="rId49" Type="http://schemas.openxmlformats.org/officeDocument/2006/relationships/slide" Target="slides/slide7.xml"/><Relationship Id="rId50" Type="http://schemas.openxmlformats.org/officeDocument/2006/relationships/slide" Target="slides/slide8.xml"/><Relationship Id="rId51" Type="http://schemas.openxmlformats.org/officeDocument/2006/relationships/slide" Target="slides/slide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F98D-2E55-453B-A7C1-9C8044370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51BB-9010-4D4F-9D40-CF902D27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35241-98BC-4BCB-8242-8E3E1C42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08643-570E-4041-AE3E-E325DCFC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DDD6B-EE6B-4C29-B9BA-F6EDABD6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21B8B-1877-4614-B8A4-EDA14099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21BA5-FA18-4175-9076-F51AC1CE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AAFDCF-8546-4B2B-8AAD-A2C28F8B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745CA-A56E-41AD-84BD-7CDB84A3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FAB852-3330-4C85-BB38-837447AD6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AE1C9-D79B-4416-A4E0-68B772D58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341753-9E1B-4D14-8AC7-A63A98EE5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AF5A-A41E-4CA6-8F44-0BD3871B8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275A8-8A5B-4523-9A70-4BAD07C2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D61C2-9601-44BB-B667-187575AE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75876-6497-45D9-8213-60E9EF90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974F1-C487-4062-8D70-09E04872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26F7F-3386-4EB4-9DD8-D9C6C86F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719335-9C87-42EA-84EF-03D45A0B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C4AF4F-F42E-4519-A43A-8811EC79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E081D-F08E-4F10-B765-C07CA5CD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950F9-96AC-4B3D-9E9F-1B45674B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AF0F0-64B2-4FEC-9E69-582D27325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C0AD-9385-4922-A636-5145502E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7947C-61D3-44DE-B039-E91C494DD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7BD64-0330-4252-9C78-9AA64597E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B04B1-D4C6-4224-9BF5-0CA875AA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D3CFF-D546-43DD-91C2-4904BDF2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1D23C-BCC1-4365-9ADC-5EBCA494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61002-9345-4EF8-9A4B-40187AF5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F08F4-B9B4-41EF-BF4D-1B01E21F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BBA59-4CE9-42A7-8AB1-37FC132D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614D5-DDB8-40BC-A93B-78D3A14C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B6600-4E3D-44D8-9449-995545A7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CBB8-9642-447A-A600-8DE1E7A3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88D6D-6014-442F-A11D-540A7834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6407A-016D-46FE-BCC8-FCDD2204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D3F3B-CA1F-42BE-AAE7-C3D376CB5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21E525-6CF2-45E6-BC56-9CB0BA8E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54EB28-2577-44B7-8286-4F79C3EC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A51862-C2FB-4E21-AA7B-3F889AE0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66007A-146D-4E9C-B6E4-341D75E8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2B3CF2-C2E2-4583-ABE7-61CFAA8A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C89F2A-1220-4A20-94E0-609868ED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408DC0-24D5-4989-8102-DC032756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04C8-6DEC-4B21-B749-78429B85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1223B6-3AA2-4CEF-A69A-2AF9A8D6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8E57A-2D92-41A1-90B8-EA456849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30614F-B9DF-4AB3-B29A-BECB7D34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5B9559-B74E-4107-A542-A97FD8383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260B3F-C01F-4C49-A8C4-2FF5BA28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5ED4AA-4FFF-42C7-8E3C-EF0617B13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1F4282-A4A4-4693-BABD-EA81B891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7F0DC9-4643-4C97-A26D-6557A05E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293C22-B556-4E50-93E4-FA3AE8B6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C2E96D-F6A6-41C7-84B8-CC3762E7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B20B-3B33-4C6A-B523-B39B1E5C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E9D481-5B15-4F04-9CE9-583ED675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0F8E51-728B-4BBD-8DB4-6B612A63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41762D-A00C-4A11-98B0-C8F6ADED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134E1E-BD5B-48E8-BFE5-EF860019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85A4EB-B799-4A1B-83B0-215A31DD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FA91FE-198D-459B-8453-10F5CC3F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A618DD-4E0D-4557-990B-6DA454C7D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0F3866-374C-4552-86C8-FCECBECAB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B4B03E-98CB-4002-8AB7-F22416A2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321D6C-508C-49CD-B179-D0543AC7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923B-C764-4C46-BA6C-E7BA2A85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0D991D-7609-4215-A244-12E00F3B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EB1383-1AF2-49D0-9BB4-D5D9E1BD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EF959C-AB56-4C31-B86F-9CB6CC6A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6405F7-E1E7-4FCA-B5D0-3B796B9B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347C56-D7AA-4F95-9F89-6E4E495B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4EF55B-31CA-4DDE-83F2-6064324F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CD715C-8ADF-453D-B73C-27388A66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83F2DC-4C4A-4B40-80BB-00ACB5A13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2765C2-69E3-4692-B788-C9360E517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5393E7-C381-4409-84F2-BC44A4F10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3F2D-0ED4-47D6-83A8-7323AAB8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86179D-E7EC-4850-B098-F480F591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EDABCB-0300-4560-836E-19D66623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38A6E0-BD24-4E12-804E-8D764DFF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8DF8AD-0262-4989-AE8B-0BD59376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12CE14-FB79-4EE0-844A-38682967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CF8527-D817-48FD-BCF7-E91C9300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D94D1C-0D05-42BD-8994-2113D909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45AE21-B3CD-461D-82D7-0C1839AD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2CDE1F-32D3-4D9B-87D4-173DB8C6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F03011-6024-4044-AB88-C1FEA7E0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FBCE-563F-46EE-B2FD-80D7BBC3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D4E38A-E162-4DD4-8907-210E9E3E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08FB6D-32DA-46AF-88B9-B8B4D2FCD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3AB4FB-4872-45E1-BA02-1A297BF2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E43173-84C6-4DDE-B5A4-CADC4A6E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E48E67-B891-46D2-87AE-FF6008D8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A143DA-4590-40EF-8D28-E356C421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FC57E4-A3E4-4B54-ABEE-A61C2BC3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5E06ED-5A73-4042-AF89-1E0F96B7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A229C8-C4AA-4E3D-A0C8-CAA6CA7F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BCFB5E-0057-4FF9-9571-8C755879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BC89-9473-43C4-9F52-91174933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16C5A6-A3E9-48ED-9763-BA18BDDC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44C8EF-DB63-4699-91A2-BF5684715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5761BC-1C5F-4025-BC65-0EB1563B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472DA3-AD9C-47F1-B8AD-959EDECA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27E7FF-E599-4319-8373-CE6929F8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9B13D5-1A65-45DE-8DE8-6CA62821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0CAAC7-BF3C-4C40-B78E-933421A5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EB4BE0-73E0-4246-9F10-2F024988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C6C023-F492-4381-B73E-28287324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14256F-5A40-4DA2-963D-A0DA9611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E2DA-0954-4813-9FAF-80201628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30B1-5D31-44FD-8699-E279484F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20105C-46D5-40DF-92C0-07357580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7F9756-25DF-4CCB-95DA-A5DB1651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3C08B6-D0D7-47C9-B75B-3738E3B4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6FF8C3-52D6-4D18-8D99-602AEC685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3400BF-F098-438D-915E-AB3D4C0D0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F55BDD-E90C-427D-83B1-09FCA65FE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859E05-3091-4213-8388-4F69833F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7DAA38-C59B-4D47-8574-72F2BE76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77ED3E-E503-4C3D-8A56-2EB8C092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8334EA-A64E-44ED-A39F-9FB9CD45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D8BD-9F0C-47A5-AB91-1666C54B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FABCB1-D492-4D25-B0AF-E1F4DAFB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DCEFC4-1C2F-445E-A2A9-C50D4E0D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9F083B-691D-42FF-8E4E-4773F6D5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7C39CE-3575-4B9F-B31C-98676D71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16DEA2-44A1-44A4-9AFE-89E00836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CC3F51-E775-49F3-B91C-C91C35A8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38B178-FF3F-4446-9CEB-35498B939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A01FC4-980E-4A3D-85E2-266D0DB94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E93F34-11B8-41CB-A782-8DE41AA2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68ACEE-6EC6-4932-A1F5-32EC13EC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1FAA-328D-4BF6-AFC3-5DC7E57F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71B74E-410C-4B13-B170-C7D7319B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011229-3C53-4665-BB7C-996D5C3E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94B65B-7EEB-493F-B6B3-1BEC55C9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D1E9FF-46C4-4280-96BA-C30028EA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102785-36B8-40EB-B6B5-718BB83F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D6F7A4-102A-488F-B471-F7BBC5E1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66A15E-CFC9-45FF-B078-043F66EA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8782C3-BE09-469C-99E3-524724D02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66FAEC-FC0E-45FD-B5E0-4223B6F92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D07C9E-8B13-4F64-90B0-70BAC2FA9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C36F-9C39-4513-A3F5-4D8D6596F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EF4A7F-B47D-42F9-9E7E-C7CDBE2F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18AD3C-BB58-4DB0-9AD9-4AE0611B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473220-9BDF-42DA-9EC5-3B25B53C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2D947A-84A7-41FB-9534-93F97DAB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30EF61-0D0D-4702-B6CA-EEDDBE5D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95BD65-778B-415D-8A4B-61C1441E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75EE0B-FF54-4E77-8702-8B49B1C6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A0C980-8E83-4211-A9D8-680159F9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953475-EC22-40EB-BD6D-6A2C6FEA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C444E1-F87C-426C-904C-CE15B845C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0BB0-4321-43CB-A2FC-0769540A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D25B07-1DC3-4B9D-B47C-80D543FD0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D2BF86-7D51-4188-9C75-DB5B3B0B2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C8B716-9644-4170-B464-AC2DE103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793894-8139-41F3-85C2-E6398C9D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427A4B-03C8-40DE-8ADC-12E3C8D4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BA31B9-954E-4B47-BD85-D765B024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6D7BEA-6BE7-4A95-9BA4-3FDE556B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864777-F859-4064-A099-C2E96C7F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81B3AC-09AB-4292-AE3C-FFCDAFB1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7F119C-4A22-4492-B4D9-02D29385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A3DC5-6491-45A7-A1A1-AE44FBC32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02C41F-47E8-45DB-B19B-1B70AF9E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330AF8-3597-411E-B587-0E25365E7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9E0CEC-AFA1-418D-BAEC-B5C4F901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13A891-56D0-4AD3-ADE8-32F8373F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617AD0-C5F8-4391-B902-3E1C21F1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77E801-ED6F-4B45-8CAD-E2AB9956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3078AD-F6B4-4384-8D60-34DF849F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0D0E27-7EAB-43A6-A564-5B66E3A5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4E6E21-26C7-4F3D-9501-7DD4D53F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9013BB-43E6-4B2F-9F65-90A8AFFC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4BFB9-F388-4EFB-9E63-FDB34069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5A9C31-6DA7-4EBB-B902-B2C3041C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7E57E2-9423-4BA8-A268-D49CEFF9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9A6D47-11B5-40F0-87D8-17B962E7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844E35-FE38-4198-913E-39011350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B2E00F-E73A-40F2-BE3F-BC9FBC921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7AA64A-D6AD-4A18-803C-F27D81AC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ED9B6E-647C-4370-A492-D1E28F54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E436A8-A151-4C8F-971C-D956F367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70F0E6-71B9-4233-A51A-D6642941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7FB4E2-F5D1-41CA-9CAD-2667DC72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DCA0B-09F8-4597-9C5F-DEA98BA9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BF649A-44AB-4688-AA04-616AE1F9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1F38A0-A3F1-4B05-BF9F-B410A9CD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2CDEA8-BA56-467C-9467-589A9B5B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8F492B-0BFB-4E61-8E4B-747F2BF1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1C53B3-8F37-4163-88DC-3173443F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274187-DB72-4CF1-9402-53BEC996A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F06982-D124-4A25-8341-C06E34176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9FCD9B-8586-48DE-9A47-B44DE71AE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60854C-DC0F-4206-A54E-6AECB7F4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BDF7B3-0416-41ED-B1B1-AF6836E6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F5367-1C38-41B9-9D2D-F681A655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8E595B-4C87-4036-A6B7-740095EF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3C48A4-1E43-42F1-9FA9-D30DD4C9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45DC89-5D0F-47D0-8745-ACA7CAF1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61E7B6-79A1-42DE-961F-1DE652EA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CEFED8-B852-4EF9-9020-AF8EFF21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8DDDBD-7EF9-410D-B112-668BABD2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96BD1F-B411-486B-8CEC-057CB95B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016276-59E5-459A-B2E1-EF7B18CFB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27BB91-4EEF-4248-8085-E07C5A1FA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78C84C4-B6C1-4048-931B-555F5A37C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C2EA8-B4F0-41A1-8D84-D87E7C48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781CF9-4CB8-49F4-9558-B61C2F01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521855-6FA0-4E21-9093-78678994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57072A5-24FE-42C2-9D2B-6F6189EB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7A3184-8765-4AF0-B8B4-9D76F769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B1B6DA-A3D3-43A2-9F19-53EC424F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4D3664-C194-4C7D-95E1-4D7CC165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EAEF427-9B87-4CC6-B2A1-C7B60DC4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1A75517-0A18-4A18-B9C4-9C5C1B42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8F0C97B-8D47-46D9-AE36-0E4CF512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22D568-50F4-4CC4-80CB-26D978220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851C-AB1E-45E1-981F-B04993EE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1251F-0E6E-440A-8A6C-628433F7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625BFA-0ABF-451D-BFDF-FEF84776A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A70BA8F-EFEA-4D50-A32E-6F5566E1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0EA8AEE-7962-4A7A-A5D2-F0A52B8A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0C46232-CE55-4604-8B7B-63557D5A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264A16-5A35-40D0-B735-DB780ED9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83EA88-1228-415A-B90B-7BF5392C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4B8BE05-085B-44F5-AB4D-06C287BF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B6960E-D70B-4997-8C1E-2E1FBE75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63FD5DB-A2BC-4B9C-967E-A6855CF7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1CD216E-FF2F-4550-A828-E14F9E48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7A758-1B65-4073-91FE-CD21F05D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CAF115-F35F-4732-A4EA-CE8950D7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369146-0C1C-47EF-A540-8AC795680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B0ADA8-2305-4CBF-B614-5666A521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8885877-B068-44C2-81AB-D6E4C7BC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390CB5B-57F6-4D14-9FAE-BF12B8B5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D5D8D40-6795-4B16-AB64-DCFF3930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D38094-8B49-4A48-A885-3D9E6E7A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A143CFF-45F0-4116-8010-4CE37544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FE8B7F2-25B1-46BC-9EF4-8A662505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61D98A5-2D28-48A9-9B2E-819E01F6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39CD2-84C7-463B-873F-2ED7A924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5EC4E89-6F69-4626-9AAF-C7618CB7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84F16E3-1129-4BF8-A5F6-EF812315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BAAC602-3AD4-45A1-8E3D-0924091D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9A6F5EA-18F2-4552-9065-A8A7B5E3B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B2579F8-070F-46D0-803A-65D358444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C6D0663-A331-4D6C-956A-A472513FE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70B3441-5657-4592-9F51-F3DE9894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C8BB63-788B-47E3-A62F-8CEB3EA1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7557BDB-D944-43E1-A26D-DBF6A092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7D6029E-29CF-43A3-BEF7-3D84ECB5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96860-C85B-4D3E-BF8C-0108461E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0305BBC-FF23-473F-8510-D9A5E5EB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5DA2DA9-3427-4867-BE2A-50182D27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96727A-1D72-4641-A4C1-34E01C37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1BEFAF-7713-4CBD-80F9-CA6CBB61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41AA708-08B0-4260-A956-7B57CA2B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3142E3C-25B1-440F-9D8A-AAD864FC8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A27C793-DF8D-4F08-8C4B-C4F92EB8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59B11FE-95FA-42D7-A7D3-04D2C82D9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1973CC9-40F9-414C-8B89-B25A5B43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AE69FB1-FEA7-4239-BC9C-E832F960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120F0-F16C-49BD-A2C8-C39150F3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BF05D5C-35B2-4A98-AB1E-16742601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C216CA5-A491-4BD9-BCC3-3180ACA0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76F1BA-C13A-4737-BB4B-0FD545F7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155411A-F2DC-4C91-945E-5E151881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7F94FD7-6F31-4A3F-88C2-74EA428D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7C17F17-4CEE-487C-9BA7-54EF373C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4F3E31C-BA86-41F2-8679-6DD25BB4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29BCC1A-0E40-4145-B2D7-B9D9214C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6BA7C5C-A4DD-4703-BD26-DD57F9D2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1576C29-1906-4B73-B431-F2116280A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58B9B-7F91-4ABD-B57D-ED6E91487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2DE4583-17DB-4B06-91ED-7431E4D1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9432B1-857B-41BF-9B95-A2277BF5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6D10765-DC33-44D4-80FB-CEB1ADD0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3F7F4CC-42AF-4FA9-A82E-3D082DDF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E6A08DF-2013-45A8-B4C4-DE4DD5BA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3CE00DE-6B5F-4775-BD95-D04FFEBD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8DD95B7-89AC-4133-9584-D2F3F83A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09272C1-9CF9-494D-9BDB-CCF1A6C1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AB72E91-A361-4A59-A0AE-E98795AF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A0E7AD0-8F72-4E99-9D78-3A9BB0CC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792CA-99DA-47C7-B6AC-52AB6047B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A444016-E2B4-44FD-BF8E-AF584634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2E37759-E60B-4A06-B15A-025708D3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E57BA73-DF9D-4F27-AF9D-D4F977E9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B4E3A14-59C5-40AC-A6BC-AA1023C8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69585A0-FD32-4856-813E-6C5FC023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B09760-C42F-4D0A-9106-1A555E1C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821446F-BC5D-4297-8DA3-390EC635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920B9E2-A283-49FE-A020-D41E49B5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ECA9CE2-D084-40B2-A254-CBC7E1C3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C26900C-8C58-44D5-B0B2-B82A9F71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FEA56-3A5A-46F9-B6DD-5836855B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B362E40-569C-47B7-AD1F-7351AA54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5AB268C-BEC2-4F94-A3F2-DD56754D1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6377355-F187-4DDA-9F32-1EF901FD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A959E7B-B17D-4FDC-AF97-A2961DE0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571FF49-99F6-4A40-A62D-2BE72874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8C3EA79-ACBA-4BBF-8503-6D4142DA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707F852-1F17-4FCF-B1A4-797F5A0A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61F310E-E316-470F-99EE-3D2E523D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87DDD2D-4801-4751-AC36-324B664B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57981B1-597F-4B59-880C-4B05370D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A77FA-0CDB-4682-8E84-5FAF6788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1208525-C7DA-421A-9D96-48A68203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A87A720-4449-497E-8C1A-82FBA9A4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69DF7D7-6497-44A4-B2AE-2C4F5778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39FD278-C2D5-4CFE-BC3F-D177EE841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F2EEA32-EDC5-4116-9E8B-333100471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6011F95-5B7B-4DEC-90FA-EF2FB4159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FF2EC5F-72E3-4277-9A3B-36D05F5C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F9DE0FA-CFF1-450D-9548-2CDD90A4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F1D4468-93E3-4244-A1B9-833E28B8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4EF3530-AF47-4F10-B247-DA306C2B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FB6E5-7AEC-4885-B1E7-153C5617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9BCB15E-3E98-428B-8A08-B422364C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871657D-E4C5-4ADA-9CDE-32B4879D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94C5913-18B0-4867-A1E0-37BA9C47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F8273FA-3978-46D3-851B-FB7C6357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11B7AE7-E279-4B46-B862-057633BA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03CE361-061F-4D53-B948-98B57982D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54093D9-268D-4777-9D5E-0DEFB3C5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0BE7BEF-A311-4F0D-B7C2-AE136B1D0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86D0181-E4DC-42E7-BF79-66564567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6B15CDF-66FF-4083-A574-F407BDCC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5B0E-B905-44A1-A7FC-FFAD0117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931F1-F237-4745-935A-6FBBBE9B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3DA6DCC-23F1-477D-891B-9E02301C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DBC8E6D-0A44-4EB5-AB45-7952EBF0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E0E3014-563B-4A3B-9998-41C00931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4E6EAEE-4D69-4C4E-A46D-501279C0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2B7238D-6990-4C30-9DF8-4992B881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C6FB365-9BFE-4BE6-BDD1-32330A8A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11C92DA-373E-4665-B25D-13AD430D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0D43631-1C8A-4E93-8599-0C6F91A0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7CE0529-A485-4DBC-AF82-EDEBAD47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CFD9DEC-D434-4486-B7BB-04A96D99C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6AA4A-73E1-4160-BEE8-4D91E3AB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018B9AE-53F1-499E-B55E-85E7955A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F97DD78-ADE7-477B-AB96-CA2FE4DB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831F8FB-3BE4-421C-999A-A1647926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205113D-3436-4708-8A8A-A99D01EC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7EDD798-7D7E-4887-A199-F41C580B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5888A6E-B4E2-4F11-84AF-C61578B3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A2FE924-DA3E-4EFE-AA0B-2A96201E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D1C01B6-2F70-42A5-9902-4385235E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0CD8857-CD13-4DBA-A2C4-1BD0BF13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72A208D-05D2-45CF-8F24-042D1535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0FDDB-1688-4ABB-9E22-08A048EF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31F3312-0FB2-4FDA-9750-07A76125F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C299655-3460-4616-871B-C8A80F71D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3216E3A-3036-4DCA-916F-8E0775F6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BD38025-5379-4FF3-8922-4C657A1B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CD9B168-D19E-4751-9C61-1F44878D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051CAAF-2C01-43CD-9F26-2B078F22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A930730-43BA-40A3-A703-699CBC46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6F19D3A-6F75-49FE-B60E-EAB72C54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CB6478F-F71D-4A74-84AD-FE6E212B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304F7AB-9B74-43D7-965F-3E325A97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98696-A1C9-4AF9-9CBD-15978E13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01B745B-6950-4008-88D3-B26CA337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13D8D79-0E77-4BE6-BD68-E943D6ED0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9DD8A88-5ECE-4ED3-85DC-CCDDCBD5C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166397F-5ABE-4344-8C42-5C109BFFD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596DAF9-884A-43F4-92C5-30664A1C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9A85427-6387-4413-8713-84167D15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EF0908D-CAB4-47B5-8CC6-7C8E5B6B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1EDADA2-6DC8-45B9-AB2A-E808CA06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AEA30D8-7C3F-4655-8DF0-2AB730DE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911454B-F6D0-4048-9529-E0F5E61F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0B07A-163E-4742-AB36-6AF0FF29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B2F6C73-151F-47F6-A212-BA8F5DD7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8D6DEC9-6131-4D3A-9416-6A411809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ED596A9-73FB-4A10-A5DE-22F82C49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FCCB090-A079-46AB-B639-3EDC3A0A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0690721-39A7-42C1-B2C8-33EF75ED7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EE14573-5C02-4183-A3FF-C610E9B44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F23969E-BED5-4861-92C8-8AE7D8A6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2BFCF3D-7141-4A09-AA88-57530AAE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DD06626-3E86-49BF-82EB-A208A8CC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FC59957-A715-4623-9549-DD75912E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DEFFB-AEE0-40E1-99B4-82216DB3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587AFE9-3721-4643-BE9A-41E8772A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74C1CD8-4117-4EB8-9BA8-670ACA5D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1DEC5DC-089C-4D99-B168-A70EACB5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1E401C9-8B0B-4BC4-AB11-F1F7B9F3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8BE1B5B-3B5D-4B91-8C4A-3D367CD1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ACC13D6-EC78-4FD7-9F8A-6C09B718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0129A3E-5E21-4E54-AB5D-D536531AE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E7A460A-FD1E-4ED0-8413-371B94B45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7702F19-33A6-4888-A2D1-596C4A15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E6EE6AF-CC9D-4D8E-8A8B-C1681246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65B97-FB70-4802-B240-B29BD8D1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4552663-170F-4A5F-A231-9FAA6293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F23A7B4-D079-4236-8F0D-C6E86886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0682AA8-B28A-4E20-B46D-BFFB98A6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63462B7-3376-4DD6-91A7-5EEB0045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2B2D64B-70D1-4DA8-96D4-9393E51C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57B0310-9909-4D08-90CC-6ADA3912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F2EFEEB-69C8-49D1-9E2D-EDB30A3C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05997C6-A5D9-487D-8777-0AE781E14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B4EED98-569D-43F2-BD60-D8E34BCF3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9A44B29-E2BA-4658-944C-5CA2C0A0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610C7-FE45-4577-945F-B5A1DF50A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96C82D1-A44F-4D5A-BD0A-2528DF57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F03F8DA-236D-470B-B6D4-576E4035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997BDBA-8AEC-4AEB-B059-36DA7161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128892C-EB82-4C4B-B734-0854967E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9DD69F5-8690-466C-84E9-4C280BBF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A2FDEF4-A559-4758-948E-13ACBEAB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8A6B1DC-568C-49E2-9C52-7A96F2B6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697184E-3606-40B1-967E-E90C24FE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D7B8C48-3853-404F-8485-31145F83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F3E535C-8C26-4249-A83A-70AF2C6CC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8CDB1-C506-45BD-8759-1159CBA9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8E27002-B109-4800-9DF5-2EE40383C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E00293E-906B-4C1D-859F-0E135737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4DE90D6-D2E0-4BFF-A95D-99D6FFA0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4BF34E0-2712-4ECA-86FC-F44A35B2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2E134F4-ABA8-4E33-AC7E-CFD1C2C8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ACB74BE-9083-4355-90E0-B92F13B0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626696C-CF42-439A-8566-B562D422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46EF157-3034-49FC-A1DE-2DDF1808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5A6D6D8-446A-430F-8EBA-BA5CFF46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DEDA882-B733-42A4-80E9-BC9F0457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8095A-CCE9-4442-ACCD-17E7F6484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5B5A169-0D5E-4B7A-88A1-0405EC83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0BA920F-B44E-4263-9809-9E72FA99A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CEE22DD-3C7D-4741-9C80-AB792244C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6E1A-FE20-4841-9383-62B6FB46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01641-B1E9-43DC-82B9-2A64B2B2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D5E14-C523-4F22-8D1C-A63D5B38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C8A52-0078-4635-8DC6-0D0FFABA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8D6A1-C36C-4756-8573-6F79BE59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21E08-EE1A-4A41-9B59-355232A0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EDC0E-0B58-4D69-B54E-7A98D299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ED9E0-722A-4C9B-8FC6-76A0DE0C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CE78C-4A56-465B-87C0-F7615897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4E025-65D4-471E-8EDE-FF59C36E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84F31-4C0B-46DB-BDDB-DC40AE6F0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3D1A-D5DE-4420-8E57-2FEF7558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0E538-D105-4669-8B3F-9FD0469D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E1559-77FC-4FE9-A1BD-500CA8B3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1847B-7FBD-4247-BC65-AFF32998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74E8D-5DC8-4F1C-9A7B-893CAAEB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1744B-6BEC-4209-8D72-D55CBD3E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C3434-F9C2-4343-B581-7726F4F6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DA30B-C1CB-41FC-AA30-50E4C435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C4509-E344-42AD-A13E-53B3487A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9310E-A774-4E6C-A286-45556611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AA59B-ED53-4523-998C-543EAD55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FC81-D361-4DA3-8D91-12D4B4A3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B824B-2AD1-4561-9A17-5AA39E53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0F9EF-6345-4C85-A8EE-E3C01A4B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279F5-B5B5-404E-8B7C-CF248048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45521-08D0-4D73-9B06-BD736FB3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24FFD-41C6-4D9B-9C76-719DA736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12E64-20DB-47CC-AAD8-4339BE1E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CDA7A-BA23-4C91-93F0-41F0FF78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0A81D-686C-42C2-BAF7-DFAF3C8B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AD4E6-12DA-41C0-B29B-C418466B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F9054-8963-43D0-9BBF-97D5C353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0295-2F61-4379-9586-0680AFD8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9345F-4354-4E8C-8757-A04E96CC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3602C-84BD-4969-9DE5-837DCCC6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0C1FD-4241-47B5-BE48-0ED65507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B6B1C-79DA-4AE1-98DC-8118201A5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80AD2-6C4D-4888-AF7D-E08A6F6CA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F2B56-DAD2-49AB-84AD-BCB172C7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4BC6E-FFB9-4AE1-AFE0-DE070EBF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69BBE-3134-4D57-AAC8-E47AF52D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E19AC-5288-486D-95D0-B192D45E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51489-B2ED-49F9-8D6F-6194126D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4AA5-AAE7-4D9B-BDC7-4650DC9E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093D5-C055-49FE-887E-44412C95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1D339-9421-4E62-B061-87858451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8B28B-5DDD-4EBA-A1B9-1AB17738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79711-DD0E-4F62-9347-92462E65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7D934-268B-43B8-B352-D5DDCCF5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341D7-C41C-45D1-A690-E9C415769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54A5E-932F-467E-AF2A-EF17D9ABF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C0FCC-7369-4226-B8AB-8534A87D7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4A033-39C7-4F3F-9C5A-150C35E6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254DD-4CEB-4F58-ACD7-DE3EA4A6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"/>
          <p:cNvPicPr/>
          <p:nvPr/>
        </p:nvPicPr>
        <p:blipFill>
          <a:blip r:embed="rId2"/>
          <a:stretch/>
        </p:blipFill>
        <p:spPr>
          <a:xfrm>
            <a:off x="-36360" y="7920"/>
            <a:ext cx="9180360" cy="6867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C982-93A1-43A7-83D2-1D2E383BAA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57E5-DB5B-4C09-A961-0E7D6410DFA5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1A6D-0F58-482D-9DCC-DFBA5EDAC799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3AD8-F983-45D7-A878-36A1BB6A90B7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A4CF-07A9-4531-8BE5-8BF06BD3FB49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1173-C8E2-48F1-B8C9-AB4CC84D89A4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E831-6F6B-42ED-AD34-89DAF3108499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6273-515E-4176-8B29-541328801DA5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C415-6C15-4D08-B0B8-01602CF69B58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B557-AF20-419C-A4CF-85C4FBF9B81C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9D1E-A459-439B-9D86-E55AA6CC2E50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/>
          <p:cNvPicPr/>
          <p:nvPr/>
        </p:nvPicPr>
        <p:blipFill>
          <a:blip r:embed="rId2"/>
          <a:stretch/>
        </p:blipFill>
        <p:spPr>
          <a:xfrm>
            <a:off x="-36360" y="-27000"/>
            <a:ext cx="9180360" cy="6867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BDFE-6F60-4790-9886-C178F5D9AD8A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8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0C29-384A-41BB-80F4-F17139984DC0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3406-0608-4F1A-BB84-A838F2655D76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051F-4D71-4978-8F96-A0A821F491BF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B478-B63B-42D5-94A8-F78DE5C302B3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E596-0F1D-4117-B5D4-A862B558863E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D69E-ED09-47E8-A747-13100AAE8FCD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406F-DD5F-41DA-8CBF-5C90D0AA758D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2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55D1-17F8-4C55-B0E5-369C128DA87C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14B6-D661-4B86-A84B-CE2B6054B341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40BD-47A7-434D-AC1B-A929B4AE009C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5187-16F4-4F91-BD68-2A4E986AED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8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8E65-18CA-4E53-BDA3-2F5A34151D7C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0" name="Рисунок 6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99B8-A2C9-441C-89B8-E5FC221B3859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2" name="Рисунок 6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D269-60B7-4FF6-8CFF-8BEE3E2E38D6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4" name="Рисунок 6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4CEE-3BC3-4207-B024-F9FB96A2F580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6" name="Рисунок 6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805A-75C0-41CC-8525-25CDCE52DB82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8" name="Рисунок 6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96EF-B39E-46EF-B699-256061D549F3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0" name="Рисунок 6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53CF-5C5F-4795-A31E-4339DC16324F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2" name="Рисунок 6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CC83-D5F4-4FD9-8190-E1395CA663D9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4" name="Рисунок 6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E469-573F-4DF7-81A8-0183AB8C9918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6" name="Рисунок 6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 type="ftr" idx="1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5"/>
          <p:cNvSpPr>
            <a:spLocks noGrp="1"/>
          </p:cNvSpPr>
          <p:nvPr>
            <p:ph type="sldNum" idx="1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E41F-CA5B-4FEA-B6FC-9751136B51FA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6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9D21-F9D3-49EC-8DBA-3B26316AC680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8" name="Рисунок 6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 type="ftr" idx="1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5"/>
          <p:cNvSpPr>
            <a:spLocks noGrp="1"/>
          </p:cNvSpPr>
          <p:nvPr>
            <p:ph type="sldNum" idx="1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4582-2D05-4F7B-8E4A-5F02E1DCCDB6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0" name="Рисунок 6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13A8-A29C-49A3-9DF1-2FB32F7A13D8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D6CE-B8F6-46EF-B843-C3B95EA5C7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5BB6-D3F8-482F-8721-B0604DC3A9E8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Рисунок 6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7655-C9C2-4AB3-87F6-35B8C7E7B5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Рисунок 6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58A8-62F6-4662-8C4C-6D1E02C2E7DE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B527-8295-41EB-B19A-C272AFB71A47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8208720" cy="276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«Сеть в сет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subTitle"/>
          </p:nvPr>
        </p:nvSpPr>
        <p:spPr>
          <a:xfrm>
            <a:off x="133200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(«Сайт воспитателей- инструмент педагогического взаимодействия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ВЕД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"/>
          <p:cNvSpPr txBox="1"/>
          <p:nvPr/>
        </p:nvSpPr>
        <p:spPr>
          <a:xfrm>
            <a:off x="468360" y="1341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Инновационный проект «Сеть в сети» на период 2017-2018 уч.г.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и далее представляет систему современных взглядов, принципов и приоритетов развития дошкольного образования. Инновационный проект определяет цели, задачи, механизм реализации и предполагаемые результаты качества дошкольного образования на период 2017-2018г.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Данный Проект представляет собой новый взгляд на особенности организации воспитательно-образовательной работы на современном этапе развития дошкольного образования, позволяет внедрить современные информационные технологии, повысить эффективность и качество дошкольного образова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Итак, образовательная сеть определяется как среда, в которой любое образовательное учреждение или педагог могут взаимодействовать с любым образовательным и другим учреждением или педагогом по вопросам совместной работы: обмен идеями, создание нового интеллектуального продукта и д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Calibri"/>
              </a:rPr>
              <a:t>Цель инновационного проекта: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повышение качества образования через активное внедрение в воспитательно-образовательный процесс информационно-коммуникационных технологий. </a:t>
            </a:r>
            <a:br>
              <a:rPr sz="2000"/>
            </a:br>
            <a:r>
              <a:rPr b="1" lang="ru-RU" sz="2000" spc="-1" strike="noStrike" u="sng">
                <a:solidFill>
                  <a:srgbClr val="c00000"/>
                </a:solidFill>
                <a:uFillTx/>
                <a:latin typeface="Calibri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Обогатить информационную среду дошкольного учрежд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Подготовить кадры к эффективному использованию в воспитательно-образовательном процессе интерактивных и мультимедиа-технолог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Внедрить интерактивные технологии в воспитательно-образовательный процесс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Активизировать познавательную и мыслительную деятельность дошкольник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Индивидуализировать образовательный процесс, приспособить его к личностным особенностям и потребностям дет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Создать банк методических и дидактических материалов по использованию интерактивных технологий в воспитательно-образовательном процессе ДО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В результате работы площадки будет создаваться система дистанционной профессиональной методической поддержки и самообразования педагогов ДОУ.  Например,  мастер-классы, фестивали, профессиональные конкурсы, олимпиады, методический марафон и многое друго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На площадке можно воспользоваться методическими материалами, узнать отзывы коллег, обменяться опытом, пройти обучение в мастер-классах, принять участие в конкурсах, получить свидетельство, сертификат или дипло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2500" spc="-1" strike="noStrike">
                <a:solidFill>
                  <a:srgbClr val="c00000"/>
                </a:solidFill>
                <a:latin typeface="Calibri"/>
              </a:rPr>
              <a:t>Разделы сайт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Учебно-воспитательные материалы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Методические разработк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Конкурсы, олимпиады для детей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Конкурсы для педагогов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"/>
          <p:cNvSpPr txBox="1"/>
          <p:nvPr/>
        </p:nvSpPr>
        <p:spPr>
          <a:xfrm>
            <a:off x="0" y="333360"/>
            <a:ext cx="9144000" cy="684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Система показателей по достижению целей проекта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000" spc="-1" strike="noStrike" u="sng">
                <a:solidFill>
                  <a:srgbClr val="c00000"/>
                </a:solidFill>
                <a:uFillTx/>
                <a:latin typeface="Calibri"/>
              </a:rPr>
              <a:t>Воспитанники: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 уровень индивидуальных достижений воспитанников, а именно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промежуточные и итоговые результаты освоения Программ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результаты контрольных срез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результативность участия в интеллектуальных и творческих конкурсах, олимпиадах, познавательно-исследовательских проектах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степень проявления личной инициативы в разработке и реализации проек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000" spc="-1" strike="noStrike" u="sng">
                <a:solidFill>
                  <a:srgbClr val="c00000"/>
                </a:solidFill>
                <a:uFillTx/>
                <a:latin typeface="Calibri"/>
              </a:rPr>
              <a:t>Педагоги: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уровень достижений педагогических работников (профессиональная компетентность, результативность деятельности через достижения обучающихся и личные достижения), а именно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качество освоения дошкольниками Программ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результативность участия воспитанников в интеллектуальных и творческих конкурсах, олимпиадах, познавательно-исследовательских проектах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участие в методической работе, в профессиональных конкурсах, распространение собственного опыта работы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участие в инновационной деятельности, результативность использования современных педагогических технологи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системная работа по повышению профессиональной компетентности (курсы, семинары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жидаемые результаты и эффекты реализации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br>
              <a:rPr sz="2400"/>
            </a:b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1. 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Повышение качества образовательных услуг в системе дошкольного образования через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-индивидуализацию процесса обучения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-повышение интереса к познавательной деятельности дошкольников с использованием информационных ресурс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2. 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Повышение ИКТ- компетентности педагогов. </a:t>
            </a: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3. 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Разработка дидактического и методического базы данных для использования в воспитательно-образовательном процессе. </a:t>
            </a: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4. 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Развитие информационной среды дошкольного учреждения. </a:t>
            </a: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5. 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Трансляция педагогического опыта по данной теме среди дошкольных учреждений района в СМИ. 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В условиях интенсивного внедрения ИКТ в образовательный процесс, разработанный дошкольным учреждением методический и дидактический материал может быть востребован и использован другими дошкольными учреждениями район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c00000"/>
                </a:solidFill>
                <a:uFillTx/>
                <a:latin typeface="Calibri"/>
              </a:rPr>
              <a:t>Актуальность проблемы</a:t>
            </a:r>
            <a:r>
              <a:rPr b="0" lang="ru-RU" sz="27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Сегодня сама жизнь диктует качественно новые требования к организации педагогического процесса в детском саду. Информационно- коммуникационные технологии- это средство воспитания и развития творческих способностей ребенка, формирование его личности, обогащение интеллектуальной сферы; это мощная дополнительная мотивация обучен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Информатизация дошкольного образования открывает педагогам новые возможности: разработку методического материала, дидактических игр, участие в проектах, проведение мониторинга, контрольных срезов и т.д. Владение ИКТ помогает педагогу чувствовать себя комфортно в новых условиях, а образовательному учреждению – перейти на режим функционирования и развития как открытой образовательной систем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"/>
          <p:cNvSpPr txBox="1"/>
          <p:nvPr/>
        </p:nvSpPr>
        <p:spPr>
          <a:xfrm>
            <a:off x="468000" y="333360"/>
            <a:ext cx="86756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роки и этапы реализации проекта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1 этап. Сентябрь-октябрь 2017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Подготовительная работа, создание сайта, оснащение оборудование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Прохождение курсов повышения квалификации, семинар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Освоение новой технологии всеми педагогами через передачу опыта коллега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2 этап. Ноябрь-март 2017-2018 уч.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Разработка методического и дидактического материала по работе с интерактивной доской, его апробация на уровне ДО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Обмен опытом работы на муниципальном уров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Организационные работы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Создание баз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3 этап. Апрель-май 2018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Итоговая работа, награждение лучши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Выпуск сборника методических разработо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"/>
          <p:cNvSpPr txBox="1"/>
          <p:nvPr/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Calibri"/>
              </a:rPr>
              <a:t>Ресурсное обеспечение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Научно-методические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функционирование творческой группы по реализации проек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разработка механизма, критериев и показателей оценки результативности реализации проект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внедрение системы методических консультаций по ходу реализации проект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оснащение педагогов методическими пособиями и рекомендациями по использованию ИКТ в работе с детьми.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Кадровые: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создание условий для подготовки специалистов участвующих в реализации проек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создание творческой группы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Информационные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формирование банка данных по реализации проек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мониторинговые мероприят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Материально-технические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приобретение ноутбу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приобретение принте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9T08:08:06Z</dcterms:created>
  <dc:creator>1</dc:creator>
  <dc:description/>
  <dc:language>en-US</dc:language>
  <cp:lastModifiedBy>1</cp:lastModifiedBy>
  <dcterms:modified xsi:type="dcterms:W3CDTF">2017-06-08T02:39:59Z</dcterms:modified>
  <cp:revision>13</cp:revision>
  <dc:subject/>
  <dc:title>«Площадка сетевого взаимодействия в сети интернет»</dc:title>
</cp:coreProperties>
</file>