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</p:sldMasterIdLst>
  <p:sldIdLst>
    <p:sldId id="256" r:id="rId43"/>
    <p:sldId id="257" r:id="rId44"/>
    <p:sldId id="258" r:id="rId45"/>
    <p:sldId id="259" r:id="rId46"/>
    <p:sldId id="260" r:id="rId47"/>
    <p:sldId id="261" r:id="rId48"/>
    <p:sldId id="262" r:id="rId49"/>
    <p:sldId id="263" r:id="rId50"/>
    <p:sldId id="26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" Target="slides/slide1.xml"/><Relationship Id="rId44" Type="http://schemas.openxmlformats.org/officeDocument/2006/relationships/slide" Target="slides/slide2.xml"/><Relationship Id="rId45" Type="http://schemas.openxmlformats.org/officeDocument/2006/relationships/slide" Target="slides/slide3.xml"/><Relationship Id="rId46" Type="http://schemas.openxmlformats.org/officeDocument/2006/relationships/slide" Target="slides/slide4.xml"/><Relationship Id="rId47" Type="http://schemas.openxmlformats.org/officeDocument/2006/relationships/slide" Target="slides/slide5.xml"/><Relationship Id="rId48" Type="http://schemas.openxmlformats.org/officeDocument/2006/relationships/slide" Target="slides/slide6.xml"/><Relationship Id="rId49" Type="http://schemas.openxmlformats.org/officeDocument/2006/relationships/slide" Target="slides/slide7.xml"/><Relationship Id="rId50" Type="http://schemas.openxmlformats.org/officeDocument/2006/relationships/slide" Target="slides/slide8.xml"/><Relationship Id="rId51" Type="http://schemas.openxmlformats.org/officeDocument/2006/relationships/slide" Target="slides/slide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22C9-1FE0-41B0-9536-0FBF16171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C7DC-47A4-4F90-B9A1-A50FD9A4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200C2-A8E1-47FA-93FB-939B1F94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E24C3-9138-4C16-825C-875133EE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07E24-6591-493A-929D-6ABF6C3F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7D402-E46A-4957-9266-3F9666B2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48960-B3E5-442C-AFC1-105FAA4F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4541D-FCF1-4FED-AB64-4F792607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0EF30-6FD6-4714-A2AE-B5D630B7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57F01-F81A-464B-8553-74C8085A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32934-B0C1-4484-A666-FEFABBE7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6E988-2275-4AFD-80CF-42D063D7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06FE-DAE0-47A5-81F3-6A71DD1D8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CC224-4FB8-444A-8AC0-B685D3F2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014B1-465F-4290-B17B-B405B8FD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A5AE5-9C14-4C35-8691-C70C2498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DC9EA-CAE7-402C-BFA2-C8EF129F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BA5EBF-6A46-4B77-BCAE-D433C324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DAF78-E6BA-4DE5-A7AF-7D9B2840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7C323A-161C-45E5-8BB3-0F596BD6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C0656-BC75-426A-A074-D68B1850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6BB39-6661-4325-86F6-F0AFABDE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C7FCA-09D3-41F3-AABA-6D26B6C0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2746-BE80-477B-AD84-4DBBA683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8DA1B-6C0C-41C7-9401-EC6B45B7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ACAD5-0B08-48FB-B3D9-4C208A4AE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12470-C47E-4985-81C9-B0C71364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6EBFA-87C0-49D0-975E-FA16175F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EADD8-D4B2-4140-AE92-77A4B7A4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79101-B598-4ECE-B155-5F22D556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28B42-90D2-4821-B9CB-B08313AC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B137A-AF36-40A7-9AF9-187B1928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76F81-1279-42E5-89DD-5B2F4E9D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6568F-BD8A-44CA-A039-781A1D33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6FCC-B756-4C58-A688-18584F56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C6441-FF68-4187-9D6C-4F3AB172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607F9-29E1-4608-BC3D-68A3EE76C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C4F86-545E-4E00-ABD1-F5F8A2EA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2C1796-E54D-44E6-BF68-0D20F12D9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7F36B-AAEA-4EE4-A4D5-6DBDF75A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D1B90F-D90E-4EA0-8A8E-490F7A65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729E9D-16BA-4867-9A06-8E455675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48D8F-AE97-4C45-9262-AC0C5223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50A59-2B78-487B-B310-50E826D9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FB613-DA3A-48A5-8CC5-F4D0CC10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6F5D-A5DC-41F6-A3CA-AD9AEEE6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606FD9-F6DF-457C-AB5C-2D62EFDF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6BFB7-B018-4AB8-9CE6-C9FDD023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67CFC-46E5-42B3-B16B-17D452F9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D195A-BA7F-4B6C-91B1-7895B2F0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A50FBA-720F-4B46-97C6-793D2E904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61D32A-C7A8-40B0-AF5C-075BC08F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DBBB30-E29E-4ABA-A980-C3A22788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E15ECD-D70C-4C20-85E4-6183988B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0C0D25-5F20-45DD-A702-ABC0443D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AE4986-373C-44F5-B3B3-77744099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3252-FAF6-4CED-93D6-EE9DFF48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4004BC-09BA-476E-82F5-B6D6EE05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EC7C9A-A239-427C-8508-0202ACAB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E4BFCC-ADB7-4976-BABC-D9375203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20E3C0-9799-442D-86C7-2DD57B94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590736-4EE3-4288-9FAD-8AB9E087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BA49D0-C234-40E5-A175-7F95796D4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931789-E4BD-410B-B579-B29E10B3E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58BB0D-E17E-4658-9C73-74ADA5F3D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C2E78F-5A1C-4D21-AFD3-6009BC8E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AA641F-E731-46DE-9854-5680C390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1D58-150A-44E0-ABA9-B9AAF00C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C20688-5CCD-4ED2-A22C-2373324E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D7D1E2-17AB-4F51-A939-AD6AF59F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7DC720-0895-4424-A530-75DBD367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DB3511-4CCB-41D7-8C9B-7E131F67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95DC14-EF54-4D23-A2FC-BF917A53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6B64F6-E0EA-474D-83A8-4F2561E2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5E3A91-33EC-488B-9185-53B94A24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EFCD22-00DC-426D-8029-23805D03E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8CB046-CE7B-4D75-B29F-B6DE8A827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34DB9F-DBB8-422C-A9D4-8D515CBE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B896-4C0E-4C2C-A17E-22D3995F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00C5E9-5D53-4F0F-B5B5-ACAF3B18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6978D2-9A64-4D82-897C-AB511764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48E8E9-8F94-4B15-B159-E9ECB21A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F127EB-60FF-4802-9506-C9F80D60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5B0707-3554-4E5E-B658-1DEBD129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6331E8-8730-4AC7-B885-0D0904FA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084461-1D49-43D6-946E-D60D8087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146366-C27B-4A1D-A8B5-58C7B308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903248-FD96-44B9-B8AE-175D8692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55C027-8BF9-4A40-8B99-96221083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B0E7-B98A-4EFA-9F02-C5FDDDE2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038B1C-2068-43EE-B702-BC9B94B3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C57013-5654-4F59-8ED2-0C91E212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E245FA-14ED-47BD-9A4A-5E7B6B13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2A55E1-A27D-4671-B83F-1F7A944C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0D9EA7-4BE4-49B0-9D72-7451FB1B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78AF04-BDBC-463A-A108-CEB523A2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95A27B-BBE2-40DB-B062-6663A2CB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E99FA1-79A1-4BA4-AF4A-078FBDEF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551DC8-3940-4DFE-AB4F-AB561EBE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F08A7F-1693-4B48-A2F9-B488F553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4A0B-E8AD-4DDD-90CE-922CA9DB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4BCE49-6C12-47AE-8296-B4848E0B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802DF7-B398-4BD6-B4DA-502E2703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070653-B2C2-4098-A821-EEB91FC65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87F7E0-7DAF-4996-A3E0-F5EF617FB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BF7207-4D7B-4A61-B330-0C50E883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CC8486-CF76-4E42-B59F-F7FE32FC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659AF7-94F8-481E-9CE9-7325FBC4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203A02-EE00-4CD5-BF29-53C40F27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C39E37-CBCB-45D9-B125-E2D1250A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818E57-E79A-4B47-A0F3-C245E6CB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0C90-2129-4F93-820B-AB57AE95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85B3-188D-4C4B-BC57-EC738CFB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B2AA39-5D2F-4191-8AEB-C6C989ED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85ACF0-1151-4813-8C4C-7A5A3A4C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391F1A-0F98-43B4-AE0B-2F710487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7E3F02-81B6-460C-BD8C-F047451E6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7F194C-0A03-4783-80A2-3D907F55B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1A9413-E20C-4F68-B604-1223FFC5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F73EF0-5DCE-4C24-B126-254540B5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EE610B-D8C8-440E-BE12-F421B83E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65C41A-CF8B-4731-8095-26688CFE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555375-3814-48DC-81A2-1F1A7D7B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ECA1-8F7E-4EF6-9E7C-FF543676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164352-65CE-4A82-B5A0-C39A6D4C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9964BD-13D9-4617-BE1B-56A94BE8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F9E4E7-5A2C-49FC-B42A-7B735BCF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E587FD-FAB6-42C8-BE55-91C027F2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1B5A9C-0CE5-4ABC-B3B2-A3079F7F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6D4311-CE1F-4BD1-9528-2E7B3A1E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06777E-10FB-42AE-9E0E-2DC496E4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8AE058-AD0D-4669-A5F3-02B01FF30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5E40D9-137F-448E-ADDD-B6782225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25F248-62FD-4F9E-9607-9BC42348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FD3C-CD78-49E1-B55D-3E85C6AF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0B8E07-721B-46EC-A443-22188475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EC8099-803E-4DA3-B383-BA572C23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D0A489-4DEC-4089-9E46-31214090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9B5CB3-C830-4368-89AE-F66FA068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6D360B-B410-4838-9F76-B6ECFED4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7C6357-A5AA-409D-BFD3-89205766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6F1598-E71E-4869-8F2B-8DE50755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508A02-C05C-4173-BF08-1FEEB9E7E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BD5DCD-3BE0-4FF3-8C9E-0F3851FD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71ABFD-26C7-447C-85A9-08C55282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967B-8895-4325-9A21-314F80A1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A618B0-530F-41D1-B324-0B5D5023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CFB281-6721-4797-9241-31FA340F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81C954-A94C-47DE-A917-15377CA8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2131F5-2A72-41FD-962B-FDB6C519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E6BDAE-55C5-46D0-9B6D-1E7EA484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30D0A4-588F-42F1-ADF1-2AC8B5C8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9FCA4A-CB63-4BCC-A07B-2680BE3A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4FC5E5-44A7-418C-ACF3-AD7B765E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32A520-A83A-4942-9EF0-CF67E6BD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BD127E-FC2E-489B-B099-B1C8CF13E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7338-11D0-436C-9E7F-BA42BDD83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0FE587-B036-4F53-84E6-756497CD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189092-0849-4956-B2BB-BD979127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1DE67C-FBF1-4CD4-B72C-7E288EFA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54EEB9-7686-4A2B-9866-4579239C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71B33D-9CD9-427B-A3ED-AABCDB90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C07C38-9087-477D-8A2A-2BA9A868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D9502B-C957-4863-8694-0891A281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BA6E7E-104D-4E21-AD3F-13D9DE6D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1CA77C-E6B0-4EBB-9C39-3AE34F92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8F5DFD-288F-4DBC-91B8-49CA86B3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1EA27-F181-4364-A1A8-E94523212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0FFE0C-4353-4F00-A66C-9370B3AE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8298E7-ECE8-44EA-A30B-48ACD0F0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5A1099-C167-4EA4-BCD0-57542B8D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F254B7-34AF-48BB-8164-FB818279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0D6CCC-92BA-4D64-A6EC-AFB991AF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A311C7-C076-4157-82AA-587FA82A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CAEFEE-6868-4737-A6B2-69DFBFD6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3CA65C-6AE6-4E7D-9088-8C899A64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4BB1DC-3006-4C99-B630-72B5BB42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74EF23-B83C-4663-B24C-5F21634B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C8C14-72F1-432D-BDBB-B247EF63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DDCC75-2EC4-45B6-BD33-FA8607A8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C80A3E-C8F2-496A-94EE-B8B9D79C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F857EF-86D6-4AC2-8482-94E4BAE2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45EF34-57EF-40C5-ACBC-5E2B1D00B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741DF2-ACF4-4108-AAD0-9A0277829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8C3245-3273-4A5B-95B4-39D88E2B2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D502DA-755F-4FF9-9766-5AE9FAE9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A113D1-C951-494E-B839-B48A7536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374B57-FA21-4D8A-89A3-B936E198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733BC8-C44F-4670-8DC2-A0D45040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0C1F5-B1BD-4824-9FD2-A5F23FCF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ADED59-595A-4339-B4D4-B7A06B33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E6EAA7-6C78-4B3D-AA60-D1C5CB58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A050B2-C03A-4828-847D-B2D9424F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C29F39-9011-4F4C-BC84-F61EC8E0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430BD3-2E31-43A9-8195-94F9730D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4EC819-DEAD-4138-B7DC-6BD1E6DF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05CC05-D839-449D-8FA6-A63C11F1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E180FF-FF14-4259-9D95-7C84B6198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A1A77A-562B-45E9-AD8D-FE9D3123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0F2354-1FC3-46D0-85A0-881536FA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870BE-B3D8-492E-973F-4241C360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B18B3E-B932-4A12-8A00-EB4C58D6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D0CFE2-998A-472F-A9FF-6C636C77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07A077-E5E9-439D-82F9-1917B447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6E48F9-EDAB-4584-866F-B3555B98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660D64-07E9-4EEA-97C4-3CABD124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F4D630-6E17-4261-BA26-9434725E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EC317F-B2A2-42C3-9181-0E4EA709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7EDB3E-0674-418D-9A78-F9AA02E0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AA5831-8487-446E-871E-87B3C4223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D18E1B-CDD5-417E-9830-5D6AC99F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A8832-E702-4F3D-AF72-6A1E6BC7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B13DF4-FBE2-407C-A7D6-8A59B9E2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F97758-A4B5-4AAC-ABED-88B42C2B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BF13B8-00D1-4EAB-80A0-12BBC474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763B5A-412B-455A-8DC5-2F507314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1C8F46-A00D-400C-A9EB-F460E40D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ACF4F5-0AA8-439C-BF82-03CF0906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F88978-42DE-479C-9394-02BE5960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C56655-B6CD-4307-9D65-A0BB0217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6A5BAC-ABC4-4C92-9D2B-CB0F9C2A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CEF4BC-CA27-487C-90CB-F2217967E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D569-6F58-45AE-B85E-9652C42A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1CA6B-75D5-47CA-8731-D497741B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4FBC1A-891A-414F-88C6-CC1BED4F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F7FE16-9AFF-4CA4-B032-914FA26B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9A50E1-58B5-4646-A383-25A4E43E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52AD2C-4CDC-4B89-A68D-1F6CF3B5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4ADA9E7-3CEF-4F38-822D-A03C298A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AF9687-7188-42D4-A6F6-5F0643E5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50F96A-6EDA-49A4-A1FB-A9FFFAC6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9DA163-66DC-49B6-A485-88C3D84A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F5590D-AC75-4CA1-826E-46448A1C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E55548-A194-462E-9AE2-1E55D0D1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D2D86-A87E-4326-9F42-A576F36E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D1B0AD-6D6C-4E3F-A4BA-FC75A48E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D8F446-87A7-479D-A976-B853B5059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B556A5D-877E-4D7C-8F09-5F594495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86D92E9-ABC0-47BE-BBEB-67A8BFDA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0D28B6-B660-4205-99BA-BB46893A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F00C57-4FA2-4712-964A-FF5A11BE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8935F0-E051-418F-9CDF-4AEF00CD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E4DB46-49A5-4105-B8D7-F02789A2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05E0E5D-1B7B-484F-B9E0-9B9F54C5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05795C-1FB3-414F-8146-0993C1F7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94A17-3097-404D-8417-7433A721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6F20C0-2D9D-423F-A60E-62939ED4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F466F4-C360-4E01-B450-244B6489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791F363-D91A-4218-AF99-8550DCC4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1E99E4-849B-480C-92AB-656A8924E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1A1E485-E039-472D-8648-193D9C1E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012108-814B-42AB-BCB3-3DE83AB2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9DA2D69-8297-4E3D-B726-46B48218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C876277-389B-47BB-A0D5-01760BA8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BDFF9E-1841-4FA2-AC5F-6868ED7D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DE0540D-5499-4734-B1F1-58EABC09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A005E-919E-4BB7-8146-8E4F6F7A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8EEBAE8-75D1-46E3-A990-46CDB0C7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0D86359-BC89-479C-A899-EB73A16D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4074D18-CDA5-4424-A7A3-37093D75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63B1936-18CE-4953-9808-ACE2131E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BA599FE-675C-4E64-9E86-2A860873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3E37EC-345C-468F-8093-E7D78154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9E8DB8-0010-4E9F-8FF4-2E5FAE3E3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9A8F7D8-2354-4266-ADEF-92134FA9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1901503-0228-477F-BF1B-8FD7C777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A2B87EA-49BD-4F3A-8154-8A76D893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E6AF3-8ED5-4DA6-A24E-912521B5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5D60111-648E-4D16-AF65-4BCDA89F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AD49F0A-0366-4F9F-BA09-0352A158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888B8C6-A885-4960-8382-4F73DD7B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45AD86F-3C42-480F-9035-863DB848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BDC6D0C-4062-49FB-8A79-9763C989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2D07EC-73ED-47B4-928B-47D15460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510BDFD-B760-441B-9061-6B86CA9F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A32132-C43F-4B72-88F9-511AE6FA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B8FBB7A-6EFD-4349-B7A7-2942F10FD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EC66195-09A3-4A65-BC90-A5475C54E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C8931-231C-4FCC-9188-DA6431B2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D74015D-26FB-4249-9336-E56EA05C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7681BE2-179D-4CF0-92AB-D73D9F5F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0752956-2272-4C8E-9D0F-B67B01ED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00D3FD6-55F9-4254-A97F-1F9E14B4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0A2297A-CBF7-47DB-AD89-1BC981D9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B20D8FE-3C42-45CF-933D-F43B08AA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6BC0BC-B2DD-4CE0-9A32-9CEB674D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660C569-EE40-46DA-B864-8A50AC3C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E77734A-2D97-49A1-80CD-A413E035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6036F1B-6B9E-4B83-94E7-E0E7D1D1B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91471-B01C-4A13-B387-AA8E6101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4992A70-E907-46D6-B06D-F09A64FAB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BD72A42-45F7-4731-9BFA-13ABE6AE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CE7E817-4C37-4D59-9EAC-6CE0CFF4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24F9C43-B859-440C-B2A4-DD4A6F33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CB60D36-A0E1-4C86-A31B-92C3F00B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5E4501-8CBC-433C-A1FB-C63CE67C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E60FBC4-47DD-44E6-BC7C-DAEDBD77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F554711-195F-459B-B198-3B738775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D669EC-3C49-4CC1-8B42-E42FAEDF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07CF51-5F74-49EF-BCB3-52E6689C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09334-41B1-43E6-ACBA-362EDEB35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C4303D3-9ED7-42C1-B153-2CD5946C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CCD20B3-3F5D-454F-802F-6A7582424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94F31A6-EA93-4BF8-A85D-0B26EF1B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80D6DB9-64C1-4AB2-A72F-8B304F7D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29E7A4A-C400-4D1A-84D7-AB505128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3050217-BF82-472D-BF13-F54343CD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7CCECC0-0F13-4865-A7F2-1747D597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B56E751-FBE0-4E60-9538-97169C10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17E184A-5076-4D54-B42A-B50A3126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12CED9C-BC48-46EA-A228-50046DAE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47A08-BC8B-4F3D-867C-90E63FE8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8CF43D7-51BF-4D4E-A3A4-7448E767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6F4857B-B1F0-48F6-B0A1-9B0E4677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F08D6BD-D2FE-48C1-B6EE-3917CB4E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3E4BE47-BE88-4883-8FEF-8E793719D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367B340-6B1C-48D3-A518-E1220B47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FDE1D3B-15A3-49ED-B862-68FC59D98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2A031D7-2CA4-4280-AADB-767C7C3A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930ADA4-485F-4AF8-BCF0-3EF37E93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DAE310B-F864-4FEA-BEA7-EF2C414E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2C0214F-AF30-4845-9391-816AA7FA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A7B5F-B4B4-435B-82AB-B64D096F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3ABFDB9-4901-4D4A-8A50-56542FA6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DB531C4-7E66-4C4B-A6A0-3569F75D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7F6E7D8-BAE4-4AC8-BD0B-A423C666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FB23AFB-527D-46AC-9597-4407D832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12BE16B-0F18-4CFF-93A9-E1C4C441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CC8002F-0077-4C9B-B029-921F2453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E48B428-7D93-4D6F-896E-9304CC8AB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FFB0CE7-64FC-4D9F-86AB-B513EAC2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A75C66A-A73C-4372-9344-6F5941E9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4EA6E56-78A4-4317-91DC-A153DFFF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EC6D-9E06-4607-8657-98AC1CD7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6757C-371B-4192-93C4-7D5BDF71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E647997-3AA3-4A49-A240-5C3B7DD4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DB0C775-E347-476B-923C-678DBAE3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21BC57E-3E46-4E24-A91B-8D620F5D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949A8C6-9C34-4C0D-BEF3-092AE960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D95B1C4-D199-4514-B0BA-12E87ADB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F50DA02-E2B2-42A9-B67A-E3D420B3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4A32DAC-A5D2-4715-8FE0-792E452F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5686A73-86D6-4AF7-BC4B-B057479F2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74C4B2A-A2A3-4851-BC44-43FA2DF17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FAD318F-8ED0-4852-9033-B0E8CB00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92196-6AE3-40EF-97F0-C1E93836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8A7C0F1-BF0F-4B92-B094-411F2CAA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F6E2D03-3541-42F9-85D8-89F3B0E8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6A5DC24-A2BE-4FDB-9E5A-781C1A08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BE34C40-900B-4564-ACBF-6FC7D024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BEC7428-ED77-4D62-884C-18CC5122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10E7B95-87DD-4D37-8362-96D9DDDD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19C57B0-8328-4E52-9811-ED51D032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6BE92DF-8052-4725-85C9-6B02AF59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C100980-8DEC-47E9-9978-7E860325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3D09265-B106-4FDF-A790-DF494A8DC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D5743-4758-4468-A6DD-49AB764E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E6B625E-89BA-40EB-8E81-D4BF201E6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C3D7514-F3A7-4AD7-B999-93E4EE640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A69EE20-FF84-459C-9F2D-2C7B26CD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56643A3-120C-4887-83AF-0646D364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0324481-D3FE-4B1A-B099-C28101C7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31CA1FF-1949-412A-A92E-0A977540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138C213-F778-49C7-9070-005B7B1E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34E9DD7-A12E-49A1-803C-3D5CD841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20C831E-62E2-41FA-952B-67CC4127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0CD1A05-CE51-4301-A213-5DE5A7F0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CD8EA-3712-4818-A4CF-AE62F4B4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3BD25BC-E893-46A0-BE2F-70CB4048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6CE778B-FA8D-4F60-A3DE-B87183388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E248A00-178B-4887-8D0B-BF4B5B931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EF36DA8-F7ED-4AFC-B636-D5C34860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4BEB112-CB2E-45E1-B749-EA731704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5CA3980-7B70-488A-B0FD-0800891B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88CC0D3-AF82-46AE-8386-02F80E4C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F9970ED-CE43-404C-949C-815339E2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714B1B9-36FF-43B1-BFAF-A4028428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5E9D000-6587-4424-8EDA-36C60D8D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D560D-E28F-4E6B-A35E-DC583263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D3EFBB2-7B82-418C-B52D-0BD8F16F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6852E6B-8713-4196-A5A0-ADF0726F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E34D5CE-2B25-4E0F-AA1A-2B2B15DA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4709073-0F79-4866-9E71-40B6A2B2B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653D17D-F1A4-4C5B-9636-2C652911F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757E858-83F2-4FBC-9112-55F25ABB1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C9BA19C-409D-4534-8457-6F6430CE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09200D2-8A9E-42B3-94A0-D9CC84ED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89E8548-7252-46B6-A72C-D1B96DA7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A53A78E-08B5-4D3D-B3F5-D52BE14D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B7049-B9C3-45A7-8F20-75B58183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43A1500-41C3-4A98-9E34-6F79FCA4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E0F21DF-6D61-457F-BE5A-322E059D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F29D1FC-79FE-439B-86E3-4CE26ED9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9A355B5-8CFF-4424-8B82-E267D0D3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A9F03D2-5FB4-4BB8-B85B-EACDB967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C363CB4-6D21-4D9E-B895-B23328389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1585B4F-2A71-436C-A36C-EFA148EB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C1B81FB-D101-400D-B4D3-EEC59F4EF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5BD2222-D3DA-48A3-9E73-9C6069BC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E027E61-8097-4630-A914-64BEC7DB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5B2B5-411F-4AD9-8BF1-35CC3719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C593630-139A-47AB-B1F1-38DB8BE1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AE64925-0317-4BD6-9103-F50CA55B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1290A9A-BF19-4741-A829-D28FB06A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BD651A8-E612-4C4B-BF97-99850178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3A543F1-F4A6-4040-B7AC-ED488C0C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088E6A3-D6D2-4B77-BDDA-605AF35F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3D435C6-1A71-49AA-95CA-C7D51115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05C4C56-474C-4679-BC44-7FEE0FFB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A135D77-B6C4-48DA-87C0-A68EE6F43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4F45F67-7562-47B5-9E0B-083BD3200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7B56C-9E5B-4E17-A3C0-54D867F9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7B67A77-F51F-41C0-8220-31A5BC9A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6FBD78F-1060-41FB-BA83-2189B013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5053BEF-C8C6-4D8F-BFBB-27542A72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B2452BA-8550-4000-9DF6-985EBF65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AEAF49A-8A44-4877-8261-245D768D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4F989EA-33FA-400A-951F-D81235A1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091E083-EAB3-4929-9D9C-241515A2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708CA37-1534-44F3-AD64-833CD0D0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CA47306-AEAC-4187-987A-BE2D2A68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93E304A-AB92-4F97-937E-1AED8D0D0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8C824-D520-4454-8440-C8D18C15D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4D58BC6-ACB5-45CF-8476-ADB00AD5B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685B367-D2F5-41DA-B273-1D378521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913844D-3163-48F1-ABC5-69E38A89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F8709AE-4447-4A67-B16E-6908A4FD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41343E2-FB1E-44F3-B05F-330619C5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3840EE9-D271-496F-B7D4-4AB78F90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935464C-808E-4FB7-8A5C-B5E03797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ECFD9E0-6C91-4FA9-8A7E-3B3DE7B7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F09B6BC-D198-4D26-9E41-6CBCB986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18564D6-F3C7-4879-9295-14D00262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55789-2117-4C8C-8AD9-C29F180D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310EAD3-E6AD-4034-A2C6-35DF0A2C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B7150C0-6311-4D31-829F-FF4006317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6CD9F6E-4A81-4DE7-B66E-C059EDEF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8A7B-98B3-4B77-8B7A-9A09DBBF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6E9B1-B534-4899-AF3E-DAD18DBE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9C07A-4D22-423A-AC4F-9E91A8E8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FE019-A1F8-4AB9-903D-9CD56E46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0FAB6-B95D-4B0F-BD6C-0507450C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95F5E-4187-4C04-A75D-94BBA33A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E6117-4273-4520-886B-6B46C762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B9CD7-3176-404E-98C3-586D626A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55BB4-108D-449C-BA96-FC07F563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7301B-EBDE-4F0C-970D-B89444C6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ED836-3C90-4853-B7C7-7C415A2E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E8F2-3059-43D6-A481-4F2ED7D1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F9394-2B45-4785-BD13-1A5264238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3D2C1-0E6E-402B-9FCC-6E89971B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F7CDC-8849-48B5-B920-D8E914BE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CEBA0-CB4B-4852-B2E6-D272A0A1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5539E-8FF6-4DFC-8E8A-B9965945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4B5DE-DFDC-4475-AB30-E56FEC14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7A979-B7E3-483D-8C99-4DCE4045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E435D-2EC9-4B60-8BF4-465E6E16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168B1-7812-4835-AD1E-9189BB5A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AB8AC-A9EB-4DAE-93F0-72622FB0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B117-35C3-44EB-B7A3-23D03543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7C31D-2D00-432B-BA46-3A501EDC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3F242-2852-4085-A174-6473A03CF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9ABE3-A4C1-492A-A75D-0A64D591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40C89-33C6-4F97-83E3-75632BF1B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11593-7F36-4538-94E8-539A8A09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EC58E-3F0F-434A-8D80-AACFB693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BB005-F43E-4EA8-B0EB-F0425B9C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7B9B3-B56F-4C2C-BC00-3D164006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4DBEC-46B6-42AA-B641-E16711E0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CBD13-EDF8-4F37-81BB-1E45C54D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A019-69E6-43C8-868B-04DC8607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C90FA-00A0-43C7-A430-B8CA52B0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75B58-4DB8-4959-AC39-DF6DFA3C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F8084-5DF3-405A-B46D-7F3524E8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F1C28-1747-4771-A472-938C223F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B5B29-B8AE-4660-A367-9600AE61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FDCB1-7FFA-4A01-843C-919C38CA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F1FA7-E950-453A-B23F-E269B2B3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490FB-0A29-428C-9F32-3B753024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CD8F7-C37F-4460-9384-1E14CA30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59F2B-EACB-4D23-A71B-27D19E40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7574-5B9E-4338-A596-D396C6E0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46817-8793-483D-BDFB-E393C1D1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EF253-6DFE-446B-BCA4-BE8860FD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84DBE-9E81-408F-996A-FBC7E3F6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9D03A-DB09-4845-AEE1-7980459E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13CB1-D4C2-4416-8FA3-1B2647F5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BE0CE-231B-45C8-94B3-4836DF2B3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8C21C-A220-4A50-B4A1-AEF27E84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4A678-EB6F-4EE6-BBAB-663AD5F6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E0334-5B8E-472F-8AE6-D0ED52DC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B1996-9D99-4C80-9105-2F132A80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"/>
          <p:cNvPicPr/>
          <p:nvPr/>
        </p:nvPicPr>
        <p:blipFill>
          <a:blip r:embed="rId2"/>
          <a:stretch/>
        </p:blipFill>
        <p:spPr>
          <a:xfrm>
            <a:off x="-36360" y="7920"/>
            <a:ext cx="9180360" cy="6867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7733-1029-4A1C-9BB7-F45E1A333D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CA18-0456-49D5-8C85-5F6ADA309544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8C77-EF9F-4475-8D19-2FD131797805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D9DE-D999-4C4E-B210-89685B8D0651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B07D-BEC6-4D48-922F-1177F3D3BE81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5519-F180-4605-8BCA-B5BC02800F57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992A-379B-45CC-919F-F20F463BED33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B7F2-CB91-46A2-A604-43338F56C9DC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C9FA-C3A6-43CE-BB0A-E22B5A97D74E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CCE7-C086-4B2B-A524-B18F797ABD55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A601-13DF-4737-926D-7C94784EDF1C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/>
          <p:cNvPicPr/>
          <p:nvPr/>
        </p:nvPicPr>
        <p:blipFill>
          <a:blip r:embed="rId2"/>
          <a:stretch/>
        </p:blipFill>
        <p:spPr>
          <a:xfrm>
            <a:off x="-36360" y="-27000"/>
            <a:ext cx="9180360" cy="6867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C6C7-102F-4245-88EA-F953F0F90104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070B-C43A-4537-A018-2579BB90E83C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1B34-E221-4C77-BA66-03AA7DF6A2E0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4ADC-2158-4252-954B-00F64DB4F652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4596-2DE1-416B-A1AD-EF8231273384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5B26-F688-44B0-8A0B-8DF7B5C13692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6C45-5B3A-4266-8107-8C3C0CB60F77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2679-7FCB-4EA1-8E3E-B604E63B6727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2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7E56-0B52-4AE3-94D1-8ADC2AA78BA6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C907-6F3A-4AEE-9A06-59AB89157ACE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FC22-5C94-4276-9E8C-926F0F263CC1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CF22-0660-46AA-B99A-EC6D383DC9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8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FBFA-07B5-46F2-995F-19EEB4A19A32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0" name="Рисунок 6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A008-27C4-4EB0-B20D-28931DA9A542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2" name="Рисунок 6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3414-0EBD-4469-9DB3-94881F55A95F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4" name="Рисунок 6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BBF3-A2E6-4E03-A009-90FBCE5766C6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6" name="Рисунок 6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6D7D-00B5-4387-BF94-00CA569D3F72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8" name="Рисунок 6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2A44-9196-42BB-B15F-3FA566CD076A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0" name="Рисунок 6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B768-2F5E-41A3-BCDA-98853AB0D0F2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2" name="Рисунок 6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BCAC-F155-4F95-85E5-7B4C476DDA6C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4" name="Рисунок 6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548D-F594-4DA6-B45E-4C825401BFCD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6" name="Рисунок 6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 type="ftr" idx="1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5"/>
          <p:cNvSpPr>
            <a:spLocks noGrp="1"/>
          </p:cNvSpPr>
          <p:nvPr>
            <p:ph type="sldNum" idx="1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4180-0598-4ECC-9812-1D61A1D139EF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6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B233-7920-484E-9805-5A2610734A2F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8" name="Рисунок 6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 type="ftr" idx="1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5"/>
          <p:cNvSpPr>
            <a:spLocks noGrp="1"/>
          </p:cNvSpPr>
          <p:nvPr>
            <p:ph type="sldNum" idx="1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F724-838D-4CAF-AE94-4E6DBAB601FB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0" name="Рисунок 6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E861-C916-4B50-B6AB-8D0219B3D365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7C22-C96A-473F-BC4E-B9D2B5DB96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1656-CE10-4058-9C93-2BBF617025F4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Рисунок 6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9EF4-BD07-4F96-83CA-199AFE6398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Рисунок 6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E522-2963-4AF3-8204-8746189F8ADD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17A5-6411-4C77-9F1C-064C603F869C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8208720" cy="276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«Сеть в сет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subTitle"/>
          </p:nvPr>
        </p:nvSpPr>
        <p:spPr>
          <a:xfrm>
            <a:off x="133200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(«Сайт воспитателей- инструмент педагогического взаимодействия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"/>
          <p:cNvSpPr txBox="1"/>
          <p:nvPr/>
        </p:nvSpPr>
        <p:spPr>
          <a:xfrm>
            <a:off x="468360" y="1341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Инновационный проект «Сеть в сети» на период 2017-2018 уч.г.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и далее представляет систему современных взглядов, принципов и приоритетов развития дошкольного образования. Инновационный проект определяет цели, задачи, механизм реализации и предполагаемые результаты качества дошкольного образования на период 2017-2018г.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Данный Проект представляет собой новый взгляд на особенности организации воспитательно-образовательной работы на современном этапе развития дошкольного образования, позволяет внедрить современные информационные технологии, повысить эффективность и качество дошкольного образова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Итак, образовательная сеть определяется как среда, в которой любое образовательное учреждение или педагог могут взаимодействовать с любым образовательным и другим учреждением или педагогом по вопросам совместной работы: обмен идеями, создание нового интеллектуального продукта 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Calibri"/>
              </a:rPr>
              <a:t>Цель инновационного проекта: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повышение качества образования через активное внедрение в воспитательно-образовательный процесс информационно-коммуникационных технологий. </a:t>
            </a:r>
            <a:br>
              <a:rPr sz="2000"/>
            </a:br>
            <a:r>
              <a:rPr b="1" lang="ru-RU" sz="2000" spc="-1" strike="noStrike" u="sng">
                <a:solidFill>
                  <a:srgbClr val="c00000"/>
                </a:solidFill>
                <a:uFillTx/>
                <a:latin typeface="Calibri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Обогатить информационную среду дошкольного учрежд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Подготовить кадры к эффективному использованию в воспитательно-образовательном процессе интерактивных и мультимедиа-технолог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Внедрить интерактивные технологии в воспитательно-образовательный процесс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Активизировать познавательную и мыслительную деятельность дошкольник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Индивидуализировать образовательный процесс, приспособить его к личностным особенностям и потребностям дет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Создать банк методических и дидактических материалов по использованию интерактивных технологий в воспитательно-образовательном процессе ДО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В результате работы площадки будет создаваться система дистанционной профессиональной методической поддержки и самообразования педагогов ДОУ.  Например,  мастер-классы, фестивали, профессиональные конкурсы, олимпиады, методический марафон и многое друго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На площадке можно воспользоваться методическими материалами, узнать отзывы коллег, обменяться опытом, пройти обучение в мастер-классах, принять участие в конкурсах, получить свидетельство, сертификат или дипло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2500" spc="-1" strike="noStrike">
                <a:solidFill>
                  <a:srgbClr val="c00000"/>
                </a:solidFill>
                <a:latin typeface="Calibri"/>
              </a:rPr>
              <a:t>Разделы сайт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Учебно-воспитательные материалы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Методические разработк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Конкурсы, олимпиады для детей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Конкурсы для педагогов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"/>
          <p:cNvSpPr txBox="1"/>
          <p:nvPr/>
        </p:nvSpPr>
        <p:spPr>
          <a:xfrm>
            <a:off x="0" y="333360"/>
            <a:ext cx="9144000" cy="684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Система показателей по достижению целей проекта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000" spc="-1" strike="noStrike" u="sng">
                <a:solidFill>
                  <a:srgbClr val="c00000"/>
                </a:solidFill>
                <a:uFillTx/>
                <a:latin typeface="Calibri"/>
              </a:rPr>
              <a:t>Воспитанники: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 уровень индивидуальных достижений воспитанников, а именно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промежуточные и итоговые результаты освоения Программ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результаты контрольных срез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результативность участия в интеллектуальных и творческих конкурсах, олимпиадах, познавательно-исследовательских проектах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степень проявления личной инициативы в разработке и реализации проек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000" spc="-1" strike="noStrike" u="sng">
                <a:solidFill>
                  <a:srgbClr val="c00000"/>
                </a:solidFill>
                <a:uFillTx/>
                <a:latin typeface="Calibri"/>
              </a:rPr>
              <a:t>Педагоги: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уровень достижений педагогических работников (профессиональная компетентность, результативность деятельности через достижения обучающихся и личные достижения), а именно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качество освоения дошкольниками Программ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результативность участия воспитанников в интеллектуальных и творческих конкурсах, олимпиадах, познавательно-исследовательских проектах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участие в методической работе, в профессиональных конкурсах, распространение собственного опыта работы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участие в инновационной деятельности, результативность использования современных педагогических технологи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системная работа по повышению профессиональной компетентности (курсы, семинары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жидаемые результаты и эффекты реализации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br>
              <a:rPr sz="2400"/>
            </a:b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1.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Повышение качества образовательных услуг в системе дошкольного образования через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-индивидуализацию процесса обучения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-повышение интереса к познавательной деятельности дошкольников с использованием информационных ресурс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2.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Повышение ИКТ- компетентности педагогов. </a:t>
            </a: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3.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Разработка дидактического и методического базы данных для использования в воспитательно-образовательном процессе. </a:t>
            </a: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4.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Развитие информационной среды дошкольного учреждения. </a:t>
            </a: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5.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Трансляция педагогического опыта по данной теме среди дошкольных учреждений района в СМИ. 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В условиях интенсивного внедрения ИКТ в образовательный процесс, разработанный дошкольным учреждением методический и дидактический материал может быть востребован и использован другими дошкольными учреждениями район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c00000"/>
                </a:solidFill>
                <a:uFillTx/>
                <a:latin typeface="Calibri"/>
              </a:rPr>
              <a:t>Актуальность проблемы</a:t>
            </a:r>
            <a:r>
              <a:rPr b="0" lang="ru-RU" sz="27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Сегодня сама жизнь диктует качественно новые требования к организации педагогического процесса в детском саду. Информационно- коммуникационные технологии- это средство воспитания и развития творческих способностей ребенка, формирование его личности, обогащение интеллектуальной сферы; это мощная дополнительная мотивация обуче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Информатизация дошкольного образования открывает педагогам новые возможности: разработку методического материала, дидактических игр, участие в проектах, проведение мониторинга, контрольных срезов и т.д. Владение ИКТ помогает педагогу чувствовать себя комфортно в новых условиях, а образовательному учреждению – перейти на режим функционирования и развития как открытой образовательной систем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"/>
          <p:cNvSpPr txBox="1"/>
          <p:nvPr/>
        </p:nvSpPr>
        <p:spPr>
          <a:xfrm>
            <a:off x="468000" y="333360"/>
            <a:ext cx="86756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роки и этапы реализации проекта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1 этап. Сентябрь-октябрь 2017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Подготовительная работа, создание сайта, оснащение оборудование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Прохождение курсов повышения квалификации, семинар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Освоение новой технологии всеми педагогами через передачу опыта коллега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2 этап. Ноябрь-март 2017-2018 уч.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Разработка методического и дидактического материала по работе с интерактивной доской, его апробация на уровне ДО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Обмен опытом работы на муниципальном уров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Организационные работы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Создание баз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3 этап. Апрель-май 2018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Итоговая работа, награждение лучши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Выпуск сборника методических разработо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"/>
          <p:cNvSpPr txBox="1"/>
          <p:nvPr/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Calibri"/>
              </a:rPr>
              <a:t>Ресурсное обеспечение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Научно-методические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функционирование творческой группы по реализации проек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разработка механизма, критериев и показателей оценки результативности реализации проект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внедрение системы методических консультаций по ходу реализации проект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оснащение педагогов методическими пособиями и рекомендациями по использованию ИКТ в работе с детьми.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Кадровые: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создание условий для подготовки специалистов участвующих в реализации проек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создание творческой группы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Информационные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формирование банка данных по реализации проек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мониторинговые мероприят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Материально-технические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приобретение ноутбу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приобретение принте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9T08:08:06Z</dcterms:created>
  <dc:creator>1</dc:creator>
  <dc:description/>
  <dc:language>en-US</dc:language>
  <cp:lastModifiedBy>1</cp:lastModifiedBy>
  <dcterms:modified xsi:type="dcterms:W3CDTF">2017-06-08T02:39:59Z</dcterms:modified>
  <cp:revision>13</cp:revision>
  <dc:subject/>
  <dc:title>«Площадка сетевого взаимодействия в сети интернет»</dc:title>
</cp:coreProperties>
</file>