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C38-6536-4769-BE55-D283114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049-5913-4D47-8A8D-903C9B5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E1C-30F0-450C-ADBA-85270EA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643-1DD3-45A4-9A4B-9CF680BC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CB01-2616-4389-B0BB-D845AA4F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1F4-9CE8-40F2-8069-E066C48F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588-C8B8-4756-B0FF-19CEDC9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57D-6E3A-44C6-AE61-2AC285F4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1A3-BD52-4D46-BD11-157F9FD8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16A-02B9-446D-8D1D-39F07DC7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D414-E25B-4B13-AB6D-8B443A6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F7E-3EF9-4BAD-81F0-132933E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FC9-5851-4A3D-957A-21929F3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A6D-11BE-4312-B8F0-647E7AD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0DD-F71E-48F6-A966-AB325A1B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5636-903A-4E04-806F-2F05A658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0FA-9FC7-4721-A09D-58CA7DF3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8F9-B5F2-4628-92AA-74045335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464-A911-43D2-A25C-31BF8D3E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2D4-FF2E-430D-86C0-4896E90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B53-7B94-4715-8186-12A17C73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E76-F66C-45F2-A924-20C7C74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B8C-14A5-4BFB-B590-6F75A152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A46-6B92-43CA-B22B-2D29649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CAD-0277-4D77-B3AA-E6C870BB34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BB98-CF02-483A-B5CD-F66C5F25A84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Arial"/>
              </a:rPr>
              <a:t>Свойства степени с натуральным показателем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5157720"/>
            <a:ext cx="655344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fbf3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Определение степени с натуральным показателе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пенью числа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 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 натуральным показателем </a:t>
            </a: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ывается произведением </a:t>
            </a: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ителей, каждый из которых равен 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32000" y="3172680"/>
            <a:ext cx="41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а</a:t>
            </a:r>
            <a:r>
              <a:rPr b="1" lang="en-US" sz="4000" spc="-1" strike="noStrike" baseline="30000">
                <a:solidFill>
                  <a:srgbClr val="3b812f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3b812f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3b812f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 flipV="1" rot="16121400">
            <a:off x="3418560" y="2780640"/>
            <a:ext cx="431640" cy="2303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76720" y="4149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812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3b812f"/>
                </a:solidFill>
                <a:latin typeface="Arial"/>
              </a:rPr>
              <a:t>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) Обучающие: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выучить и научиться применять в простейших случаях свойства степени с натуральным показател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б) Развивающие: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развитие грамотной устной и письменной речи учащихся.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развитие критического мышления учащих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) Воспитательные: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 воспитание коммуникативной культуры: умения слушать, принимать иные точки зрения, задавать корректные вопро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Свойства степени с натуральным показател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1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2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;  (а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3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4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5 свойство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7672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00720" y="4205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00720" y="458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64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3276720" y="45813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92436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78800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4498920" y="465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78800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148360" y="443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Подведение итогов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3276720" cy="2820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250920" y="112536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уроке изучили 5 свойств степени с натуральн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лись применять изученные свойства при решении простейш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2"/>
          <p:cNvSpPr txBox="1"/>
          <p:nvPr/>
        </p:nvSpPr>
        <p:spPr>
          <a:xfrm rot="21008400">
            <a:off x="1186920" y="1557000"/>
            <a:ext cx="748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534000"/>
                </a:gradFill>
                <a:latin typeface="Arial"/>
              </a:rPr>
              <a:t>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534000"/>
              </a:gradFill>
              <a:latin typeface="Arial"/>
              <a:ea typeface="Arial"/>
            </a:endParaRPr>
          </a:p>
        </p:txBody>
      </p:sp>
      <p:pic>
        <p:nvPicPr>
          <p:cNvPr id="112" name="Picture 4" descr="book17"/>
          <p:cNvPicPr/>
          <p:nvPr/>
        </p:nvPicPr>
        <p:blipFill>
          <a:blip r:embed="rId1"/>
          <a:stretch/>
        </p:blipFill>
        <p:spPr>
          <a:xfrm>
            <a:off x="250920" y="4192560"/>
            <a:ext cx="25970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5:06:29Z</dcterms:created>
  <dc:creator>kid</dc:creator>
  <dc:description/>
  <dc:language>en-US</dc:language>
  <cp:lastModifiedBy>Оля</cp:lastModifiedBy>
  <dcterms:modified xsi:type="dcterms:W3CDTF">2015-12-23T16:06:50Z</dcterms:modified>
  <cp:revision>35</cp:revision>
  <dc:subject/>
  <dc:title>Слайд 1</dc:title>
</cp:coreProperties>
</file>