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BCD-4AD9-4E99-838B-24D45796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8FB-BE62-4AFF-8A4D-1AA991F0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B4C-6156-4F20-ADED-05F75585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45D-C24D-4CAF-80C5-E4A47EB9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2527-82F5-45B9-9E7C-38F54209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FF12-1C36-4D12-808F-9E78FB7F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E2F8-FE93-43FF-9830-F7DFAB18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1BE9-1D37-426E-8C0F-4F9DFB5E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4906-32C2-4184-A0BE-4F60D96D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10DE-13C7-42A2-9E73-B153C30D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89CA-306E-424E-AEE4-D0178CFE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849-2A9B-463D-A732-9C10D970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E566-2557-460D-A7EE-F2B507FB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08F0-A83E-45AB-8AF7-A29FC427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D710-F44C-41EC-9331-148DF01E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684C-3CD2-4200-8344-A7C11366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9BBA-E891-40A5-8950-16977F9D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E66-CC0A-4B3B-825D-341FE90F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3F1-3164-4BDB-83E1-408CD5E7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D27-5E3F-42AB-909F-3F0A0D35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CC6-26B3-43AB-B02C-F6CEDF35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694-17C5-41AD-B66C-C7539564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C1E-FBF2-4A32-AEEB-05FF7E2F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A23-3A2C-4A14-9B24-117FD42D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85E4-8E98-40FA-9443-8BE8BC11518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5D73-0767-4978-B35D-06036509342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12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Arial"/>
              </a:rPr>
              <a:t>Свойства степени с натуральным показателем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8000" y="5157720"/>
            <a:ext cx="655344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fbf39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Определение степени с натуральным показателе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пенью числа</a:t>
            </a:r>
            <a:r>
              <a:rPr b="1" lang="ru-RU" sz="3000" spc="-1" strike="noStrike">
                <a:solidFill>
                  <a:srgbClr val="3b812f"/>
                </a:solidFill>
                <a:latin typeface="Arial"/>
              </a:rPr>
              <a:t> 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 натуральным показателем </a:t>
            </a:r>
            <a:r>
              <a:rPr b="1" lang="en-US" sz="3000" spc="-1" strike="noStrike">
                <a:solidFill>
                  <a:srgbClr val="3b812f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зывается произведением </a:t>
            </a:r>
            <a:r>
              <a:rPr b="1" lang="en-US" sz="3000" spc="-1" strike="noStrike">
                <a:solidFill>
                  <a:srgbClr val="3b812f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ожителей, каждый из которых равен </a:t>
            </a:r>
            <a:r>
              <a:rPr b="1" lang="ru-RU" sz="3000" spc="-1" strike="noStrike">
                <a:solidFill>
                  <a:srgbClr val="3b812f"/>
                </a:solidFill>
                <a:latin typeface="Aria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32000" y="3172680"/>
            <a:ext cx="41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b812f"/>
                </a:solidFill>
                <a:latin typeface="Arial"/>
              </a:rPr>
              <a:t>а</a:t>
            </a:r>
            <a:r>
              <a:rPr b="1" lang="en-US" sz="4000" spc="-1" strike="noStrike" baseline="30000">
                <a:solidFill>
                  <a:srgbClr val="3b812f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3b812f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3b812f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3b812f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3b812f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3b812f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3b812f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3b812f"/>
                </a:solidFill>
                <a:latin typeface="Arial"/>
              </a:rPr>
              <a:t>…</a:t>
            </a:r>
            <a:r>
              <a:rPr b="1" lang="ru-RU" sz="4000" spc="-1" strike="noStrike">
                <a:solidFill>
                  <a:srgbClr val="3b812f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 flipV="1" rot="16121400">
            <a:off x="3418560" y="2780640"/>
            <a:ext cx="431640" cy="2303640"/>
          </a:xfrm>
          <a:custGeom>
            <a:avLst/>
            <a:gdLst>
              <a:gd name="textAreaLeft" fmla="*/ 275760 w 431640"/>
              <a:gd name="textAreaRight" fmla="*/ 432000 w 43164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276720" y="414972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3b812f"/>
                </a:solidFill>
                <a:latin typeface="Arial"/>
              </a:rPr>
              <a:t>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Цели урока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) Обучающие: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-выучить и научиться применять в простейших случаях свойства степени с натуральным показател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б) Развивающие: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- развитие грамотной устной и письменной речи учащихся.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- развитие критического мышления учащих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) Воспитательные: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- воспитание коммуникативной культуры: умения слушать, принимать иные точки зрения, задавать корректные вопрос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Arial"/>
              </a:rPr>
              <a:t>Свойства степени с натуральным показателе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1 свойство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2 свойство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;  (а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;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3 свойство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4 свойство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5 свойство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32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27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7672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00720" y="42051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00720" y="4581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564000" y="4292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3276720" y="45813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924360" y="436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788000" y="4292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4498920" y="465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478800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148360" y="4437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Подведение итогов уро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3276720" cy="2820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250920" y="112536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уроке изучили 5 свойств степени с натуральным показа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лись применять изученные свойства при решении простейши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2"/>
          <p:cNvSpPr txBox="1"/>
          <p:nvPr/>
        </p:nvSpPr>
        <p:spPr>
          <a:xfrm rot="21008400">
            <a:off x="1186920" y="1557000"/>
            <a:ext cx="7488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34000"/>
                </a:gradFill>
                <a:latin typeface="Arial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534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34000"/>
                </a:gradFill>
                <a:latin typeface="Arial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534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34000"/>
                </a:gradFill>
                <a:latin typeface="Arial"/>
              </a:rPr>
              <a:t>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534000"/>
              </a:gradFill>
              <a:latin typeface="Arial"/>
              <a:ea typeface="Arial"/>
            </a:endParaRPr>
          </a:p>
        </p:txBody>
      </p:sp>
      <p:pic>
        <p:nvPicPr>
          <p:cNvPr id="112" name="Picture 4" descr="book17"/>
          <p:cNvPicPr/>
          <p:nvPr/>
        </p:nvPicPr>
        <p:blipFill>
          <a:blip r:embed="rId1"/>
          <a:stretch/>
        </p:blipFill>
        <p:spPr>
          <a:xfrm>
            <a:off x="250920" y="4192560"/>
            <a:ext cx="2597040" cy="266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5:06:29Z</dcterms:created>
  <dc:creator>kid</dc:creator>
  <dc:description/>
  <dc:language>en-US</dc:language>
  <cp:lastModifiedBy>Оля</cp:lastModifiedBy>
  <dcterms:modified xsi:type="dcterms:W3CDTF">2015-12-23T16:06:50Z</dcterms:modified>
  <cp:revision>35</cp:revision>
  <dc:subject/>
  <dc:title>Слайд 1</dc:title>
</cp:coreProperties>
</file>