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E19-4ABA-440B-83ED-1AB7F140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763-ABAA-4C31-BDEE-E4D323D3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174-0CFC-450F-B2EE-6474A42A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C97-A966-474B-963D-5480BF47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ACBA-4543-4E4D-98AE-9A6884A8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07D6-A393-4D1D-B97F-E58F7CE6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2C92-F1F2-4261-811E-E6B82B8C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9774-8A80-4EAD-A386-887C2692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19DA-2CEA-468C-8C59-9D9BE7AF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1041-D33A-40AE-8DFB-CE62E395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50F5-8807-450E-BAC1-ADE3F5F9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218-9401-47B0-A0D4-AF4412CB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6F85-5F77-49D0-86D1-4F86042D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DDAA-6094-4E53-9BBE-39BC1BFF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7452-A446-4998-AD9D-A31EFA19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7A5C-7C88-447E-B0AF-3F2BA30E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5698-8743-4389-983D-3EA5D9C8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4339-32C8-4F50-8FB2-35A4D64C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15D35-F641-42F9-A87E-E25DE2D5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E2351-4AAA-422F-887B-FF3BE534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746AB-48F5-452C-9A9B-E9A8FC98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12305-88AF-4EE7-AA34-B2571A1D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074-BCAC-4759-AF24-14673BE6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D73E7-9ABB-4607-A72E-31B3942D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39C56-CCF1-47E8-A2A3-7422210E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35795-4412-4943-AA66-B84F51B4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75A8A-1562-411E-A0D4-E56178E7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AE263-AD77-471D-AA80-A8F477FD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8EFF-9C94-481D-BF35-85866D36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E38CE-E7A2-4B4E-A664-8D0DCA54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0431F-E281-4FC2-8495-7330A84C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E4033-286A-4E2B-B22A-33FDDD8D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5A17A-69D8-4786-997D-133ADCCC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B4D-B2D9-4BE9-A44D-CEC49F7B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83732-711E-4BF0-BEAB-57F6BFB0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643F1-C17A-40C7-B28D-81B79731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F75F7-55C2-46BE-A38F-B0A5AC62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9EFA-79FB-45C4-A3B2-8CFEED6E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588BB-B3C4-4011-B5CE-AEAA8144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28ADD-9BDC-4CB3-9305-36CE5C06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6F371-93D3-4F1B-87EF-1762F857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46444-8B42-438B-981A-14ECF937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C6C47-6DC0-41A9-8B9D-B02F40CA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92C4B-2BB6-41F8-86BE-8D9096A9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B48-3774-4C23-B24F-4CDBE11B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A1001-8EA0-474B-9528-6005E31F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7CFD2-8C9A-4FE6-A748-17767626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D6C55-3A14-43DE-99EF-9F300AC4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368D9-B7AE-4B79-9E8F-3ABDD562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7EF7E-A446-42AF-A81A-D9B1C176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106CB-809D-4A92-A991-A5971321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5082B-E93E-4C5F-8876-C4AAC3EB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8F673-AF84-4A2F-8689-4833C67C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1F08F-0107-4AAB-A6BE-0BB55B76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6A485-997B-4F6B-8407-9E9844BD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9F4-92D4-4ABF-98D5-BF6AC942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DD37A-11B5-49D5-992F-69A847AF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7C0F9-ACD9-4D64-8DCD-1EB74CCC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64974-3EDA-4F3F-A06C-A02AE545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10CDE-6FFE-4C0F-923B-A37F8F0C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EC9CE-88F1-4CAC-BF24-682FF911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690C8-A3F1-4736-A19C-CD2B6A87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0969C-0D30-4B10-9B04-407E7AF7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FC6E5-516A-4C38-82D1-148DEC20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A9FA7-D691-44B4-A273-75F23D7D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50E2B-32FC-4A61-BCF0-435C90BD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05E-D524-498C-8BC4-4EDEA3E7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8AA7A-16DE-40CB-B20F-D035189D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5AD7F-056B-4A54-95B7-46708D5E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02B84-E011-4BE9-A9B1-3FBFBCC9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E9E9F-1E3C-4819-9AAA-D39163B3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28F76-EF76-4B41-99C7-A097907D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E64AB-7DE9-4FAF-A56C-E84A4E87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23121-E100-416F-BFBC-3AA6E487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314EF-D2AE-41B2-99F2-72EDD778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8F9F6-0AA7-4268-B1C4-9AF835E8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27B69-59AF-4F19-8FBD-EAB9E167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4FA-DFA3-4D1B-94CF-464F71FC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AE680-32CB-47DC-BDDE-C9632A32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3074B-17BF-42B7-9219-D5A09ABE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329A5-F7F3-4C86-AECB-48169D54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F4A3C-2714-4E33-9F26-FC8C2B85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3531F-FE0C-469A-8FA4-7AB346A2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E2E-D2F9-4EFC-BF86-6F24AE07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afe">
              <a:alpha val="33000"/>
            </a:srgbClr>
          </a:solidFill>
          <a:ln cap="rnd" w="3240">
            <a:solidFill>
              <a:srgbClr val="a1b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cf2ff"/>
            </a:solidFill>
            <a:miter/>
          </a:ln>
          <a:effectLst>
            <a:outerShdw dist="12600" dir="5400000" blurRad="0" rotWithShape="0">
              <a:srgbClr val="90a3b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7D48-78A9-4241-A48D-EAD456CC6360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afe">
              <a:alpha val="33000"/>
            </a:srgbClr>
          </a:solidFill>
          <a:ln cap="rnd" w="3240">
            <a:solidFill>
              <a:srgbClr val="a1b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cf2ff"/>
            </a:solidFill>
            <a:miter/>
          </a:ln>
          <a:effectLst>
            <a:outerShdw dist="12600" dir="5400000" blurRad="0" rotWithShape="0">
              <a:srgbClr val="90a3b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df8c1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F1C2-97C5-447B-8B58-BF8368695FC1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df8c1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F7E7-0744-4A88-84E9-BB8A02809D84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24FE-8F96-43CC-B169-58261767764E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7033-8D32-40C4-BF8F-63E255ED5FA0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44CA-18BC-4E65-80CB-CA0927E02CCF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4d5ee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cdde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DF86-26AD-4D5A-AEF6-73A02932EDA9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</a:t>
            </a: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ИЗГОТАВЛИВАЕМ</a:t>
            </a:r>
            <a:br>
              <a:rPr sz="4300"/>
            </a:b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БОЖЬЮ КОРОВКУ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2997000"/>
            <a:ext cx="740700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182e6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    </a:t>
            </a: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МОЛОДЦЫ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3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897440" cy="49546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55640" y="5084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958a9"/>
                </a:solidFill>
                <a:latin typeface="Corbel"/>
              </a:rPr>
              <a:t>Божья коровка</a:t>
            </a:r>
            <a:endParaRPr b="0" lang="en-US" sz="4800" spc="-1" strike="noStrike">
              <a:solidFill>
                <a:srgbClr val="3958a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3"/>
          <p:cNvSpPr/>
          <p:nvPr/>
        </p:nvSpPr>
        <p:spPr>
          <a:xfrm>
            <a:off x="826920" y="235080"/>
            <a:ext cx="3240360" cy="309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Овал 4" descr=""/>
          <p:cNvPicPr/>
          <p:nvPr/>
        </p:nvPicPr>
        <p:blipFill>
          <a:blip r:embed="rId1"/>
          <a:stretch/>
        </p:blipFill>
        <p:spPr>
          <a:xfrm>
            <a:off x="5132520" y="3438360"/>
            <a:ext cx="3414600" cy="3267360"/>
          </a:xfrm>
          <a:prstGeom prst="rect">
            <a:avLst/>
          </a:prstGeom>
          <a:ln w="0">
            <a:noFill/>
          </a:ln>
        </p:spPr>
      </p:pic>
      <p:pic>
        <p:nvPicPr>
          <p:cNvPr id="324" name="Овал 5" descr=""/>
          <p:cNvPicPr/>
          <p:nvPr/>
        </p:nvPicPr>
        <p:blipFill>
          <a:blip r:embed="rId2"/>
          <a:stretch/>
        </p:blipFill>
        <p:spPr>
          <a:xfrm>
            <a:off x="5059440" y="176040"/>
            <a:ext cx="3414600" cy="3268800"/>
          </a:xfrm>
          <a:prstGeom prst="rect">
            <a:avLst/>
          </a:prstGeom>
          <a:ln w="0">
            <a:noFill/>
          </a:ln>
        </p:spPr>
      </p:pic>
      <p:sp>
        <p:nvSpPr>
          <p:cNvPr id="325" name="Овал 6"/>
          <p:cNvSpPr/>
          <p:nvPr/>
        </p:nvSpPr>
        <p:spPr>
          <a:xfrm>
            <a:off x="1241280" y="3908520"/>
            <a:ext cx="1981440" cy="19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Хорда 4" descr=""/>
          <p:cNvPicPr/>
          <p:nvPr/>
        </p:nvPicPr>
        <p:blipFill>
          <a:blip r:embed="rId1"/>
          <a:stretch/>
        </p:blipFill>
        <p:spPr>
          <a:xfrm>
            <a:off x="5261040" y="1152360"/>
            <a:ext cx="2743200" cy="3413160"/>
          </a:xfrm>
          <a:prstGeom prst="rect">
            <a:avLst/>
          </a:prstGeom>
          <a:ln w="0">
            <a:noFill/>
          </a:ln>
        </p:spPr>
      </p:pic>
      <p:pic>
        <p:nvPicPr>
          <p:cNvPr id="327" name="Хорда 10" descr=""/>
          <p:cNvPicPr/>
          <p:nvPr/>
        </p:nvPicPr>
        <p:blipFill>
          <a:blip r:embed="rId2"/>
          <a:stretch/>
        </p:blipFill>
        <p:spPr>
          <a:xfrm>
            <a:off x="1200240" y="865080"/>
            <a:ext cx="41893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Хорда 4" descr=""/>
          <p:cNvPicPr/>
          <p:nvPr/>
        </p:nvPicPr>
        <p:blipFill>
          <a:blip r:embed="rId1"/>
          <a:stretch/>
        </p:blipFill>
        <p:spPr>
          <a:xfrm>
            <a:off x="5261040" y="1152360"/>
            <a:ext cx="2743200" cy="3413160"/>
          </a:xfrm>
          <a:prstGeom prst="rect">
            <a:avLst/>
          </a:prstGeom>
          <a:ln w="0">
            <a:noFill/>
          </a:ln>
        </p:spPr>
      </p:pic>
      <p:pic>
        <p:nvPicPr>
          <p:cNvPr id="329" name="Хорда 10" descr=""/>
          <p:cNvPicPr/>
          <p:nvPr/>
        </p:nvPicPr>
        <p:blipFill>
          <a:blip r:embed="rId2"/>
          <a:stretch/>
        </p:blipFill>
        <p:spPr>
          <a:xfrm>
            <a:off x="1200240" y="865080"/>
            <a:ext cx="4189320" cy="4157640"/>
          </a:xfrm>
          <a:prstGeom prst="rect">
            <a:avLst/>
          </a:prstGeom>
          <a:ln w="0">
            <a:noFill/>
          </a:ln>
        </p:spPr>
      </p:pic>
      <p:sp>
        <p:nvSpPr>
          <p:cNvPr id="330" name="Овал 8"/>
          <p:cNvSpPr/>
          <p:nvPr/>
        </p:nvSpPr>
        <p:spPr>
          <a:xfrm>
            <a:off x="3348000" y="2060640"/>
            <a:ext cx="6476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Овал 11"/>
          <p:cNvSpPr/>
          <p:nvPr/>
        </p:nvSpPr>
        <p:spPr>
          <a:xfrm>
            <a:off x="2841480" y="3068640"/>
            <a:ext cx="6494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Овал 12"/>
          <p:cNvSpPr/>
          <p:nvPr/>
        </p:nvSpPr>
        <p:spPr>
          <a:xfrm>
            <a:off x="5975280" y="2060640"/>
            <a:ext cx="6476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Овал 13"/>
          <p:cNvSpPr/>
          <p:nvPr/>
        </p:nvSpPr>
        <p:spPr>
          <a:xfrm>
            <a:off x="6500880" y="3357720"/>
            <a:ext cx="647640" cy="576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2"/>
          <p:cNvSpPr/>
          <p:nvPr/>
        </p:nvSpPr>
        <p:spPr>
          <a:xfrm>
            <a:off x="2843280" y="54936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  <p:sp>
        <p:nvSpPr>
          <p:cNvPr id="347" name="Овал 1"/>
          <p:cNvSpPr/>
          <p:nvPr/>
        </p:nvSpPr>
        <p:spPr>
          <a:xfrm>
            <a:off x="4576680" y="1844640"/>
            <a:ext cx="28728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Овал 7"/>
          <p:cNvSpPr/>
          <p:nvPr/>
        </p:nvSpPr>
        <p:spPr>
          <a:xfrm>
            <a:off x="5003640" y="1844640"/>
            <a:ext cx="28764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  <p:sp>
        <p:nvSpPr>
          <p:cNvPr id="354" name="Овал 1"/>
          <p:cNvSpPr/>
          <p:nvPr/>
        </p:nvSpPr>
        <p:spPr>
          <a:xfrm>
            <a:off x="4576680" y="1844640"/>
            <a:ext cx="28728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Овал 7"/>
          <p:cNvSpPr/>
          <p:nvPr/>
        </p:nvSpPr>
        <p:spPr>
          <a:xfrm>
            <a:off x="5003640" y="1844640"/>
            <a:ext cx="28764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Хорда 4" descr=""/>
          <p:cNvPicPr/>
          <p:nvPr/>
        </p:nvPicPr>
        <p:blipFill>
          <a:blip r:embed="rId3"/>
          <a:stretch/>
        </p:blipFill>
        <p:spPr>
          <a:xfrm>
            <a:off x="4516560" y="2090880"/>
            <a:ext cx="2244600" cy="2305080"/>
          </a:xfrm>
          <a:prstGeom prst="rect">
            <a:avLst/>
          </a:prstGeom>
          <a:ln w="0">
            <a:noFill/>
          </a:ln>
        </p:spPr>
      </p:pic>
      <p:pic>
        <p:nvPicPr>
          <p:cNvPr id="357" name="Хорда 10" descr=""/>
          <p:cNvPicPr/>
          <p:nvPr/>
        </p:nvPicPr>
        <p:blipFill>
          <a:blip r:embed="rId4"/>
          <a:stretch/>
        </p:blipFill>
        <p:spPr>
          <a:xfrm>
            <a:off x="3303720" y="2408400"/>
            <a:ext cx="2006640" cy="1755720"/>
          </a:xfrm>
          <a:prstGeom prst="rect">
            <a:avLst/>
          </a:prstGeom>
          <a:ln w="0">
            <a:noFill/>
          </a:ln>
        </p:spPr>
      </p:pic>
      <p:sp>
        <p:nvSpPr>
          <p:cNvPr id="358" name="Овал 8"/>
          <p:cNvSpPr/>
          <p:nvPr/>
        </p:nvSpPr>
        <p:spPr>
          <a:xfrm>
            <a:off x="4437000" y="2871720"/>
            <a:ext cx="426960" cy="407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Овал 11"/>
          <p:cNvSpPr/>
          <p:nvPr/>
        </p:nvSpPr>
        <p:spPr>
          <a:xfrm>
            <a:off x="3857760" y="3279600"/>
            <a:ext cx="428400" cy="408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Овал 12"/>
          <p:cNvSpPr/>
          <p:nvPr/>
        </p:nvSpPr>
        <p:spPr>
          <a:xfrm>
            <a:off x="5211720" y="2871720"/>
            <a:ext cx="428760" cy="407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Овал 13"/>
          <p:cNvSpPr/>
          <p:nvPr/>
        </p:nvSpPr>
        <p:spPr>
          <a:xfrm>
            <a:off x="5840280" y="3279600"/>
            <a:ext cx="428760" cy="408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7:50:08Z</dcterms:created>
  <dc:creator>админ</dc:creator>
  <dc:description/>
  <dc:language>en-US</dc:language>
  <cp:lastModifiedBy>мвидео</cp:lastModifiedBy>
  <dcterms:modified xsi:type="dcterms:W3CDTF">2017-06-09T16:25:00Z</dcterms:modified>
  <cp:revision>6</cp:revision>
  <dc:subject/>
  <dc:title>Божья коровка</dc:title>
</cp:coreProperties>
</file>