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848-96D6-4901-B97E-78E396D9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104-9309-481C-9424-2C670C8F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906-9213-47E2-B597-8FDA0A91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257-F469-4F60-96C5-4CFAB301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2F87-C13B-4778-90DE-F3ADCB4B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F57E-DE50-4749-A813-38F58F36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5B17-1B2D-4D88-AFF7-56AD78A2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4873-F1D5-46C9-AA95-6B64C49B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7B69-25B6-46F1-BB81-C6CAB099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BF82-CA61-4F55-AB45-317405E4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AF96-1866-4AB4-ADDB-3B5A51E8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41B-C3ED-4634-BF03-269ADD55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00C8-2065-4CC0-9F4B-57306CF8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CE9C-B541-48BD-961C-CE1A9058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B465-8C09-43F1-A8D1-484BAADA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D533-8B8A-4DCC-8739-1967CB47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5FCC-23EF-45A6-B278-5C7C0A8F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C5B09-A9CB-4131-B858-3FD308E0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7819C-55B9-44E2-ACD7-6D67B47E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6510F-E58C-44D6-BBBB-D641C1D9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386CB-66F4-4C81-A79E-49B2573D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CA4A1-7364-4AC0-B717-ACC2DBAE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56A-03FA-41BA-8887-F642C73B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32190-BEB7-466C-8EF9-F42FDB01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3CA20-0F02-48D9-BCA8-C6884CE5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A3F2E-3225-48A1-B2A2-83A78B27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77B79-5B8A-407E-A3B3-ACA27E85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1CFC7-2126-41C7-B8B7-BB39B2B0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3F76C-BF52-43DD-B8AD-CFAE3E5E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B89C-63E6-48F3-B321-B84DFC4E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81634-32F9-4EE4-A02E-2AFA23B9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0EF5D-A7ED-431C-B84C-823D39A5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DAC18-9333-460D-A0CB-7DA3E9CF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F08-ADA1-4048-9E87-98D422A2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F7F61-9139-4349-87B4-4A8600C4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439AF-C8DD-4069-BEB0-5220E479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66DD8-6015-4A57-A009-368DC62C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518AB-9746-46B8-AA30-18CDDEBD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55E47-9750-4A9A-B4F7-3FD0CCC0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73DD2-5A7F-4E9D-8D16-00557F01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511F6-D73F-4A7D-AEF8-5DBE3A2C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81597-446B-4B4F-85DB-ADF63249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2381E-F7F5-420A-8F5B-E3B6F4CC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333E0-44EB-4CA2-B42F-33550526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726-9811-421A-8538-EB36CF34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DF4CE-3863-4103-9BDB-3B56C176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7BA14-19C8-4868-B69D-2F1AABF3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E0D37-16D9-4B85-BD03-F3D0C3CF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55424-E840-4D23-BD8A-91DD4FA3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D2B86-7191-4E67-9613-B11829C5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D852F-A555-4B22-BFCF-7C4D65A0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BBFFC-5250-43C5-A418-E3090683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69B49-168D-420B-81E0-12A1336B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B5315-4BC5-4EBE-B26E-BA2953B6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5632B-CFAE-4B42-9D88-0595CCBD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B249-E0C4-4EF4-8154-7FB440BF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5F750-0BC6-4E75-95BD-C6301FD5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1A693-DA5A-482E-AD8A-65A8E1BD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C04B2-66CD-458E-A228-34CACA98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23CA5-6CA6-41BB-82A5-769C0B1A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F16D3-08AC-4E08-A010-AEA1E505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0D873-53CC-4F5A-A27D-BB475E20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0EB20-90B4-4245-AA6F-689C0C1D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1C6F5-76B8-4F8C-A2D4-290365F3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AE475-5215-42F1-80AB-4776B652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5DE08-26F9-42BE-96FE-3AE4B5B0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8B3-FDB5-417E-8E6F-C6C93B5D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B1B9F-5996-4D8B-B927-FA704622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78299-7C85-46CF-8132-3279A4D3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7C8E1-5836-4573-A48B-40C34A8B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12B89-9732-4CFF-ACA2-69C1F7C6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B4BB1-518C-4D8C-86AD-2198F1BF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E8542-4D05-4E43-84CC-4F0DE62E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4B113-9FE1-4AE5-A0E4-45182CE7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625BC-EF7B-4A16-A23C-4C7AC0DA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7E20C-0A98-478B-99F9-FF4F2FC9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9C5CB-753D-4527-BE78-EA21DB28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EF4-63D1-4394-B598-44EB5657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AAE74-B7AF-4FA1-AE12-66425058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DAF72-6807-4C82-BDE6-CAE9E33C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50E6B-DFC9-4B18-9674-C8705F27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8035B-8C62-47CE-AE1C-E33DB0BE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4BAE7-A667-4035-A424-5CB2FAF4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36E-2FE8-4523-AF89-9222FF6A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afe">
              <a:alpha val="33000"/>
            </a:srgbClr>
          </a:solidFill>
          <a:ln cap="rnd" w="3240">
            <a:solidFill>
              <a:srgbClr val="a1be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cf2ff"/>
            </a:solidFill>
            <a:miter/>
          </a:ln>
          <a:effectLst>
            <a:outerShdw dist="12600" dir="5400000" blurRad="0" rotWithShape="0">
              <a:srgbClr val="90a3b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9031-57B2-49CB-8D2C-4EFBE617B933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afe">
              <a:alpha val="33000"/>
            </a:srgbClr>
          </a:solidFill>
          <a:ln cap="rnd" w="3240">
            <a:solidFill>
              <a:srgbClr val="a1be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cf2ff"/>
            </a:solidFill>
            <a:miter/>
          </a:ln>
          <a:effectLst>
            <a:outerShdw dist="12600" dir="5400000" blurRad="0" rotWithShape="0">
              <a:srgbClr val="90a3b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df8c1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E44B-CB50-4C01-A159-876C3CC780E9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df8c1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19C3-867A-492E-8B02-353D56685E32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2A66-318C-40C4-AFE8-31F09166CEDC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B858-072E-42D7-A463-1826E4BFB30B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9E9E-E889-4928-A4B6-950A873C4476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4d5ee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cdde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BADE-2C14-4FA9-B274-D17C75D414AF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           </a:t>
            </a: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ИЗГОТАВЛИВАЕМ</a:t>
            </a:r>
            <a:br>
              <a:rPr sz="4300"/>
            </a:b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           БОЖЬЮ КОРОВКУ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2997000"/>
            <a:ext cx="740700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182e6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               </a:t>
            </a: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МОЛОДЦЫ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3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897440" cy="49546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55640" y="5084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958a9"/>
                </a:solidFill>
                <a:latin typeface="Corbel"/>
              </a:rPr>
              <a:t>Божья коровка</a:t>
            </a:r>
            <a:endParaRPr b="0" lang="en-US" sz="4800" spc="-1" strike="noStrike">
              <a:solidFill>
                <a:srgbClr val="3958a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3"/>
          <p:cNvSpPr/>
          <p:nvPr/>
        </p:nvSpPr>
        <p:spPr>
          <a:xfrm>
            <a:off x="826920" y="235080"/>
            <a:ext cx="3240360" cy="3097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Овал 4" descr=""/>
          <p:cNvPicPr/>
          <p:nvPr/>
        </p:nvPicPr>
        <p:blipFill>
          <a:blip r:embed="rId1"/>
          <a:stretch/>
        </p:blipFill>
        <p:spPr>
          <a:xfrm>
            <a:off x="5132520" y="3438360"/>
            <a:ext cx="3414600" cy="3267360"/>
          </a:xfrm>
          <a:prstGeom prst="rect">
            <a:avLst/>
          </a:prstGeom>
          <a:ln w="0">
            <a:noFill/>
          </a:ln>
        </p:spPr>
      </p:pic>
      <p:pic>
        <p:nvPicPr>
          <p:cNvPr id="324" name="Овал 5" descr=""/>
          <p:cNvPicPr/>
          <p:nvPr/>
        </p:nvPicPr>
        <p:blipFill>
          <a:blip r:embed="rId2"/>
          <a:stretch/>
        </p:blipFill>
        <p:spPr>
          <a:xfrm>
            <a:off x="5059440" y="176040"/>
            <a:ext cx="3414600" cy="3268800"/>
          </a:xfrm>
          <a:prstGeom prst="rect">
            <a:avLst/>
          </a:prstGeom>
          <a:ln w="0">
            <a:noFill/>
          </a:ln>
        </p:spPr>
      </p:pic>
      <p:sp>
        <p:nvSpPr>
          <p:cNvPr id="325" name="Овал 6"/>
          <p:cNvSpPr/>
          <p:nvPr/>
        </p:nvSpPr>
        <p:spPr>
          <a:xfrm>
            <a:off x="1241280" y="3908520"/>
            <a:ext cx="1981440" cy="19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Хорда 4" descr=""/>
          <p:cNvPicPr/>
          <p:nvPr/>
        </p:nvPicPr>
        <p:blipFill>
          <a:blip r:embed="rId1"/>
          <a:stretch/>
        </p:blipFill>
        <p:spPr>
          <a:xfrm>
            <a:off x="5261040" y="1152360"/>
            <a:ext cx="2743200" cy="3413160"/>
          </a:xfrm>
          <a:prstGeom prst="rect">
            <a:avLst/>
          </a:prstGeom>
          <a:ln w="0">
            <a:noFill/>
          </a:ln>
        </p:spPr>
      </p:pic>
      <p:pic>
        <p:nvPicPr>
          <p:cNvPr id="327" name="Хорда 10" descr=""/>
          <p:cNvPicPr/>
          <p:nvPr/>
        </p:nvPicPr>
        <p:blipFill>
          <a:blip r:embed="rId2"/>
          <a:stretch/>
        </p:blipFill>
        <p:spPr>
          <a:xfrm>
            <a:off x="1200240" y="865080"/>
            <a:ext cx="41893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Хорда 4" descr=""/>
          <p:cNvPicPr/>
          <p:nvPr/>
        </p:nvPicPr>
        <p:blipFill>
          <a:blip r:embed="rId1"/>
          <a:stretch/>
        </p:blipFill>
        <p:spPr>
          <a:xfrm>
            <a:off x="5261040" y="1152360"/>
            <a:ext cx="2743200" cy="3413160"/>
          </a:xfrm>
          <a:prstGeom prst="rect">
            <a:avLst/>
          </a:prstGeom>
          <a:ln w="0">
            <a:noFill/>
          </a:ln>
        </p:spPr>
      </p:pic>
      <p:pic>
        <p:nvPicPr>
          <p:cNvPr id="329" name="Хорда 10" descr=""/>
          <p:cNvPicPr/>
          <p:nvPr/>
        </p:nvPicPr>
        <p:blipFill>
          <a:blip r:embed="rId2"/>
          <a:stretch/>
        </p:blipFill>
        <p:spPr>
          <a:xfrm>
            <a:off x="1200240" y="865080"/>
            <a:ext cx="4189320" cy="4157640"/>
          </a:xfrm>
          <a:prstGeom prst="rect">
            <a:avLst/>
          </a:prstGeom>
          <a:ln w="0">
            <a:noFill/>
          </a:ln>
        </p:spPr>
      </p:pic>
      <p:sp>
        <p:nvSpPr>
          <p:cNvPr id="330" name="Овал 8"/>
          <p:cNvSpPr/>
          <p:nvPr/>
        </p:nvSpPr>
        <p:spPr>
          <a:xfrm>
            <a:off x="3348000" y="2060640"/>
            <a:ext cx="647640" cy="57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Овал 11"/>
          <p:cNvSpPr/>
          <p:nvPr/>
        </p:nvSpPr>
        <p:spPr>
          <a:xfrm>
            <a:off x="2841480" y="3068640"/>
            <a:ext cx="649440" cy="57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Овал 12"/>
          <p:cNvSpPr/>
          <p:nvPr/>
        </p:nvSpPr>
        <p:spPr>
          <a:xfrm>
            <a:off x="5975280" y="2060640"/>
            <a:ext cx="647640" cy="57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Овал 13"/>
          <p:cNvSpPr/>
          <p:nvPr/>
        </p:nvSpPr>
        <p:spPr>
          <a:xfrm>
            <a:off x="6500880" y="3357720"/>
            <a:ext cx="647640" cy="576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2"/>
          <p:cNvSpPr/>
          <p:nvPr/>
        </p:nvSpPr>
        <p:spPr>
          <a:xfrm>
            <a:off x="2843280" y="54936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2"/>
          <p:cNvSpPr/>
          <p:nvPr/>
        </p:nvSpPr>
        <p:spPr>
          <a:xfrm>
            <a:off x="2828880" y="47160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0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4121280" y="993600"/>
            <a:ext cx="792000" cy="96840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5052960" y="993600"/>
            <a:ext cx="54288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2"/>
          <p:cNvSpPr/>
          <p:nvPr/>
        </p:nvSpPr>
        <p:spPr>
          <a:xfrm>
            <a:off x="2828880" y="47160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4121280" y="993600"/>
            <a:ext cx="792000" cy="96840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5052960" y="993600"/>
            <a:ext cx="542880" cy="822600"/>
          </a:xfrm>
          <a:prstGeom prst="rect">
            <a:avLst/>
          </a:prstGeom>
          <a:ln w="0">
            <a:noFill/>
          </a:ln>
        </p:spPr>
      </p:pic>
      <p:sp>
        <p:nvSpPr>
          <p:cNvPr id="347" name="Овал 1"/>
          <p:cNvSpPr/>
          <p:nvPr/>
        </p:nvSpPr>
        <p:spPr>
          <a:xfrm>
            <a:off x="4576680" y="1844640"/>
            <a:ext cx="28728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Овал 7"/>
          <p:cNvSpPr/>
          <p:nvPr/>
        </p:nvSpPr>
        <p:spPr>
          <a:xfrm>
            <a:off x="5003640" y="1844640"/>
            <a:ext cx="28764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2"/>
          <p:cNvSpPr/>
          <p:nvPr/>
        </p:nvSpPr>
        <p:spPr>
          <a:xfrm>
            <a:off x="2828880" y="47160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2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4121280" y="993600"/>
            <a:ext cx="792000" cy="96840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5052960" y="993600"/>
            <a:ext cx="542880" cy="822600"/>
          </a:xfrm>
          <a:prstGeom prst="rect">
            <a:avLst/>
          </a:prstGeom>
          <a:ln w="0">
            <a:noFill/>
          </a:ln>
        </p:spPr>
      </p:pic>
      <p:sp>
        <p:nvSpPr>
          <p:cNvPr id="354" name="Овал 1"/>
          <p:cNvSpPr/>
          <p:nvPr/>
        </p:nvSpPr>
        <p:spPr>
          <a:xfrm>
            <a:off x="4576680" y="1844640"/>
            <a:ext cx="28728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Овал 7"/>
          <p:cNvSpPr/>
          <p:nvPr/>
        </p:nvSpPr>
        <p:spPr>
          <a:xfrm>
            <a:off x="5003640" y="1844640"/>
            <a:ext cx="28764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Хорда 4" descr=""/>
          <p:cNvPicPr/>
          <p:nvPr/>
        </p:nvPicPr>
        <p:blipFill>
          <a:blip r:embed="rId3"/>
          <a:stretch/>
        </p:blipFill>
        <p:spPr>
          <a:xfrm>
            <a:off x="4516560" y="2090880"/>
            <a:ext cx="2244600" cy="2305080"/>
          </a:xfrm>
          <a:prstGeom prst="rect">
            <a:avLst/>
          </a:prstGeom>
          <a:ln w="0">
            <a:noFill/>
          </a:ln>
        </p:spPr>
      </p:pic>
      <p:pic>
        <p:nvPicPr>
          <p:cNvPr id="357" name="Хорда 10" descr=""/>
          <p:cNvPicPr/>
          <p:nvPr/>
        </p:nvPicPr>
        <p:blipFill>
          <a:blip r:embed="rId4"/>
          <a:stretch/>
        </p:blipFill>
        <p:spPr>
          <a:xfrm>
            <a:off x="3303720" y="2408400"/>
            <a:ext cx="2006640" cy="1755720"/>
          </a:xfrm>
          <a:prstGeom prst="rect">
            <a:avLst/>
          </a:prstGeom>
          <a:ln w="0">
            <a:noFill/>
          </a:ln>
        </p:spPr>
      </p:pic>
      <p:sp>
        <p:nvSpPr>
          <p:cNvPr id="358" name="Овал 8"/>
          <p:cNvSpPr/>
          <p:nvPr/>
        </p:nvSpPr>
        <p:spPr>
          <a:xfrm>
            <a:off x="4437000" y="2871720"/>
            <a:ext cx="426960" cy="407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Овал 11"/>
          <p:cNvSpPr/>
          <p:nvPr/>
        </p:nvSpPr>
        <p:spPr>
          <a:xfrm>
            <a:off x="3857760" y="3279600"/>
            <a:ext cx="428400" cy="408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Овал 12"/>
          <p:cNvSpPr/>
          <p:nvPr/>
        </p:nvSpPr>
        <p:spPr>
          <a:xfrm>
            <a:off x="5211720" y="2871720"/>
            <a:ext cx="428760" cy="407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Овал 13"/>
          <p:cNvSpPr/>
          <p:nvPr/>
        </p:nvSpPr>
        <p:spPr>
          <a:xfrm>
            <a:off x="5840280" y="3279600"/>
            <a:ext cx="428760" cy="408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7:50:08Z</dcterms:created>
  <dc:creator>админ</dc:creator>
  <dc:description/>
  <dc:language>en-US</dc:language>
  <cp:lastModifiedBy>мвидео</cp:lastModifiedBy>
  <dcterms:modified xsi:type="dcterms:W3CDTF">2017-06-09T16:25:00Z</dcterms:modified>
  <cp:revision>6</cp:revision>
  <dc:subject/>
  <dc:title>Божья коровка</dc:title>
</cp:coreProperties>
</file>