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220-10DB-463D-AF59-A5109A20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3D1-726F-4C6F-AA7E-62F01663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2B1-44C2-4009-BCF4-AD5E22AA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B5F-5264-425B-9021-53C83973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9D45-3EEB-4B08-A613-B3BD45E7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6039-C207-4487-9DFC-F8BC5D69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F1A2-10CE-46D2-B853-343FAA80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CB4F-D180-42AC-AA22-01B81B07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C5AA-C160-4871-B8D5-586B7369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2C8D-40B9-4210-9E5F-E6A06FB4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B450-8CB8-4AE1-BE01-06CAAAFB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308-F0F7-41ED-8BD3-B31EF1B2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BD82-3910-4DB8-954D-0DDE9377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F7BD-83EA-458B-88FC-BB4CA748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4859-3D22-446A-A71A-1A8AC00F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655F-E372-47FE-BE2B-D2D8522C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03B9-3FC9-4FD5-93F2-871E189F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BAFF-1307-4F0C-B1F2-DA77AA27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61CE-BDCF-4FED-AFDC-8BD30897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E6980-7F21-4EC5-A960-2F0B1374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0599-7461-4A60-9516-01B7E4A0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204E6-2C1A-48DB-A0BA-FE8A7B1C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C65-3BA3-475C-B6EA-9116F97B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BBB0-199F-4299-917D-B63AC30C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8A276-2283-4E19-A833-26A83B8B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53019-F2CB-4537-A199-8CBE8850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EDB5B-55D3-4D92-BF29-86041E6E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B6D1-F9C6-4B07-A5A2-D7E39027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B752-C45D-4F21-BCA4-095DEE77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22B4-EC16-4078-9DFF-291F56EB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4714C-C9FE-4080-A90E-CC261452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A9779-47AA-44FF-8800-41E97434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BD4F6-554E-42A2-A081-9CF8BEF3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7AF-04E7-4260-ADA6-1C1790E9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EF21-A72A-493F-9CEA-D2F3A4D2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6A5D6-4858-471D-8C85-8B5D9128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27DBF-5DF1-4AE2-BC31-7A57C199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49B85-98F7-4102-A336-9056B15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4DAD7-5120-44EE-9B95-3AC3FC0B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A578-9339-4790-AB77-9DC1F75D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317FB-B7BA-4B0B-AA70-530A2260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BF21D-6370-4743-B0E8-4245D1A7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2180C-1AF4-41BA-856F-3B3C109C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46883-F12D-4F46-B347-D532EC39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E28-755E-4D60-8E9A-8AD8982E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B6EEB-3085-43B9-A332-305D3B70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48408-1C87-4DC1-AB65-974AFDC4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83446-059A-4DEC-89F5-24792377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36CFE-0DCA-4E99-A195-DEDFD13B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DB4D5-5329-4BFB-9EFC-D64D3170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B36D-5661-4BED-A34C-18F21C13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A1170-0DF9-4D26-BB9B-6D4ABED9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522CB-71A6-444E-82A9-07FE7CF7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08968-4F92-4619-B7E0-E02A4E7E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FA916-97B9-4F57-B72B-4B26BFA3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090-EC30-4965-B058-62C4CA91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7A0A4-3BAE-4098-8084-15691AF3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C1B52-6430-45E5-A0A9-9E53126E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C8751-D5ED-42A4-9D80-54E3AFDA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6B3DD-2B5B-4D7D-AA04-F58092C8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D0C95-302B-46AC-8650-4595FF43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66770-9E39-4471-88B8-57BD832E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54BA1-DC29-4B14-B349-B7BD5980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B8AA6-7813-4A7A-8888-0A09BD3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585B5-D779-4CE8-8A94-362226A4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D2B9F-9587-4BB2-B21C-7CC026C8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5F0-F6B7-4E75-AC26-A3A0380C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F7D79-7EC8-4B89-AEE9-17880B3D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A524E-2F63-4A36-8340-019B8036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1B823-14DC-4A6F-8CFB-760FC630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8CC91-2C61-42AE-AF69-36A7D211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EC677-65E6-4FD7-97F1-9CABC07F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96BCE-910C-4B2F-9609-677BEF1A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E0677-984D-4D3D-898E-9C2ABE59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82044-66A6-4F10-81AC-B4FD7E7D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6C0DF-74C6-464E-91E0-ABEF7D0F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B9F42-3B39-4C16-B5F1-EEFA0520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0F9-B6D0-41DF-A5CC-F5409ABD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5E9D1-ADE5-491E-BE5C-C8C9F2FD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CA009-DF60-4009-948E-4C123994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826EE-60F3-46C8-AAAD-14B13405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1E2A3-B85B-43D8-826D-8284F558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B4F0A-5598-4CB4-960B-74EC6CD7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108-B8BC-4CB1-8DF3-F768272E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afe">
              <a:alpha val="33000"/>
            </a:srgbClr>
          </a:solidFill>
          <a:ln cap="rnd" w="3240">
            <a:solidFill>
              <a:srgbClr val="a1b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cf2ff"/>
            </a:solidFill>
            <a:miter/>
          </a:ln>
          <a:effectLst>
            <a:outerShdw dist="12600" dir="5400000" blurRad="0" rotWithShape="0">
              <a:srgbClr val="90a3b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8B24-7EFF-44E7-83EE-6D3B02447B27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afe">
              <a:alpha val="33000"/>
            </a:srgbClr>
          </a:solidFill>
          <a:ln cap="rnd" w="3240">
            <a:solidFill>
              <a:srgbClr val="a1b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cf2ff"/>
            </a:solidFill>
            <a:miter/>
          </a:ln>
          <a:effectLst>
            <a:outerShdw dist="12600" dir="5400000" blurRad="0" rotWithShape="0">
              <a:srgbClr val="90a3b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df8c1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1717-5D15-4269-A97C-AC094FDE3DDA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df8c1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E324-B21D-42EB-A0BB-8EC407D66E02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F8E5-3C17-49C7-91C5-B92A7BE16E34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910D-2A5C-44F3-BB04-AD4FE851767E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8BBE-666C-4387-BACC-4794C20ED401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4d5ee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cdde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C51A-BBBD-44A3-8290-096E2CCAB36C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</a:t>
            </a: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ИЗГОТАВЛИВАЕМ</a:t>
            </a:r>
            <a:br>
              <a:rPr sz="4300"/>
            </a:b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БОЖЬЮ КОРОВКУ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997000"/>
            <a:ext cx="740700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182e6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    </a:t>
            </a: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МОЛОДЦЫ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3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897440" cy="49546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55640" y="5084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958a9"/>
                </a:solidFill>
                <a:latin typeface="Corbel"/>
              </a:rPr>
              <a:t>Божья коровка</a:t>
            </a:r>
            <a:endParaRPr b="0" lang="en-US" sz="4800" spc="-1" strike="noStrike">
              <a:solidFill>
                <a:srgbClr val="3958a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3"/>
          <p:cNvSpPr/>
          <p:nvPr/>
        </p:nvSpPr>
        <p:spPr>
          <a:xfrm>
            <a:off x="826920" y="235080"/>
            <a:ext cx="3240360" cy="309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Овал 4" descr=""/>
          <p:cNvPicPr/>
          <p:nvPr/>
        </p:nvPicPr>
        <p:blipFill>
          <a:blip r:embed="rId1"/>
          <a:stretch/>
        </p:blipFill>
        <p:spPr>
          <a:xfrm>
            <a:off x="5132520" y="3438360"/>
            <a:ext cx="3414600" cy="3267360"/>
          </a:xfrm>
          <a:prstGeom prst="rect">
            <a:avLst/>
          </a:prstGeom>
          <a:ln w="0">
            <a:noFill/>
          </a:ln>
        </p:spPr>
      </p:pic>
      <p:pic>
        <p:nvPicPr>
          <p:cNvPr id="324" name="Овал 5" descr=""/>
          <p:cNvPicPr/>
          <p:nvPr/>
        </p:nvPicPr>
        <p:blipFill>
          <a:blip r:embed="rId2"/>
          <a:stretch/>
        </p:blipFill>
        <p:spPr>
          <a:xfrm>
            <a:off x="5059440" y="176040"/>
            <a:ext cx="3414600" cy="3268800"/>
          </a:xfrm>
          <a:prstGeom prst="rect">
            <a:avLst/>
          </a:prstGeom>
          <a:ln w="0">
            <a:noFill/>
          </a:ln>
        </p:spPr>
      </p:pic>
      <p:sp>
        <p:nvSpPr>
          <p:cNvPr id="325" name="Овал 6"/>
          <p:cNvSpPr/>
          <p:nvPr/>
        </p:nvSpPr>
        <p:spPr>
          <a:xfrm>
            <a:off x="1241280" y="3908520"/>
            <a:ext cx="1981440" cy="19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Хорда 4" descr=""/>
          <p:cNvPicPr/>
          <p:nvPr/>
        </p:nvPicPr>
        <p:blipFill>
          <a:blip r:embed="rId1"/>
          <a:stretch/>
        </p:blipFill>
        <p:spPr>
          <a:xfrm>
            <a:off x="5261040" y="1152360"/>
            <a:ext cx="2743200" cy="3413160"/>
          </a:xfrm>
          <a:prstGeom prst="rect">
            <a:avLst/>
          </a:prstGeom>
          <a:ln w="0">
            <a:noFill/>
          </a:ln>
        </p:spPr>
      </p:pic>
      <p:pic>
        <p:nvPicPr>
          <p:cNvPr id="327" name="Хорда 10" descr=""/>
          <p:cNvPicPr/>
          <p:nvPr/>
        </p:nvPicPr>
        <p:blipFill>
          <a:blip r:embed="rId2"/>
          <a:stretch/>
        </p:blipFill>
        <p:spPr>
          <a:xfrm>
            <a:off x="1200240" y="865080"/>
            <a:ext cx="41893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Хорда 4" descr=""/>
          <p:cNvPicPr/>
          <p:nvPr/>
        </p:nvPicPr>
        <p:blipFill>
          <a:blip r:embed="rId1"/>
          <a:stretch/>
        </p:blipFill>
        <p:spPr>
          <a:xfrm>
            <a:off x="5261040" y="1152360"/>
            <a:ext cx="2743200" cy="3413160"/>
          </a:xfrm>
          <a:prstGeom prst="rect">
            <a:avLst/>
          </a:prstGeom>
          <a:ln w="0">
            <a:noFill/>
          </a:ln>
        </p:spPr>
      </p:pic>
      <p:pic>
        <p:nvPicPr>
          <p:cNvPr id="329" name="Хорда 10" descr=""/>
          <p:cNvPicPr/>
          <p:nvPr/>
        </p:nvPicPr>
        <p:blipFill>
          <a:blip r:embed="rId2"/>
          <a:stretch/>
        </p:blipFill>
        <p:spPr>
          <a:xfrm>
            <a:off x="1200240" y="865080"/>
            <a:ext cx="4189320" cy="4157640"/>
          </a:xfrm>
          <a:prstGeom prst="rect">
            <a:avLst/>
          </a:prstGeom>
          <a:ln w="0">
            <a:noFill/>
          </a:ln>
        </p:spPr>
      </p:pic>
      <p:sp>
        <p:nvSpPr>
          <p:cNvPr id="330" name="Овал 8"/>
          <p:cNvSpPr/>
          <p:nvPr/>
        </p:nvSpPr>
        <p:spPr>
          <a:xfrm>
            <a:off x="3348000" y="2060640"/>
            <a:ext cx="6476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Овал 11"/>
          <p:cNvSpPr/>
          <p:nvPr/>
        </p:nvSpPr>
        <p:spPr>
          <a:xfrm>
            <a:off x="2841480" y="3068640"/>
            <a:ext cx="6494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Овал 12"/>
          <p:cNvSpPr/>
          <p:nvPr/>
        </p:nvSpPr>
        <p:spPr>
          <a:xfrm>
            <a:off x="5975280" y="2060640"/>
            <a:ext cx="6476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Овал 13"/>
          <p:cNvSpPr/>
          <p:nvPr/>
        </p:nvSpPr>
        <p:spPr>
          <a:xfrm>
            <a:off x="6500880" y="3357720"/>
            <a:ext cx="647640" cy="576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2"/>
          <p:cNvSpPr/>
          <p:nvPr/>
        </p:nvSpPr>
        <p:spPr>
          <a:xfrm>
            <a:off x="2843280" y="54936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  <p:sp>
        <p:nvSpPr>
          <p:cNvPr id="347" name="Овал 1"/>
          <p:cNvSpPr/>
          <p:nvPr/>
        </p:nvSpPr>
        <p:spPr>
          <a:xfrm>
            <a:off x="4576680" y="1844640"/>
            <a:ext cx="28728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Овал 7"/>
          <p:cNvSpPr/>
          <p:nvPr/>
        </p:nvSpPr>
        <p:spPr>
          <a:xfrm>
            <a:off x="5003640" y="1844640"/>
            <a:ext cx="28764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  <p:sp>
        <p:nvSpPr>
          <p:cNvPr id="354" name="Овал 1"/>
          <p:cNvSpPr/>
          <p:nvPr/>
        </p:nvSpPr>
        <p:spPr>
          <a:xfrm>
            <a:off x="4576680" y="1844640"/>
            <a:ext cx="28728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Овал 7"/>
          <p:cNvSpPr/>
          <p:nvPr/>
        </p:nvSpPr>
        <p:spPr>
          <a:xfrm>
            <a:off x="5003640" y="1844640"/>
            <a:ext cx="28764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Хорда 4" descr=""/>
          <p:cNvPicPr/>
          <p:nvPr/>
        </p:nvPicPr>
        <p:blipFill>
          <a:blip r:embed="rId3"/>
          <a:stretch/>
        </p:blipFill>
        <p:spPr>
          <a:xfrm>
            <a:off x="4516560" y="2090880"/>
            <a:ext cx="2244600" cy="2305080"/>
          </a:xfrm>
          <a:prstGeom prst="rect">
            <a:avLst/>
          </a:prstGeom>
          <a:ln w="0">
            <a:noFill/>
          </a:ln>
        </p:spPr>
      </p:pic>
      <p:pic>
        <p:nvPicPr>
          <p:cNvPr id="357" name="Хорда 10" descr=""/>
          <p:cNvPicPr/>
          <p:nvPr/>
        </p:nvPicPr>
        <p:blipFill>
          <a:blip r:embed="rId4"/>
          <a:stretch/>
        </p:blipFill>
        <p:spPr>
          <a:xfrm>
            <a:off x="3303720" y="2408400"/>
            <a:ext cx="2006640" cy="1755720"/>
          </a:xfrm>
          <a:prstGeom prst="rect">
            <a:avLst/>
          </a:prstGeom>
          <a:ln w="0">
            <a:noFill/>
          </a:ln>
        </p:spPr>
      </p:pic>
      <p:sp>
        <p:nvSpPr>
          <p:cNvPr id="358" name="Овал 8"/>
          <p:cNvSpPr/>
          <p:nvPr/>
        </p:nvSpPr>
        <p:spPr>
          <a:xfrm>
            <a:off x="4437000" y="2871720"/>
            <a:ext cx="426960" cy="407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Овал 11"/>
          <p:cNvSpPr/>
          <p:nvPr/>
        </p:nvSpPr>
        <p:spPr>
          <a:xfrm>
            <a:off x="3857760" y="3279600"/>
            <a:ext cx="428400" cy="408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Овал 12"/>
          <p:cNvSpPr/>
          <p:nvPr/>
        </p:nvSpPr>
        <p:spPr>
          <a:xfrm>
            <a:off x="5211720" y="2871720"/>
            <a:ext cx="428760" cy="407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Овал 13"/>
          <p:cNvSpPr/>
          <p:nvPr/>
        </p:nvSpPr>
        <p:spPr>
          <a:xfrm>
            <a:off x="5840280" y="3279600"/>
            <a:ext cx="428760" cy="408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7:50:08Z</dcterms:created>
  <dc:creator>админ</dc:creator>
  <dc:description/>
  <dc:language>en-US</dc:language>
  <cp:lastModifiedBy>мвидео</cp:lastModifiedBy>
  <dcterms:modified xsi:type="dcterms:W3CDTF">2017-06-09T16:25:00Z</dcterms:modified>
  <cp:revision>6</cp:revision>
  <dc:subject/>
  <dc:title>Божья коровка</dc:title>
</cp:coreProperties>
</file>