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AF7-3F98-4ABD-8703-CCB26385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0D3-3A80-4EB2-B560-9AA11F0F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6EF-A293-4388-9FF7-D92AC2A5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8D2-D495-4820-8018-90B4637B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CAC7-E084-46C0-8C2B-74C25AA6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09BD-7D42-4E96-A6D5-B2B27DA3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1800-9201-4810-81F9-44E549A8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03E3-3449-4E26-9251-78219912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D0AE-F758-41C8-AAFE-1C46BC7C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AB81-7E0F-498B-AC55-4FCD7CE1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DCC6-C45E-4CC9-96FD-CE26ED2A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704-9AF6-4EEB-AE13-A37C3645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3F8F-BBFD-4864-B513-FC034AC3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C3D6-6E55-4260-B7B9-37BF6341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19E5-5795-433C-B590-818D0C97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DC34-EFB9-4600-84C3-6BE5713C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35D5-3674-47AB-9E99-A074A336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2FF83-9405-4BA9-A22D-C6A15CC7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DE489-9AEB-4C09-B06D-64BC9D0F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BC2E4-ED05-429E-8453-B5FF7426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2771-7A4E-4AE9-8C8D-05FF8F84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70F65-F718-4378-B832-C6FCC222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A34-38A8-4F35-A6DF-1043A711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1994-1453-4680-AF59-55BF4B57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F55C-1B8E-4430-9995-90C6E53C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95B2E-811D-4082-B3BA-48E0C08E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E81E-6EBF-4EEC-88C4-4176539B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5AFAA-84C0-428D-BF17-404B1B1F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B1BF-DC33-40A8-A001-D45CDF4D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085E7-CCE3-4988-86E6-B160CBD0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419F2-0B9B-49C2-AEBA-504CB054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2BECE-3CB3-4373-826E-860EDF06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CDBD-4C99-46C2-87DF-C3F177F8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F0C-6EE9-414C-A521-4A9EBB55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821A0-76CE-4218-87BC-7E9A36B6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0E1B7-F2D3-49AB-A619-E96D8675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877C5-1EA4-4746-96FA-B80E2345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D918-AED9-445A-A1B6-3A810D4E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AE42D-5F6B-406B-95EA-E51FF8AB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40D4B-F37C-4A50-AF88-3E54DA01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6639A-4E29-409D-99DA-CEF637CB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44B97-2683-4295-A8BB-5235EB49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F59AE-C3EF-45A8-8355-505F99CF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AB5DF-EA4D-40FC-86F8-1389A45E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8E5-1474-43D9-AA96-A9BD10FD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00553-09C8-45FF-BE96-204A165B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F2B21-2E00-46AF-A434-E0FAACCF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76276-9CCE-451B-B00E-7ADDE078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DBEEF-D946-41E1-8286-0C8922D5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E0640-636F-43F4-B8AC-CD343C9A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6FDF3-7D00-441B-8B82-1A3FF32B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64DD6-AC65-491E-AB09-90411065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0350E-F3CD-4D38-B34C-12BDF536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E656C-B333-4957-81DE-CAFC29EB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38437-76DF-4275-BEB3-48D88AA5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F3D-FEF5-4A56-B90F-152E1C98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3251E-549C-463E-88E2-C4C9A432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C90C3-CBF5-4132-9DFF-C5E64F48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624D7-580D-46BD-9BAB-34060273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76115-9A25-4FE4-B36C-B299DF65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C151F-033C-4609-903A-A55AF1C8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BE1DE-0115-42D5-988D-379D333E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6AC28-3C9D-45EB-997B-9910A5CD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8BD1A-0482-45B4-BDFD-7C1CDDE1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B1BE7-D674-4136-824C-9D05EF7D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C1626-AEBE-433E-B981-DA84F485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3EE-44D5-42E0-8547-519C8E4D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F6F1C-70FF-4C1B-85D4-82C94B05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6F4D1-057A-4E4C-A110-91EC5D28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6839D-D4DA-4186-892A-F4538C67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CF8C9-A706-4E5B-AD1B-242942D0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CC326-F0AC-44D2-BC10-F1BC4DD0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C866D-EFDA-4CD7-B7CC-708C8B47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33D9C-453B-4F0F-8C9D-71B48435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02D01-AB91-40FD-A6D0-E0A35A0B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EC9DA-6564-401A-ABF1-3ECACEBA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32C2B-5F79-48FA-AB0B-E24F1429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849-7A2D-4896-BBB8-C6EBD303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ED6E5-B0C2-4260-85A4-DCFC7E9E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EF73A-C24F-4D2B-A4F2-67246AEA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20DD7-7E2B-4BF3-965A-9A65C226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FB77F-C614-4815-9916-578324AD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4FE5F-F1F8-48C3-B3DB-8D7C785E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F4E-8F73-482D-A4FD-14FA4C97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afe">
              <a:alpha val="33000"/>
            </a:srgbClr>
          </a:solidFill>
          <a:ln cap="rnd" w="3240">
            <a:solidFill>
              <a:srgbClr val="a1b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cf2ff"/>
            </a:solidFill>
            <a:miter/>
          </a:ln>
          <a:effectLst>
            <a:outerShdw dist="12600" dir="5400000" blurRad="0" rotWithShape="0">
              <a:srgbClr val="90a3b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302E-C041-439E-A1A0-06A181657C38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afe">
              <a:alpha val="33000"/>
            </a:srgbClr>
          </a:solidFill>
          <a:ln cap="rnd" w="3240">
            <a:solidFill>
              <a:srgbClr val="a1b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cf2ff"/>
            </a:solidFill>
            <a:miter/>
          </a:ln>
          <a:effectLst>
            <a:outerShdw dist="12600" dir="5400000" blurRad="0" rotWithShape="0">
              <a:srgbClr val="90a3b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df8c1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D783-FE79-425D-B4DE-7992D6E0698C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df8c1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88ED-971C-46F5-9D31-6DB485BDFECE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7D32-B293-46E9-9AB4-BAE085CE2B17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806E-CDC8-4235-8E4F-BE338B7CB07A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7525-B270-47AE-A832-A87562CD1418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4d5ee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cdde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FBA6-0366-4521-9B7D-5433CF963AB8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</a:t>
            </a: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ИЗГОТАВЛИВАЕМ</a:t>
            </a:r>
            <a:br>
              <a:rPr sz="4300"/>
            </a:b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БОЖЬЮ КОРОВКУ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2997000"/>
            <a:ext cx="740700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182e6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    </a:t>
            </a: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МОЛОДЦЫ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3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897440" cy="49546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55640" y="5084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958a9"/>
                </a:solidFill>
                <a:latin typeface="Corbel"/>
              </a:rPr>
              <a:t>Божья коровка</a:t>
            </a:r>
            <a:endParaRPr b="0" lang="en-US" sz="4800" spc="-1" strike="noStrike">
              <a:solidFill>
                <a:srgbClr val="3958a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3"/>
          <p:cNvSpPr/>
          <p:nvPr/>
        </p:nvSpPr>
        <p:spPr>
          <a:xfrm>
            <a:off x="826920" y="235080"/>
            <a:ext cx="3240360" cy="309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Овал 4" descr=""/>
          <p:cNvPicPr/>
          <p:nvPr/>
        </p:nvPicPr>
        <p:blipFill>
          <a:blip r:embed="rId1"/>
          <a:stretch/>
        </p:blipFill>
        <p:spPr>
          <a:xfrm>
            <a:off x="5132520" y="3438360"/>
            <a:ext cx="3414600" cy="3267360"/>
          </a:xfrm>
          <a:prstGeom prst="rect">
            <a:avLst/>
          </a:prstGeom>
          <a:ln w="0">
            <a:noFill/>
          </a:ln>
        </p:spPr>
      </p:pic>
      <p:pic>
        <p:nvPicPr>
          <p:cNvPr id="324" name="Овал 5" descr=""/>
          <p:cNvPicPr/>
          <p:nvPr/>
        </p:nvPicPr>
        <p:blipFill>
          <a:blip r:embed="rId2"/>
          <a:stretch/>
        </p:blipFill>
        <p:spPr>
          <a:xfrm>
            <a:off x="5059440" y="176040"/>
            <a:ext cx="3414600" cy="3268800"/>
          </a:xfrm>
          <a:prstGeom prst="rect">
            <a:avLst/>
          </a:prstGeom>
          <a:ln w="0">
            <a:noFill/>
          </a:ln>
        </p:spPr>
      </p:pic>
      <p:sp>
        <p:nvSpPr>
          <p:cNvPr id="325" name="Овал 6"/>
          <p:cNvSpPr/>
          <p:nvPr/>
        </p:nvSpPr>
        <p:spPr>
          <a:xfrm>
            <a:off x="1241280" y="3908520"/>
            <a:ext cx="1981440" cy="19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Хорда 4" descr=""/>
          <p:cNvPicPr/>
          <p:nvPr/>
        </p:nvPicPr>
        <p:blipFill>
          <a:blip r:embed="rId1"/>
          <a:stretch/>
        </p:blipFill>
        <p:spPr>
          <a:xfrm>
            <a:off x="5261040" y="1152360"/>
            <a:ext cx="2743200" cy="3413160"/>
          </a:xfrm>
          <a:prstGeom prst="rect">
            <a:avLst/>
          </a:prstGeom>
          <a:ln w="0">
            <a:noFill/>
          </a:ln>
        </p:spPr>
      </p:pic>
      <p:pic>
        <p:nvPicPr>
          <p:cNvPr id="327" name="Хорда 10" descr=""/>
          <p:cNvPicPr/>
          <p:nvPr/>
        </p:nvPicPr>
        <p:blipFill>
          <a:blip r:embed="rId2"/>
          <a:stretch/>
        </p:blipFill>
        <p:spPr>
          <a:xfrm>
            <a:off x="1200240" y="865080"/>
            <a:ext cx="41893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Хорда 4" descr=""/>
          <p:cNvPicPr/>
          <p:nvPr/>
        </p:nvPicPr>
        <p:blipFill>
          <a:blip r:embed="rId1"/>
          <a:stretch/>
        </p:blipFill>
        <p:spPr>
          <a:xfrm>
            <a:off x="5261040" y="1152360"/>
            <a:ext cx="2743200" cy="3413160"/>
          </a:xfrm>
          <a:prstGeom prst="rect">
            <a:avLst/>
          </a:prstGeom>
          <a:ln w="0">
            <a:noFill/>
          </a:ln>
        </p:spPr>
      </p:pic>
      <p:pic>
        <p:nvPicPr>
          <p:cNvPr id="329" name="Хорда 10" descr=""/>
          <p:cNvPicPr/>
          <p:nvPr/>
        </p:nvPicPr>
        <p:blipFill>
          <a:blip r:embed="rId2"/>
          <a:stretch/>
        </p:blipFill>
        <p:spPr>
          <a:xfrm>
            <a:off x="1200240" y="865080"/>
            <a:ext cx="4189320" cy="4157640"/>
          </a:xfrm>
          <a:prstGeom prst="rect">
            <a:avLst/>
          </a:prstGeom>
          <a:ln w="0">
            <a:noFill/>
          </a:ln>
        </p:spPr>
      </p:pic>
      <p:sp>
        <p:nvSpPr>
          <p:cNvPr id="330" name="Овал 8"/>
          <p:cNvSpPr/>
          <p:nvPr/>
        </p:nvSpPr>
        <p:spPr>
          <a:xfrm>
            <a:off x="3348000" y="2060640"/>
            <a:ext cx="6476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Овал 11"/>
          <p:cNvSpPr/>
          <p:nvPr/>
        </p:nvSpPr>
        <p:spPr>
          <a:xfrm>
            <a:off x="2841480" y="3068640"/>
            <a:ext cx="6494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Овал 12"/>
          <p:cNvSpPr/>
          <p:nvPr/>
        </p:nvSpPr>
        <p:spPr>
          <a:xfrm>
            <a:off x="5975280" y="2060640"/>
            <a:ext cx="6476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Овал 13"/>
          <p:cNvSpPr/>
          <p:nvPr/>
        </p:nvSpPr>
        <p:spPr>
          <a:xfrm>
            <a:off x="6500880" y="3357720"/>
            <a:ext cx="647640" cy="576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2"/>
          <p:cNvSpPr/>
          <p:nvPr/>
        </p:nvSpPr>
        <p:spPr>
          <a:xfrm>
            <a:off x="2843280" y="54936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  <p:sp>
        <p:nvSpPr>
          <p:cNvPr id="347" name="Овал 1"/>
          <p:cNvSpPr/>
          <p:nvPr/>
        </p:nvSpPr>
        <p:spPr>
          <a:xfrm>
            <a:off x="4576680" y="1844640"/>
            <a:ext cx="28728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Овал 7"/>
          <p:cNvSpPr/>
          <p:nvPr/>
        </p:nvSpPr>
        <p:spPr>
          <a:xfrm>
            <a:off x="5003640" y="1844640"/>
            <a:ext cx="28764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  <p:sp>
        <p:nvSpPr>
          <p:cNvPr id="354" name="Овал 1"/>
          <p:cNvSpPr/>
          <p:nvPr/>
        </p:nvSpPr>
        <p:spPr>
          <a:xfrm>
            <a:off x="4576680" y="1844640"/>
            <a:ext cx="28728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Овал 7"/>
          <p:cNvSpPr/>
          <p:nvPr/>
        </p:nvSpPr>
        <p:spPr>
          <a:xfrm>
            <a:off x="5003640" y="1844640"/>
            <a:ext cx="28764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Хорда 4" descr=""/>
          <p:cNvPicPr/>
          <p:nvPr/>
        </p:nvPicPr>
        <p:blipFill>
          <a:blip r:embed="rId3"/>
          <a:stretch/>
        </p:blipFill>
        <p:spPr>
          <a:xfrm>
            <a:off x="4516560" y="2090880"/>
            <a:ext cx="2244600" cy="2305080"/>
          </a:xfrm>
          <a:prstGeom prst="rect">
            <a:avLst/>
          </a:prstGeom>
          <a:ln w="0">
            <a:noFill/>
          </a:ln>
        </p:spPr>
      </p:pic>
      <p:pic>
        <p:nvPicPr>
          <p:cNvPr id="357" name="Хорда 10" descr=""/>
          <p:cNvPicPr/>
          <p:nvPr/>
        </p:nvPicPr>
        <p:blipFill>
          <a:blip r:embed="rId4"/>
          <a:stretch/>
        </p:blipFill>
        <p:spPr>
          <a:xfrm>
            <a:off x="3303720" y="2408400"/>
            <a:ext cx="2006640" cy="1755720"/>
          </a:xfrm>
          <a:prstGeom prst="rect">
            <a:avLst/>
          </a:prstGeom>
          <a:ln w="0">
            <a:noFill/>
          </a:ln>
        </p:spPr>
      </p:pic>
      <p:sp>
        <p:nvSpPr>
          <p:cNvPr id="358" name="Овал 8"/>
          <p:cNvSpPr/>
          <p:nvPr/>
        </p:nvSpPr>
        <p:spPr>
          <a:xfrm>
            <a:off x="4437000" y="2871720"/>
            <a:ext cx="426960" cy="407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Овал 11"/>
          <p:cNvSpPr/>
          <p:nvPr/>
        </p:nvSpPr>
        <p:spPr>
          <a:xfrm>
            <a:off x="3857760" y="3279600"/>
            <a:ext cx="428400" cy="408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Овал 12"/>
          <p:cNvSpPr/>
          <p:nvPr/>
        </p:nvSpPr>
        <p:spPr>
          <a:xfrm>
            <a:off x="5211720" y="2871720"/>
            <a:ext cx="428760" cy="407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Овал 13"/>
          <p:cNvSpPr/>
          <p:nvPr/>
        </p:nvSpPr>
        <p:spPr>
          <a:xfrm>
            <a:off x="5840280" y="3279600"/>
            <a:ext cx="428760" cy="408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7:50:08Z</dcterms:created>
  <dc:creator>админ</dc:creator>
  <dc:description/>
  <dc:language>en-US</dc:language>
  <cp:lastModifiedBy>мвидео</cp:lastModifiedBy>
  <dcterms:modified xsi:type="dcterms:W3CDTF">2017-06-09T16:25:00Z</dcterms:modified>
  <cp:revision>6</cp:revision>
  <dc:subject/>
  <dc:title>Божья коровка</dc:title>
</cp:coreProperties>
</file>