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E97-0F82-46D2-9F9A-759854DF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5A2-78C9-48B3-BD89-8C3DC4CB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928-314F-48E5-9257-6EDE86B7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F4E-4969-47FC-AE49-10EC6602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2C1A-2E57-4CBB-B14D-DBB31025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33BB-3049-495F-A021-D647746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B464-A84E-4E78-AD0D-9979C85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89FB-BAF7-46CE-B9D0-7BBFCB4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A0B0-B6B8-45C8-A0CC-0D60CBDE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C73C-0488-45A7-B6A6-46293F49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9BC9-D823-43C3-A63B-41426AD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21C-0494-49FF-AF8F-74E9C6BF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AC5-9611-4709-BCDD-3C0EF769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00CD-E738-49B9-B758-FF27DCCC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3294-9F27-4EAB-81FF-B6AE7946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87C-64DA-48E4-8D89-72585A12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908A-F846-40DA-B54C-5396EA37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B6B5D-9735-4E66-B2E1-5BE2CE45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758B-A8EE-4B9C-B816-AB8C79ED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E340-F1AB-4935-872D-6881210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D6C7-26E8-4219-B0CA-BAB6EDC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8FA7-AAD3-463F-B9F3-D85418FB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F9A-791C-4698-8487-4DBFBC3D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1C1F-9FC4-4671-AC31-2C91CE09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F446-3294-4DA7-82B7-E20A569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68F1-24BE-4A87-9E8B-4B3A6B2D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0C8F-8C77-44CF-AE5D-75F339D0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5903-D4D5-4224-8C59-1B75669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89BA-D719-4A73-BDBA-F9CEB9C6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301A-3EEA-4B4F-9616-030E73AF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9AD9-A406-4654-8752-7B98FBBD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D14D-FFDA-448B-AC6E-3A8F5164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0DE6-D3F5-45AA-A96F-74DCF510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994-152B-4238-803A-C48E9478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E988-3EA4-47D4-A06A-99CD9392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A4E9-ED18-4EAE-A71D-5632565B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5FE68-41F1-44B5-8A47-465B7881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5BDD-9D22-41EB-A988-14488017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603A-8F35-4114-A468-6A0365A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7EE9F-2876-464B-A07B-BB6E1F0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59FF-BC95-4D32-B341-9694B9FA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FA14-1A20-4F98-A87C-6247D3CE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9E0C-8DBC-4A44-8E4A-4BC3A4B2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70B9-D676-4E7F-B50B-FE083B90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01E-0510-4121-9DDF-348E14BF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C0EE6-7DE3-49AF-B81F-DBE171FE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94461-A80C-417A-8DFF-917DFB52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7FFFC-84E4-4402-96CC-0BFCFBF3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F5C84-D48C-4E7F-8285-5833DAF2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06F5-657B-4F2B-B8EF-5954A1D5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AA6FC-9B59-4793-B9E8-E50AAC5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5D29C-83C7-4824-8A8B-FF86582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3EF8-4A08-4792-9115-ABCD30C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41DF4-681F-4EEE-8B45-6539EDBE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BD581-024B-428F-9CFB-BA939023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E8D-48A1-4D76-82F1-A99FAC7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57BF-7248-4191-96CA-76D95009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C4C96-98BE-4D19-9030-F909922A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6209B-B1C8-4A57-9005-D54A360B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FB33E-CB3B-42CF-B035-95825D89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95CE-3059-4653-8F1E-A2C1A4B2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8C944-AC7B-4F65-97EA-1AE85A33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95A08-3CA3-42A7-993D-7E5D624D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34A9-BAA6-4A32-9BF5-C0869637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DC16-6C85-4A16-84B6-5CF3CFB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C848-D735-4980-B042-25D29F2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615-A27E-4C29-9373-EADBCEB4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DC5C6-0EA1-4460-8364-F0E00582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903C-524D-4B3C-B4ED-F46CB651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B3ADC-621E-4FEE-9605-B1A99D14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763FA-2AB6-4364-8F22-668637E3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9A548-746B-4D8D-A699-7B759D7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D97CA-B224-438B-BD11-F9C01C9E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B05B5-83EC-4339-B400-9B0AB802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D58E-46BF-4416-8DF1-E2D4FE4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1CFBE-61F9-4CCE-B0AF-7E2CBBE4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3E57A-E768-4BD9-B6BD-9CC2BB5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95F-74AC-4BD0-B385-79888152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8E24A-9DF9-4EF8-A5A2-1AE6568F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1445-E89D-46E1-B83B-A42BF06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D8E95-74AF-4CF8-A2FC-FEF65314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D5CB8-8D85-4F93-9E40-1300361B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C44C5-1863-402D-AD9D-4D58EAE9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0FC-54A6-4344-A523-AFD854F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C483-E6B9-41FA-B14F-7C1A58B14544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afe">
              <a:alpha val="33000"/>
            </a:srgbClr>
          </a:solidFill>
          <a:ln cap="rnd" w="3240">
            <a:solidFill>
              <a:srgbClr val="a1b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cf2ff"/>
            </a:solidFill>
            <a:miter/>
          </a:ln>
          <a:effectLst>
            <a:outerShdw dist="12600" dir="5400000" blurRad="0" rotWithShape="0">
              <a:srgbClr val="90a3b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297-E495-450A-B069-7745BE4DB280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f8c1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8964-95CA-424C-8181-DAC9F2D5833C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9271-FFE8-4808-9EB9-102E140B985D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16a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6A91-2236-4A30-8409-5713889F26E9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E00F-FF47-49F4-B70F-45C5A5967F79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4d5e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dde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958a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da02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a2b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7168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4a7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aa4b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aa4b7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B505-AE38-4DD5-84B4-2115C4FEFD20}" type="slidenum">
              <a:rPr b="0" lang="ru-RU" sz="1200" spc="-1" strike="noStrike">
                <a:solidFill>
                  <a:srgbClr val="8aa4b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ИЗГОТАВЛИВАЕМ</a:t>
            </a:r>
            <a:br>
              <a:rPr sz="4300"/>
            </a:b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БОЖЬЮ КОРОВКУ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997000"/>
            <a:ext cx="7407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82e6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               </a:t>
            </a:r>
            <a:r>
              <a:rPr b="0" lang="ru-RU" sz="4300" spc="-1" strike="noStrike">
                <a:solidFill>
                  <a:srgbClr val="3958a9"/>
                </a:solidFill>
                <a:latin typeface="Corbel"/>
              </a:rPr>
              <a:t>МОЛОДЦЫ</a:t>
            </a:r>
            <a:endParaRPr b="0" lang="en-US" sz="43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897440" cy="49546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5640" y="508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958a9"/>
                </a:solidFill>
                <a:latin typeface="Corbel"/>
              </a:rPr>
              <a:t>Божья коровка</a:t>
            </a:r>
            <a:endParaRPr b="0" lang="en-US" sz="4800" spc="-1" strike="noStrike">
              <a:solidFill>
                <a:srgbClr val="3958a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3"/>
          <p:cNvSpPr/>
          <p:nvPr/>
        </p:nvSpPr>
        <p:spPr>
          <a:xfrm>
            <a:off x="826920" y="235080"/>
            <a:ext cx="3240360" cy="309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Овал 4" descr=""/>
          <p:cNvPicPr/>
          <p:nvPr/>
        </p:nvPicPr>
        <p:blipFill>
          <a:blip r:embed="rId1"/>
          <a:stretch/>
        </p:blipFill>
        <p:spPr>
          <a:xfrm>
            <a:off x="5132520" y="3438360"/>
            <a:ext cx="3414600" cy="3267360"/>
          </a:xfrm>
          <a:prstGeom prst="rect">
            <a:avLst/>
          </a:prstGeom>
          <a:ln w="0">
            <a:noFill/>
          </a:ln>
        </p:spPr>
      </p:pic>
      <p:pic>
        <p:nvPicPr>
          <p:cNvPr id="324" name="Овал 5" descr=""/>
          <p:cNvPicPr/>
          <p:nvPr/>
        </p:nvPicPr>
        <p:blipFill>
          <a:blip r:embed="rId2"/>
          <a:stretch/>
        </p:blipFill>
        <p:spPr>
          <a:xfrm>
            <a:off x="5059440" y="176040"/>
            <a:ext cx="3414600" cy="326880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6"/>
          <p:cNvSpPr/>
          <p:nvPr/>
        </p:nvSpPr>
        <p:spPr>
          <a:xfrm>
            <a:off x="1241280" y="3908520"/>
            <a:ext cx="1981440" cy="19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7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Хорда 4" descr=""/>
          <p:cNvPicPr/>
          <p:nvPr/>
        </p:nvPicPr>
        <p:blipFill>
          <a:blip r:embed="rId1"/>
          <a:stretch/>
        </p:blipFill>
        <p:spPr>
          <a:xfrm>
            <a:off x="5261040" y="1152360"/>
            <a:ext cx="2743200" cy="3413160"/>
          </a:xfrm>
          <a:prstGeom prst="rect">
            <a:avLst/>
          </a:prstGeom>
          <a:ln w="0">
            <a:noFill/>
          </a:ln>
        </p:spPr>
      </p:pic>
      <p:pic>
        <p:nvPicPr>
          <p:cNvPr id="329" name="Хорда 10" descr=""/>
          <p:cNvPicPr/>
          <p:nvPr/>
        </p:nvPicPr>
        <p:blipFill>
          <a:blip r:embed="rId2"/>
          <a:stretch/>
        </p:blipFill>
        <p:spPr>
          <a:xfrm>
            <a:off x="1200240" y="865080"/>
            <a:ext cx="4189320" cy="41576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8"/>
          <p:cNvSpPr/>
          <p:nvPr/>
        </p:nvSpPr>
        <p:spPr>
          <a:xfrm>
            <a:off x="334800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Овал 11"/>
          <p:cNvSpPr/>
          <p:nvPr/>
        </p:nvSpPr>
        <p:spPr>
          <a:xfrm>
            <a:off x="2841480" y="3068640"/>
            <a:ext cx="6494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Овал 12"/>
          <p:cNvSpPr/>
          <p:nvPr/>
        </p:nvSpPr>
        <p:spPr>
          <a:xfrm>
            <a:off x="5975280" y="2060640"/>
            <a:ext cx="64764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Овал 13"/>
          <p:cNvSpPr/>
          <p:nvPr/>
        </p:nvSpPr>
        <p:spPr>
          <a:xfrm>
            <a:off x="6500880" y="3357720"/>
            <a:ext cx="64764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"/>
          <p:cNvSpPr/>
          <p:nvPr/>
        </p:nvSpPr>
        <p:spPr>
          <a:xfrm>
            <a:off x="2843280" y="54936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47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2"/>
          <p:cNvSpPr/>
          <p:nvPr/>
        </p:nvSpPr>
        <p:spPr>
          <a:xfrm>
            <a:off x="2828880" y="471600"/>
            <a:ext cx="3960720" cy="56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995640" y="2637000"/>
            <a:ext cx="1876680" cy="18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4437000" y="1628640"/>
            <a:ext cx="988920" cy="100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121280" y="993600"/>
            <a:ext cx="792000" cy="96840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5052960" y="993600"/>
            <a:ext cx="542880" cy="822600"/>
          </a:xfrm>
          <a:prstGeom prst="rect">
            <a:avLst/>
          </a:prstGeom>
          <a:ln w="0">
            <a:noFill/>
          </a:ln>
        </p:spPr>
      </p:pic>
      <p:sp>
        <p:nvSpPr>
          <p:cNvPr id="354" name="Овал 1"/>
          <p:cNvSpPr/>
          <p:nvPr/>
        </p:nvSpPr>
        <p:spPr>
          <a:xfrm>
            <a:off x="4576680" y="1844640"/>
            <a:ext cx="28728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Овал 7"/>
          <p:cNvSpPr/>
          <p:nvPr/>
        </p:nvSpPr>
        <p:spPr>
          <a:xfrm>
            <a:off x="5003640" y="1844640"/>
            <a:ext cx="287640" cy="28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Хорда 4" descr=""/>
          <p:cNvPicPr/>
          <p:nvPr/>
        </p:nvPicPr>
        <p:blipFill>
          <a:blip r:embed="rId3"/>
          <a:stretch/>
        </p:blipFill>
        <p:spPr>
          <a:xfrm>
            <a:off x="4516560" y="2090880"/>
            <a:ext cx="2244600" cy="2305080"/>
          </a:xfrm>
          <a:prstGeom prst="rect">
            <a:avLst/>
          </a:prstGeom>
          <a:ln w="0">
            <a:noFill/>
          </a:ln>
        </p:spPr>
      </p:pic>
      <p:pic>
        <p:nvPicPr>
          <p:cNvPr id="357" name="Хорда 10" descr=""/>
          <p:cNvPicPr/>
          <p:nvPr/>
        </p:nvPicPr>
        <p:blipFill>
          <a:blip r:embed="rId4"/>
          <a:stretch/>
        </p:blipFill>
        <p:spPr>
          <a:xfrm>
            <a:off x="3303720" y="2408400"/>
            <a:ext cx="2006640" cy="1755720"/>
          </a:xfrm>
          <a:prstGeom prst="rect">
            <a:avLst/>
          </a:prstGeom>
          <a:ln w="0">
            <a:noFill/>
          </a:ln>
        </p:spPr>
      </p:pic>
      <p:sp>
        <p:nvSpPr>
          <p:cNvPr id="358" name="Овал 8"/>
          <p:cNvSpPr/>
          <p:nvPr/>
        </p:nvSpPr>
        <p:spPr>
          <a:xfrm>
            <a:off x="4437000" y="2871720"/>
            <a:ext cx="4269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Овал 11"/>
          <p:cNvSpPr/>
          <p:nvPr/>
        </p:nvSpPr>
        <p:spPr>
          <a:xfrm>
            <a:off x="3857760" y="3279600"/>
            <a:ext cx="42840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Овал 12"/>
          <p:cNvSpPr/>
          <p:nvPr/>
        </p:nvSpPr>
        <p:spPr>
          <a:xfrm>
            <a:off x="5211720" y="2871720"/>
            <a:ext cx="428760" cy="407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Овал 13"/>
          <p:cNvSpPr/>
          <p:nvPr/>
        </p:nvSpPr>
        <p:spPr>
          <a:xfrm>
            <a:off x="5840280" y="3279600"/>
            <a:ext cx="428760" cy="408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7:50:08Z</dcterms:created>
  <dc:creator>админ</dc:creator>
  <dc:description/>
  <dc:language>en-US</dc:language>
  <cp:lastModifiedBy>мвидео</cp:lastModifiedBy>
  <dcterms:modified xsi:type="dcterms:W3CDTF">2017-06-09T16:25:00Z</dcterms:modified>
  <cp:revision>6</cp:revision>
  <dc:subject/>
  <dc:title>Божья коровка</dc:title>
</cp:coreProperties>
</file>