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F51-8253-42F7-82F1-4F85A15F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B6A-59D5-4F9B-9B67-FD6B6E0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536-40C2-4DD9-B042-5D0F7FCB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E7D-6831-4CC7-8C06-E96F9E8D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0AE-B498-409D-949C-A844B5B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0A5-5675-445F-B6C1-1A145FF5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6E2-CF3A-478F-9FA2-3B05439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9F2-0C9D-4326-B8DE-A6E0026F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FBB-8A94-4E2B-A7C4-E9EF199E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D25-17BE-40BF-ADA1-7B15D8A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53C-8B7C-4F80-B096-E7541B9D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CFD-E096-44B1-85F0-966B1BB6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2C90-A81A-4175-8846-0ECD4EA83A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5E0-99A9-4D12-9834-7E482D08F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615960" y="195120"/>
            <a:ext cx="8064360" cy="35229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2"/>
          <a:stretch/>
        </p:blipFill>
        <p:spPr>
          <a:xfrm>
            <a:off x="3571920" y="4127400"/>
            <a:ext cx="5475240" cy="281628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5"/>
          <p:cNvSpPr/>
          <p:nvPr/>
        </p:nvSpPr>
        <p:spPr>
          <a:xfrm>
            <a:off x="6643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112F-8D96-448C-8FDA-6DDEA159D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Содержимое 2"/>
          <p:cNvGrpSpPr/>
          <p:nvPr/>
        </p:nvGrpSpPr>
        <p:grpSpPr>
          <a:xfrm>
            <a:off x="208080" y="1133640"/>
            <a:ext cx="4297320" cy="4998960"/>
            <a:chOff x="208080" y="1133640"/>
            <a:chExt cx="4297320" cy="4998960"/>
          </a:xfrm>
        </p:grpSpPr>
        <p:pic>
          <p:nvPicPr>
            <p:cNvPr id="4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8080" y="1133640"/>
              <a:ext cx="429732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14200" y="1143000"/>
              <a:ext cx="428148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дание №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Содержимое 3"/>
          <p:cNvGrpSpPr/>
          <p:nvPr/>
        </p:nvGrpSpPr>
        <p:grpSpPr>
          <a:xfrm>
            <a:off x="4456080" y="1517760"/>
            <a:ext cx="4602240" cy="4827600"/>
            <a:chOff x="4456080" y="1517760"/>
            <a:chExt cx="4602240" cy="48276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4456080" y="1517760"/>
              <a:ext cx="46022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48320" y="1643040"/>
              <a:ext cx="40384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Из данных уравнений выберите дробно-рациональны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Могут ли числа 3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;-3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5;-8;8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являться корням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дробно-рационального уравнения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625320" y="1785960"/>
                <a:ext cx="30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571680" y="2428920"/>
                <a:ext cx="3071520" cy="32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7DF-7A10-4A1A-9B3E-AF2030936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714240"/>
            <a:ext cx="4038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Содержимое 3"/>
          <p:cNvGrpSpPr/>
          <p:nvPr/>
        </p:nvGrpSpPr>
        <p:grpSpPr>
          <a:xfrm>
            <a:off x="6284880" y="1596960"/>
            <a:ext cx="2944800" cy="3767040"/>
            <a:chOff x="6284880" y="1596960"/>
            <a:chExt cx="2944800" cy="3767040"/>
          </a:xfrm>
        </p:grpSpPr>
        <p:pic>
          <p:nvPicPr>
            <p:cNvPr id="57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6284880" y="1596960"/>
              <a:ext cx="294480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57960" y="1714680"/>
              <a:ext cx="253836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Найдите наименьшийобщий знаменатель к  каждому из этих уравне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404600" y="576360"/>
            <a:ext cx="3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214C-BA8C-4BB2-82CC-BE7B3E6E7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285840" y="1428840"/>
                <a:ext cx="3929040" cy="50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-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eqAr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" name="Picture 23" descr="C:\Documents and Settings\Nadya\My Documents\My Pictures\r2.bmp"/>
          <p:cNvPicPr/>
          <p:nvPr/>
        </p:nvPicPr>
        <p:blipFill>
          <a:blip r:embed="rId2"/>
          <a:stretch/>
        </p:blipFill>
        <p:spPr>
          <a:xfrm>
            <a:off x="128520" y="1054080"/>
            <a:ext cx="58086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№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2571840" y="2428920"/>
                <a:ext cx="44290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1660-77EF-433D-AA88-3B76C90F2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Этапы решения текстовых зада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неизвестной величи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уравнения (или нескольких уравнений)и (при необходимости) неравен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полученных уравне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бор решений по смыслу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E2F-EDAC-44CC-A06D-F0AAD7170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 решении задач на движение надо помнить, ч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РОСТЬ – величин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ожите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исимость между скоростью, временем и пройденным путем выражается форму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3071880" y="3000240"/>
                <a:ext cx="257184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1428840" y="5214960"/>
                <a:ext cx="5500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22C-2C2F-43C0-BCA0-212ACB38B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6760" y="64260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а 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велосипедиста одновременно отправились в 88-километровый пробег. Первый ехал со скоростью на з км/ч большей, чем скорость второго, и прибыл к финишу на 3 часа раньше второго. Найти скорость велосипедиста, прибывшего к финишу вторым. Ответ дайте в км/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28840" y="3786120"/>
          <a:ext cx="4806720" cy="2786040"/>
        </p:xfrm>
        <a:graphic>
          <a:graphicData uri="http://schemas.openxmlformats.org/drawingml/2006/table">
            <a:tbl>
              <a:tblPr/>
              <a:tblGrid>
                <a:gridCol w="571320"/>
                <a:gridCol w="1187640"/>
                <a:gridCol w="1523880"/>
                <a:gridCol w="152388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5F5-85E9-481F-B23A-F19EC03FD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64260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а №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орная лодка прошла против течения реки 120 км и вернулась в пункт назначения, затратив на обратный путь на 2 часа меньше. Найдите  скорость лодки в неподвижной воде, если скорость течения равна 1 км/ч. Ответ дайте в км/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357200" y="3286080"/>
          <a:ext cx="5389560" cy="289548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500120"/>
                <a:gridCol w="1460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203-A85C-420C-BC0D-786E82103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Решение задач с помощью рациональных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2000160" y="5715000"/>
            <a:ext cx="5429880" cy="2160"/>
          </a:xfrm>
          <a:prstGeom prst="straightConnector1">
            <a:avLst/>
          </a:prstGeom>
          <a:ln w="381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3" name="Прямая со стрелкой 6"/>
          <p:cNvCxnSpPr/>
          <p:nvPr/>
        </p:nvCxnSpPr>
        <p:spPr>
          <a:xfrm flipH="1" flipV="1">
            <a:off x="1928520" y="3285360"/>
            <a:ext cx="72000" cy="2429640"/>
          </a:xfrm>
          <a:prstGeom prst="straightConnector1">
            <a:avLst/>
          </a:prstGeom>
          <a:ln w="38160">
            <a:solidFill>
              <a:srgbClr val="325b8c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8"/>
          <p:cNvSpPr/>
          <p:nvPr/>
        </p:nvSpPr>
        <p:spPr>
          <a:xfrm>
            <a:off x="1928880" y="4071960"/>
            <a:ext cx="5286240" cy="1440"/>
          </a:xfrm>
          <a:prstGeom prst="line">
            <a:avLst/>
          </a:prstGeom>
          <a:ln w="9360">
            <a:solidFill>
              <a:srgbClr val="325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0"/>
          <p:cNvSpPr/>
          <p:nvPr/>
        </p:nvSpPr>
        <p:spPr>
          <a:xfrm flipV="1">
            <a:off x="2000160" y="4071960"/>
            <a:ext cx="3143520" cy="1643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2"/>
          <p:cNvSpPr/>
          <p:nvPr/>
        </p:nvSpPr>
        <p:spPr>
          <a:xfrm>
            <a:off x="1928880" y="4071960"/>
            <a:ext cx="4714920" cy="16430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1357200" y="3214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1428840" y="4000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571760" y="56437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5143680" y="3643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6643800" y="6000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7429680" y="55008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1"/>
          <p:cNvSpPr/>
          <p:nvPr/>
        </p:nvSpPr>
        <p:spPr>
          <a:xfrm flipH="1">
            <a:off x="3855600" y="4145040"/>
            <a:ext cx="1800" cy="1643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3714840" y="37148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1680" y="7138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а №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пешехода вышли одновременно из своих сел А и В навстречу друг другу. После встречи первый шел 25 минут до села В, а второй шел 36 минут до села А. Сколько минут они шли до вст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Calibri"/>
              </a:rPr>
              <a:t>Для решения задачи воспользуемся методом подоб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3714840" y="5929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4286160" y="4572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1"/>
          <p:cNvSpPr/>
          <p:nvPr/>
        </p:nvSpPr>
        <p:spPr>
          <a:xfrm>
            <a:off x="22147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2"/>
          <p:cNvSpPr/>
          <p:nvPr/>
        </p:nvSpPr>
        <p:spPr>
          <a:xfrm>
            <a:off x="2143080" y="5857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                               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49B-D204-46CA-85CF-62F26B182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1:37:57Z</dcterms:created>
  <dc:creator>Nadya</dc:creator>
  <dc:description/>
  <dc:language>en-US</dc:language>
  <cp:lastModifiedBy>Островская Л.Т.</cp:lastModifiedBy>
  <dcterms:modified xsi:type="dcterms:W3CDTF">2017-04-17T04:34:39Z</dcterms:modified>
  <cp:revision>23</cp:revision>
  <dc:subject/>
  <dc:title>Слайд 1</dc:title>
</cp:coreProperties>
</file>