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1BC-F6D3-4D74-8A5A-B469CCE4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F33-3F3E-4B5A-B938-749AEA9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64D-C429-4E1F-BBBA-FBC6069F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6BE-BD0E-4612-8DD5-58A213BF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EC7-784D-4AD7-B343-BB6E58A1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DA4-CD07-4EC8-ABD3-D71800FE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D79-CCFC-446A-88D6-2ED2167B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CD5-7B29-4009-92D9-32B013D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3B5-8A53-444F-B758-A6B5A974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538-60BC-4A00-8161-2122CD5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44D-64C4-4692-A28F-5D5A7256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609-A4E6-4804-A4F8-07D8DFF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66A-EDB6-405A-818F-6271E039FC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BDA-5D07-4E11-9283-211B3ED5D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615960" y="195120"/>
            <a:ext cx="8064360" cy="35229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2"/>
          <a:stretch/>
        </p:blipFill>
        <p:spPr>
          <a:xfrm>
            <a:off x="3571920" y="4127400"/>
            <a:ext cx="5475240" cy="281628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5"/>
          <p:cNvSpPr/>
          <p:nvPr/>
        </p:nvSpPr>
        <p:spPr>
          <a:xfrm>
            <a:off x="6643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FC0C-A41C-4485-AFA2-38EB53B4A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Содержимое 2"/>
          <p:cNvGrpSpPr/>
          <p:nvPr/>
        </p:nvGrpSpPr>
        <p:grpSpPr>
          <a:xfrm>
            <a:off x="208080" y="1133640"/>
            <a:ext cx="4297320" cy="4998960"/>
            <a:chOff x="208080" y="1133640"/>
            <a:chExt cx="4297320" cy="4998960"/>
          </a:xfrm>
        </p:grpSpPr>
        <p:pic>
          <p:nvPicPr>
            <p:cNvPr id="4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8080" y="1133640"/>
              <a:ext cx="429732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14200" y="1143000"/>
              <a:ext cx="42814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дание №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Содержимое 3"/>
          <p:cNvGrpSpPr/>
          <p:nvPr/>
        </p:nvGrpSpPr>
        <p:grpSpPr>
          <a:xfrm>
            <a:off x="4456080" y="1517760"/>
            <a:ext cx="4602240" cy="4827600"/>
            <a:chOff x="4456080" y="1517760"/>
            <a:chExt cx="4602240" cy="48276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4456080" y="1517760"/>
              <a:ext cx="46022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48320" y="1643040"/>
              <a:ext cx="40384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Из данных уравнений выберите дробно-рациональны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Могут ли числа 3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;-3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5;-8;8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являться корням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дробно-рационального уравнения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625320" y="1785960"/>
                <a:ext cx="30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571680" y="2428920"/>
                <a:ext cx="3071520" cy="32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8C2-1D23-4E7A-BC1A-1354703F1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714240"/>
            <a:ext cx="4038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Содержимое 3"/>
          <p:cNvGrpSpPr/>
          <p:nvPr/>
        </p:nvGrpSpPr>
        <p:grpSpPr>
          <a:xfrm>
            <a:off x="6284880" y="1596960"/>
            <a:ext cx="2944800" cy="3767040"/>
            <a:chOff x="6284880" y="1596960"/>
            <a:chExt cx="2944800" cy="3767040"/>
          </a:xfrm>
        </p:grpSpPr>
        <p:pic>
          <p:nvPicPr>
            <p:cNvPr id="57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6284880" y="1596960"/>
              <a:ext cx="29448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57960" y="1714680"/>
              <a:ext cx="25383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Найдите наименьшийобщий знаменатель к  каждому из этих уравне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404600" y="576360"/>
            <a:ext cx="3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4698-57FC-4E5C-A092-03166135C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285840" y="1428840"/>
                <a:ext cx="3929040" cy="50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-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eqAr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" name="Picture 23" descr="C:\Documents and Settings\Nadya\My Documents\My Pictures\r2.bmp"/>
          <p:cNvPicPr/>
          <p:nvPr/>
        </p:nvPicPr>
        <p:blipFill>
          <a:blip r:embed="rId2"/>
          <a:stretch/>
        </p:blipFill>
        <p:spPr>
          <a:xfrm>
            <a:off x="128520" y="1054080"/>
            <a:ext cx="58086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№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571840" y="2428920"/>
                <a:ext cx="44290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5BAE-E48E-4727-8510-7F3401DF6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Этапы решения текстовых зада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неизвестной велич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уравнения (или нескольких уравнений)и (при необходимости) неравен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полученных уравн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бор решений по смыслу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825-F630-441D-9859-3E62584D0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 решении задач на движение надо помнить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РОСТЬ – величин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ожи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исимость между скоростью, временем и пройденным путем выражается форму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3071880" y="3000240"/>
                <a:ext cx="257184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1428840" y="5214960"/>
                <a:ext cx="5500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256-3C52-4931-AA75-377581AF5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6760" y="64260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велосипедиста одновременно отправились в 88-километровый пробег. Первый ехал со скоростью на з км/ч большей, чем скорость второго, и прибыл к финишу на 3 часа раньше второго. Найти скорость велосипедиста, прибывшего к финишу вторым. Ответ дайте в км/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28840" y="3786120"/>
          <a:ext cx="4806720" cy="2786040"/>
        </p:xfrm>
        <a:graphic>
          <a:graphicData uri="http://schemas.openxmlformats.org/drawingml/2006/table">
            <a:tbl>
              <a:tblPr/>
              <a:tblGrid>
                <a:gridCol w="571320"/>
                <a:gridCol w="1187640"/>
                <a:gridCol w="1523880"/>
                <a:gridCol w="152388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1CF-4F01-480E-9390-B0086CCD4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64260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орная лодка прошла против течения реки 120 км и вернулась в пункт назначения, затратив на обратный путь на 2 часа меньше. Найдите  скорость лодки в неподвижной воде, если скорость течения равна 1 км/ч. Ответ дайте в км/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57200" y="3286080"/>
          <a:ext cx="5389560" cy="289548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500120"/>
                <a:gridCol w="1460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627-B89A-4F57-88F6-AC9CCC77F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2000160" y="5715000"/>
            <a:ext cx="5429880" cy="2160"/>
          </a:xfrm>
          <a:prstGeom prst="straightConnector1">
            <a:avLst/>
          </a:prstGeom>
          <a:ln w="381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3" name="Прямая со стрелкой 6"/>
          <p:cNvCxnSpPr/>
          <p:nvPr/>
        </p:nvCxnSpPr>
        <p:spPr>
          <a:xfrm flipH="1" flipV="1">
            <a:off x="1928520" y="3285360"/>
            <a:ext cx="72000" cy="2429640"/>
          </a:xfrm>
          <a:prstGeom prst="straightConnector1">
            <a:avLst/>
          </a:prstGeom>
          <a:ln w="38160">
            <a:solidFill>
              <a:srgbClr val="325b8c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8"/>
          <p:cNvSpPr/>
          <p:nvPr/>
        </p:nvSpPr>
        <p:spPr>
          <a:xfrm>
            <a:off x="1928880" y="4071960"/>
            <a:ext cx="5286240" cy="1440"/>
          </a:xfrm>
          <a:prstGeom prst="line">
            <a:avLst/>
          </a:prstGeom>
          <a:ln w="936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0"/>
          <p:cNvSpPr/>
          <p:nvPr/>
        </p:nvSpPr>
        <p:spPr>
          <a:xfrm flipV="1">
            <a:off x="2000160" y="4071960"/>
            <a:ext cx="3143520" cy="1643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2"/>
          <p:cNvSpPr/>
          <p:nvPr/>
        </p:nvSpPr>
        <p:spPr>
          <a:xfrm>
            <a:off x="1928880" y="4071960"/>
            <a:ext cx="4714920" cy="16430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357200" y="3214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1428840" y="4000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571760" y="56437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5143680" y="3643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6643800" y="6000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7429680" y="5500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1"/>
          <p:cNvSpPr/>
          <p:nvPr/>
        </p:nvSpPr>
        <p:spPr>
          <a:xfrm flipH="1">
            <a:off x="3855600" y="4145040"/>
            <a:ext cx="1800" cy="1643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3714840" y="37148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680" y="7138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ешехода вышли одновременно из своих сел А и В навстречу друг другу. После встречи первый шел 25 минут до села В, а второй шел 36 минут до села А. Сколько минут они шли до вст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Для решения задачи воспользуемся методом подоб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3714840" y="5929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4286160" y="4572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1"/>
          <p:cNvSpPr/>
          <p:nvPr/>
        </p:nvSpPr>
        <p:spPr>
          <a:xfrm>
            <a:off x="22147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2"/>
          <p:cNvSpPr/>
          <p:nvPr/>
        </p:nvSpPr>
        <p:spPr>
          <a:xfrm>
            <a:off x="2143080" y="5857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                               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705D-0638-45EC-A631-0552FD219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1:37:57Z</dcterms:created>
  <dc:creator>Nadya</dc:creator>
  <dc:description/>
  <dc:language>en-US</dc:language>
  <cp:lastModifiedBy>Островская Л.Т.</cp:lastModifiedBy>
  <dcterms:modified xsi:type="dcterms:W3CDTF">2017-04-17T04:34:39Z</dcterms:modified>
  <cp:revision>23</cp:revision>
  <dc:subject/>
  <dc:title>Слайд 1</dc:title>
</cp:coreProperties>
</file>